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5D0-74F5-4303-82FA-5D03DEB8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4E2-3F74-446F-A14E-C790F116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CC6-A3E3-461C-8935-9AAB5A99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6EA-86D7-4546-9349-0EE136A6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2E4-1E28-4EF9-B731-97C14BC4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C88-4925-4629-B195-383D5075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CBF-3733-409A-8A6E-BB103F4C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DA1-AEFE-4AB8-AA6D-C6C3D13E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49D-90D8-44FC-B6AC-7C204798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C7B-5629-4EFF-9857-C2122FE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AB1-97CA-4A5B-A00A-2D70A89D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0AD-C858-4BE4-A6A7-02B21595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7448-D939-4FA9-B55B-8C462F46A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963720" y="2236680"/>
            <a:ext cx="72896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1437413309_mm1.png"/>
          <p:cNvPicPr/>
          <p:nvPr/>
        </p:nvPicPr>
        <p:blipFill>
          <a:blip r:embed="rId1"/>
          <a:stretch/>
        </p:blipFill>
        <p:spPr>
          <a:xfrm>
            <a:off x="3419640" y="2421000"/>
            <a:ext cx="4741560" cy="4741920"/>
          </a:xfrm>
          <a:prstGeom prst="rect">
            <a:avLst/>
          </a:prstGeom>
          <a:ln w="0">
            <a:noFill/>
          </a:ln>
        </p:spPr>
      </p:pic>
      <p:sp>
        <p:nvSpPr>
          <p:cNvPr id="88" name="Выноска-облако 4"/>
          <p:cNvSpPr/>
          <p:nvPr/>
        </p:nvSpPr>
        <p:spPr>
          <a:xfrm flipH="1">
            <a:off x="1692360" y="765000"/>
            <a:ext cx="4464000" cy="2016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2c1d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15197520.gif"/>
          <p:cNvPicPr/>
          <p:nvPr/>
        </p:nvPicPr>
        <p:blipFill>
          <a:blip r:embed="rId2"/>
          <a:stretch/>
        </p:blipFill>
        <p:spPr>
          <a:xfrm>
            <a:off x="1547640" y="2997360"/>
            <a:ext cx="2603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Фильм_0001.wmv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327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masa-ile-koca-ayi-recel-pisirme-zamani-bolum-6_10141020-41710_1920x1080.jpg"/>
          <p:cNvPicPr/>
          <p:nvPr/>
        </p:nvPicPr>
        <p:blipFill>
          <a:blip r:embed="rId1"/>
          <a:stretch/>
        </p:blipFill>
        <p:spPr>
          <a:xfrm>
            <a:off x="0" y="1341360"/>
            <a:ext cx="9147240" cy="5145120"/>
          </a:xfrm>
          <a:prstGeom prst="rect">
            <a:avLst/>
          </a:prstGeom>
          <a:ln w="0">
            <a:noFill/>
          </a:ln>
        </p:spPr>
      </p:pic>
      <p:sp>
        <p:nvSpPr>
          <p:cNvPr id="45" name="Выноска-облако 4"/>
          <p:cNvSpPr/>
          <p:nvPr/>
        </p:nvSpPr>
        <p:spPr>
          <a:xfrm>
            <a:off x="5867280" y="1484280"/>
            <a:ext cx="2881440" cy="1513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бери корз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2"/>
          <a:stretch/>
        </p:blipFill>
        <p:spPr>
          <a:xfrm>
            <a:off x="2786040" y="291960"/>
            <a:ext cx="3370320" cy="1135080"/>
          </a:xfrm>
          <a:prstGeom prst="rect">
            <a:avLst/>
          </a:prstGeom>
          <a:ln w="0">
            <a:noFill/>
          </a:ln>
        </p:spPr>
      </p:pic>
      <p:grpSp>
        <p:nvGrpSpPr>
          <p:cNvPr id="47" name="Группа 11"/>
          <p:cNvGrpSpPr/>
          <p:nvPr/>
        </p:nvGrpSpPr>
        <p:grpSpPr>
          <a:xfrm>
            <a:off x="971640" y="2637000"/>
            <a:ext cx="2232000" cy="2127600"/>
            <a:chOff x="971640" y="2637000"/>
            <a:chExt cx="2232000" cy="2127600"/>
          </a:xfrm>
        </p:grpSpPr>
        <p:sp>
          <p:nvSpPr>
            <p:cNvPr id="48" name="TextBox 7"/>
            <p:cNvSpPr/>
            <p:nvPr/>
          </p:nvSpPr>
          <p:spPr>
            <a:xfrm>
              <a:off x="1043640" y="2637000"/>
              <a:ext cx="172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ЛАН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8"/>
            <p:cNvSpPr/>
            <p:nvPr/>
          </p:nvSpPr>
          <p:spPr>
            <a:xfrm>
              <a:off x="1403640" y="4365720"/>
              <a:ext cx="12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УШ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9"/>
            <p:cNvSpPr/>
            <p:nvPr/>
          </p:nvSpPr>
          <p:spPr>
            <a:xfrm>
              <a:off x="1331640" y="3789360"/>
              <a:ext cx="158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Ч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0"/>
            <p:cNvSpPr/>
            <p:nvPr/>
          </p:nvSpPr>
          <p:spPr>
            <a:xfrm>
              <a:off x="971640" y="32130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РРИТ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2751842655.jpg"/>
          <p:cNvPicPr/>
          <p:nvPr/>
        </p:nvPicPr>
        <p:blipFill>
          <a:blip r:embed="rId1"/>
          <a:srcRect l="18178" t="0" r="18178" b="0"/>
          <a:stretch/>
        </p:blipFill>
        <p:spPr>
          <a:xfrm>
            <a:off x="0" y="2565360"/>
            <a:ext cx="287964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050920" y="2349360"/>
          <a:ext cx="6985080" cy="3888000"/>
        </p:xfrm>
        <a:graphic>
          <a:graphicData uri="http://schemas.openxmlformats.org/drawingml/2006/table">
            <a:tbl>
              <a:tblPr/>
              <a:tblGrid>
                <a:gridCol w="223920"/>
                <a:gridCol w="281160"/>
                <a:gridCol w="352440"/>
                <a:gridCol w="701640"/>
                <a:gridCol w="662040"/>
                <a:gridCol w="663480"/>
                <a:gridCol w="685800"/>
                <a:gridCol w="685800"/>
                <a:gridCol w="654120"/>
                <a:gridCol w="701640"/>
                <a:gridCol w="725400"/>
                <a:gridCol w="647640"/>
              </a:tblGrid>
              <a:tr h="7779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76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Прямая соединительная линия 13"/>
          <p:cNvSpPr/>
          <p:nvPr/>
        </p:nvSpPr>
        <p:spPr>
          <a:xfrm>
            <a:off x="2268360" y="6237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761640" y="0"/>
            <a:ext cx="5368320" cy="22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ыхлая горная порода, состоящая из отд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чинок, не соединённых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пли воды на поверхност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 земле он всех ум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и всех силь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вижение воздуха над поверхностью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евращение воды в пар называется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ыноска-облако 4"/>
          <p:cNvSpPr/>
          <p:nvPr/>
        </p:nvSpPr>
        <p:spPr>
          <a:xfrm>
            <a:off x="755640" y="1052640"/>
            <a:ext cx="360036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АЗГАДАЙТЕ 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2751842655.jpg"/>
          <p:cNvPicPr/>
          <p:nvPr/>
        </p:nvPicPr>
        <p:blipFill>
          <a:blip r:embed="rId1"/>
          <a:srcRect l="18178" t="0" r="18178" b="0"/>
          <a:stretch/>
        </p:blipFill>
        <p:spPr>
          <a:xfrm>
            <a:off x="0" y="2565360"/>
            <a:ext cx="287964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340000" y="2349360"/>
          <a:ext cx="6624720" cy="3745080"/>
        </p:xfrm>
        <a:graphic>
          <a:graphicData uri="http://schemas.openxmlformats.org/drawingml/2006/table">
            <a:tbl>
              <a:tblPr/>
              <a:tblGrid>
                <a:gridCol w="287280"/>
                <a:gridCol w="192240"/>
                <a:gridCol w="384120"/>
                <a:gridCol w="576360"/>
                <a:gridCol w="668160"/>
                <a:gridCol w="630360"/>
                <a:gridCol w="652320"/>
                <a:gridCol w="650880"/>
                <a:gridCol w="638280"/>
                <a:gridCol w="720720"/>
                <a:gridCol w="647640"/>
                <a:gridCol w="576360"/>
              </a:tblGrid>
              <a:tr h="7495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TextBox 6"/>
          <p:cNvSpPr/>
          <p:nvPr/>
        </p:nvSpPr>
        <p:spPr>
          <a:xfrm>
            <a:off x="3761640" y="0"/>
            <a:ext cx="5368320" cy="22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ыхлая горная порода, состоящая из отд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чинок, не соединённых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пли воды на поверхност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 земле он всех ум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и всех силь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вижение воздуха над поверхностью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евращение воды в пар называется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носка-облако 4"/>
          <p:cNvSpPr/>
          <p:nvPr/>
        </p:nvSpPr>
        <p:spPr>
          <a:xfrm>
            <a:off x="684360" y="981000"/>
            <a:ext cx="360036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ЗОВ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М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914400" y="1292400"/>
            <a:ext cx="7162920" cy="2341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zemlya.jpg"/>
          <p:cNvPicPr/>
          <p:nvPr/>
        </p:nvPicPr>
        <p:blipFill>
          <a:blip r:embed="rId2"/>
          <a:srcRect l="0" t="5411" r="0" b="0"/>
          <a:stretch/>
        </p:blipFill>
        <p:spPr>
          <a:xfrm>
            <a:off x="324000" y="4149720"/>
            <a:ext cx="3960720" cy="25146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pic>
        <p:nvPicPr>
          <p:cNvPr id="64" name="Рисунок 5" descr="organic-soil-for-growing-cannabis (1).jpg"/>
          <p:cNvPicPr/>
          <p:nvPr/>
        </p:nvPicPr>
        <p:blipFill>
          <a:blip r:embed="rId3"/>
          <a:stretch/>
        </p:blipFill>
        <p:spPr>
          <a:xfrm>
            <a:off x="5003640" y="4149720"/>
            <a:ext cx="3988080" cy="24922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7" descr="hello_html_m69075410.jpg"/>
          <p:cNvPicPr/>
          <p:nvPr/>
        </p:nvPicPr>
        <p:blipFill>
          <a:blip r:embed="rId1"/>
          <a:srcRect l="20952" t="0" r="16204" b="0"/>
          <a:stretch/>
        </p:blipFill>
        <p:spPr>
          <a:xfrm>
            <a:off x="7080120" y="3573360"/>
            <a:ext cx="2063880" cy="3284640"/>
          </a:xfrm>
          <a:prstGeom prst="rect">
            <a:avLst/>
          </a:prstGeom>
          <a:ln w="0">
            <a:noFill/>
          </a:ln>
        </p:spPr>
      </p:pic>
      <p:grpSp>
        <p:nvGrpSpPr>
          <p:cNvPr id="66" name="Группа 17"/>
          <p:cNvGrpSpPr/>
          <p:nvPr/>
        </p:nvGrpSpPr>
        <p:grpSpPr>
          <a:xfrm>
            <a:off x="178560" y="1125360"/>
            <a:ext cx="6611040" cy="6482880"/>
            <a:chOff x="178560" y="1125360"/>
            <a:chExt cx="6611040" cy="6482880"/>
          </a:xfrm>
        </p:grpSpPr>
        <p:sp>
          <p:nvSpPr>
            <p:cNvPr id="67" name="Половина рамки 15"/>
            <p:cNvSpPr/>
            <p:nvPr/>
          </p:nvSpPr>
          <p:spPr>
            <a:xfrm rot="2785200">
              <a:off x="4537440" y="5374080"/>
              <a:ext cx="1800360" cy="1871640"/>
            </a:xfrm>
            <a:custGeom>
              <a:avLst/>
              <a:gdLst/>
              <a:ahLst/>
              <a:rect l="l" t="t" r="r" b="b"/>
              <a:pathLst>
                <a:path w="1800526" h="1871789">
                  <a:moveTo>
                    <a:pt x="0" y="0"/>
                  </a:moveTo>
                  <a:lnTo>
                    <a:pt x="1800526" y="0"/>
                  </a:lnTo>
                  <a:lnTo>
                    <a:pt x="1223206" y="600169"/>
                  </a:lnTo>
                  <a:lnTo>
                    <a:pt x="600169" y="600169"/>
                  </a:lnTo>
                  <a:lnTo>
                    <a:pt x="600169" y="1247865"/>
                  </a:lnTo>
                  <a:lnTo>
                    <a:pt x="0" y="1871789"/>
                  </a:lnTo>
                  <a:close/>
                </a:path>
              </a:pathLst>
            </a:custGeom>
            <a:solidFill>
              <a:srgbClr val="9933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оловина рамки 13"/>
            <p:cNvSpPr/>
            <p:nvPr/>
          </p:nvSpPr>
          <p:spPr>
            <a:xfrm rot="2785200">
              <a:off x="577080" y="5373720"/>
              <a:ext cx="1800360" cy="1873080"/>
            </a:xfrm>
            <a:custGeom>
              <a:avLst/>
              <a:gdLst/>
              <a:ahLst/>
              <a:rect l="l" t="t" r="r" b="b"/>
              <a:pathLst>
                <a:path w="1800526" h="1873376">
                  <a:moveTo>
                    <a:pt x="0" y="0"/>
                  </a:moveTo>
                  <a:lnTo>
                    <a:pt x="1800526" y="0"/>
                  </a:lnTo>
                  <a:lnTo>
                    <a:pt x="1223695" y="600169"/>
                  </a:lnTo>
                  <a:lnTo>
                    <a:pt x="600169" y="600169"/>
                  </a:lnTo>
                  <a:lnTo>
                    <a:pt x="600169" y="1248923"/>
                  </a:lnTo>
                  <a:lnTo>
                    <a:pt x="0" y="1873376"/>
                  </a:lnTo>
                  <a:close/>
                </a:path>
              </a:pathLst>
            </a:custGeom>
            <a:solidFill>
              <a:srgbClr val="9933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Группа 12"/>
            <p:cNvGrpSpPr/>
            <p:nvPr/>
          </p:nvGrpSpPr>
          <p:grpSpPr>
            <a:xfrm>
              <a:off x="179280" y="1125360"/>
              <a:ext cx="6610320" cy="4669200"/>
              <a:chOff x="179280" y="1125360"/>
              <a:chExt cx="6610320" cy="4669200"/>
            </a:xfrm>
          </p:grpSpPr>
          <p:pic>
            <p:nvPicPr>
              <p:cNvPr id="70" name="Рисунок 10" descr="0_e9849_2279e745_orig.png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125360"/>
                <a:ext cx="6610320" cy="46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2" descr=""/>
              <p:cNvPicPr/>
              <p:nvPr/>
            </p:nvPicPr>
            <p:blipFill>
              <a:blip r:embed="rId3"/>
              <a:srcRect l="33479" t="20300" r="18925" b="15719"/>
              <a:stretch/>
            </p:blipFill>
            <p:spPr>
              <a:xfrm>
                <a:off x="852480" y="1773360"/>
                <a:ext cx="4382280" cy="331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" name="Выноска-облако 8"/>
          <p:cNvSpPr/>
          <p:nvPr/>
        </p:nvSpPr>
        <p:spPr>
          <a:xfrm flipH="1">
            <a:off x="5363280" y="2133720"/>
            <a:ext cx="3240360" cy="1439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полняйте зад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585720"/>
            <a:ext cx="3870360" cy="1133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" descr=""/>
          <p:cNvPicPr/>
          <p:nvPr/>
        </p:nvPicPr>
        <p:blipFill>
          <a:blip r:embed="rId2"/>
          <a:stretch/>
        </p:blipFill>
        <p:spPr>
          <a:xfrm>
            <a:off x="4853160" y="652320"/>
            <a:ext cx="4346280" cy="1133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3913200"/>
            <a:ext cx="3340080" cy="12682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6" descr=""/>
          <p:cNvPicPr/>
          <p:nvPr/>
        </p:nvPicPr>
        <p:blipFill>
          <a:blip r:embed="rId4"/>
          <a:stretch/>
        </p:blipFill>
        <p:spPr>
          <a:xfrm>
            <a:off x="-85680" y="5486400"/>
            <a:ext cx="2146320" cy="8478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" descr=""/>
          <p:cNvPicPr/>
          <p:nvPr/>
        </p:nvPicPr>
        <p:blipFill>
          <a:blip r:embed="rId5"/>
          <a:stretch/>
        </p:blipFill>
        <p:spPr>
          <a:xfrm>
            <a:off x="4743360" y="4218120"/>
            <a:ext cx="3041640" cy="8413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8" descr=""/>
          <p:cNvPicPr/>
          <p:nvPr/>
        </p:nvPicPr>
        <p:blipFill>
          <a:blip r:embed="rId6"/>
          <a:stretch/>
        </p:blipFill>
        <p:spPr>
          <a:xfrm>
            <a:off x="2212920" y="5211720"/>
            <a:ext cx="2584440" cy="12621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9" descr=""/>
          <p:cNvPicPr/>
          <p:nvPr/>
        </p:nvPicPr>
        <p:blipFill>
          <a:blip r:embed="rId7"/>
          <a:stretch/>
        </p:blipFill>
        <p:spPr>
          <a:xfrm>
            <a:off x="4748040" y="5394240"/>
            <a:ext cx="1805040" cy="927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0" descr=""/>
          <p:cNvPicPr/>
          <p:nvPr/>
        </p:nvPicPr>
        <p:blipFill>
          <a:blip r:embed="rId8"/>
          <a:stretch/>
        </p:blipFill>
        <p:spPr>
          <a:xfrm>
            <a:off x="6504120" y="5065560"/>
            <a:ext cx="2255760" cy="1573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13"/>
          <p:cNvSpPr/>
          <p:nvPr/>
        </p:nvSpPr>
        <p:spPr>
          <a:xfrm>
            <a:off x="4500720" y="333360"/>
            <a:ext cx="0" cy="31669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62080" y="920880"/>
            <a:ext cx="86626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6"/>
          <p:cNvGrpSpPr/>
          <p:nvPr/>
        </p:nvGrpSpPr>
        <p:grpSpPr>
          <a:xfrm>
            <a:off x="-333720" y="0"/>
            <a:ext cx="7610760" cy="5101920"/>
            <a:chOff x="-333720" y="0"/>
            <a:chExt cx="7610760" cy="5101920"/>
          </a:xfrm>
        </p:grpSpPr>
        <p:sp>
          <p:nvSpPr>
            <p:cNvPr id="84" name="Дуга 4"/>
            <p:cNvSpPr/>
            <p:nvPr/>
          </p:nvSpPr>
          <p:spPr>
            <a:xfrm rot="19051800">
              <a:off x="324000" y="836280"/>
              <a:ext cx="3809880" cy="3429000"/>
            </a:xfrm>
            <a:custGeom>
              <a:avLst/>
              <a:gdLst>
                <a:gd name="textAreaLeft" fmla="*/ 1905120 w 3809880"/>
                <a:gd name="textAreaRight" fmla="*/ 3810240 w 3809880"/>
                <a:gd name="textAreaTop" fmla="*/ 0 h 3429000"/>
                <a:gd name="textAreaBottom" fmla="*/ 1714680 h 3429000"/>
              </a:gdLst>
              <a:ahLst/>
              <a:rect l="textAreaLeft" t="textAreaTop" r="textAreaRight" b="textAreaBottom"/>
              <a:pathLst>
                <a:path stroke="0" w="3810648" h="3428785">
                  <a:moveTo>
                    <a:pt x="1905326" y="0"/>
                  </a:moveTo>
                  <a:lnTo>
                    <a:pt x="1905326" y="0"/>
                  </a:lnTo>
                  <a:arcTo wR="1905324" hR="1714393" stAng="-5399996" swAng="5400003"/>
                  <a:lnTo>
                    <a:pt x="1905324" y="1714393"/>
                  </a:lnTo>
                  <a:close/>
                </a:path>
                <a:path fill="none" w="3810648" h="3428785">
                  <a:moveTo>
                    <a:pt x="1905326" y="0"/>
                  </a:moveTo>
                  <a:lnTo>
                    <a:pt x="1905326" y="0"/>
                  </a:lnTo>
                  <a:arcTo wR="1905324" hR="1714393" stAng="-5399996" swAng="5400003"/>
                </a:path>
              </a:pathLst>
            </a:custGeom>
            <a:noFill/>
            <a:ln w="88920">
              <a:solidFill>
                <a:srgbClr val="1919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Дуга 5"/>
            <p:cNvSpPr/>
            <p:nvPr/>
          </p:nvSpPr>
          <p:spPr>
            <a:xfrm rot="19338600">
              <a:off x="4163760" y="1105920"/>
              <a:ext cx="2711520" cy="2238480"/>
            </a:xfrm>
            <a:custGeom>
              <a:avLst/>
              <a:gdLst>
                <a:gd name="textAreaLeft" fmla="*/ 1355760 w 2711520"/>
                <a:gd name="textAreaRight" fmla="*/ 2711880 w 2711520"/>
                <a:gd name="textAreaTop" fmla="*/ 0 h 2238480"/>
                <a:gd name="textAreaBottom" fmla="*/ 1119240 h 2238480"/>
              </a:gdLst>
              <a:ahLst/>
              <a:rect l="textAreaLeft" t="textAreaTop" r="textAreaRight" b="textAreaBottom"/>
              <a:pathLst>
                <a:path stroke="0" w="2711911" h="2238235">
                  <a:moveTo>
                    <a:pt x="1355957" y="0"/>
                  </a:moveTo>
                  <a:lnTo>
                    <a:pt x="1355957" y="0"/>
                  </a:lnTo>
                  <a:arcTo wR="1355956" hR="1119118" stAng="-5399997" swAng="5400005"/>
                  <a:lnTo>
                    <a:pt x="1355956" y="1119118"/>
                  </a:lnTo>
                  <a:close/>
                </a:path>
                <a:path fill="none" w="2711911" h="2238235">
                  <a:moveTo>
                    <a:pt x="1355957" y="0"/>
                  </a:moveTo>
                  <a:lnTo>
                    <a:pt x="1355957" y="0"/>
                  </a:lnTo>
                  <a:arcTo wR="1355956" hR="1119118" stAng="-5399997" swAng="5400005"/>
                </a:path>
              </a:pathLst>
            </a:custGeom>
            <a:noFill/>
            <a:ln w="88920">
              <a:solidFill>
                <a:srgbClr val="1919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Рисунок 8" descr="images_cms-image-000049211.jpg"/>
          <p:cNvPicPr/>
          <p:nvPr/>
        </p:nvPicPr>
        <p:blipFill>
          <a:blip r:embed="rId2"/>
          <a:stretch/>
        </p:blipFill>
        <p:spPr>
          <a:xfrm>
            <a:off x="900000" y="2637000"/>
            <a:ext cx="7417080" cy="3881160"/>
          </a:xfrm>
          <a:prstGeom prst="rect">
            <a:avLst/>
          </a:prstGeom>
          <a:ln w="5400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Matilda</cp:lastModifiedBy>
  <dcterms:modified xsi:type="dcterms:W3CDTF">2018-12-02T18:27:35Z</dcterms:modified>
  <cp:revision>24</cp:revision>
  <dc:subject/>
  <dc:title>Слайд 1</dc:title>
</cp:coreProperties>
</file>