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8747-2E75-4457-A820-EB17FC79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3B4-6180-4F3A-A6A2-2E1338F3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1A12-9C7E-4453-A35C-B560338D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1ED-B1EF-40AF-9097-4F50B23D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D5D-02A3-48A0-B8D4-7809F6A6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62D-4398-4CF3-B652-00D4BEF0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B4A4-7B53-4DDB-82A9-6D72BC22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706-E7D0-4B29-B6C5-4986214C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0999-99AE-4E3B-8589-1A205631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B543-206A-4667-8D06-CBD76560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9AA-5EA7-4472-967A-850F6E18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DD84-6227-47AC-89EC-D847CC19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F05F-3FED-440C-9949-DF4E5265E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2"/>
          <a:stretch/>
        </p:blipFill>
        <p:spPr>
          <a:xfrm>
            <a:off x="963720" y="2236680"/>
            <a:ext cx="728964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3" descr="1437413309_mm1.png"/>
          <p:cNvPicPr/>
          <p:nvPr/>
        </p:nvPicPr>
        <p:blipFill>
          <a:blip r:embed="rId1"/>
          <a:stretch/>
        </p:blipFill>
        <p:spPr>
          <a:xfrm>
            <a:off x="3419640" y="2421000"/>
            <a:ext cx="4741560" cy="4741920"/>
          </a:xfrm>
          <a:prstGeom prst="rect">
            <a:avLst/>
          </a:prstGeom>
          <a:ln w="0">
            <a:noFill/>
          </a:ln>
        </p:spPr>
      </p:pic>
      <p:sp>
        <p:nvSpPr>
          <p:cNvPr id="88" name="Выноска-облако 4"/>
          <p:cNvSpPr/>
          <p:nvPr/>
        </p:nvSpPr>
        <p:spPr>
          <a:xfrm flipH="1">
            <a:off x="1692360" y="765000"/>
            <a:ext cx="4464000" cy="2016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32c1d"/>
                </a:solidFill>
                <a:latin typeface="Arial"/>
              </a:rPr>
              <a:t>МОЛОДЦ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5" descr="15197520.gif"/>
          <p:cNvPicPr/>
          <p:nvPr/>
        </p:nvPicPr>
        <p:blipFill>
          <a:blip r:embed="rId2"/>
          <a:stretch/>
        </p:blipFill>
        <p:spPr>
          <a:xfrm>
            <a:off x="1547640" y="2997360"/>
            <a:ext cx="2603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Фильм_0001.wmv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3272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masa-ile-koca-ayi-recel-pisirme-zamani-bolum-6_10141020-41710_1920x1080.jpg"/>
          <p:cNvPicPr/>
          <p:nvPr/>
        </p:nvPicPr>
        <p:blipFill>
          <a:blip r:embed="rId1"/>
          <a:stretch/>
        </p:blipFill>
        <p:spPr>
          <a:xfrm>
            <a:off x="0" y="1341360"/>
            <a:ext cx="9147240" cy="5145120"/>
          </a:xfrm>
          <a:prstGeom prst="rect">
            <a:avLst/>
          </a:prstGeom>
          <a:ln w="0">
            <a:noFill/>
          </a:ln>
        </p:spPr>
      </p:pic>
      <p:sp>
        <p:nvSpPr>
          <p:cNvPr id="45" name="Выноска-облако 4"/>
          <p:cNvSpPr/>
          <p:nvPr/>
        </p:nvSpPr>
        <p:spPr>
          <a:xfrm>
            <a:off x="5867280" y="1484280"/>
            <a:ext cx="2881440" cy="1513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обери корзи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Прямоугольник 6" descr=""/>
          <p:cNvPicPr/>
          <p:nvPr/>
        </p:nvPicPr>
        <p:blipFill>
          <a:blip r:embed="rId2"/>
          <a:stretch/>
        </p:blipFill>
        <p:spPr>
          <a:xfrm>
            <a:off x="2786040" y="291960"/>
            <a:ext cx="3370320" cy="1135080"/>
          </a:xfrm>
          <a:prstGeom prst="rect">
            <a:avLst/>
          </a:prstGeom>
          <a:ln w="0">
            <a:noFill/>
          </a:ln>
        </p:spPr>
      </p:pic>
      <p:grpSp>
        <p:nvGrpSpPr>
          <p:cNvPr id="47" name="Группа 11"/>
          <p:cNvGrpSpPr/>
          <p:nvPr/>
        </p:nvGrpSpPr>
        <p:grpSpPr>
          <a:xfrm>
            <a:off x="971640" y="2637000"/>
            <a:ext cx="2232000" cy="2127600"/>
            <a:chOff x="971640" y="2637000"/>
            <a:chExt cx="2232000" cy="2127600"/>
          </a:xfrm>
        </p:grpSpPr>
        <p:sp>
          <p:nvSpPr>
            <p:cNvPr id="48" name="TextBox 7"/>
            <p:cNvSpPr/>
            <p:nvPr/>
          </p:nvSpPr>
          <p:spPr>
            <a:xfrm>
              <a:off x="1043640" y="2637000"/>
              <a:ext cx="172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ЛАН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8"/>
            <p:cNvSpPr/>
            <p:nvPr/>
          </p:nvSpPr>
          <p:spPr>
            <a:xfrm>
              <a:off x="1403640" y="4365720"/>
              <a:ext cx="12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УШ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9"/>
            <p:cNvSpPr/>
            <p:nvPr/>
          </p:nvSpPr>
          <p:spPr>
            <a:xfrm>
              <a:off x="1331640" y="3789360"/>
              <a:ext cx="158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Ч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0"/>
            <p:cNvSpPr/>
            <p:nvPr/>
          </p:nvSpPr>
          <p:spPr>
            <a:xfrm>
              <a:off x="971640" y="32130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ЕРРИТОР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3" descr="2751842655.jpg"/>
          <p:cNvPicPr/>
          <p:nvPr/>
        </p:nvPicPr>
        <p:blipFill>
          <a:blip r:embed="rId1"/>
          <a:srcRect l="18178" t="0" r="18178" b="0"/>
          <a:stretch/>
        </p:blipFill>
        <p:spPr>
          <a:xfrm>
            <a:off x="0" y="2565360"/>
            <a:ext cx="287964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2050920" y="2349360"/>
          <a:ext cx="6985080" cy="3888000"/>
        </p:xfrm>
        <a:graphic>
          <a:graphicData uri="http://schemas.openxmlformats.org/drawingml/2006/table">
            <a:tbl>
              <a:tblPr/>
              <a:tblGrid>
                <a:gridCol w="223920"/>
                <a:gridCol w="281160"/>
                <a:gridCol w="352440"/>
                <a:gridCol w="701640"/>
                <a:gridCol w="662040"/>
                <a:gridCol w="663480"/>
                <a:gridCol w="685800"/>
                <a:gridCol w="685800"/>
                <a:gridCol w="654120"/>
                <a:gridCol w="701640"/>
                <a:gridCol w="725400"/>
                <a:gridCol w="647640"/>
              </a:tblGrid>
              <a:tr h="77796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96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960"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76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Прямая соединительная линия 13"/>
          <p:cNvSpPr/>
          <p:nvPr/>
        </p:nvSpPr>
        <p:spPr>
          <a:xfrm>
            <a:off x="2268360" y="6237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3761640" y="0"/>
            <a:ext cx="5368320" cy="22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ыхлая горная порода, состоящая из отд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чинок, не соединённых между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пли воды на поверхности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На земле он всех умн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и всех силь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вижение воздуха над поверхностью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ревращение воды в пар называется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Выноска-облако 4"/>
          <p:cNvSpPr/>
          <p:nvPr/>
        </p:nvSpPr>
        <p:spPr>
          <a:xfrm>
            <a:off x="755640" y="1052640"/>
            <a:ext cx="3600360" cy="1584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АЗГАДАЙТЕ КРОССВ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2751842655.jpg"/>
          <p:cNvPicPr/>
          <p:nvPr/>
        </p:nvPicPr>
        <p:blipFill>
          <a:blip r:embed="rId1"/>
          <a:srcRect l="18178" t="0" r="18178" b="0"/>
          <a:stretch/>
        </p:blipFill>
        <p:spPr>
          <a:xfrm>
            <a:off x="0" y="2565360"/>
            <a:ext cx="287964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2340000" y="2349360"/>
          <a:ext cx="6624720" cy="3745080"/>
        </p:xfrm>
        <a:graphic>
          <a:graphicData uri="http://schemas.openxmlformats.org/drawingml/2006/table">
            <a:tbl>
              <a:tblPr/>
              <a:tblGrid>
                <a:gridCol w="287280"/>
                <a:gridCol w="192240"/>
                <a:gridCol w="384120"/>
                <a:gridCol w="576360"/>
                <a:gridCol w="668160"/>
                <a:gridCol w="630360"/>
                <a:gridCol w="652320"/>
                <a:gridCol w="650880"/>
                <a:gridCol w="638280"/>
                <a:gridCol w="720720"/>
                <a:gridCol w="647640"/>
                <a:gridCol w="576360"/>
              </a:tblGrid>
              <a:tr h="74952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77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16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49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9" name="TextBox 6"/>
          <p:cNvSpPr/>
          <p:nvPr/>
        </p:nvSpPr>
        <p:spPr>
          <a:xfrm>
            <a:off x="3761640" y="0"/>
            <a:ext cx="5368320" cy="22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ыхлая горная порода, состоящая из отде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чинок, не соединённых между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пли воды на поверхности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На земле он всех умн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и всех силь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вижение воздуха над поверхностью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ревращение воды в пар называется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Выноска-облако 4"/>
          <p:cNvSpPr/>
          <p:nvPr/>
        </p:nvSpPr>
        <p:spPr>
          <a:xfrm>
            <a:off x="684360" y="981000"/>
            <a:ext cx="3600360" cy="1584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АЗОВ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ЕМУ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ТЕМА УР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3" descr=""/>
          <p:cNvPicPr/>
          <p:nvPr/>
        </p:nvPicPr>
        <p:blipFill>
          <a:blip r:embed="rId1"/>
          <a:stretch/>
        </p:blipFill>
        <p:spPr>
          <a:xfrm>
            <a:off x="914400" y="1292400"/>
            <a:ext cx="7162920" cy="23414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zemlya.jpg"/>
          <p:cNvPicPr/>
          <p:nvPr/>
        </p:nvPicPr>
        <p:blipFill>
          <a:blip r:embed="rId2"/>
          <a:srcRect l="0" t="5411" r="0" b="0"/>
          <a:stretch/>
        </p:blipFill>
        <p:spPr>
          <a:xfrm>
            <a:off x="324000" y="4149720"/>
            <a:ext cx="3960720" cy="251460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  <p:pic>
        <p:nvPicPr>
          <p:cNvPr id="64" name="Рисунок 5" descr="organic-soil-for-growing-cannabis (1).jpg"/>
          <p:cNvPicPr/>
          <p:nvPr/>
        </p:nvPicPr>
        <p:blipFill>
          <a:blip r:embed="rId3"/>
          <a:stretch/>
        </p:blipFill>
        <p:spPr>
          <a:xfrm>
            <a:off x="5003640" y="4149720"/>
            <a:ext cx="3988080" cy="2492280"/>
          </a:xfrm>
          <a:prstGeom prst="rect">
            <a:avLst/>
          </a:prstGeom>
          <a:ln w="50760">
            <a:solidFill>
              <a:srgbClr val="7f7f7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7" descr="hello_html_m69075410.jpg"/>
          <p:cNvPicPr/>
          <p:nvPr/>
        </p:nvPicPr>
        <p:blipFill>
          <a:blip r:embed="rId1"/>
          <a:srcRect l="20952" t="0" r="16204" b="0"/>
          <a:stretch/>
        </p:blipFill>
        <p:spPr>
          <a:xfrm>
            <a:off x="7080120" y="3573360"/>
            <a:ext cx="2063880" cy="3284640"/>
          </a:xfrm>
          <a:prstGeom prst="rect">
            <a:avLst/>
          </a:prstGeom>
          <a:ln w="0">
            <a:noFill/>
          </a:ln>
        </p:spPr>
      </p:pic>
      <p:grpSp>
        <p:nvGrpSpPr>
          <p:cNvPr id="66" name="Группа 17"/>
          <p:cNvGrpSpPr/>
          <p:nvPr/>
        </p:nvGrpSpPr>
        <p:grpSpPr>
          <a:xfrm>
            <a:off x="178560" y="1125360"/>
            <a:ext cx="6611040" cy="6482880"/>
            <a:chOff x="178560" y="1125360"/>
            <a:chExt cx="6611040" cy="6482880"/>
          </a:xfrm>
        </p:grpSpPr>
        <p:sp>
          <p:nvSpPr>
            <p:cNvPr id="67" name="Половина рамки 15"/>
            <p:cNvSpPr/>
            <p:nvPr/>
          </p:nvSpPr>
          <p:spPr>
            <a:xfrm rot="2785200">
              <a:off x="4537440" y="5374080"/>
              <a:ext cx="1800360" cy="1871640"/>
            </a:xfrm>
            <a:custGeom>
              <a:avLst/>
              <a:gdLst/>
              <a:ahLst/>
              <a:rect l="l" t="t" r="r" b="b"/>
              <a:pathLst>
                <a:path w="1800526" h="1871789">
                  <a:moveTo>
                    <a:pt x="0" y="0"/>
                  </a:moveTo>
                  <a:lnTo>
                    <a:pt x="1800526" y="0"/>
                  </a:lnTo>
                  <a:lnTo>
                    <a:pt x="1223206" y="600169"/>
                  </a:lnTo>
                  <a:lnTo>
                    <a:pt x="600169" y="600169"/>
                  </a:lnTo>
                  <a:lnTo>
                    <a:pt x="600169" y="1247865"/>
                  </a:lnTo>
                  <a:lnTo>
                    <a:pt x="0" y="1871789"/>
                  </a:lnTo>
                  <a:close/>
                </a:path>
              </a:pathLst>
            </a:custGeom>
            <a:solidFill>
              <a:srgbClr val="993300"/>
            </a:solidFill>
            <a:ln w="25560">
              <a:solidFill>
                <a:srgbClr val="16164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оловина рамки 13"/>
            <p:cNvSpPr/>
            <p:nvPr/>
          </p:nvSpPr>
          <p:spPr>
            <a:xfrm rot="2785200">
              <a:off x="577080" y="5373720"/>
              <a:ext cx="1800360" cy="1873080"/>
            </a:xfrm>
            <a:custGeom>
              <a:avLst/>
              <a:gdLst/>
              <a:ahLst/>
              <a:rect l="l" t="t" r="r" b="b"/>
              <a:pathLst>
                <a:path w="1800526" h="1873376">
                  <a:moveTo>
                    <a:pt x="0" y="0"/>
                  </a:moveTo>
                  <a:lnTo>
                    <a:pt x="1800526" y="0"/>
                  </a:lnTo>
                  <a:lnTo>
                    <a:pt x="1223695" y="600169"/>
                  </a:lnTo>
                  <a:lnTo>
                    <a:pt x="600169" y="600169"/>
                  </a:lnTo>
                  <a:lnTo>
                    <a:pt x="600169" y="1248923"/>
                  </a:lnTo>
                  <a:lnTo>
                    <a:pt x="0" y="1873376"/>
                  </a:lnTo>
                  <a:close/>
                </a:path>
              </a:pathLst>
            </a:custGeom>
            <a:solidFill>
              <a:srgbClr val="993300"/>
            </a:solidFill>
            <a:ln w="25560">
              <a:solidFill>
                <a:srgbClr val="16164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Группа 12"/>
            <p:cNvGrpSpPr/>
            <p:nvPr/>
          </p:nvGrpSpPr>
          <p:grpSpPr>
            <a:xfrm>
              <a:off x="179280" y="1125360"/>
              <a:ext cx="6610320" cy="4669200"/>
              <a:chOff x="179280" y="1125360"/>
              <a:chExt cx="6610320" cy="4669200"/>
            </a:xfrm>
          </p:grpSpPr>
          <p:pic>
            <p:nvPicPr>
              <p:cNvPr id="70" name="Рисунок 10" descr="0_e9849_2279e745_orig.png"/>
              <p:cNvPicPr/>
              <p:nvPr/>
            </p:nvPicPr>
            <p:blipFill>
              <a:blip r:embed="rId2"/>
              <a:stretch/>
            </p:blipFill>
            <p:spPr>
              <a:xfrm>
                <a:off x="179280" y="1125360"/>
                <a:ext cx="6610320" cy="466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Picture 2" descr=""/>
              <p:cNvPicPr/>
              <p:nvPr/>
            </p:nvPicPr>
            <p:blipFill>
              <a:blip r:embed="rId3"/>
              <a:srcRect l="33479" t="20300" r="18925" b="15719"/>
              <a:stretch/>
            </p:blipFill>
            <p:spPr>
              <a:xfrm>
                <a:off x="852480" y="1773360"/>
                <a:ext cx="4382280" cy="331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2" name="Выноска-облако 8"/>
          <p:cNvSpPr/>
          <p:nvPr/>
        </p:nvSpPr>
        <p:spPr>
          <a:xfrm flipH="1">
            <a:off x="5363280" y="2133720"/>
            <a:ext cx="3240360" cy="1439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ыполняйте задани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Прямоугольник 3" descr=""/>
          <p:cNvPicPr/>
          <p:nvPr/>
        </p:nvPicPr>
        <p:blipFill>
          <a:blip r:embed="rId1"/>
          <a:stretch/>
        </p:blipFill>
        <p:spPr>
          <a:xfrm>
            <a:off x="49320" y="585720"/>
            <a:ext cx="3870360" cy="113364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4" descr=""/>
          <p:cNvPicPr/>
          <p:nvPr/>
        </p:nvPicPr>
        <p:blipFill>
          <a:blip r:embed="rId2"/>
          <a:stretch/>
        </p:blipFill>
        <p:spPr>
          <a:xfrm>
            <a:off x="4853160" y="652320"/>
            <a:ext cx="4346280" cy="11336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5" descr=""/>
          <p:cNvPicPr/>
          <p:nvPr/>
        </p:nvPicPr>
        <p:blipFill>
          <a:blip r:embed="rId3"/>
          <a:stretch/>
        </p:blipFill>
        <p:spPr>
          <a:xfrm>
            <a:off x="420840" y="3913200"/>
            <a:ext cx="3340080" cy="12682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6" descr=""/>
          <p:cNvPicPr/>
          <p:nvPr/>
        </p:nvPicPr>
        <p:blipFill>
          <a:blip r:embed="rId4"/>
          <a:stretch/>
        </p:blipFill>
        <p:spPr>
          <a:xfrm>
            <a:off x="-85680" y="5486400"/>
            <a:ext cx="2146320" cy="8478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7" descr=""/>
          <p:cNvPicPr/>
          <p:nvPr/>
        </p:nvPicPr>
        <p:blipFill>
          <a:blip r:embed="rId5"/>
          <a:stretch/>
        </p:blipFill>
        <p:spPr>
          <a:xfrm>
            <a:off x="4743360" y="4218120"/>
            <a:ext cx="3041640" cy="84132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8" descr=""/>
          <p:cNvPicPr/>
          <p:nvPr/>
        </p:nvPicPr>
        <p:blipFill>
          <a:blip r:embed="rId6"/>
          <a:stretch/>
        </p:blipFill>
        <p:spPr>
          <a:xfrm>
            <a:off x="2212920" y="5211720"/>
            <a:ext cx="2584440" cy="126216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9" descr=""/>
          <p:cNvPicPr/>
          <p:nvPr/>
        </p:nvPicPr>
        <p:blipFill>
          <a:blip r:embed="rId7"/>
          <a:stretch/>
        </p:blipFill>
        <p:spPr>
          <a:xfrm>
            <a:off x="4748040" y="5394240"/>
            <a:ext cx="1805040" cy="92736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10" descr=""/>
          <p:cNvPicPr/>
          <p:nvPr/>
        </p:nvPicPr>
        <p:blipFill>
          <a:blip r:embed="rId8"/>
          <a:stretch/>
        </p:blipFill>
        <p:spPr>
          <a:xfrm>
            <a:off x="6504120" y="5065560"/>
            <a:ext cx="2255760" cy="15732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ая соединительная линия 13"/>
          <p:cNvSpPr/>
          <p:nvPr/>
        </p:nvSpPr>
        <p:spPr>
          <a:xfrm>
            <a:off x="4500720" y="333360"/>
            <a:ext cx="0" cy="316692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3" descr=""/>
          <p:cNvPicPr/>
          <p:nvPr/>
        </p:nvPicPr>
        <p:blipFill>
          <a:blip r:embed="rId1"/>
          <a:stretch/>
        </p:blipFill>
        <p:spPr>
          <a:xfrm>
            <a:off x="262080" y="920880"/>
            <a:ext cx="8662680" cy="1646280"/>
          </a:xfrm>
          <a:prstGeom prst="rect">
            <a:avLst/>
          </a:prstGeom>
          <a:ln w="0">
            <a:noFill/>
          </a:ln>
        </p:spPr>
      </p:pic>
      <p:grpSp>
        <p:nvGrpSpPr>
          <p:cNvPr id="83" name="Группа 6"/>
          <p:cNvGrpSpPr/>
          <p:nvPr/>
        </p:nvGrpSpPr>
        <p:grpSpPr>
          <a:xfrm>
            <a:off x="-333720" y="0"/>
            <a:ext cx="7610760" cy="5101920"/>
            <a:chOff x="-333720" y="0"/>
            <a:chExt cx="7610760" cy="5101920"/>
          </a:xfrm>
        </p:grpSpPr>
        <p:sp>
          <p:nvSpPr>
            <p:cNvPr id="84" name="Дуга 4"/>
            <p:cNvSpPr/>
            <p:nvPr/>
          </p:nvSpPr>
          <p:spPr>
            <a:xfrm rot="19051800">
              <a:off x="324000" y="836280"/>
              <a:ext cx="3809880" cy="3429000"/>
            </a:xfrm>
            <a:custGeom>
              <a:avLst/>
              <a:gdLst>
                <a:gd name="textAreaLeft" fmla="*/ 1905120 w 3809880"/>
                <a:gd name="textAreaRight" fmla="*/ 3810240 w 3809880"/>
                <a:gd name="textAreaTop" fmla="*/ 0 h 3429000"/>
                <a:gd name="textAreaBottom" fmla="*/ 1714680 h 3429000"/>
              </a:gdLst>
              <a:ahLst/>
              <a:rect l="textAreaLeft" t="textAreaTop" r="textAreaRight" b="textAreaBottom"/>
              <a:pathLst>
                <a:path stroke="0" w="3810648" h="3428785">
                  <a:moveTo>
                    <a:pt x="1905326" y="0"/>
                  </a:moveTo>
                  <a:lnTo>
                    <a:pt x="1905326" y="0"/>
                  </a:lnTo>
                  <a:arcTo wR="1905324" hR="1714393" stAng="-5399996" swAng="5400003"/>
                  <a:lnTo>
                    <a:pt x="1905324" y="1714393"/>
                  </a:lnTo>
                  <a:close/>
                </a:path>
                <a:path fill="none" w="3810648" h="3428785">
                  <a:moveTo>
                    <a:pt x="1905326" y="0"/>
                  </a:moveTo>
                  <a:lnTo>
                    <a:pt x="1905326" y="0"/>
                  </a:lnTo>
                  <a:arcTo wR="1905324" hR="1714393" stAng="-5399996" swAng="5400003"/>
                </a:path>
              </a:pathLst>
            </a:custGeom>
            <a:noFill/>
            <a:ln w="88920">
              <a:solidFill>
                <a:srgbClr val="1919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Дуга 5"/>
            <p:cNvSpPr/>
            <p:nvPr/>
          </p:nvSpPr>
          <p:spPr>
            <a:xfrm rot="19338600">
              <a:off x="4163760" y="1105920"/>
              <a:ext cx="2711520" cy="2238480"/>
            </a:xfrm>
            <a:custGeom>
              <a:avLst/>
              <a:gdLst>
                <a:gd name="textAreaLeft" fmla="*/ 1355760 w 2711520"/>
                <a:gd name="textAreaRight" fmla="*/ 2711880 w 2711520"/>
                <a:gd name="textAreaTop" fmla="*/ 0 h 2238480"/>
                <a:gd name="textAreaBottom" fmla="*/ 1119240 h 2238480"/>
              </a:gdLst>
              <a:ahLst/>
              <a:rect l="textAreaLeft" t="textAreaTop" r="textAreaRight" b="textAreaBottom"/>
              <a:pathLst>
                <a:path stroke="0" w="2711911" h="2238235">
                  <a:moveTo>
                    <a:pt x="1355957" y="0"/>
                  </a:moveTo>
                  <a:lnTo>
                    <a:pt x="1355957" y="0"/>
                  </a:lnTo>
                  <a:arcTo wR="1355956" hR="1119118" stAng="-5399997" swAng="5400005"/>
                  <a:lnTo>
                    <a:pt x="1355956" y="1119118"/>
                  </a:lnTo>
                  <a:close/>
                </a:path>
                <a:path fill="none" w="2711911" h="2238235">
                  <a:moveTo>
                    <a:pt x="1355957" y="0"/>
                  </a:moveTo>
                  <a:lnTo>
                    <a:pt x="1355957" y="0"/>
                  </a:lnTo>
                  <a:arcTo wR="1355956" hR="1119118" stAng="-5399997" swAng="5400005"/>
                </a:path>
              </a:pathLst>
            </a:custGeom>
            <a:noFill/>
            <a:ln w="88920">
              <a:solidFill>
                <a:srgbClr val="1919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Рисунок 8" descr="images_cms-image-000049211.jpg"/>
          <p:cNvPicPr/>
          <p:nvPr/>
        </p:nvPicPr>
        <p:blipFill>
          <a:blip r:embed="rId2"/>
          <a:stretch/>
        </p:blipFill>
        <p:spPr>
          <a:xfrm>
            <a:off x="900000" y="2637000"/>
            <a:ext cx="7417080" cy="3881160"/>
          </a:xfrm>
          <a:prstGeom prst="rect">
            <a:avLst/>
          </a:prstGeom>
          <a:ln w="54000">
            <a:solidFill>
              <a:srgbClr val="7f7f7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Matilda</cp:lastModifiedBy>
  <dcterms:modified xsi:type="dcterms:W3CDTF">2018-12-02T18:27:35Z</dcterms:modified>
  <cp:revision>24</cp:revision>
  <dc:subject/>
  <dc:title>Слайд 1</dc:title>
</cp:coreProperties>
</file>