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7776-7752-447B-A807-9A236D3119F5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75DB54-7904-4632-966C-392F77ABA2CF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7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2996-3376-4829-9F82-9D65A6DC18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1DDA-3B14-42EA-A1FC-8E1CDF24FEEC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158-41F8-4C98-AF8B-D90F9D4B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BE6-61EF-43FE-ACA6-4AF0A330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337-DF6F-45D4-B060-E44A3FE2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206-6CDF-4141-9A81-BE88F423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634-7638-4336-933E-543833BC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19B-22CD-4DCD-B639-3C13D772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F8E-CDCF-4B46-8303-F6880BFC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310-A429-45F7-B2C0-DFC51FBE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5A0-0945-4CDE-B333-126E5C8A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D24-431B-4D74-946A-FE82718E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747-BB4C-4487-B332-B231F124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F40-E125-48DC-88C0-529C8405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92F1-DEA2-4525-AC6B-39EE621DC90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4BA6-F116-4472-9EA0-FCE78E33C59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ography.sgu.ru/bio/data/files/pictures/image/36524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4format.ru/author.photo.php?lt=209&amp;author=57" TargetMode="External"/><Relationship Id="rId2" Type="http://schemas.openxmlformats.org/officeDocument/2006/relationships/hyperlink" Target="http://www.kostyor.ru/biography/?n=109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3640" y="1915920"/>
            <a:ext cx="3889440" cy="14698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М. Е. Салтыков-Щедрин                            1826 - 1889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48000" y="3860640"/>
            <a:ext cx="3560760" cy="11527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Жизнь и творчество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0" name="Picture 9" descr="М.Е. Салтыков-Щедрин. Художник И. Крамской. 1879"/>
          <p:cNvPicPr/>
          <p:nvPr/>
        </p:nvPicPr>
        <p:blipFill>
          <a:blip r:embed="rId1"/>
          <a:stretch/>
        </p:blipFill>
        <p:spPr>
          <a:xfrm>
            <a:off x="611280" y="765000"/>
            <a:ext cx="3959280" cy="52563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М.Е. Салтыков-Щедрин. Литография А. Мюнстера. 1850-е"/>
          <p:cNvPicPr/>
          <p:nvPr/>
        </p:nvPicPr>
        <p:blipFill>
          <a:blip r:embed="rId1"/>
          <a:stretch/>
        </p:blipFill>
        <p:spPr>
          <a:xfrm>
            <a:off x="250920" y="549360"/>
            <a:ext cx="3841560" cy="5904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4140360" y="580536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.Е. Салтыков-Щедрин. Литография                  А. Мюнстера. 1850-е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211640" y="692280"/>
            <a:ext cx="4681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 конце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55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, после смерти Николая I, получив право "проживать где пожелает", возвратился в Петербург и возобновил литературную работу. В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56 — 1857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были написаны "Губернские очерки", изданные от имени "надворного советника                 Н. Щедрина", ставшего известным всей читающей России, назвавшей его наследником Гоголя. В это время женился на 17-летней дочери вятского вице-губернатора, Е. Болтиной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87A2-45E9-4446-AC05-5660010CB08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13"/>
          <p:cNvPicPr/>
          <p:nvPr/>
        </p:nvPicPr>
        <p:blipFill>
          <a:blip r:embed="rId1"/>
          <a:stretch/>
        </p:blipFill>
        <p:spPr>
          <a:xfrm>
            <a:off x="2411280" y="0"/>
            <a:ext cx="4316400" cy="590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14"/>
          <p:cNvPicPr/>
          <p:nvPr/>
        </p:nvPicPr>
        <p:blipFill>
          <a:blip r:embed="rId2"/>
          <a:stretch/>
        </p:blipFill>
        <p:spPr>
          <a:xfrm rot="954000">
            <a:off x="5722560" y="1376280"/>
            <a:ext cx="2951280" cy="424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19"/>
          <p:cNvPicPr/>
          <p:nvPr/>
        </p:nvPicPr>
        <p:blipFill>
          <a:blip r:embed="rId3"/>
          <a:stretch/>
        </p:blipFill>
        <p:spPr>
          <a:xfrm rot="20869200">
            <a:off x="394920" y="1268280"/>
            <a:ext cx="3203640" cy="4610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 rot="20859600">
            <a:off x="-180720" y="8362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Елизавета Аполлоновна - жена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 rot="741600">
            <a:off x="5866920" y="98064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нстантин - сын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708360" y="5589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Елизавета - дочь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D35E-76CE-4223-9E37-2429B9C7E66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М.Е. Салтыков-Щедрин. Фото конца 1860-х"/>
          <p:cNvPicPr/>
          <p:nvPr/>
        </p:nvPicPr>
        <p:blipFill>
          <a:blip r:embed="rId1"/>
          <a:stretch/>
        </p:blipFill>
        <p:spPr>
          <a:xfrm>
            <a:off x="250920" y="620640"/>
            <a:ext cx="4367160" cy="5832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4716360" y="580536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.Е. Салтыков-Щедрин. Фото конца 1860-х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788000" y="765000"/>
            <a:ext cx="417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58 — 1862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служил вице-губернатором в Рязани, затем в Твери. В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62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писатель вышел в отставку, переехал в Петербург и по приглашению Некрасова вошел в редакцию журнала "Современник", который в это время испытывал огромные трудности (Добролюбов скончался, Чернышевский заключен в Петропавловскую крепость). Салтыков взял на себя огромную писательскую и редакторскую работу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740C-10F5-4826-AB40-31C2950197D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602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ом в Петербурге, где жил М.Е.Салтыков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1C1F-298B-42C7-A7EC-1E8D64AFCDE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Салтыков-Щедрин с картой города Глупова. Художник А. Долотов. 1869"/>
          <p:cNvPicPr/>
          <p:nvPr/>
        </p:nvPicPr>
        <p:blipFill>
          <a:blip r:embed="rId1"/>
          <a:stretch/>
        </p:blipFill>
        <p:spPr>
          <a:xfrm>
            <a:off x="0" y="549360"/>
            <a:ext cx="4043520" cy="5975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4140360" y="587700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алтыков-Щедрин с картой города Глупова. Художник А. Долотов. 1869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140360" y="620640"/>
            <a:ext cx="500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65 — 1868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возглавлял Казенные палаты в Пензе, Туле, Рязани. Частая смена мест службы объясняется конфликтами с начальниками губерний, над которыми писатель "смеялся" в памфлетах-гротесках. После жалобы рязанского губернатора Салтыков в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68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был отправлен в отставку. Переехав в Петербург, принял приглашение Н. Некрасова стать соредактором журнала "Отечественные записки", где работал в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68 — 1884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. Салтыков теперь целиком переключился на литературную деятельность. В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69  пишет "Историю одного города"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— вершину своего сатирического искусств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47BB-568A-4AEE-B464-663F278E555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Щедрин в лесу реакции. Художники Д. Брызгалов, Н. Орлов. 1883"/>
          <p:cNvPicPr/>
          <p:nvPr/>
        </p:nvPicPr>
        <p:blipFill>
          <a:blip r:embed="rId1"/>
          <a:stretch/>
        </p:blipFill>
        <p:spPr>
          <a:xfrm>
            <a:off x="0" y="0"/>
            <a:ext cx="9144000" cy="70581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0" y="621648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едрин в лесу реакции. Художники Д. Брызгалов, Н. Орлов. 1883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9C71-39E7-4A8B-92B5-7644846AB5C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Обложка журнала «Стрекоза» — первая попытка иллюстрирования произведений М.Е. Салтыкова-Щедрина"/>
          <p:cNvPicPr/>
          <p:nvPr/>
        </p:nvPicPr>
        <p:blipFill>
          <a:blip r:embed="rId1"/>
          <a:stretch/>
        </p:blipFill>
        <p:spPr>
          <a:xfrm>
            <a:off x="0" y="0"/>
            <a:ext cx="643896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588000" y="765000"/>
            <a:ext cx="23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бложка журнала «Стрекоза» — первая попытка иллюстрирования произведений М.Е. Салтыкова-Щедрина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96D4-C1A3-4B01-A07F-6C32E0A150A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«Мое собранье насекомых открыто для моих знакомых». Художник А. Лебедев. 1877"/>
          <p:cNvPicPr/>
          <p:nvPr/>
        </p:nvPicPr>
        <p:blipFill>
          <a:blip r:embed="rId1"/>
          <a:stretch/>
        </p:blipFill>
        <p:spPr>
          <a:xfrm>
            <a:off x="250920" y="549360"/>
            <a:ext cx="4236840" cy="5832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4643280" y="558972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«Мое собранье насекомых открыто для моих знакомых». Художник А. Лебедев. 1877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643280" y="620640"/>
            <a:ext cx="417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1880-е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сатира Салтыкова достигла кульминации в своем гневе и гротеске: "Современная идиллия" 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(1877 — 83);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"Господа Головлевы" 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(1880);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"Пошехонские рассказы" 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(1883)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1884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журнал "Отечественные записки" был закрыт, после чего Салтыков вынужден был печататься в журнале "Вестник Европы"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1BCB-0B62-4D28-BC3B-2DDE57F0CE5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М.Е. Салтыков-Щедрин. Художник Н. Ярошенко. 1886"/>
          <p:cNvPicPr/>
          <p:nvPr/>
        </p:nvPicPr>
        <p:blipFill>
          <a:blip r:embed="rId1"/>
          <a:stretch/>
        </p:blipFill>
        <p:spPr>
          <a:xfrm>
            <a:off x="179280" y="476280"/>
            <a:ext cx="3810240" cy="60768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3924360" y="566100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.Е. Салтыков-Щедрин. Художник          Н. Ярошенко. 1886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067280" y="836640"/>
            <a:ext cx="50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 последние годы жизни писатель создал свои шедевры: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"Сказки"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(1882 — 86);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"Мелочи жизни"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(1886 — 87); автобиографический роман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"Пошехонская старина"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(1887 — 89)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936C-49AB-4119-B84E-21B3F906CD3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М.Е. Салтыков-Щедрин. Художник В. Матэ. 1889"/>
          <p:cNvPicPr/>
          <p:nvPr/>
        </p:nvPicPr>
        <p:blipFill>
          <a:blip r:embed="rId1"/>
          <a:stretch/>
        </p:blipFill>
        <p:spPr>
          <a:xfrm>
            <a:off x="0" y="620640"/>
            <a:ext cx="4476600" cy="5832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4716360" y="566100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.Е. Салтыков-Щедрин. Художник В. Матэ. 1889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643280" y="836640"/>
            <a:ext cx="4249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За несколько дней до смерти он написал первые страницы нового произведения "Забытые слова", где хотел напомнить "пестрым людям" 1880-х об утраченных ими словах: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"совесть, отечество, человечество... другие там еще..."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Умер М. Салтыков-Щедрин 28 апреля (10 мая н.с.)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89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в Петербурге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52D5-BBAA-487F-8332-98D6F6DB790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Картинка 2 из 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20640"/>
            <a:ext cx="4330800" cy="5832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643280" y="616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Художник И. Н. Крамской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356000" y="981000"/>
            <a:ext cx="4788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Rockwell Extra Bold"/>
              </a:rPr>
              <a:t>Его преследуют хулы:                    Он ловит звуки одобренья                    Не в сладком ропоте хвалы,                     А в диких звуках одобренья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Rockwell Extra Bold"/>
              </a:rPr>
              <a:t>                   </a:t>
            </a:r>
            <a:r>
              <a:rPr b="1" i="1" lang="ru-RU" sz="2800" spc="-1" strike="noStrike">
                <a:solidFill>
                  <a:srgbClr val="800000"/>
                </a:solidFill>
                <a:latin typeface="Rockwell Extra Bold"/>
              </a:rPr>
              <a:t>Н. А. Некрасов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276B-FAD1-4A5E-BEC9-B8974B40902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4format.ru/author.photo.php?lt=209&amp;author=57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kostyor.ru/biography/?n=109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Шаблон презентации позаимствован у учителя русского языка и литературы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ЦО № 1828 «Сабурово» Савельевой О. А.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79FB-116E-4C76-B32F-19DBBFE2BF1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5965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0" y="595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исатель родился в селе Спас-Угол Калязинского уезда Тверской губернии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1BE5-5854-4541-BB35-0226A266386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42022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5"/>
          <p:cNvPicPr/>
          <p:nvPr/>
        </p:nvPicPr>
        <p:blipFill>
          <a:blip r:embed="rId2"/>
          <a:stretch/>
        </p:blipFill>
        <p:spPr>
          <a:xfrm>
            <a:off x="4067280" y="0"/>
            <a:ext cx="5286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6"/>
          <p:cNvSpPr txBox="1"/>
          <p:nvPr/>
        </p:nvSpPr>
        <p:spPr>
          <a:xfrm>
            <a:off x="395280" y="4869000"/>
            <a:ext cx="3529080" cy="28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. М. Салтык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4932360" y="5013360"/>
            <a:ext cx="3600360" cy="596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. В. Салты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542D-40D2-4D38-90FC-4F928DEC813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3"/>
          <p:cNvPicPr/>
          <p:nvPr/>
        </p:nvPicPr>
        <p:blipFill>
          <a:blip r:embed="rId1"/>
          <a:stretch/>
        </p:blipFill>
        <p:spPr>
          <a:xfrm>
            <a:off x="179280" y="476280"/>
            <a:ext cx="3935520" cy="5975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4284720" y="836640"/>
            <a:ext cx="446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Детские годы прошли в родовом имении отца в "...годы... самого разгара крепостного права", в одном из глухих углов "Пошехонья".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4D4E-B8B7-4660-B659-635BA319F71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0" y="522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овский дворянский институт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0" y="5734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лучив хорошее домашнее образование, Салтыков в 10 лет был принят пансионером в Московский дворянский институт, где провел два года.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163C-0DA8-4B76-B12B-6068C5F07C9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5524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2771640" y="1890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арскосельский лицей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0" y="54450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1838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переведен в Царскосельский лицей. Здесь начал писать стихи, испытав большое влияние статей Белинского и Герцена, произведений Гоголя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34B8-D13A-4FFB-9AE7-71E6B0BD120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8"/>
          <p:cNvPicPr/>
          <p:nvPr/>
        </p:nvPicPr>
        <p:blipFill>
          <a:blip r:embed="rId1"/>
          <a:stretch/>
        </p:blipFill>
        <p:spPr>
          <a:xfrm>
            <a:off x="0" y="620640"/>
            <a:ext cx="4078440" cy="5184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780000" y="620640"/>
            <a:ext cx="518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i="1" lang="ru-RU" sz="2200" spc="-1" strike="noStrike">
                <a:solidFill>
                  <a:srgbClr val="800000"/>
                </a:solidFill>
                <a:latin typeface="Arial"/>
              </a:rPr>
              <a:t>1844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 после окончания лицея служил чиновником в канцелярии Военного министерства. </a:t>
            </a:r>
            <a:r>
              <a:rPr b="1" i="1" lang="ru-RU" sz="2200" spc="-1" strike="noStrike">
                <a:solidFill>
                  <a:srgbClr val="800000"/>
                </a:solidFill>
                <a:latin typeface="Arial"/>
              </a:rPr>
              <a:t>"...Везде долг, везде принуждение, везде скука и ложь...,"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 — такую характеристику дал он бюрократическому Петербургу. Другая жизнь более привлекала Салтыкова: общение с литераторами, посещение "пятниц" Петрашевского, где собирались философы, ученые, литераторы, военные, объединенные антикрепостническими настроениями, поисками идеалов справедливого общества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4545-D94D-469C-8F22-BA7D8553EF6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4903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50920" y="4365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м в Вятке, где жил М.Е.Салтыков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479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ервые повести Салтыкова "Противоречия"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(1847),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"Запутанное дело"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(1848)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своей острой социальной проблематикой обратили на себя внимание властей, напуганных французской революцией 1848. Писатель был выслан в Вятку за "...вредный образ мыслей и пагубное стремление к распространению идей, протрясших уже всю Западную Европу...". В течение восьми лет жил в Вятке, где в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850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был назначен на должность советника в губернском правлении..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38AC-A526-4A4B-9A1D-6FB13D26149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8:43:36Z</dcterms:created>
  <dc:creator>Admin</dc:creator>
  <dc:description>http://aida.ucoz.ru</dc:description>
  <dc:language>en-US</dc:language>
  <cp:lastModifiedBy>User</cp:lastModifiedBy>
  <dcterms:modified xsi:type="dcterms:W3CDTF">2011-11-15T20:30:07Z</dcterms:modified>
  <cp:revision>13</cp:revision>
  <dc:subject/>
  <dc:title>«Мрак времен».  Замысел, история создания, жанр и композиция романа М. Е. Салтыкова-Щедрина «История одного города»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