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1FB3-5A56-471B-9C7D-36C6B1637EDC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65143B-601C-4568-90EB-067D164AE09D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5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FB4-CF5B-4B79-BB05-79CE5E4AB4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BEC5-5FDB-419A-B0D4-2799148A2277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F98-4A13-43F1-9ECB-88CF2A3E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C30-24F9-431C-97DD-DD73D0AE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E0D-5545-49EC-882A-5057C187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C4B-2F0C-46FD-AE4C-D8C16B0F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991-824C-46D3-978C-1110BBAD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EB0C-1D28-4751-8F41-640FF0F0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6D0-3048-4CED-A509-684F4744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27D-2ACA-46F0-A008-C482640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36B-471D-46CA-8D34-301C7F69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78C-B879-4C83-907F-76948C4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9F9-4F40-4966-B059-73DDB78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57F-D334-4593-84FC-75FEC10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DCF-BE25-4961-BE64-466D12803C8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7B7B-B0C9-48F4-A66C-EAD7DB1FC61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graphy.sgu.ru/bio/data/files/pictures/image/3652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4format.ru/author.photo.php?lt=209&amp;author=57" TargetMode="External"/><Relationship Id="rId2" Type="http://schemas.openxmlformats.org/officeDocument/2006/relationships/hyperlink" Target="http://www.kostyor.ru/biography/?n=109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3640" y="1915920"/>
            <a:ext cx="3889440" cy="14698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. Е. Салтыков-Щедрин                            1826 - 188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8000" y="3860640"/>
            <a:ext cx="3560760" cy="11527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alibri"/>
              </a:rPr>
              <a:t>Жизнь и творчеств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50" name="Picture 9" descr="М.Е. Салтыков-Щедрин. Художник И. Крамской. 1879"/>
          <p:cNvPicPr/>
          <p:nvPr/>
        </p:nvPicPr>
        <p:blipFill>
          <a:blip r:embed="rId1"/>
          <a:stretch/>
        </p:blipFill>
        <p:spPr>
          <a:xfrm>
            <a:off x="611280" y="765000"/>
            <a:ext cx="3959280" cy="5256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М.Е. Салтыков-Щедрин. Литография А. Мюнстера. 1850-е"/>
          <p:cNvPicPr/>
          <p:nvPr/>
        </p:nvPicPr>
        <p:blipFill>
          <a:blip r:embed="rId1"/>
          <a:stretch/>
        </p:blipFill>
        <p:spPr>
          <a:xfrm>
            <a:off x="250920" y="549360"/>
            <a:ext cx="3841560" cy="590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4140360" y="580536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.Е. Салтыков-Щедрин. Литография                  А. Мюнстера. 1850-е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211640" y="692280"/>
            <a:ext cx="468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конце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55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, после смерти Николая I, получив право "проживать где пожелает", возвратился в Петербург и возобновил литературную работу.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56 — 1857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были написаны "Губернские очерки", изданные от имени "надворного советника                 Н. Щедрина", ставшего известным всей читающей России, назвавшей его наследником Гоголя. В это время женился на 17-летней дочери вятского вице-губернатора, Е. Болтиной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262-94F7-4A1E-BED0-D69CF717031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3"/>
          <p:cNvPicPr/>
          <p:nvPr/>
        </p:nvPicPr>
        <p:blipFill>
          <a:blip r:embed="rId1"/>
          <a:stretch/>
        </p:blipFill>
        <p:spPr>
          <a:xfrm>
            <a:off x="2411280" y="0"/>
            <a:ext cx="4316400" cy="59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4"/>
          <p:cNvPicPr/>
          <p:nvPr/>
        </p:nvPicPr>
        <p:blipFill>
          <a:blip r:embed="rId2"/>
          <a:stretch/>
        </p:blipFill>
        <p:spPr>
          <a:xfrm rot="954000">
            <a:off x="5722560" y="1376280"/>
            <a:ext cx="2951280" cy="424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19"/>
          <p:cNvPicPr/>
          <p:nvPr/>
        </p:nvPicPr>
        <p:blipFill>
          <a:blip r:embed="rId3"/>
          <a:stretch/>
        </p:blipFill>
        <p:spPr>
          <a:xfrm rot="20869200">
            <a:off x="394920" y="1268280"/>
            <a:ext cx="3203640" cy="4610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 rot="20859600">
            <a:off x="-180720" y="8362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лизавета Аполлоновна - жена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 rot="741600">
            <a:off x="5866920" y="98064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стантин - сын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708360" y="5589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Елизавета - дочь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B7D7-8D56-4F39-B38A-52A3E7AB1D3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М.Е. Салтыков-Щедрин. Фото конца 1860-х"/>
          <p:cNvPicPr/>
          <p:nvPr/>
        </p:nvPicPr>
        <p:blipFill>
          <a:blip r:embed="rId1"/>
          <a:stretch/>
        </p:blipFill>
        <p:spPr>
          <a:xfrm>
            <a:off x="250920" y="620640"/>
            <a:ext cx="436716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716360" y="58053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.Е. Салтыков-Щедрин. Фото конца 1860-х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788000" y="765000"/>
            <a:ext cx="417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58 — 1862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служил вице-губернатором в Рязани, затем в Твери.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2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писатель вышел в отставку, переехал в Петербург и по приглашению Некрасова вошел в редакцию журнала "Современник", который в это время испытывал огромные трудности (Добролюбов скончался, Чернышевский заключен в Петропавловскую крепость). Салтыков взял на себя огромную писательскую и редакторскую работу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20E7-0DB7-4EBC-8D21-7FE381BB1D4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026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602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ом в Петербурге, где жил М.Е.Салтык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3F84-ABD2-4F79-8480-F3C503D3DD6E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Салтыков-Щедрин с картой города Глупова. Художник А. Долотов. 1869"/>
          <p:cNvPicPr/>
          <p:nvPr/>
        </p:nvPicPr>
        <p:blipFill>
          <a:blip r:embed="rId1"/>
          <a:stretch/>
        </p:blipFill>
        <p:spPr>
          <a:xfrm>
            <a:off x="0" y="549360"/>
            <a:ext cx="4043520" cy="5975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140360" y="5877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алтыков-Щедрин с картой города Глупова. Художник А. Долотов. 1869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40360" y="620640"/>
            <a:ext cx="500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5 — 1868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возглавлял Казенные палаты в Пензе, Туле, Рязани. Частая смена мест службы объясняется конфликтами с начальниками губерний, над которыми писатель "смеялся" в памфлетах-гротесках. После жалобы рязанского губернатора Салтыков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8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был отправлен в отставку. Переехав в Петербург, принял приглашение Н. Некрасова стать соредактором журнала "Отечественные записки", где работал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8 — 1884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 Салтыков теперь целиком переключился на литературную деятельность. В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69  пишет "Историю одного города"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— вершину своего сатирического искусства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FA23-2F5A-4B78-8799-82ACE8D8FB4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Щедрин в лесу реакции. Художники Д. Брызгалов, Н. Орлов. 1883"/>
          <p:cNvPicPr/>
          <p:nvPr/>
        </p:nvPicPr>
        <p:blipFill>
          <a:blip r:embed="rId1"/>
          <a:stretch/>
        </p:blipFill>
        <p:spPr>
          <a:xfrm>
            <a:off x="0" y="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0" y="621648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едрин в лесу реакции. Художники Д. Брызгалов, Н. Орлов. 1883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B5E2-D406-45A7-9769-47DDFD6C234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Обложка журнала «Стрекоза» — первая попытка иллюстрирования произведений М.Е. Салтыкова-Щедрина"/>
          <p:cNvPicPr/>
          <p:nvPr/>
        </p:nvPicPr>
        <p:blipFill>
          <a:blip r:embed="rId1"/>
          <a:stretch/>
        </p:blipFill>
        <p:spPr>
          <a:xfrm>
            <a:off x="0" y="0"/>
            <a:ext cx="64389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588000" y="765000"/>
            <a:ext cx="23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бложка журнала «Стрекоза» — первая попытка иллюстрирования произведений М.Е. Салтыкова-Щедрина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FCF-7255-4036-B989-581B3A590FB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«Мое собранье насекомых открыто для моих знакомых». Художник А. Лебедев. 1877"/>
          <p:cNvPicPr/>
          <p:nvPr/>
        </p:nvPicPr>
        <p:blipFill>
          <a:blip r:embed="rId1"/>
          <a:stretch/>
        </p:blipFill>
        <p:spPr>
          <a:xfrm>
            <a:off x="250920" y="549360"/>
            <a:ext cx="4236840" cy="5832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643280" y="558972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«Мое собранье насекомых открыто для моих знакомых». Художник А. Лебедев. 1877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643280" y="620640"/>
            <a:ext cx="417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1880-е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сатира Салтыкова достигла кульминации в своем гневе и гротеске: "Современная идиллия"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(1877 — 83);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"Господа Головлевы"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(1880);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"Пошехонские рассказы"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(1883)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1884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журнал "Отечественные записки" был закрыт, после чего Салтыков вынужден был печататься в журнале "Вестник Европы"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3BEF-DB6D-4515-B141-00E9793D0B1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М.Е. Салтыков-Щедрин. Художник Н. Ярошенко. 1886"/>
          <p:cNvPicPr/>
          <p:nvPr/>
        </p:nvPicPr>
        <p:blipFill>
          <a:blip r:embed="rId1"/>
          <a:stretch/>
        </p:blipFill>
        <p:spPr>
          <a:xfrm>
            <a:off x="179280" y="476280"/>
            <a:ext cx="3810240" cy="6076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3924360" y="5661000"/>
            <a:ext cx="46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.Е. Салтыков-Щедрин. Художник          Н. Ярошенко. 1886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067280" y="836640"/>
            <a:ext cx="507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 последние годы жизни писатель создал свои шедевры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Сказки"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(1882 — 86);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Мелочи жизни"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(1886 — 87); автобиографический роман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Пошехонская старина"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(1887 — 89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5462-695C-4617-A034-334A81A5D4D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М.Е. Салтыков-Щедрин. Художник В. Матэ. 1889"/>
          <p:cNvPicPr/>
          <p:nvPr/>
        </p:nvPicPr>
        <p:blipFill>
          <a:blip r:embed="rId1"/>
          <a:stretch/>
        </p:blipFill>
        <p:spPr>
          <a:xfrm>
            <a:off x="0" y="620640"/>
            <a:ext cx="447660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4716360" y="566100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М.Е. Салтыков-Щедрин. Художник В. Матэ. 1889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643280" y="836640"/>
            <a:ext cx="4249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За несколько дней до смерти он написал первые страницы нового произведения "Забытые слова", где хотел напомнить "пестрым людям" 1880-х об утраченных ими словах: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"совесть, отечество, человечество... другие там еще..."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Умер М. Салтыков-Щедрин 28 апреля (10 мая н.с.)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889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в Петербурге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21E3-59C1-4F78-85C2-22D882F4036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Картинка 2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20640"/>
            <a:ext cx="4330800" cy="5832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4643280" y="616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Художник И. Н. Крамской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356000" y="981000"/>
            <a:ext cx="478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Rockwell Extra Bold"/>
              </a:rPr>
              <a:t>Его преследуют хулы:                    Он ловит звуки одобренья                    Не в сладком ропоте хвалы,                     А в диких звуках одобренья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Rockwell Extra Bold"/>
              </a:rPr>
              <a:t>                   </a:t>
            </a:r>
            <a:r>
              <a:rPr b="1" i="1" lang="ru-RU" sz="2800" spc="-1" strike="noStrike">
                <a:solidFill>
                  <a:srgbClr val="800000"/>
                </a:solidFill>
                <a:latin typeface="Rockwell Extra Bold"/>
              </a:rPr>
              <a:t>Н. А. Некрасов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D7B-3CED-4F72-8AAF-3A99A6DC023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4format.ru/author.photo.php?lt=209&amp;author=57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kostyor.ru/biography/?n=109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Шаблон презентации позаимствован у учителя русского языка и литературы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ЦО № 1828 «Сабурово» Савельевой О. А.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8FF8-C3D7-41EC-931D-17CC8090867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596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0" y="595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исатель родился в селе Спас-Угол Калязинского уезда Тверской губерни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83A1-CFD1-43F2-8C33-5666FBB1C07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420228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5"/>
          <p:cNvPicPr/>
          <p:nvPr/>
        </p:nvPicPr>
        <p:blipFill>
          <a:blip r:embed="rId2"/>
          <a:stretch/>
        </p:blipFill>
        <p:spPr>
          <a:xfrm>
            <a:off x="4067280" y="0"/>
            <a:ext cx="5286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395280" y="4869000"/>
            <a:ext cx="3529080" cy="28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. М. Салтык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4932360" y="5013360"/>
            <a:ext cx="3600360" cy="59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 В. Салты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A60A-DCF3-4D5C-A7D6-E198E178094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179280" y="476280"/>
            <a:ext cx="3935520" cy="5975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4284720" y="836640"/>
            <a:ext cx="446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Детские годы прошли в родовом имении отца в "...годы... самого разгара крепостного права", в одном из глухих углов "Пошехонья".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ED31-D052-45D4-82D1-7E3460424940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0" y="522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овский дворянский институ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573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олучив хорошее домашнее образование, Салтыков в 10 лет был принят пансионером в Московский дворянский институт, где провел два года.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DA41-437C-408F-9864-9E4AA2134C9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55245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2771640" y="189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косельский лицей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0" y="5445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1838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переведен в Царскосельский лицей. Здесь начал писать стихи, испытав большое влияние статей Белинского и Герцена, произведений Гоголя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375E-8506-4D9E-A2EC-C5E27309D38A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8"/>
          <p:cNvPicPr/>
          <p:nvPr/>
        </p:nvPicPr>
        <p:blipFill>
          <a:blip r:embed="rId1"/>
          <a:stretch/>
        </p:blipFill>
        <p:spPr>
          <a:xfrm>
            <a:off x="0" y="620640"/>
            <a:ext cx="407844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780000" y="620640"/>
            <a:ext cx="518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1844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после окончания лицея служил чиновником в канцелярии Военного министерства.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"...Везде долг, везде принуждение, везде скука и ложь...,"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— такую характеристику дал он бюрократическому Петербургу. Другая жизнь более привлекала Салтыкова: общение с литераторами, посещение "пятниц" Петрашевского, где собирались философы, ученые, литераторы, военные, объединенные антикрепостническими настроениями, поисками идеалов справедливого общества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E00-2E4D-46DD-A528-EF583F899C9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4903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50920" y="43657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 в Вятке, где жил М.Е.Салтыков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47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ервые повести Салтыкова "Противоречия"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1847),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"Запутанное дело"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1848)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своей острой социальной проблематикой обратили на себя внимание властей, напуганных французской революцией 1848. Писатель был выслан в Вятку за "...вредный образ мыслей и пагубное стремление к распространению идей, протрясших уже всю Западную Европу...". В течение восьми лет жил в Вятке, где 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850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был назначен на должность советника в губернском правлении..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D46D-00B5-4742-AB19-E0F8E2EE398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c8989"/>
                </a:solidFill>
                <a:latin typeface="Calibri"/>
              </a:rPr>
              <a:t>Круглова И. А.</a:t>
            </a:r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18:43:36Z</dcterms:created>
  <dc:creator>Admin</dc:creator>
  <dc:description>http://aida.ucoz.ru</dc:description>
  <dc:language>en-US</dc:language>
  <cp:lastModifiedBy>User</cp:lastModifiedBy>
  <dcterms:modified xsi:type="dcterms:W3CDTF">2011-11-15T20:30:07Z</dcterms:modified>
  <cp:revision>13</cp:revision>
  <dc:subject/>
  <dc:title>«Мрак времен».  Замысел, история создания, жанр и композиция романа М. Е. Салтыкова-Щедрина «История одного города»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