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3884760" y="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2640" y="646200"/>
            <a:ext cx="453852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578F3-D57E-4041-BCDD-6DB06FA646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D7CA-21D5-4503-90A5-56A5BF591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2E01A-7D99-4118-AFF4-2E78D9F9AF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FEA61-9289-4DB4-A5A7-97AF275557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9186D-4B92-43C0-9745-CE0F00967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0C41F-DEFE-48AF-8283-F93176D69F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B715-82A3-46F9-B3F3-95258A93A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C6E28-4269-4E2B-8CB3-78918CA1F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7FB93-FC23-4FC1-838D-B544280D25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11319-4ECC-43CC-82DF-420779330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A67F0-882E-41DD-AF06-0FD845DFF6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B3E4C-2449-4F5D-B512-7545C32D5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B1F1-7377-4B41-B98D-F8511DF5D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9452A-2313-48D2-9145-C0762EF51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0DCB-2E36-46DA-9DEC-29A1B45DC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3C083-4860-4B20-978E-E1C7DBB96F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866F-94BC-424B-8341-512BF18A4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05B9-3ECA-4E2F-8892-3EB1817C3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75482-5820-45E8-B80B-867EF49C7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505F0-B9FF-4D73-86A6-B1829AAB57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491E-E1E2-43B7-97C7-F2118B0A0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DB33A-CB77-4E6C-A9F9-16F77E7447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5E869-83E9-458F-BA58-0D7C7C66D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1C389-3831-4ECB-9313-0BF9432ECF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6A0C-653D-4E07-8DE5-BC037BC01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02A61-ED9E-4205-B752-D0D9F9E0A1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14FE4-7AA3-449A-9799-B49975D96B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80EA-5AD4-40C1-843D-9949AB7C5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EC803-197E-4F95-B0D4-A7DB8B42C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C2A44-B7C0-4F3F-BC6D-AC48C3BD0F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63A78-7FA5-4339-A9CD-BB917C7A4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7D79C-9E03-4979-813F-A2F634FA9D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9905-2B24-4D28-AF15-313B373F8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FD3C-EC2E-4F2D-BE97-D9EB00847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B49B-6FBB-4818-A126-5DBDC0C64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48AA-9B46-4348-90C9-0B0BC90D7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E212-53FB-4A4F-9379-B481717A8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8E46-065F-44EC-9011-A7BAEE6DF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FC8C-EAF5-4A9A-8EC0-1FCD2D3941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0954-4162-4549-88BB-28E9990C89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DA3F-D1EC-41E3-B731-AC1A48CD32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1504-C57F-4AD8-B908-C1F6C06AB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985D-BE17-4C29-9077-2F20D60BF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0814-35F0-43C2-A1C1-CBE8CEFF5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09BA-CDA2-4582-9E42-1AB10D961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A54A-C49E-4E66-A907-BCEDEBF241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4D46-5B33-49BC-A22E-98E3F6F2C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4850-A144-4451-B0C5-A3B498641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19D5-3F73-4BE2-84AF-23E5C301F3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644F-2A8B-4702-B7F8-AAA9062EB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97B6-3DDB-4FDB-A9D7-29C529F6A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947C-5F6A-4BFE-BBDA-AFC2135D3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622F-CD26-4A78-834F-00A22F08E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7072-1857-4DFE-A760-456BA1C8E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BC9E-837F-4FAF-B74E-C1C23F9FE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EF77-17AC-423F-99B3-DBEB23832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BDC6-8028-4FD1-979D-9195ECF8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00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C6A205-DD95-4CB6-99BD-3168785048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002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2F4CB6-A478-4A13-820E-C081AB48D8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files.school-collection.edu.ru/dlrstore/d8932e1e-fc13-f1de-2ace-288cbf49a4db/index.ht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79400" y="539640"/>
            <a:ext cx="785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079640" y="1260360"/>
            <a:ext cx="7540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ная кислот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00720" y="4140360"/>
            <a:ext cx="4325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 – единственный верный путь спрашивать прир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лышать ответ в ее лабора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И. Менделе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643720" y="6286680"/>
            <a:ext cx="89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857160" y="135720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214200" y="1714680"/>
            <a:ext cx="86439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AutoShape 3"/>
          <p:cNvCxnSpPr/>
          <p:nvPr/>
        </p:nvCxnSpPr>
        <p:spPr>
          <a:xfrm flipV="1">
            <a:off x="6858000" y="3642840"/>
            <a:ext cx="7149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"/>
          <p:cNvCxnSpPr/>
          <p:nvPr/>
        </p:nvCxnSpPr>
        <p:spPr>
          <a:xfrm>
            <a:off x="6858000" y="4000320"/>
            <a:ext cx="869040" cy="28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Text Box 5"/>
          <p:cNvSpPr/>
          <p:nvPr/>
        </p:nvSpPr>
        <p:spPr>
          <a:xfrm>
            <a:off x="0" y="285840"/>
            <a:ext cx="9429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сол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657920" y="3286080"/>
            <a:ext cx="1113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799040" y="407196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AutoShape 8"/>
          <p:cNvCxnSpPr/>
          <p:nvPr/>
        </p:nvCxnSpPr>
        <p:spPr>
          <a:xfrm flipH="1" flipV="1">
            <a:off x="6084000" y="4507920"/>
            <a:ext cx="3960" cy="433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6886440" y="126036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1714680" y="21420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ая реа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95280" y="119700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a(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O</a:t>
            </a:r>
            <a:r>
              <a:rPr b="1" lang="en-US" sz="4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H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4880" y="3933720"/>
            <a:ext cx="30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мол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2421000"/>
            <a:ext cx="5248080" cy="787320"/>
            <a:chOff x="0" y="2421000"/>
            <a:chExt cx="5248080" cy="787320"/>
          </a:xfrm>
        </p:grpSpPr>
        <p:sp>
          <p:nvSpPr>
            <p:cNvPr id="191" name="Rectangle 5"/>
            <p:cNvSpPr/>
            <p:nvPr/>
          </p:nvSpPr>
          <p:spPr>
            <a:xfrm>
              <a:off x="0" y="2421000"/>
              <a:ext cx="5248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a</a:t>
              </a:r>
              <a:r>
                <a:rPr b="1" lang="en-US" sz="40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2+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+SO</a:t>
              </a:r>
              <a:r>
                <a:rPr b="1" lang="en-US" sz="4000" spc="-1" strike="noStrike" baseline="-25000">
                  <a:solidFill>
                    <a:srgbClr val="c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40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=</a:t>
              </a: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aSO</a:t>
              </a:r>
              <a:r>
                <a:rPr b="1" lang="en-US" sz="4000" spc="-1" strike="noStrike" baseline="-25000">
                  <a:solidFill>
                    <a:srgbClr val="c00000"/>
                  </a:solidFill>
                  <a:latin typeface="Times New Roman"/>
                  <a:ea typeface="Times New Roman"/>
                </a:rPr>
                <a:t>4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2" name="AutoShape 6"/>
            <p:cNvCxnSpPr/>
            <p:nvPr/>
          </p:nvCxnSpPr>
          <p:spPr>
            <a:xfrm flipH="1">
              <a:off x="5002920" y="2492280"/>
              <a:ext cx="11880" cy="50400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</p:grp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4741920" y="3419640"/>
            <a:ext cx="42577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47600" y="6369120"/>
            <a:ext cx="719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files.school-collection.edu.ru/dlrstore/d8932e1e-fc13-f1de-2ace-288cbf49a4db/index.ht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о разбавления кисло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5357880"/>
            <a:ext cx="7286760" cy="1290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начала вода, потом кислот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аче случи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ая бед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530440" y="1855800"/>
            <a:ext cx="421956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5285160" y="4140360"/>
            <a:ext cx="83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503360" y="1160640"/>
            <a:ext cx="7315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6ae368db-1a38-5b5c-82c3-aadd474e4be6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аимодейств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) с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E:\Химия\Химия.jpeg"/>
          <p:cNvPicPr/>
          <p:nvPr/>
        </p:nvPicPr>
        <p:blipFill>
          <a:blip r:embed="rId1"/>
          <a:stretch/>
        </p:blipFill>
        <p:spPr>
          <a:xfrm>
            <a:off x="395280" y="1770120"/>
            <a:ext cx="8280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-125280"/>
            <a:ext cx="82296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доотнимающее свойство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506680" y="2046240"/>
            <a:ext cx="426708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00000" y="5479920"/>
            <a:ext cx="7253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7c646dda-e274-b217-58cf-1668d25430fb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200" y="21420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8161a"/>
                </a:solidFill>
                <a:latin typeface="Calibri"/>
              </a:rPr>
              <a:t>Разрушающее действ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8161a"/>
                </a:solidFill>
                <a:latin typeface="Calibri"/>
              </a:rPr>
              <a:t>концентрированной серной кисл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бугливание древес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06680" y="1994040"/>
            <a:ext cx="4267080" cy="2923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131840" y="5300640"/>
            <a:ext cx="732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e5984256-0b18-c23b-985b-397af5d9adbe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11120" y="179280"/>
            <a:ext cx="8229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Взаимодействие конц.</a:t>
            </a:r>
            <a:r>
              <a:rPr b="1" lang="en-US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4 </a:t>
            </a:r>
            <a:r>
              <a:rPr b="1" lang="ru-RU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с металл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506680" y="2103480"/>
            <a:ext cx="4267080" cy="27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362240" y="5219640"/>
            <a:ext cx="727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9a897ea8-64e1-3877-def6-aba916d777ee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68360" y="105264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смотреть состав , строение , классификацию.(на основе ранее полученных зна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мотреть общ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ить специфическ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2627280" y="3068640"/>
            <a:ext cx="417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ыполнено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E:\Химия\Химия - копия.jpeg"/>
          <p:cNvPicPr/>
          <p:nvPr/>
        </p:nvPicPr>
        <p:blipFill>
          <a:blip r:embed="rId1"/>
          <a:stretch/>
        </p:blipFill>
        <p:spPr>
          <a:xfrm>
            <a:off x="684360" y="1569960"/>
            <a:ext cx="77752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760680" y="404640"/>
            <a:ext cx="811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66840" y="2503440"/>
            <a:ext cx="7959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§ 23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ние в тетрад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видуально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68360" y="105264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смотреть состав , строение , классификацию.(на основе ранее полученных знаний).Физ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мотреть общ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ить специфическ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1"/>
          <p:cNvSpPr txBox="1"/>
          <p:nvPr/>
        </p:nvSpPr>
        <p:spPr>
          <a:xfrm>
            <a:off x="1042920" y="1413000"/>
            <a:ext cx="76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всем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WordArt 2"/>
          <p:cNvSpPr txBox="1"/>
          <p:nvPr/>
        </p:nvSpPr>
        <p:spPr>
          <a:xfrm>
            <a:off x="395280" y="1413000"/>
            <a:ext cx="82090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го доброг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18680" y="0"/>
            <a:ext cx="44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остав. Стро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63960" y="781200"/>
            <a:ext cx="32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en-US" sz="88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d0d0d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1800" y="422100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окисления се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1800" y="494172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ентность с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54120" y="4076640"/>
            <a:ext cx="7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052760" y="479736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1080" y="575460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764520" y="580536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валентная поля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718520" y="17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718520" y="299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6108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726520" y="1773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7524720" y="1773360"/>
            <a:ext cx="5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726520" y="2924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221800" y="1700280"/>
            <a:ext cx="5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221800" y="2997360"/>
            <a:ext cx="5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6300720" y="2276640"/>
            <a:ext cx="358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 flipH="1">
            <a:off x="6300360" y="285264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524720" y="2924280"/>
            <a:ext cx="5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 flipH="1">
            <a:off x="7164000" y="220500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 flipH="1">
            <a:off x="7236000" y="2276640"/>
            <a:ext cx="3585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7164360" y="2924280"/>
            <a:ext cx="358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7236000" y="2852640"/>
            <a:ext cx="3585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30360" y="11448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ерная кислота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Класс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549360"/>
            <a:ext cx="62024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ерная кислота по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ю кислор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имости в во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уч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и электролитической диссоци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837760" y="1484280"/>
            <a:ext cx="27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слородсодержа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284520" y="2349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вухосн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336000" y="2997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твори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283080" y="3789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елету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317280" y="45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и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381720" y="515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39640" y="1989000"/>
            <a:ext cx="8282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539640" y="2852640"/>
            <a:ext cx="8282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68360" y="3429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468360" y="4221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468360" y="494172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468360" y="5661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643280" y="714240"/>
            <a:ext cx="42865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ая  маслянистая жид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4кг/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вяз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сильным гигроскопическим свой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45800" y="0"/>
            <a:ext cx="89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ческие свойства серной кисл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714920" y="521496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.  = 340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143680" y="2000160"/>
            <a:ext cx="285480" cy="619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720720" y="1979640"/>
            <a:ext cx="3362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2509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щие свойства растворов кисл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66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0" y="-406440"/>
            <a:ext cx="914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мические свойства разбавленной серной кислоты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металлами ( до Н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736560" y="2781360"/>
            <a:ext cx="650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808200" y="3573360"/>
            <a:ext cx="673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Mg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11360" y="5084640"/>
            <a:ext cx="3613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AutoShape 5"/>
          <p:cNvCxnSpPr/>
          <p:nvPr/>
        </p:nvCxnSpPr>
        <p:spPr>
          <a:xfrm flipH="1" flipV="1">
            <a:off x="3230280" y="5230800"/>
            <a:ext cx="480240" cy="2955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8" name="AutoShape 6"/>
          <p:cNvCxnSpPr/>
          <p:nvPr/>
        </p:nvCxnSpPr>
        <p:spPr>
          <a:xfrm flipV="1">
            <a:off x="3132000" y="5230440"/>
            <a:ext cx="581400" cy="31032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6600960" y="4470480"/>
            <a:ext cx="221904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200" y="69840"/>
            <a:ext cx="8286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ксидами мет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240280" y="1773360"/>
            <a:ext cx="48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84640" y="3068640"/>
            <a:ext cx="477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459160" y="2349360"/>
            <a:ext cx="40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603520" y="3716280"/>
            <a:ext cx="402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471600" y="4500720"/>
            <a:ext cx="222876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0" y="214200"/>
            <a:ext cx="9144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основани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71680" y="1500120"/>
            <a:ext cx="821520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OH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ОН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а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т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7:59:55Z</dcterms:created>
  <dc:creator>Ест-науч цикл</dc:creator>
  <dc:description/>
  <dc:language>en-US</dc:language>
  <cp:lastModifiedBy>Дом</cp:lastModifiedBy>
  <dcterms:modified xsi:type="dcterms:W3CDTF">2018-12-06T19:31:38Z</dcterms:modified>
  <cp:revision>199</cp:revision>
  <dc:subject/>
  <dc:title>Серная кислота и ее свойства</dc:title>
</cp:coreProperties>
</file>