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3884760" y="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2640" y="646200"/>
            <a:ext cx="4538520" cy="344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C6CA9-6F8A-4200-AFD8-004C67E8DA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7BC21-12A0-4B6B-9D67-BCC416E577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C3A5D-60FB-433F-8199-DEC12A9129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524CE-6846-4321-BE38-2AB78DEBE0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93BE6-0D63-4944-A73C-A7A9C4BB90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88424-3CEE-4AF1-89A5-174710D3E1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7B993-E623-484D-BD13-86CA4AD7DA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DF7EF-5602-4249-8410-C704FE498F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148D3-2C8E-49C5-8469-9ADC5821FC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7A3F3-BD24-44D6-9737-A1D8CDA509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8E085-C1BB-47BA-BEFB-A47C14B0E9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DA06F-89FD-409E-B532-6F1E4CF0D8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6392B-8A68-4556-9CC8-9D3C40B5BA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74AA0-1623-48F7-958B-59608765A0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90A90-8FFA-4EB9-977C-C9D5D7DBF3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EF325-716B-43BA-8BB3-6F43D7D904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F5262-6885-4F4E-A37A-B881A39889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AE488-765B-47C5-A9B4-022F2766E9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62C70-E76B-4E05-8023-2FA1BC9321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C1AAA-ABBB-45DB-A51F-4F688DD772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FC1A5-36F8-445F-A03E-159E3153B5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87936-BCE6-4A34-A2FE-CC01842898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7AD64-84CD-45E2-BCDA-CD5C36B018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F2C2A-A93F-4893-AAC4-AB10C7C95B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EF692-0EC9-47EC-90BB-F594E6D8A1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83C05-93DE-41AD-B014-C5AD43FBE7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3CC06-A673-44CC-B069-3E3E9A1122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60A97-A96A-4557-AFDE-B5E2358E8F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3A471-D533-40FF-9675-65AE82C873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20FE6-F94F-452A-9843-E89DAAE2CD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B102C-98A6-4D9E-B8CC-06318639DE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1D747-1542-427F-A14A-793FBBBEBD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4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26B06-8A88-42D1-A935-9A4C8B0C42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50248-6F92-4FCF-BCDC-203AF6A1A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2299-CAF2-4308-947A-C4BDD3AFC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51D7-B942-4C19-85A7-3CDCE9B84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812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90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812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90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561E-827A-42E5-B64C-B3E0BA739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E2A82-AD91-4D8E-B690-356FD40A8E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3F5D0-1B44-44D6-8B45-9BD6F8FB72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29CEF-D254-4216-815B-2D591924E3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6BDFE-3160-47A0-BFE4-9A54E118DE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16EB0-D4A2-481F-B857-CDD16763AF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196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5B001-4A5A-41FD-B2B3-B8E38BB551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6C600-EE71-43B0-BFBD-03550D6837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18220-F375-4BAF-8D04-48E6E0A15C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21F17-442F-47F8-ABCF-3B60AF0165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D0D7E-6356-42F5-BC61-B58CC9F697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40F06-ABDB-4DE8-9651-13AFAAB6FE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87134-B3A2-4A22-A074-FD18E271E8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812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9040" y="160020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812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9040" y="3947040"/>
            <a:ext cx="2638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B70DA-E05C-4A4F-BCB6-BC4C54762B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E345-A061-4E2F-92E9-FDC19093D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9E775-5D60-432E-8E48-B5E1E5177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AF1D-E66F-428D-B044-3E27A06C6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196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AD0A2-CE54-43B0-864D-8313E3C94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3F75-63AC-48C5-AAA7-D9B422643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960" y="394704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03021-75A1-4F31-8A63-E6ED7675C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960" y="1600200"/>
            <a:ext cx="399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1961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A1F1-75E7-41A1-A1F7-7F7026A01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3280"/>
            <a:ext cx="21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00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C0C6C2E-C78E-473A-8641-5B2A0E9255B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19612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002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7745A9-7E29-445D-8A13-16A4AC250C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files.school-collection.edu.ru/dlrstore/d8932e1e-fc13-f1de-2ace-288cbf49a4db/index.htm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779400" y="539640"/>
            <a:ext cx="7859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079640" y="1260360"/>
            <a:ext cx="75405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ная кислот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500720" y="4140360"/>
            <a:ext cx="43257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ыт – единственный верный путь спрашивать прир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слышать ответ в ее лаборато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.И. Менделее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643720" y="6286680"/>
            <a:ext cx="89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857160" y="135720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214200" y="1714680"/>
            <a:ext cx="8643960" cy="41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N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0" name="AutoShape 3"/>
          <p:cNvCxnSpPr/>
          <p:nvPr/>
        </p:nvCxnSpPr>
        <p:spPr>
          <a:xfrm flipV="1">
            <a:off x="6858000" y="3642840"/>
            <a:ext cx="71496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"/>
          <p:cNvCxnSpPr/>
          <p:nvPr/>
        </p:nvCxnSpPr>
        <p:spPr>
          <a:xfrm>
            <a:off x="6858000" y="4000320"/>
            <a:ext cx="869040" cy="286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Text Box 5"/>
          <p:cNvSpPr/>
          <p:nvPr/>
        </p:nvSpPr>
        <p:spPr>
          <a:xfrm>
            <a:off x="0" y="285840"/>
            <a:ext cx="94298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аимодействие с сол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я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7657920" y="3286080"/>
            <a:ext cx="1113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799040" y="4071960"/>
            <a:ext cx="93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5" name="AutoShape 8"/>
          <p:cNvCxnSpPr/>
          <p:nvPr/>
        </p:nvCxnSpPr>
        <p:spPr>
          <a:xfrm flipH="1" flipV="1">
            <a:off x="6084000" y="4507920"/>
            <a:ext cx="3960" cy="4338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6886440" y="1260360"/>
            <a:ext cx="1933560" cy="19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1714680" y="214200"/>
            <a:ext cx="600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чественная реак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395280" y="1197000"/>
            <a:ext cx="8353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Ba(N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SO</a:t>
            </a:r>
            <a:r>
              <a:rPr b="1" lang="en-US" sz="40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↓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HN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974880" y="3933720"/>
            <a:ext cx="302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 молоч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ад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0" y="2421000"/>
            <a:ext cx="5248080" cy="787320"/>
            <a:chOff x="0" y="2421000"/>
            <a:chExt cx="5248080" cy="787320"/>
          </a:xfrm>
        </p:grpSpPr>
        <p:sp>
          <p:nvSpPr>
            <p:cNvPr id="191" name="Rectangle 5"/>
            <p:cNvSpPr/>
            <p:nvPr/>
          </p:nvSpPr>
          <p:spPr>
            <a:xfrm>
              <a:off x="0" y="2421000"/>
              <a:ext cx="52480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Ba</a:t>
              </a:r>
              <a:r>
                <a:rPr b="1" lang="en-US" sz="40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2+</a:t>
              </a:r>
              <a:r>
                <a:rPr b="1" lang="en-US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+SO</a:t>
              </a:r>
              <a:r>
                <a:rPr b="1" lang="en-US" sz="4000" spc="-1" strike="noStrike" baseline="-25000">
                  <a:solidFill>
                    <a:srgbClr val="c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en-US" sz="40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2-</a:t>
              </a:r>
              <a:r>
                <a:rPr b="1" lang="en-US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=</a:t>
              </a:r>
              <a:r>
                <a:rPr b="1" lang="ru-RU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BaSO</a:t>
              </a:r>
              <a:r>
                <a:rPr b="1" lang="en-US" sz="4000" spc="-1" strike="noStrike" baseline="-25000">
                  <a:solidFill>
                    <a:srgbClr val="c00000"/>
                  </a:solidFill>
                  <a:latin typeface="Times New Roman"/>
                  <a:ea typeface="Times New Roman"/>
                </a:rPr>
                <a:t>4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2" name="AutoShape 6"/>
            <p:cNvCxnSpPr/>
            <p:nvPr/>
          </p:nvCxnSpPr>
          <p:spPr>
            <a:xfrm flipH="1">
              <a:off x="5002920" y="2492280"/>
              <a:ext cx="11880" cy="504000"/>
            </a:xfrm>
            <a:prstGeom prst="straightConnector1">
              <a:avLst/>
            </a:prstGeom>
            <a:ln w="25560">
              <a:solidFill>
                <a:srgbClr val="c00000"/>
              </a:solidFill>
              <a:miter/>
              <a:tailEnd len="med" type="triangle" w="med"/>
            </a:ln>
          </p:spPr>
        </p:cxnSp>
      </p:grpSp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4741920" y="3419640"/>
            <a:ext cx="4257720" cy="31622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8"/>
          <p:cNvSpPr/>
          <p:nvPr/>
        </p:nvSpPr>
        <p:spPr>
          <a:xfrm>
            <a:off x="147600" y="6369120"/>
            <a:ext cx="7191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files.school-collection.edu.ru/dlrstore/d8932e1e-fc13-f1de-2ace-288cbf49a4db/index.htm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42876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о разбавления кисло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714240" y="5357880"/>
            <a:ext cx="7286760" cy="12909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начала вода, потом кислота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аче случи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льшая бед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2530440" y="1855800"/>
            <a:ext cx="4219560" cy="32004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"/>
          <p:cNvSpPr/>
          <p:nvPr/>
        </p:nvSpPr>
        <p:spPr>
          <a:xfrm>
            <a:off x="5285160" y="4140360"/>
            <a:ext cx="83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503360" y="1160640"/>
            <a:ext cx="7315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http://files.school-collection.edu.ru/dlrstore/6ae368db-1a38-5b5c-82c3-aadd474e4be6/index.ht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заимодейств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к) с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E:\Химия\Химия.jpeg"/>
          <p:cNvPicPr/>
          <p:nvPr/>
        </p:nvPicPr>
        <p:blipFill>
          <a:blip r:embed="rId1"/>
          <a:stretch/>
        </p:blipFill>
        <p:spPr>
          <a:xfrm>
            <a:off x="395280" y="1770120"/>
            <a:ext cx="82803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1"/>
          <p:cNvSpPr/>
          <p:nvPr/>
        </p:nvSpPr>
        <p:spPr>
          <a:xfrm>
            <a:off x="457200" y="-125280"/>
            <a:ext cx="822960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одоотнимающее свойство 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c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SO</a:t>
            </a:r>
            <a:r>
              <a:rPr b="1" lang="en-US" sz="4400" spc="-1" strike="noStrike" baseline="-25000">
                <a:solidFill>
                  <a:srgbClr val="c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506680" y="2046240"/>
            <a:ext cx="4267080" cy="28195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900000" y="5479920"/>
            <a:ext cx="7253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http://files.school-collection.edu.ru/dlrstore/7c646dda-e274-b217-58cf-1668d25430fb/index.ht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214200" y="214200"/>
            <a:ext cx="857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8161a"/>
                </a:solidFill>
                <a:latin typeface="Calibri"/>
              </a:rPr>
              <a:t>Разрушающее действ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8161a"/>
                </a:solidFill>
                <a:latin typeface="Calibri"/>
              </a:rPr>
              <a:t>концентрированной серной кисло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обугливание древеси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506680" y="1994040"/>
            <a:ext cx="4267080" cy="29239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1131840" y="5300640"/>
            <a:ext cx="7327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http://files.school-collection.edu.ru/dlrstore/e5984256-0b18-c23b-985b-397af5d9adbe/index.ht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411120" y="179280"/>
            <a:ext cx="82296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8161a"/>
                </a:solidFill>
                <a:latin typeface="Times New Roman"/>
                <a:ea typeface="Times New Roman"/>
              </a:rPr>
              <a:t>Взаимодействие конц.</a:t>
            </a:r>
            <a:r>
              <a:rPr b="1" lang="en-US" sz="4000" spc="-1" strike="noStrike">
                <a:solidFill>
                  <a:srgbClr val="c8161a"/>
                </a:solidFill>
                <a:latin typeface="Times New Roman"/>
                <a:ea typeface="Times New Roman"/>
              </a:rPr>
              <a:t>H</a:t>
            </a:r>
            <a:r>
              <a:rPr b="1" lang="en-US" sz="4000" spc="-1" strike="noStrike" baseline="-25000">
                <a:solidFill>
                  <a:srgbClr val="c8161a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c8161a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c8161a"/>
                </a:solidFill>
                <a:latin typeface="Times New Roman"/>
                <a:ea typeface="Times New Roman"/>
              </a:rPr>
              <a:t>4 </a:t>
            </a:r>
            <a:r>
              <a:rPr b="1" lang="ru-RU" sz="4000" spc="-1" strike="noStrike" baseline="-25000">
                <a:solidFill>
                  <a:srgbClr val="c8161a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c8161a"/>
                </a:solidFill>
                <a:latin typeface="Times New Roman"/>
                <a:ea typeface="Times New Roman"/>
              </a:rPr>
              <a:t>с металл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506680" y="2103480"/>
            <a:ext cx="4267080" cy="2705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1362240" y="5219640"/>
            <a:ext cx="7278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http://files.school-collection.edu.ru/dlrstore/9a897ea8-64e1-3877-def6-aba916d777ee/index.ht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468360" y="1052640"/>
            <a:ext cx="86756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а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ссмотреть состав , строение , классификацию.(на основе ранее полученных знани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ассмотреть общие свойства серной кисл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Изучить специфические свойства серной кисл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2627280" y="3068640"/>
            <a:ext cx="417672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Выполнено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196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E:\Химия\Химия - копия.jpeg"/>
          <p:cNvPicPr/>
          <p:nvPr/>
        </p:nvPicPr>
        <p:blipFill>
          <a:blip r:embed="rId1"/>
          <a:stretch/>
        </p:blipFill>
        <p:spPr>
          <a:xfrm>
            <a:off x="684360" y="1569960"/>
            <a:ext cx="777528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760680" y="404640"/>
            <a:ext cx="811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Arial"/>
              </a:rPr>
              <a:t>Домашнее задани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366840" y="2503440"/>
            <a:ext cx="7959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§ 23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задание в тетради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индивидуальное зад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468360" y="1052640"/>
            <a:ext cx="86756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а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ссмотреть состав , строение , классификацию.(на основе ранее полученных знаний).Физические свой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ассмотреть общие свойства серной кисл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Изучить специфические свойства серной кисло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1"/>
          <p:cNvSpPr txBox="1"/>
          <p:nvPr/>
        </p:nvSpPr>
        <p:spPr>
          <a:xfrm>
            <a:off x="1042920" y="1413000"/>
            <a:ext cx="7632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всем!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WordArt 2"/>
          <p:cNvSpPr txBox="1"/>
          <p:nvPr/>
        </p:nvSpPr>
        <p:spPr>
          <a:xfrm>
            <a:off x="395280" y="1413000"/>
            <a:ext cx="820908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его доброго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218680" y="0"/>
            <a:ext cx="444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Состав. Стро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63960" y="781200"/>
            <a:ext cx="327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8800" spc="-1" strike="noStrike">
                <a:solidFill>
                  <a:srgbClr val="0d0d0d"/>
                </a:solidFill>
                <a:latin typeface="Arial"/>
              </a:rPr>
              <a:t>Н</a:t>
            </a:r>
            <a:r>
              <a:rPr b="0" lang="ru-RU" sz="4800" spc="-1" strike="noStrike">
                <a:solidFill>
                  <a:srgbClr val="0d0d0d"/>
                </a:solidFill>
                <a:latin typeface="Arial"/>
              </a:rPr>
              <a:t>2</a:t>
            </a:r>
            <a:r>
              <a:rPr b="0" lang="en-US" sz="8800" spc="-1" strike="noStrike">
                <a:solidFill>
                  <a:srgbClr val="0d0d0d"/>
                </a:solidFill>
                <a:latin typeface="Arial"/>
              </a:rPr>
              <a:t>S</a:t>
            </a:r>
            <a:r>
              <a:rPr b="0" lang="ru-RU" sz="8800" spc="-1" strike="noStrike">
                <a:solidFill>
                  <a:srgbClr val="0d0d0d"/>
                </a:solidFill>
                <a:latin typeface="Arial"/>
              </a:rPr>
              <a:t>О</a:t>
            </a:r>
            <a:r>
              <a:rPr b="0" lang="en-US" sz="4800" spc="-1" strike="noStrike">
                <a:solidFill>
                  <a:srgbClr val="0d0d0d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51800" y="4221000"/>
            <a:ext cx="44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окисления сер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51800" y="4941720"/>
            <a:ext cx="32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ентность се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954120" y="4076640"/>
            <a:ext cx="7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7052760" y="4797360"/>
            <a:ext cx="6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1080" y="5754600"/>
            <a:ext cx="31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ая связ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764520" y="5805360"/>
            <a:ext cx="39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валентная поляр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4718520" y="1700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718520" y="2997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61080" y="2349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5726520" y="177336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7524720" y="1773360"/>
            <a:ext cx="57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5726520" y="292428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5221800" y="1700280"/>
            <a:ext cx="5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5221800" y="2997360"/>
            <a:ext cx="5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19"/>
          <p:cNvSpPr/>
          <p:nvPr/>
        </p:nvSpPr>
        <p:spPr>
          <a:xfrm>
            <a:off x="6300720" y="2276640"/>
            <a:ext cx="35892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0"/>
          <p:cNvSpPr/>
          <p:nvPr/>
        </p:nvSpPr>
        <p:spPr>
          <a:xfrm flipH="1">
            <a:off x="6300360" y="2852640"/>
            <a:ext cx="35892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7524720" y="2924280"/>
            <a:ext cx="57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6"/>
          <p:cNvSpPr/>
          <p:nvPr/>
        </p:nvSpPr>
        <p:spPr>
          <a:xfrm flipH="1">
            <a:off x="7164000" y="2205000"/>
            <a:ext cx="35892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7"/>
          <p:cNvSpPr/>
          <p:nvPr/>
        </p:nvSpPr>
        <p:spPr>
          <a:xfrm flipH="1">
            <a:off x="7236000" y="2276640"/>
            <a:ext cx="35856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28"/>
          <p:cNvSpPr/>
          <p:nvPr/>
        </p:nvSpPr>
        <p:spPr>
          <a:xfrm>
            <a:off x="7164360" y="2924280"/>
            <a:ext cx="35892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29"/>
          <p:cNvSpPr/>
          <p:nvPr/>
        </p:nvSpPr>
        <p:spPr>
          <a:xfrm>
            <a:off x="7236000" y="2852640"/>
            <a:ext cx="35856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530360" y="114480"/>
            <a:ext cx="495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ерная кислота 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</a:t>
            </a: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   Классифик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9640" y="549360"/>
            <a:ext cx="620244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Серная кислота по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ю кислород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воримости в вод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уче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и электролитической диссоци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бильно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837760" y="1484280"/>
            <a:ext cx="27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ислородсодержа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6284520" y="234936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вухосно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336000" y="299736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створим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283080" y="37893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нелетуч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6317280" y="45086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и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6381720" y="5157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таби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539640" y="1989000"/>
            <a:ext cx="82821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539640" y="2852640"/>
            <a:ext cx="82821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468360" y="3429000"/>
            <a:ext cx="828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468360" y="4221000"/>
            <a:ext cx="828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468360" y="4941720"/>
            <a:ext cx="828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5"/>
          <p:cNvSpPr/>
          <p:nvPr/>
        </p:nvSpPr>
        <p:spPr>
          <a:xfrm>
            <a:off x="468360" y="5661000"/>
            <a:ext cx="828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4643280" y="714240"/>
            <a:ext cx="42865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цветная  маслянистая жидк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84кг/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вязк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ет сильным гигроскопическим свойств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145800" y="0"/>
            <a:ext cx="895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зические свойства серной кисло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714920" y="521496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ип.  = 340º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93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143680" y="2000160"/>
            <a:ext cx="285480" cy="6192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2"/>
          <a:stretch/>
        </p:blipFill>
        <p:spPr>
          <a:xfrm>
            <a:off x="720720" y="1979640"/>
            <a:ext cx="33624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457200" y="25092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бщие свойства растворов кисло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260360" y="1619280"/>
            <a:ext cx="66596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0" y="-406440"/>
            <a:ext cx="914400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.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мические свойства разбавленной серной кислоты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аимодействие с металлами ( до Н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)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736560" y="2781360"/>
            <a:ext cx="650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Zn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808200" y="3573360"/>
            <a:ext cx="6734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Mg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711360" y="5084640"/>
            <a:ext cx="3613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7" name="AutoShape 5"/>
          <p:cNvCxnSpPr/>
          <p:nvPr/>
        </p:nvCxnSpPr>
        <p:spPr>
          <a:xfrm flipH="1" flipV="1">
            <a:off x="3230280" y="5230800"/>
            <a:ext cx="480240" cy="29556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68" name="AutoShape 6"/>
          <p:cNvCxnSpPr/>
          <p:nvPr/>
        </p:nvCxnSpPr>
        <p:spPr>
          <a:xfrm flipV="1">
            <a:off x="3132000" y="5230440"/>
            <a:ext cx="581400" cy="31032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6600960" y="4470480"/>
            <a:ext cx="2219040" cy="21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214200" y="69840"/>
            <a:ext cx="8286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аимодействие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оксидами металл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2240280" y="1773360"/>
            <a:ext cx="480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O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Cu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384640" y="3068640"/>
            <a:ext cx="477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O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Zn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459160" y="2349360"/>
            <a:ext cx="406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O +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Cu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603520" y="3716280"/>
            <a:ext cx="402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O +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Zn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471600" y="4500720"/>
            <a:ext cx="2228760" cy="180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0" y="214200"/>
            <a:ext cx="91440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заимодействие с основания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571680" y="1500120"/>
            <a:ext cx="8215200" cy="52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NaOH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Na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ОН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Na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слая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ь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идр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ьфат на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(OH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CuSO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2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(OH)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Cu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2H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7:59:55Z</dcterms:created>
  <dc:creator>Ест-науч цикл</dc:creator>
  <dc:description/>
  <dc:language>en-US</dc:language>
  <cp:lastModifiedBy>Дом</cp:lastModifiedBy>
  <dcterms:modified xsi:type="dcterms:W3CDTF">2018-12-06T19:31:38Z</dcterms:modified>
  <cp:revision>199</cp:revision>
  <dc:subject/>
  <dc:title>Серная кислота и ее свойства</dc:title>
</cp:coreProperties>
</file>