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9DEC-0FA3-4CC7-8CE1-EA3F40D7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E51-5163-4305-8C8E-C20867C9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4C8-637D-4AB5-AFC5-5F5AD235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734-7298-432B-86BA-BE12C0D8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FBA1-680F-455C-9527-2EA1E1EA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CE63-EBE9-430E-B1C3-5364ECB1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7798-228D-46F3-8C89-EA028E03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B22A-D147-40C0-9A3D-F8206A48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6A94-3373-4BF4-9872-98DCC699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2C2D-1406-41AD-A7E0-41C0DD94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C242-8C1A-4347-9760-01B701F4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1D2-9DD6-4009-8A72-2DD4F6E4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FD32-263E-475F-B549-E3A996E2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D260-03D1-412B-8561-D71BF1C5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BB3B-E59F-4D9C-A535-F0F38D2E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CB64-1BE3-4EB8-BD84-D8D39F6A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A004-16C4-459D-92CF-214EB3A2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62A-582C-4A58-81ED-BF47D56D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814-B893-4BF4-8EC4-5CFCD40C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E0E0-C458-4A2F-98D5-1A96E583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449-4D12-46E4-ADC1-21E2FA2E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67C-7056-4186-B254-7D427751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CC4D-D5EF-4129-AD86-50650BF5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BFE2-7A28-4409-8910-D3E89AB8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A602-425E-4805-95F8-6E03020E401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964C-011D-4420-A5C0-3F373E06E88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39640" y="1773360"/>
            <a:ext cx="830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1403280" y="18900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сочетание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9280" y="162864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о сочетание двух слов самостоятельных частей речи, связанных друг с другом по смыслу и грамматиче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50920" y="3500280"/>
            <a:ext cx="851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вонкого гол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дел ле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ворить невнят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8" descr="книги"/>
          <p:cNvPicPr/>
          <p:nvPr/>
        </p:nvPicPr>
        <p:blipFill>
          <a:blip r:embed="rId1"/>
          <a:stretch/>
        </p:blipFill>
        <p:spPr>
          <a:xfrm>
            <a:off x="6732720" y="4508640"/>
            <a:ext cx="200484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50920" y="11592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согласование на словосочетания со связью упра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24000" y="1773360"/>
            <a:ext cx="48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писал без ошибок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чез без след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кончил до срок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оворил с улыбкой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Жить без забот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716360" y="1773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писать безошибоч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716360" y="2492280"/>
            <a:ext cx="42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чезнуть бесслед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327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716360" y="31417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кончить досроч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788000" y="3933720"/>
            <a:ext cx="39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оворил улыбая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4716360" y="4869000"/>
            <a:ext cx="426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4716360" y="458136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жить беззабот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24000" y="1413000"/>
            <a:ext cx="86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1125360"/>
            <a:ext cx="95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Times New Roman"/>
              </a:rPr>
              <a:t>Виды словосочета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826920" y="342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мен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012000" y="33577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реч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76720" y="4365720"/>
            <a:ext cx="28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лаго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 flipH="1">
            <a:off x="1835280" y="2276640"/>
            <a:ext cx="2665440" cy="1368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500720" y="2276640"/>
            <a:ext cx="2950920" cy="1296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00720" y="2276640"/>
            <a:ext cx="0" cy="2304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24000" y="1413000"/>
            <a:ext cx="8640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уществует три способа подчинительной связи между словами в  словосочетания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24000" y="189000"/>
            <a:ext cx="87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Способы подчинительно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связи между слова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9640" y="342900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глас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012000" y="33577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пр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3276720" y="4365720"/>
            <a:ext cx="28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мык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 flipH="1">
            <a:off x="1835280" y="2276640"/>
            <a:ext cx="2665440" cy="1368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4500720" y="2276640"/>
            <a:ext cx="2950920" cy="1296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4500720" y="2276640"/>
            <a:ext cx="0" cy="2304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5"/>
          <p:cNvSpPr/>
          <p:nvPr/>
        </p:nvSpPr>
        <p:spPr>
          <a:xfrm>
            <a:off x="684360" y="189000"/>
            <a:ext cx="7796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огласовани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зависимое слово ставится в тех же формах, что и глав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яркий полд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 rot="5400000">
            <a:off x="1799640" y="1665000"/>
            <a:ext cx="936720" cy="2737080"/>
          </a:xfrm>
          <a:prstGeom prst="rightArrowCallout">
            <a:avLst>
              <a:gd name="adj1" fmla="val 73056"/>
              <a:gd name="adj2" fmla="val 73050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лавн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 rot="5400000">
            <a:off x="6299640" y="1629000"/>
            <a:ext cx="865080" cy="2737080"/>
          </a:xfrm>
          <a:prstGeom prst="rightArrowCallout">
            <a:avLst>
              <a:gd name="adj1" fmla="val 79106"/>
              <a:gd name="adj2" fmla="val 79099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висим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580000" y="3645000"/>
            <a:ext cx="295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лагательно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част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местоиме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рядковое числите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211640" y="2492280"/>
            <a:ext cx="59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116000" y="18900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Управлени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– зависимое слово ставится при главном в определённом падеж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написать дру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 rot="5400000">
            <a:off x="6228360" y="1197720"/>
            <a:ext cx="865080" cy="2736720"/>
          </a:xfrm>
          <a:prstGeom prst="rightArrowCallout">
            <a:avLst>
              <a:gd name="adj1" fmla="val 79096"/>
              <a:gd name="adj2" fmla="val 79089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висим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 rot="5400000">
            <a:off x="1799640" y="1160280"/>
            <a:ext cx="936720" cy="2737080"/>
          </a:xfrm>
          <a:prstGeom prst="rightArrowCallout">
            <a:avLst>
              <a:gd name="adj1" fmla="val 73056"/>
              <a:gd name="adj2" fmla="val 73050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лавн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148360" y="328464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уществительно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местоиме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числите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4067280" y="2060640"/>
            <a:ext cx="59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55640" y="1159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имыкани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– зависимое неизменяемое слово связано с главным по смысл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ушёл гул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5400000">
            <a:off x="6371280" y="1269000"/>
            <a:ext cx="865080" cy="2736720"/>
          </a:xfrm>
          <a:prstGeom prst="rightArrowCallout">
            <a:avLst>
              <a:gd name="adj1" fmla="val 79096"/>
              <a:gd name="adj2" fmla="val 79089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висим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 rot="5400000">
            <a:off x="1871640" y="1304640"/>
            <a:ext cx="936720" cy="2736720"/>
          </a:xfrm>
          <a:prstGeom prst="rightArrowCallout">
            <a:avLst>
              <a:gd name="adj1" fmla="val 73047"/>
              <a:gd name="adj2" fmla="val 73040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лавн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4500720" y="3284640"/>
            <a:ext cx="450036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Любое неизменяемое знаменательное слов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наречие, деепричастие, неопределенная форма глагола, сравнительная форм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4211640" y="2205000"/>
            <a:ext cx="45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50920" y="11592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согласование на словосочетания со связью упра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24000" y="1773360"/>
            <a:ext cx="48099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емляничная полян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лубничное варень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ыбный суп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амин платок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сья нора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716360" y="17733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ляна с земляни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716360" y="2492280"/>
            <a:ext cx="42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аренье из клуб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3327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788000" y="3141720"/>
            <a:ext cx="27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уп из рыб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408560" y="4745160"/>
            <a:ext cx="426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716360" y="4005360"/>
            <a:ext cx="31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латок ма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788000" y="4653000"/>
            <a:ext cx="29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ора ли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324000" y="1890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управление на словосочетания со связью соглас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50920" y="2349360"/>
            <a:ext cx="406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да со льдом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стья клёна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ень осени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суда из дерева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боты с землёй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500720" y="2349360"/>
            <a:ext cx="28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едяная 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356000" y="2852640"/>
            <a:ext cx="37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леновые лис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356000" y="3357720"/>
            <a:ext cx="32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енний д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4356000" y="386064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еревянная посу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427640" y="4292640"/>
            <a:ext cx="35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емляные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24000" y="1890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примыкание на словосочетания со связью соглас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79280" y="2421000"/>
            <a:ext cx="406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говаривать тихо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годня вечером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ёт громко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ступить по-честно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-настоящему весе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572000" y="2421000"/>
            <a:ext cx="28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хий разгов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427640" y="285264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годняшний веч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427640" y="3213000"/>
            <a:ext cx="32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омкое п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4356000" y="3645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естный поступ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427640" y="4149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стоящее весел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8:34:50Z</dcterms:created>
  <dc:creator>Евгения</dc:creator>
  <dc:description/>
  <dc:language>en-US</dc:language>
  <cp:lastModifiedBy>Даша</cp:lastModifiedBy>
  <dcterms:modified xsi:type="dcterms:W3CDTF">2018-12-04T13:52:09Z</dcterms:modified>
  <cp:revision>90</cp:revision>
  <dc:subject/>
  <dc:title>Слайд 1</dc:title>
</cp:coreProperties>
</file>