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017-00B8-4127-B76C-2E2541C7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15E-41D5-4684-BC77-D7BEDBBA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B6C-FDF3-4FDA-B340-FF6F6A75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C1F-94CA-4A6D-9CFA-DCABAC2F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4514-C1F7-4C70-B6D4-81A92D92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809F-D16C-4F8D-A880-DF0BD8F4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3FE-086D-468C-8845-FE4364B9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0DE9-E9F8-4EF2-BF34-54CD910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DC5B-B178-4B6F-8A92-14300EBC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D5B-918F-4C86-90ED-ECFAEAA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FB8-24F1-46C5-923C-1CFFB60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00B-F2F5-4EBB-A1E6-61D0D39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24E5-EA8F-42F7-8461-E01BAA75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E703-2098-4F52-AC31-676B97DF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D8F1-2FAB-4B22-9FDF-2DBC3DB2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B453-AA71-490D-96B8-B598BC58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BEC-1B5C-45A0-B402-C96F71D8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A2E-AFC6-411C-95DE-9F857B1B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3BC-FC05-4C52-BFF1-8C11241F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B1C-6C21-42B6-A051-762A96EC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EC2-D911-4F00-B09F-0CF66DE9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B02-648D-4AA5-9BB0-CCB486E1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4BD-8BD6-4179-B50A-5F5E7E45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034-12E9-4B90-849E-ED9D34B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275-4C71-4716-9283-33FFD3B2FF4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3A53-2C51-49C3-A7D9-33403EC6537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539640" y="1773360"/>
            <a:ext cx="830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403280" y="18900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осочетание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9280" y="162864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сочетание двух слов самостоятельных частей речи, связанных друг с другом по смыслу и грамматиче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50920" y="3500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вонкого гол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дел ле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оворить невнят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8" descr="книги"/>
          <p:cNvPicPr/>
          <p:nvPr/>
        </p:nvPicPr>
        <p:blipFill>
          <a:blip r:embed="rId1"/>
          <a:stretch/>
        </p:blipFill>
        <p:spPr>
          <a:xfrm>
            <a:off x="6732720" y="4508640"/>
            <a:ext cx="20048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4000" y="1773360"/>
            <a:ext cx="48099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писал без ошибок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 без след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кончил до срок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с улыбкой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 забо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16360" y="1773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исать безошиб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чезнуть бесслед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16360" y="3141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кончить досро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788000" y="393372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ворил улыбая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4716360" y="4869000"/>
            <a:ext cx="42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716360" y="458136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жить беззабот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24000" y="1413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1125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Times New Roman"/>
              </a:rPr>
              <a:t>Виды словосочета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826920" y="342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ме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еч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лаголь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4000" y="1413000"/>
            <a:ext cx="864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Существует три способа подчинительной связи между словами в  словосочетания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24000" y="189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пособы подчинительн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связи между слова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3429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6012000" y="33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276720" y="436572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мык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 flipH="1">
            <a:off x="1835280" y="2276640"/>
            <a:ext cx="26654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4500720" y="2276640"/>
            <a:ext cx="2950920" cy="129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4500720" y="2276640"/>
            <a:ext cx="0" cy="23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684360" y="189000"/>
            <a:ext cx="7796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огласова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зависимое слово ставится в тех же формах, что и глав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яркий пол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 rot="5400000">
            <a:off x="1799640" y="166500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5400000">
            <a:off x="6299640" y="1629000"/>
            <a:ext cx="865080" cy="2737080"/>
          </a:xfrm>
          <a:prstGeom prst="rightArrowCallout">
            <a:avLst>
              <a:gd name="adj1" fmla="val 79106"/>
              <a:gd name="adj2" fmla="val 7909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580000" y="364500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лага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част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рядковое 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211640" y="2492280"/>
            <a:ext cx="59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116000" y="18900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правл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слово ставится при главном в определённом пад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апис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 rot="5400000">
            <a:off x="6228360" y="119772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rot="5400000">
            <a:off x="1799640" y="1160280"/>
            <a:ext cx="936720" cy="2737080"/>
          </a:xfrm>
          <a:prstGeom prst="rightArrowCallout">
            <a:avLst>
              <a:gd name="adj1" fmla="val 73056"/>
              <a:gd name="adj2" fmla="val 7305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148360" y="328464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уществитель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естоимени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исли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067280" y="20606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755640" y="1159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римыка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ависимое неизменяемое слово связано с главным по смыс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шёл гу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5400000">
            <a:off x="6371280" y="1269000"/>
            <a:ext cx="865080" cy="2736720"/>
          </a:xfrm>
          <a:prstGeom prst="rightArrowCallout">
            <a:avLst>
              <a:gd name="adj1" fmla="val 79096"/>
              <a:gd name="adj2" fmla="val 79089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висим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 rot="5400000">
            <a:off x="1871640" y="1304640"/>
            <a:ext cx="936720" cy="2736720"/>
          </a:xfrm>
          <a:prstGeom prst="rightArrowCallout">
            <a:avLst>
              <a:gd name="adj1" fmla="val 73047"/>
              <a:gd name="adj2" fmla="val 73040"/>
              <a:gd name="adj3" fmla="val 16667"/>
              <a:gd name="adj4" fmla="val 66667"/>
            </a:avLst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лавное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4500720" y="3284640"/>
            <a:ext cx="45003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бое неизменяемое знаменательное сло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наречие, деепричастие, неопределенная форма глагола, сравнительная форм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4211640" y="2205000"/>
            <a:ext cx="4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1592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согласование на словосочетания со связью управ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1773360"/>
            <a:ext cx="48099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ичная полян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убничное варень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ыбный суп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мин платок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ья нор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716360" y="17733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ляна с землян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716360" y="2492280"/>
            <a:ext cx="42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аренье из клуб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327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788000" y="3141720"/>
            <a:ext cx="27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уп из рыб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408560" y="474516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716360" y="4005360"/>
            <a:ext cx="31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латок ма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788000" y="4653000"/>
            <a:ext cx="29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ора ли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управле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0920" y="2349360"/>
            <a:ext cx="406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ода со льдом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стья клён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ь осен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суда из дерева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боты с землёй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500720" y="2349360"/>
            <a:ext cx="28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дяная 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356000" y="2852640"/>
            <a:ext cx="37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еновые лист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356000" y="335772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енний д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4356000" y="3860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ревянная посу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427640" y="4292640"/>
            <a:ext cx="35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ные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89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00000"/>
                </a:solidFill>
                <a:uFillTx/>
                <a:latin typeface="Times New Roman"/>
              </a:rPr>
              <a:t>Задание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: замените  словосочетания со связью примыкание на словосочетания со связью согласо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79280" y="2421000"/>
            <a:ext cx="40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зговаривать тихо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 вечером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ёт громко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упить по-честн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-настоящему вес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0" y="242100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хий разго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годняшний ве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427640" y="321300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ромкое п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4356000" y="3645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естный поступ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427640" y="4149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стоящее вес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8:34:50Z</dcterms:created>
  <dc:creator>Евгения</dc:creator>
  <dc:description/>
  <dc:language>en-US</dc:language>
  <cp:lastModifiedBy>Даша</cp:lastModifiedBy>
  <dcterms:modified xsi:type="dcterms:W3CDTF">2018-12-04T13:52:09Z</dcterms:modified>
  <cp:revision>90</cp:revision>
  <dc:subject/>
  <dc:title>Слайд 1</dc:title>
</cp:coreProperties>
</file>