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EB4-8DB7-4551-9F07-6C74059E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23C-C745-411A-929F-AFC399FD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4FA-1947-4485-B924-1EECCE12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2DD-70E8-4184-9AA1-D17FCD96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6B2-5998-45CE-B8D5-F622D6A5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BE80-1BF9-47FB-8975-CD3B069B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789-CD51-4E0D-BDBF-C0787F2C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F26-E802-474B-8887-5C1FDEF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221-EFA4-4FCB-9170-B4AB20F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1EF9-A6A5-4E34-84E5-8375303F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D34C-7C23-4639-83A5-2A1B38E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FA5-0D85-48DF-B52F-76A1070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A2B0-AEA1-4FEA-AA38-75A889A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D99E-484D-4157-9167-1D3E857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B8B-2271-431F-A4B5-EB7EF0F2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AAD-4771-4735-8512-72AC08CA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67FF-246E-4488-9264-4C00EB4F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AC2-0FFD-4138-8EEB-1D00ED3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483-BBF6-4A76-A94D-7726E51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C15-0286-4207-9C7B-A5BC894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3C6-F71B-4B7F-94BD-858009B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1DE-0943-4C8F-B681-86321B0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64C-D3FB-4A1F-9E3A-3CEACDB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31B-9F15-4AB4-8F16-AEA37F00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4D37-B62D-47BC-8CEB-AAAF6C312E0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523-DB86-4028-9169-0E87E6DF321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Даша</cp:lastModifiedBy>
  <dcterms:modified xsi:type="dcterms:W3CDTF">2018-12-04T13:52:09Z</dcterms:modified>
  <cp:revision>90</cp:revision>
  <dc:subject/>
  <dc:title>Слайд 1</dc:title>
</cp:coreProperties>
</file>