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4C6-B177-4D95-90E8-3933BF6B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41B-DF9B-4422-97BA-21D4AE9F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437-B24B-43F7-B060-F4676C30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A9C7-D87A-4C34-827F-D71D5363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041E-F066-4CCB-B158-256C002E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2FAE-14E9-484D-A44D-E12873BE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945D-82C8-4F65-8BCB-3B546D38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FE80-9870-459C-8248-D9F32385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BB72-B5B6-4768-8FCC-FACF734C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62EF-749E-4C09-A392-BFC699A5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9D4E-6E3E-4222-94D0-B4DA943C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D1B-A825-43E6-836D-13347D26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A073-63C1-4919-9D55-D2EB79E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9516-4826-4306-9146-C79F6538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84C9-C194-4757-8CA4-7B90509F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F4FD-26A8-4C5E-A0F0-7EE5F891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EAE9-5CD4-4CEB-9A21-B5EA0EEB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65C-89F1-4FAE-9507-6901A682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976-55E8-4DD1-9A7B-28E3B61F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738A-6EE2-41FD-B524-2B8E853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28F-4D71-4BA2-A392-0C5A46FD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863-9749-4E60-86D9-D384B0C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BCC-C0C5-4ADF-B78A-B7158610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2A0-8F84-471C-9DF8-F052CB11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B13C-780A-464D-B9BF-EB028AA1366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4C81-0E8D-46F5-B651-450419F7C80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39640" y="1773360"/>
            <a:ext cx="830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403280" y="18900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сочетание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9280" y="162864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сочетание двух слов самостоятельных частей речи, связанных друг с другом по смыслу и грамматиче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50920" y="35002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вонкого гол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дел 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ворить невнят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8" descr="книги"/>
          <p:cNvPicPr/>
          <p:nvPr/>
        </p:nvPicPr>
        <p:blipFill>
          <a:blip r:embed="rId1"/>
          <a:stretch/>
        </p:blipFill>
        <p:spPr>
          <a:xfrm>
            <a:off x="6732720" y="4508640"/>
            <a:ext cx="20048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24000" y="1773360"/>
            <a:ext cx="48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писал без ошибок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чез без след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кончил до срок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ворил с улыбкой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ить без забот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716360" y="1773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писать безошибо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чезнуть бесслед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716360" y="3141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кончить досро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788000" y="393372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ворил улыбая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716360" y="4869000"/>
            <a:ext cx="42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716360" y="4581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ить беззабот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24000" y="141300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12536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Times New Roman"/>
              </a:rPr>
              <a:t>Виды словосочета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26920" y="342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ме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ре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лаго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4000" y="1413000"/>
            <a:ext cx="864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уществует три способа подчинительной связи между словами в  словосочетания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24000" y="18900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пособы подчинительн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вязи между слов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3429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684360" y="189000"/>
            <a:ext cx="779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гласова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зависимое слово ставится в тех же формах, что и глав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яркий пол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 rot="5400000">
            <a:off x="1799640" y="166500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5400000">
            <a:off x="6299640" y="1629000"/>
            <a:ext cx="865080" cy="2737080"/>
          </a:xfrm>
          <a:prstGeom prst="rightArrowCallout">
            <a:avLst>
              <a:gd name="adj1" fmla="val 79106"/>
              <a:gd name="adj2" fmla="val 7909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580000" y="3645000"/>
            <a:ext cx="29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лага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част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рядковое числ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211640" y="249228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116000" y="189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правле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зависимое слово ставится при главном в определённом пад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аписать др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 rot="5400000">
            <a:off x="6228360" y="119772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rot="5400000">
            <a:off x="1799640" y="116028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148360" y="328464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уществи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исл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067280" y="20606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55640" y="1159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имыка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зависимое неизменяемое слово связано с главным по смыс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шёл гу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5400000">
            <a:off x="6371280" y="126900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rot="5400000">
            <a:off x="1871640" y="1304640"/>
            <a:ext cx="936720" cy="2736720"/>
          </a:xfrm>
          <a:prstGeom prst="rightArrowCallout">
            <a:avLst>
              <a:gd name="adj1" fmla="val 73047"/>
              <a:gd name="adj2" fmla="val 7304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500720" y="3284640"/>
            <a:ext cx="450036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юбое неизменяемое знаменательное сло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наречие, деепричастие, неопределенная форма глагола, сравнительная фор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4211640" y="2205000"/>
            <a:ext cx="4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4000" y="1773360"/>
            <a:ext cx="4809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ляничная полян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убничное варень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ыбный суп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мин платок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сья нор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716360" y="177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ляна с землян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аренье из клуб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788000" y="314172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уп из ры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408560" y="474516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716360" y="4005360"/>
            <a:ext cx="31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латок ма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788000" y="465300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ра ли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управление на словосочетания со связью 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0920" y="2349360"/>
            <a:ext cx="406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а со льдом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стья клён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нь осен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суда из дерев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ы с землёй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00720" y="234936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дяная 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356000" y="2852640"/>
            <a:ext cx="37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еновые лис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356000" y="335772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енний 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356000" y="3860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ревянная посу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427640" y="4292640"/>
            <a:ext cx="35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ляны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примыкание на словосочетания со связью 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79280" y="2421000"/>
            <a:ext cx="40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говаривать тихо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годня вечером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ёт громко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тупить по-честно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-настоящему весе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0" y="2421000"/>
            <a:ext cx="28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хий разго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427640" y="28526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годняшний веч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427640" y="321300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омкое п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356000" y="3645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естный поступ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427640" y="4149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тоящее весел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34:50Z</dcterms:created>
  <dc:creator>Евгения</dc:creator>
  <dc:description/>
  <dc:language>en-US</dc:language>
  <cp:lastModifiedBy>Даша</cp:lastModifiedBy>
  <dcterms:modified xsi:type="dcterms:W3CDTF">2018-12-04T13:52:09Z</dcterms:modified>
  <cp:revision>90</cp:revision>
  <dc:subject/>
  <dc:title>Слайд 1</dc:title>
</cp:coreProperties>
</file>