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C5A-8D5A-4422-96B4-E01404BF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619-9D60-4E59-B9AE-9F7BA7A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BEE-FCC1-451A-82BF-BE5E39FB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A02-CFFC-4CB8-A691-A2B7C531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6B54-6C46-4DE4-BC0D-68C4AFA5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C277-6517-4A84-9AE7-77A47043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8502-D766-4217-B3BB-000BCC9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68F4-53CE-40E4-9160-9D5FA608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854-08F3-45EF-90AD-DC18DF2F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3154-ABA0-4C1C-8A6C-E5830558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DAC8-247A-42ED-8660-EBC501A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0DD-E256-4990-BF2A-8CEC1A7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B648-38F0-43EE-ACDA-718DD1F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ABDA-A1CE-478B-B6E1-DC64CB2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1E30-61A1-4A7B-8333-9852E513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97D0-FD80-443A-A3E0-8C33D6E1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06E-6473-4AFA-884A-1832FE0E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ECBD0-6EB8-4711-A6B3-54DA54FB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A62D0-1CAB-43C9-8B75-6ECE0AD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9903B-38BC-4476-A98C-9E0C65C3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CBA3F-5742-459C-A854-D032012B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D1EB4-BECB-4307-88F1-9A010F25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CB21-BFFD-4951-910A-D55AE442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47A65-F1BC-43B5-9634-6E3902D8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9BFF3-7A21-48EE-84FF-2DF33AB8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B4336-29E3-4739-A06E-1F67CD8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BA559-44E2-467F-B9A4-2D415F2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B0E37-97C7-4727-907D-F4CFAFF2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488D03-1642-4153-9118-01E390D4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A45A5-94DA-4C1A-9B49-56A05349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75B7-AA9D-4DBA-AB37-17A559D3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2EB6-4979-4A83-A631-C384B0C1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C5E1B-77DD-4318-8526-525157B0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FAE-24CC-4F1E-BDAC-2537FB5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2DAF-F794-40C3-88B0-F6BA1E7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0D3F-78EE-4096-B6A5-7FAFEA8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5E3A-7358-4440-9B09-2EC2E54E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0CF2-E5CF-4995-9E4A-C2D52ECF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D812-6F16-4FD8-BCD6-11929882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C9FC1-0A07-446D-8EF6-DCA5188E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A003-9BAA-4EA8-B900-193E5FC8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0F8CB-3EEE-4336-9A76-886AC48D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E987A-C1DE-4883-BDF7-34B19FF0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116-05D0-45A5-AD53-0FAF3EC9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F25-612C-4D23-A2C6-557B45C5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909-9AF7-4D21-B0EB-6D290313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F2E-F1E8-49C0-A96A-D549A67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618-13AB-4E9B-97A8-12CF3E2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77B-E202-4CC0-B445-76937138A0C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0A3-CDB6-4CAA-B2DD-9148CD93F2E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184-A0A3-4ECE-AAD8-5BD7DB40BD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18F2-D590-4E74-A250-ED34BAFEAB0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67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Урок русского язык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9 класс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755280" y="2133720"/>
            <a:ext cx="838836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222b"/>
                </a:solidFill>
                <a:latin typeface="Georgia"/>
              </a:rPr>
              <a:t>Сложноподчинённо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1222b"/>
                </a:solidFill>
                <a:latin typeface="Georgia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WordArt 6"/>
          <p:cNvSpPr txBox="1"/>
          <p:nvPr/>
        </p:nvSpPr>
        <p:spPr>
          <a:xfrm>
            <a:off x="4500720" y="3929040"/>
            <a:ext cx="4825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7" name="Picture 7" descr="Гусь читает"/>
          <p:cNvPicPr/>
          <p:nvPr/>
        </p:nvPicPr>
        <p:blipFill>
          <a:blip r:embed="rId1"/>
          <a:stretch/>
        </p:blipFill>
        <p:spPr>
          <a:xfrm>
            <a:off x="250920" y="3645000"/>
            <a:ext cx="3384360" cy="275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0000"/>
                </a:solidFill>
                <a:latin typeface="Trebuchet MS"/>
              </a:rPr>
              <a:t>Возьмите на заметку! </a:t>
            </a:r>
            <a:br>
              <a:rPr sz="2900"/>
            </a:b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4920" y="907560"/>
            <a:ext cx="845028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уществуют разные способы схематического изображения модели сложноподчиненного предложения: вертикальные и горизонтальные схем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ечер оказался таким,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каким его обещало</a:t>
            </a:r>
            <a:r>
              <a:rPr b="0" i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утро.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(М. Горький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     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таким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(каким      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908000" y="4581360"/>
            <a:ext cx="721080" cy="432000"/>
          </a:xfrm>
          <a:prstGeom prst="rect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1835280" y="5950080"/>
            <a:ext cx="865080" cy="5745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 flipV="1">
            <a:off x="2268360" y="5084280"/>
            <a:ext cx="0" cy="7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10"/>
          <p:cNvSpPr txBox="1"/>
          <p:nvPr/>
        </p:nvSpPr>
        <p:spPr>
          <a:xfrm>
            <a:off x="1979640" y="4653000"/>
            <a:ext cx="595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00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ким</a:t>
            </a:r>
            <a:endParaRPr b="0" i="1" lang="en-US" sz="1600" spc="1" strike="noStrike">
              <a:ln w="0">
                <a:noFill/>
              </a:ln>
              <a:solidFill>
                <a:srgbClr val="00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4" name="WordArt 11"/>
          <p:cNvSpPr txBox="1"/>
          <p:nvPr/>
        </p:nvSpPr>
        <p:spPr>
          <a:xfrm>
            <a:off x="1979640" y="6093000"/>
            <a:ext cx="55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аким</a:t>
            </a:r>
            <a:endParaRPr b="0" i="1" lang="en-US" sz="16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Infopage"/>
          <p:cNvSpPr/>
          <p:nvPr/>
        </p:nvSpPr>
        <p:spPr>
          <a:xfrm>
            <a:off x="0" y="0"/>
            <a:ext cx="900000" cy="836640"/>
          </a:xfrm>
          <a:prstGeom prst="pie">
            <a:avLst/>
          </a:prstGeom>
          <a:solidFill>
            <a:srgbClr val="53548a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2268360" y="5013360"/>
            <a:ext cx="0" cy="936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792000" y="333360"/>
            <a:ext cx="835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ртикальные сх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наглядно показывают подчинительный характер связи придаточной части от главно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оризонтальные схем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могают лучше разобраться в пунктуационном оформлении сложноподчиненного предложе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таких схемах главная часть обозначается в квадратных скобках  </a:t>
            </a:r>
            <a:r>
              <a:rPr b="0" lang="en-US" sz="2800" spc="-1" strike="noStrike">
                <a:solidFill>
                  <a:srgbClr val="66ccff"/>
                </a:solidFill>
                <a:latin typeface="Georgia"/>
              </a:rPr>
              <a:t>[        ]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 придаточная — в круглых  </a:t>
            </a: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(        )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5" descr="C:\Users\админ\Pictures\ПРЕЗЕНТАЦИИ\заготовки през-й\Анимация\школа\Карандаш .gif"/>
          <p:cNvPicPr/>
          <p:nvPr/>
        </p:nvPicPr>
        <p:blipFill>
          <a:blip r:embed="rId1"/>
          <a:stretch/>
        </p:blipFill>
        <p:spPr>
          <a:xfrm>
            <a:off x="3348000" y="558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79" name="Управляющая кнопка: домой 6"/>
          <p:cNvSpPr/>
          <p:nvPr/>
        </p:nvSpPr>
        <p:spPr>
          <a:xfrm>
            <a:off x="7956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Trebuchet MS"/>
              </a:rPr>
              <a:t>Понятие сложноподчинённого предложения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907560"/>
            <a:ext cx="8675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Georgia"/>
              </a:rPr>
              <a:t>Сложноподчинённо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редложение состоит из частей, представляющих собой смысловое и грамматическое единст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Сложноподчинённы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едложением называется такое сложное предложение, части которого соединены при помощи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 подчинительных союзов или союзных сл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Georgia"/>
              </a:rPr>
              <a:t>Сложноподчинённо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редложение имеет две части, одна из которых является 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главной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а другая — </a:t>
            </a:r>
            <a:r>
              <a:rPr b="1" lang="ru-RU" sz="2800" spc="-1" strike="noStrike">
                <a:solidFill>
                  <a:srgbClr val="ff9933"/>
                </a:solidFill>
                <a:latin typeface="Georgia"/>
              </a:rPr>
              <a:t>подчинённой, придаточной</a:t>
            </a:r>
            <a:r>
              <a:rPr b="0" lang="ru-RU" sz="2800" spc="-1" strike="noStrike">
                <a:solidFill>
                  <a:srgbClr val="ff9933"/>
                </a:solidFill>
                <a:latin typeface="Georgi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2a874"/>
                </a:solidFill>
                <a:latin typeface="Trebuchet MS"/>
              </a:rPr>
              <a:t>От главной части к придаточной</a:t>
            </a:r>
            <a:br>
              <a:rPr sz="2900"/>
            </a:br>
            <a:r>
              <a:rPr b="0" lang="ru-RU" sz="2900" spc="-1" strike="noStrike">
                <a:solidFill>
                  <a:srgbClr val="c2a874"/>
                </a:solidFill>
                <a:latin typeface="Trebuchet MS"/>
              </a:rPr>
              <a:t> можно поставить вопрос.</a:t>
            </a:r>
            <a:br>
              <a:rPr sz="2900"/>
            </a:b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Запела птица голосом блаженным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 том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как мы друг друга обрели.            (А. Ахматов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о том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(как   )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WordArt 7"/>
          <p:cNvSpPr txBox="1"/>
          <p:nvPr/>
        </p:nvSpPr>
        <p:spPr>
          <a:xfrm>
            <a:off x="1979640" y="2492280"/>
            <a:ext cx="1125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 чём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692360" y="1989000"/>
            <a:ext cx="180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0"/>
          <p:cNvSpPr/>
          <p:nvPr/>
        </p:nvSpPr>
        <p:spPr>
          <a:xfrm rot="21227400">
            <a:off x="4573080" y="4881240"/>
            <a:ext cx="1668600" cy="701640"/>
          </a:xfrm>
          <a:custGeom>
            <a:avLst/>
            <a:gdLst>
              <a:gd name="textAreaLeft" fmla="*/ 291960 w 1668600"/>
              <a:gd name="textAreaRight" fmla="*/ 1209960 w 1668600"/>
              <a:gd name="textAreaTop" fmla="*/ 93960 h 701640"/>
              <a:gd name="textAreaBottom" fmla="*/ 607680 h 70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2"/>
          <p:cNvSpPr txBox="1"/>
          <p:nvPr/>
        </p:nvSpPr>
        <p:spPr>
          <a:xfrm>
            <a:off x="4932360" y="4292640"/>
            <a:ext cx="1735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о чём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1547640" y="2852640"/>
            <a:ext cx="2078280" cy="432000"/>
          </a:xfrm>
          <a:custGeom>
            <a:avLst/>
            <a:gdLst>
              <a:gd name="textAreaLeft" fmla="*/ 363600 w 2078280"/>
              <a:gd name="textAreaRight" fmla="*/ 1506960 w 2078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14"/>
          <p:cNvSpPr txBox="1"/>
          <p:nvPr/>
        </p:nvSpPr>
        <p:spPr>
          <a:xfrm rot="5400000">
            <a:off x="1776960" y="3270960"/>
            <a:ext cx="26820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8" name="WordArt 15"/>
          <p:cNvSpPr txBox="1"/>
          <p:nvPr/>
        </p:nvSpPr>
        <p:spPr>
          <a:xfrm rot="5400000">
            <a:off x="4585320" y="5431680"/>
            <a:ext cx="2685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2a874"/>
                </a:solidFill>
                <a:latin typeface="Trebuchet MS"/>
              </a:rPr>
              <a:t>Придаточная часть может находиться: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в начале предлож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Если бы язык не был поэтичен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не было бы искусства слова—поэзии. (С. Маршак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( Если        ),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      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AutoShape 4"/>
          <p:cNvSpPr/>
          <p:nvPr/>
        </p:nvSpPr>
        <p:spPr>
          <a:xfrm rot="11407200">
            <a:off x="1834920" y="4508280"/>
            <a:ext cx="2320920" cy="865080"/>
          </a:xfrm>
          <a:custGeom>
            <a:avLst/>
            <a:gdLst>
              <a:gd name="textAreaLeft" fmla="*/ 406080 w 2320920"/>
              <a:gd name="textAreaRight" fmla="*/ 1682640 w 2320920"/>
              <a:gd name="textAreaTop" fmla="*/ 115920 h 865080"/>
              <a:gd name="textAreaBottom" fmla="*/ 7491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5"/>
          <p:cNvSpPr txBox="1"/>
          <p:nvPr/>
        </p:nvSpPr>
        <p:spPr>
          <a:xfrm>
            <a:off x="1763640" y="4221000"/>
            <a:ext cx="24480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и каком условии?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" name="WordArt 6"/>
          <p:cNvSpPr txBox="1"/>
          <p:nvPr/>
        </p:nvSpPr>
        <p:spPr>
          <a:xfrm rot="5400000">
            <a:off x="1848600" y="2983680"/>
            <a:ext cx="26820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4" name="WordArt 7"/>
          <p:cNvSpPr txBox="1"/>
          <p:nvPr/>
        </p:nvSpPr>
        <p:spPr>
          <a:xfrm rot="5400000">
            <a:off x="3721680" y="5431680"/>
            <a:ext cx="26856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6800" y="620280"/>
            <a:ext cx="83772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в середине предложе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етви деревьев казались мохнатыми и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когда набегал ветерок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слегка шумели первым зеленым шумом.                                (Г. Скребицкий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    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,(когда     ),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WordArt 4"/>
          <p:cNvSpPr txBox="1"/>
          <p:nvPr/>
        </p:nvSpPr>
        <p:spPr>
          <a:xfrm rot="5400000">
            <a:off x="7491240" y="1659600"/>
            <a:ext cx="253800" cy="333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WordArt 5"/>
          <p:cNvSpPr txBox="1"/>
          <p:nvPr/>
        </p:nvSpPr>
        <p:spPr>
          <a:xfrm rot="5400000">
            <a:off x="6089400" y="5224320"/>
            <a:ext cx="285480" cy="295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H="1" flipV="1">
            <a:off x="4858560" y="4507920"/>
            <a:ext cx="1513080" cy="502920"/>
          </a:xfrm>
          <a:custGeom>
            <a:avLst/>
            <a:gdLst>
              <a:gd name="textAreaLeft" fmla="*/ 264240 w 1513080"/>
              <a:gd name="textAreaRight" fmla="*/ 1096560 w 1513080"/>
              <a:gd name="textAreaTop" fmla="*/ 67320 h 502920"/>
              <a:gd name="textAreaBottom" fmla="*/ 43560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8"/>
          <p:cNvSpPr txBox="1"/>
          <p:nvPr/>
        </p:nvSpPr>
        <p:spPr>
          <a:xfrm>
            <a:off x="4284720" y="4076640"/>
            <a:ext cx="240984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ри каком условии?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36160" y="691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после главной част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Вспомни песни,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что пел соловей.        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          </a:t>
            </a:r>
            <a:r>
              <a:rPr b="0" i="1" lang="en-US" sz="2800" spc="-1" strike="noStrike">
                <a:solidFill>
                  <a:srgbClr val="21222b"/>
                </a:solidFill>
                <a:latin typeface="Georgia"/>
              </a:rPr>
              <a:t>[          ]</a:t>
            </a:r>
            <a:r>
              <a:rPr b="0" i="1" lang="ru-RU" sz="2800" spc="-1" strike="noStrike">
                <a:solidFill>
                  <a:srgbClr val="21222b"/>
                </a:solidFill>
                <a:latin typeface="Georgia"/>
              </a:rPr>
              <a:t>, ( что    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WordArt 4"/>
          <p:cNvSpPr txBox="1"/>
          <p:nvPr/>
        </p:nvSpPr>
        <p:spPr>
          <a:xfrm rot="5400000">
            <a:off x="3281400" y="1768320"/>
            <a:ext cx="28548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5"/>
          <p:cNvSpPr txBox="1"/>
          <p:nvPr/>
        </p:nvSpPr>
        <p:spPr>
          <a:xfrm rot="5400000">
            <a:off x="3281400" y="4216320"/>
            <a:ext cx="285840" cy="29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2987640" y="3500280"/>
            <a:ext cx="2151000" cy="576360"/>
          </a:xfrm>
          <a:custGeom>
            <a:avLst/>
            <a:gdLst>
              <a:gd name="textAreaLeft" fmla="*/ 376200 w 2151000"/>
              <a:gd name="textAreaRight" fmla="*/ 1559520 w 215100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7"/>
          <p:cNvSpPr txBox="1"/>
          <p:nvPr/>
        </p:nvSpPr>
        <p:spPr>
          <a:xfrm>
            <a:off x="3276720" y="3068640"/>
            <a:ext cx="13665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акие?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plit dir="out" orient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68360" y="189000"/>
            <a:ext cx="8675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чинительные союзы </a:t>
            </a:r>
            <a:r>
              <a:rPr b="1" i="1" lang="ru-RU" sz="3200" spc="-1" strike="noStrike">
                <a:solidFill>
                  <a:srgbClr val="21222b"/>
                </a:solidFill>
                <a:latin typeface="Arial"/>
              </a:rPr>
              <a:t>если, чтобы, словно,</a:t>
            </a:r>
            <a:r>
              <a:rPr b="0" lang="ru-RU" sz="3200" spc="-1" strike="noStrike">
                <a:solidFill>
                  <a:srgbClr val="21222b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21222b"/>
                </a:solidFill>
                <a:latin typeface="Arial"/>
              </a:rPr>
              <a:t>потому что</a:t>
            </a:r>
            <a:r>
              <a:rPr b="0" lang="ru-RU" sz="3200" spc="-1" strike="noStrike">
                <a:solidFill>
                  <a:srgbClr val="21222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 находятся в придаточной части, но не являются ее членами. Они используются только для связи придаточной части с глав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юзные слова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который, чей, кто, что, где,</a:t>
            </a:r>
            <a:r>
              <a:rPr b="1" i="1" lang="ru-RU" sz="2800" spc="-1" strike="noStrike">
                <a:solidFill>
                  <a:srgbClr val="c2a874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9900"/>
                </a:solidFill>
                <a:latin typeface="Arial"/>
              </a:rPr>
              <a:t>к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др. не только связывают придаточную часть с главной, но и являются членами придаточн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ьмите на замет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зьмите на замет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Управляющая кнопка: документ 13"/>
          <p:cNvSpPr/>
          <p:nvPr/>
        </p:nvSpPr>
        <p:spPr>
          <a:xfrm>
            <a:off x="7020000" y="4581360"/>
            <a:ext cx="504720" cy="7923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792360"/>
              <a:gd name="textAreaBottom" fmla="*/ 759960 h 792360"/>
            </a:gdLst>
            <a:ahLst/>
            <a:rect l="textAreaLeft" t="textAreaTop" r="textAreaRight" b="textAreaBottom"/>
            <a:pathLst>
              <a:path w="21600" h="33901">
                <a:moveTo>
                  <a:pt x="0" y="0"/>
                </a:moveTo>
                <a:lnTo>
                  <a:pt x="21600" y="0"/>
                </a:lnTo>
                <a:lnTo>
                  <a:pt x="21600" y="33901"/>
                </a:lnTo>
                <a:lnTo>
                  <a:pt x="0" y="33901"/>
                </a:lnTo>
                <a:close/>
              </a:path>
              <a:path fill="lightenLess" w="21600" h="339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01">
                <a:moveTo>
                  <a:pt x="21600" y="0"/>
                </a:moveTo>
                <a:lnTo>
                  <a:pt x="21600" y="33901"/>
                </a:lnTo>
                <a:lnTo>
                  <a:pt x="20200" y="32501"/>
                </a:lnTo>
                <a:lnTo>
                  <a:pt x="20200" y="1400"/>
                </a:lnTo>
                <a:close/>
              </a:path>
              <a:path fill="darkenLess" w="21600" h="33901">
                <a:moveTo>
                  <a:pt x="21600" y="33901"/>
                </a:moveTo>
                <a:lnTo>
                  <a:pt x="0" y="33901"/>
                </a:lnTo>
                <a:lnTo>
                  <a:pt x="1400" y="32501"/>
                </a:lnTo>
                <a:lnTo>
                  <a:pt x="20200" y="32501"/>
                </a:lnTo>
                <a:close/>
              </a:path>
              <a:path fill="lighten" w="21600" h="33901">
                <a:moveTo>
                  <a:pt x="0" y="33901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01"/>
                </a:lnTo>
                <a:close/>
              </a:path>
              <a:path fill="darkenLess" w="21600" h="33901">
                <a:moveTo>
                  <a:pt x="5273" y="10136"/>
                </a:moveTo>
                <a:lnTo>
                  <a:pt x="12271" y="10136"/>
                </a:lnTo>
                <a:lnTo>
                  <a:pt x="16327" y="13634"/>
                </a:lnTo>
                <a:lnTo>
                  <a:pt x="16327" y="23766"/>
                </a:lnTo>
                <a:lnTo>
                  <a:pt x="5273" y="23766"/>
                </a:lnTo>
                <a:close/>
              </a:path>
              <a:path fill="darken" w="21600" h="33901">
                <a:moveTo>
                  <a:pt x="12271" y="10136"/>
                </a:moveTo>
                <a:lnTo>
                  <a:pt x="16327" y="13634"/>
                </a:lnTo>
                <a:lnTo>
                  <a:pt x="12271" y="13634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документ 12"/>
          <p:cNvSpPr/>
          <p:nvPr/>
        </p:nvSpPr>
        <p:spPr>
          <a:xfrm>
            <a:off x="3995640" y="4437000"/>
            <a:ext cx="505080" cy="576360"/>
          </a:xfrm>
          <a:custGeom>
            <a:avLst/>
            <a:gdLst>
              <a:gd name="textAreaLeft" fmla="*/ 32760 w 505080"/>
              <a:gd name="textAreaRight" fmla="*/ 472680 w 505080"/>
              <a:gd name="textAreaTop" fmla="*/ 3276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646">
                <a:moveTo>
                  <a:pt x="0" y="0"/>
                </a:moveTo>
                <a:lnTo>
                  <a:pt x="21600" y="0"/>
                </a:lnTo>
                <a:lnTo>
                  <a:pt x="21600" y="24646"/>
                </a:lnTo>
                <a:lnTo>
                  <a:pt x="0" y="24646"/>
                </a:lnTo>
                <a:close/>
              </a:path>
              <a:path fill="lightenLess" w="21600" h="246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46">
                <a:moveTo>
                  <a:pt x="21600" y="0"/>
                </a:moveTo>
                <a:lnTo>
                  <a:pt x="21600" y="24646"/>
                </a:lnTo>
                <a:lnTo>
                  <a:pt x="20200" y="23246"/>
                </a:lnTo>
                <a:lnTo>
                  <a:pt x="20200" y="1400"/>
                </a:lnTo>
                <a:close/>
              </a:path>
              <a:path fill="darkenLess" w="21600" h="24646">
                <a:moveTo>
                  <a:pt x="21600" y="24646"/>
                </a:moveTo>
                <a:lnTo>
                  <a:pt x="0" y="24646"/>
                </a:lnTo>
                <a:lnTo>
                  <a:pt x="1400" y="23246"/>
                </a:lnTo>
                <a:lnTo>
                  <a:pt x="20200" y="23246"/>
                </a:lnTo>
                <a:close/>
              </a:path>
              <a:path fill="lighten" w="21600" h="24646">
                <a:moveTo>
                  <a:pt x="0" y="246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46"/>
                </a:lnTo>
                <a:close/>
              </a:path>
              <a:path fill="darkenLess" w="21600" h="24646">
                <a:moveTo>
                  <a:pt x="5273" y="5508"/>
                </a:moveTo>
                <a:lnTo>
                  <a:pt x="12271" y="5508"/>
                </a:lnTo>
                <a:lnTo>
                  <a:pt x="16327" y="9007"/>
                </a:lnTo>
                <a:lnTo>
                  <a:pt x="16327" y="19138"/>
                </a:lnTo>
                <a:lnTo>
                  <a:pt x="5273" y="19138"/>
                </a:lnTo>
                <a:close/>
              </a:path>
              <a:path fill="darken" w="21600" h="24646">
                <a:moveTo>
                  <a:pt x="12271" y="5508"/>
                </a:moveTo>
                <a:lnTo>
                  <a:pt x="16327" y="9007"/>
                </a:lnTo>
                <a:lnTo>
                  <a:pt x="12271" y="9007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9"/>
          <p:cNvSpPr txBox="1"/>
          <p:nvPr/>
        </p:nvSpPr>
        <p:spPr>
          <a:xfrm>
            <a:off x="4067280" y="4581360"/>
            <a:ext cx="331560" cy="4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249" name="WordArt 10"/>
          <p:cNvSpPr txBox="1"/>
          <p:nvPr/>
        </p:nvSpPr>
        <p:spPr>
          <a:xfrm>
            <a:off x="7164360" y="4869000"/>
            <a:ext cx="360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250" name="Picture 14" descr="PE01616_"/>
          <p:cNvPicPr/>
          <p:nvPr/>
        </p:nvPicPr>
        <p:blipFill>
          <a:blip r:embed="rId1"/>
          <a:stretch/>
        </p:blipFill>
        <p:spPr>
          <a:xfrm>
            <a:off x="1619280" y="5270400"/>
            <a:ext cx="169236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Возьмите на заметку!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78920" y="1268280"/>
            <a:ext cx="86662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Для того чтобы различить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ое слово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, необходимо запомнить: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 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обычно можно опустить или заменить другим </a:t>
            </a:r>
            <a:r>
              <a:rPr b="0" lang="ru-RU" sz="3100" spc="-1" strike="noStrike">
                <a:solidFill>
                  <a:srgbClr val="21222b"/>
                </a:solidFill>
                <a:latin typeface="Georgia"/>
              </a:rPr>
              <a:t>союзом-синонимом,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ое слово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можно заменить только </a:t>
            </a:r>
            <a:r>
              <a:rPr b="0" lang="ru-RU" sz="3100" spc="-1" strike="noStrike">
                <a:solidFill>
                  <a:srgbClr val="ff9900"/>
                </a:solidFill>
                <a:latin typeface="Georgia"/>
              </a:rPr>
              <a:t>союзным словом</a:t>
            </a: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или словом самостоятельной части речи. </a:t>
            </a:r>
            <a:br>
              <a:rPr sz="3100"/>
            </a:br>
            <a:br>
              <a:rPr sz="3100"/>
            </a:b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Infopage"/>
          <p:cNvSpPr/>
          <p:nvPr/>
        </p:nvSpPr>
        <p:spPr>
          <a:xfrm>
            <a:off x="0" y="0"/>
            <a:ext cx="1042920" cy="1197000"/>
          </a:xfrm>
          <a:prstGeom prst="pie">
            <a:avLst/>
          </a:prstGeom>
          <a:solidFill>
            <a:srgbClr val="53548a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 flipH="1">
            <a:off x="538920" y="692280"/>
            <a:ext cx="3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К </a:t>
            </a:r>
            <a:r>
              <a:rPr b="0" lang="ru-RU" sz="2200" spc="-1" strike="noStrike">
                <a:solidFill>
                  <a:srgbClr val="ff9900"/>
                </a:solidFill>
                <a:latin typeface="Trebuchet MS"/>
              </a:rPr>
              <a:t>союзному слову</a:t>
            </a: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 можно поставить вопрос</a:t>
            </a:r>
            <a:br>
              <a:rPr sz="2200"/>
            </a:br>
            <a:r>
              <a:rPr b="0" lang="ru-RU" sz="2200" spc="-1" strike="noStrike">
                <a:solidFill>
                  <a:srgbClr val="424456"/>
                </a:solidFill>
                <a:latin typeface="Trebuchet MS"/>
              </a:rPr>
              <a:t> и определить, каким членом предложения оно является. </a:t>
            </a:r>
            <a:br>
              <a:rPr sz="2200"/>
            </a:br>
            <a:endParaRPr b="0" lang="en-US" sz="2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1413000"/>
            <a:ext cx="9144000" cy="468288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орько думать, </a:t>
            </a:r>
            <a:r>
              <a:rPr b="0" i="1" lang="ru-RU" sz="2800" spc="-1" strike="noStrike">
                <a:solidFill>
                  <a:srgbClr val="33ccff"/>
                </a:solidFill>
                <a:latin typeface="Georgia"/>
              </a:rPr>
              <a:t>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йдёт жизнь без горя и без счастья, в суете дневных забот.     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спомни песни,  </a:t>
            </a:r>
            <a:r>
              <a:rPr b="0" i="1" lang="ru-RU" sz="2800" spc="-1" strike="noStrike">
                <a:solidFill>
                  <a:srgbClr val="ff9900"/>
                </a:solidFill>
                <a:latin typeface="Georgia"/>
              </a:rPr>
              <a:t>что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 пел соловей.(И. Бунин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3059280" y="1413000"/>
            <a:ext cx="1079280" cy="649080"/>
          </a:xfrm>
          <a:prstGeom prst="ellipse">
            <a:avLst/>
          </a:prstGeom>
          <a:noFill/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11180400">
            <a:off x="3637800" y="3283920"/>
            <a:ext cx="1368360" cy="43164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6"/>
          <p:cNvSpPr txBox="1"/>
          <p:nvPr/>
        </p:nvSpPr>
        <p:spPr>
          <a:xfrm>
            <a:off x="3708360" y="278136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что?</a:t>
            </a:r>
            <a:endParaRPr b="0" i="1" lang="en-US" sz="20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370836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 flipH="1" flipV="1">
            <a:off x="4067280" y="4292280"/>
            <a:ext cx="1225440" cy="107964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5364000" y="5300640"/>
            <a:ext cx="2953080" cy="730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0"/>
          <p:cNvSpPr txBox="1"/>
          <p:nvPr/>
        </p:nvSpPr>
        <p:spPr>
          <a:xfrm>
            <a:off x="5364000" y="5013360"/>
            <a:ext cx="24339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юзное слов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4" name="WordArt 11"/>
          <p:cNvSpPr txBox="1"/>
          <p:nvPr/>
        </p:nvSpPr>
        <p:spPr>
          <a:xfrm>
            <a:off x="3492360" y="4149720"/>
            <a:ext cx="1028880" cy="81000"/>
          </a:xfrm>
          <a:prstGeom prst="rect">
            <a:avLst/>
          </a:prstGeom>
        </p:spPr>
        <p:txBody>
          <a:bodyPr wrap="none" lIns="90000" rIns="90000" tIns="34200" bIns="34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_  _  _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3059280" y="112536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оюз</a:t>
            </a:r>
            <a:endParaRPr b="0" lang="en-US" sz="1800" spc="1" strike="noStrike">
              <a:ln w="0">
                <a:noFill/>
              </a:ln>
              <a:solidFill>
                <a:srgbClr val="33cc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6" name="Picture 16" descr="C:\Users\админ\Pictures\ПРЕЗЕНТАЦИИ\заготовки през-й\Анимация\школа\Карандаш .gif"/>
          <p:cNvPicPr/>
          <p:nvPr/>
        </p:nvPicPr>
        <p:blipFill>
          <a:blip r:embed="rId1"/>
          <a:stretch/>
        </p:blipFill>
        <p:spPr>
          <a:xfrm>
            <a:off x="2484360" y="57326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67" name="Управляющая кнопка: домой 16"/>
          <p:cNvSpPr/>
          <p:nvPr/>
        </p:nvSpPr>
        <p:spPr>
          <a:xfrm>
            <a:off x="8389800" y="6021360"/>
            <a:ext cx="754200" cy="83664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36640"/>
              <a:gd name="textAreaBottom" fmla="*/ 788040 h 836640"/>
            </a:gdLst>
            <a:ahLst/>
            <a:rect l="textAreaLeft" t="textAreaTop" r="textAreaRight" b="textAreaBottom"/>
            <a:pathLst>
              <a:path w="21600" h="23960">
                <a:moveTo>
                  <a:pt x="0" y="0"/>
                </a:moveTo>
                <a:lnTo>
                  <a:pt x="21600" y="0"/>
                </a:lnTo>
                <a:lnTo>
                  <a:pt x="21600" y="23960"/>
                </a:lnTo>
                <a:lnTo>
                  <a:pt x="0" y="23960"/>
                </a:lnTo>
                <a:close/>
              </a:path>
              <a:path fill="lightenLess" w="21600" h="239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0">
                <a:moveTo>
                  <a:pt x="21600" y="0"/>
                </a:moveTo>
                <a:lnTo>
                  <a:pt x="21600" y="23960"/>
                </a:lnTo>
                <a:lnTo>
                  <a:pt x="20200" y="22560"/>
                </a:lnTo>
                <a:lnTo>
                  <a:pt x="20200" y="1400"/>
                </a:lnTo>
                <a:close/>
              </a:path>
              <a:path fill="darkenLess" w="21600" h="23960">
                <a:moveTo>
                  <a:pt x="21600" y="23960"/>
                </a:moveTo>
                <a:lnTo>
                  <a:pt x="0" y="23960"/>
                </a:lnTo>
                <a:lnTo>
                  <a:pt x="1400" y="22560"/>
                </a:lnTo>
                <a:lnTo>
                  <a:pt x="20200" y="22560"/>
                </a:lnTo>
                <a:close/>
              </a:path>
              <a:path fill="lighten" w="21600" h="23960">
                <a:moveTo>
                  <a:pt x="0" y="239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0"/>
                </a:lnTo>
                <a:close/>
              </a:path>
              <a:path fill="darken" w="21600" h="23960">
                <a:moveTo>
                  <a:pt x="10800" y="5017"/>
                </a:moveTo>
                <a:lnTo>
                  <a:pt x="13376" y="7628"/>
                </a:lnTo>
                <a:lnTo>
                  <a:pt x="13376" y="5887"/>
                </a:lnTo>
                <a:lnTo>
                  <a:pt x="15152" y="5887"/>
                </a:lnTo>
                <a:lnTo>
                  <a:pt x="15152" y="9404"/>
                </a:lnTo>
                <a:lnTo>
                  <a:pt x="17763" y="11980"/>
                </a:lnTo>
                <a:lnTo>
                  <a:pt x="16109" y="11980"/>
                </a:lnTo>
                <a:lnTo>
                  <a:pt x="16109" y="19169"/>
                </a:lnTo>
                <a:lnTo>
                  <a:pt x="5491" y="19169"/>
                </a:lnTo>
                <a:lnTo>
                  <a:pt x="5491" y="11980"/>
                </a:lnTo>
                <a:lnTo>
                  <a:pt x="3837" y="11980"/>
                </a:lnTo>
                <a:close/>
              </a:path>
              <a:path fill="darkenLess" w="21600" h="23960">
                <a:moveTo>
                  <a:pt x="13376" y="7628"/>
                </a:moveTo>
                <a:lnTo>
                  <a:pt x="13376" y="5887"/>
                </a:lnTo>
                <a:lnTo>
                  <a:pt x="15152" y="5887"/>
                </a:lnTo>
                <a:lnTo>
                  <a:pt x="15152" y="9404"/>
                </a:lnTo>
                <a:close/>
              </a:path>
              <a:path fill="darkenLess" w="21600" h="23960">
                <a:moveTo>
                  <a:pt x="9877" y="15479"/>
                </a:moveTo>
                <a:lnTo>
                  <a:pt x="11723" y="15479"/>
                </a:lnTo>
                <a:lnTo>
                  <a:pt x="11723" y="19169"/>
                </a:lnTo>
                <a:lnTo>
                  <a:pt x="16109" y="19169"/>
                </a:lnTo>
                <a:lnTo>
                  <a:pt x="16109" y="11980"/>
                </a:lnTo>
                <a:lnTo>
                  <a:pt x="5491" y="11980"/>
                </a:lnTo>
                <a:lnTo>
                  <a:pt x="5491" y="19169"/>
                </a:lnTo>
                <a:lnTo>
                  <a:pt x="9877" y="19169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7:54:41Z</dcterms:created>
  <dc:creator>Лариса</dc:creator>
  <dc:description/>
  <dc:language>en-US</dc:language>
  <cp:lastModifiedBy>Даша</cp:lastModifiedBy>
  <dcterms:modified xsi:type="dcterms:W3CDTF">2018-12-04T13:54:00Z</dcterms:modified>
  <cp:revision>51</cp:revision>
  <dc:subject/>
  <dc:title>Слайд 1</dc:title>
</cp:coreProperties>
</file>