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7C0-656F-41EA-A4B6-D1D71376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21C-04E6-4B6A-8051-ED191040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8A5-BB75-44CA-B4B7-D6B5F728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B80-43E0-45ED-B4D2-C8D25EF4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2878-8609-4A81-A499-C2A64BD6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4EE9-B6DC-46A7-B6E9-8CF7EDCD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5D3F-E8E5-490B-B3B6-A2DA4AC0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7BF3-B2E5-4915-BE0A-60BB65B0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7926-C053-4DC5-943C-C2AAAF2E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2665-4363-4A6C-A03B-59C38A21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1ADF-2769-4925-ABB3-816862B0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4D8-1A3F-4600-9BF4-0A8FCF5D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96A8-2A8D-4D4F-9347-E8FD237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EDD6-3444-4F27-9FEB-6D1CB81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AC57-9342-4366-8DD2-20C54768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B78-6C94-4B51-BBF0-DC9FD24D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1A61-3A25-4BE1-BED2-605F933D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794E3-4768-4E1D-BD81-0929F30E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EBD69-DF07-4618-8E12-C9693BA7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E1CC9-19C7-4196-B129-88A1070F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2FE31-F768-4E78-9745-F769F690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F88D8-CBD5-424C-8059-F5A7350A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A58-F02F-4F89-B376-6BEA2C1D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B89CA-FE87-4C70-8971-53A400E1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8EF50-5D11-4FC2-AEC7-2117BD7F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27FA2-76A9-4622-8E84-13634273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AA0E6-7C1B-4D9E-B0C6-1B70E513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401F4-98E1-43C6-B039-B003DE50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DEE45-1E25-43C3-8FAF-55A9F1B7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B67F9-D2A7-4FC0-BBD4-D5CC2CC0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1B13-E4B9-46A7-84EB-24257CB9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D29F-EA4E-49B7-9F1E-481B0AF9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B279-AAC5-4411-8C3B-9741210B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503-F989-47B6-A539-9F01ECB1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4A231-B8D1-4ED2-95F1-62FFCBE8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4408-180A-4084-AD8E-B80A1C9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F5856-0AEE-4506-8B62-8AC01CAE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DF32-870D-48AE-90EF-65AAE71C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10DE-9CB7-4C0E-9F64-366951D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FB51-83F4-4D9D-B362-6FF329DF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1C9C-D156-4186-A48A-B5BBE146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53A44-BDED-401F-95ED-B0CC6369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A6B6-F20E-4F23-A7F4-C79CBB78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6DD-0D5B-45C0-B6CC-4CEEE608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966-E37E-4A17-820B-645B8FB7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0C4-1DAD-4344-A6A8-72F8E89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2A1-C434-48F2-A1D5-8AEAA32A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545-C32C-45C0-8B86-85F2B69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37CB-A6D8-4CBD-90CC-0C10B3FBF8A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0B80-8B86-4C6C-B0C5-C4B521BAFCE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6F26-51CF-4146-8228-440EC0591A5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E489-FE7D-4D1F-A405-6AF84B6B8F0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678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рок русского язы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9 класс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55280" y="2133720"/>
            <a:ext cx="83883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222b"/>
                </a:solidFill>
                <a:latin typeface="Georgia"/>
              </a:rPr>
              <a:t>Сложноподчинённо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222b"/>
                </a:solidFill>
                <a:latin typeface="Georgia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WordArt 6"/>
          <p:cNvSpPr txBox="1"/>
          <p:nvPr/>
        </p:nvSpPr>
        <p:spPr>
          <a:xfrm>
            <a:off x="4500720" y="3929040"/>
            <a:ext cx="4825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7" name="Picture 7" descr="Гусь читает"/>
          <p:cNvPicPr/>
          <p:nvPr/>
        </p:nvPicPr>
        <p:blipFill>
          <a:blip r:embed="rId1"/>
          <a:stretch/>
        </p:blipFill>
        <p:spPr>
          <a:xfrm>
            <a:off x="250920" y="3645000"/>
            <a:ext cx="3384360" cy="275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Trebuchet MS"/>
              </a:rPr>
              <a:t>Возьмите на заметку! </a:t>
            </a:r>
            <a:br>
              <a:rPr sz="2900"/>
            </a:b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4920" y="907560"/>
            <a:ext cx="84502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уществуют разные способы схематического изображения модели сложноподчиненного предложения: вертикальные и горизонтальные схе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Вечер оказался таким,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каким его обещало</a:t>
            </a:r>
            <a:r>
              <a:rPr b="0" i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утро.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(М. Горький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                     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 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таким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,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(каким      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908000" y="4581360"/>
            <a:ext cx="721080" cy="432000"/>
          </a:xfrm>
          <a:prstGeom prst="rect">
            <a:avLst/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1835280" y="5950080"/>
            <a:ext cx="865080" cy="57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V="1">
            <a:off x="2268360" y="5084280"/>
            <a:ext cx="0" cy="7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10"/>
          <p:cNvSpPr txBox="1"/>
          <p:nvPr/>
        </p:nvSpPr>
        <p:spPr>
          <a:xfrm>
            <a:off x="1979640" y="4653000"/>
            <a:ext cx="595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ким</a:t>
            </a:r>
            <a:endParaRPr b="0" i="1" lang="en-US" sz="16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WordArt 11"/>
          <p:cNvSpPr txBox="1"/>
          <p:nvPr/>
        </p:nvSpPr>
        <p:spPr>
          <a:xfrm>
            <a:off x="1979640" y="6093000"/>
            <a:ext cx="55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им</a:t>
            </a:r>
            <a:endParaRPr b="0" i="1" lang="en-US" sz="16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Infopage"/>
          <p:cNvSpPr/>
          <p:nvPr/>
        </p:nvSpPr>
        <p:spPr>
          <a:xfrm>
            <a:off x="0" y="0"/>
            <a:ext cx="900000" cy="836640"/>
          </a:xfrm>
          <a:prstGeom prst="pie">
            <a:avLst/>
          </a:prstGeom>
          <a:solidFill>
            <a:srgbClr val="53548a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2268360" y="5013360"/>
            <a:ext cx="0" cy="936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792000" y="333360"/>
            <a:ext cx="8352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ртикальные схем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наглядно показывают подчинительный характер связи придаточной части от главн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изонтальные схем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омогают лучше разобраться в пунктуационном оформлении сложноподчиненного предлож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таких схемах главная часть обозначается в квадратных скобках  </a:t>
            </a:r>
            <a:r>
              <a:rPr b="0" lang="en-US" sz="2800" spc="-1" strike="noStrike">
                <a:solidFill>
                  <a:srgbClr val="66ccff"/>
                </a:solidFill>
                <a:latin typeface="Georgia"/>
              </a:rPr>
              <a:t>[        ]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 придаточная — в круглых  </a:t>
            </a:r>
            <a:r>
              <a:rPr b="0" lang="ru-RU" sz="2800" spc="-1" strike="noStrike">
                <a:solidFill>
                  <a:srgbClr val="ff9900"/>
                </a:solidFill>
                <a:latin typeface="Georgia"/>
              </a:rPr>
              <a:t>(        )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5" descr="C:\Users\админ\Pictures\ПРЕЗЕНТАЦИИ\заготовки през-й\Анимация\школа\Карандаш .gif"/>
          <p:cNvPicPr/>
          <p:nvPr/>
        </p:nvPicPr>
        <p:blipFill>
          <a:blip r:embed="rId1"/>
          <a:stretch/>
        </p:blipFill>
        <p:spPr>
          <a:xfrm>
            <a:off x="3348000" y="558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79" name="Управляющая кнопка: домой 6"/>
          <p:cNvSpPr/>
          <p:nvPr/>
        </p:nvSpPr>
        <p:spPr>
          <a:xfrm>
            <a:off x="7956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rebuchet MS"/>
              </a:rPr>
              <a:t>Понятие сложноподчинённого предлож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907560"/>
            <a:ext cx="8675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Georgia"/>
              </a:rPr>
              <a:t>Сложноподчинённо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редложение состоит из частей, представляющих собой смысловое и грамматическое единст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Сложноподчинённы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едложением называется такое сложное предложение, части которого соединены при помощи</a:t>
            </a: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 подчинительных союзов или союзных сл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Georgia"/>
              </a:rPr>
              <a:t>Сложноподчинённо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редложение имеет две части, одна из которых является </a:t>
            </a: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глав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другая — </a:t>
            </a: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подчинённой, придаточной</a:t>
            </a:r>
            <a:r>
              <a:rPr b="0" lang="ru-RU" sz="2800" spc="-1" strike="noStrike">
                <a:solidFill>
                  <a:srgbClr val="ff9933"/>
                </a:solidFill>
                <a:latin typeface="Georg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2a874"/>
                </a:solidFill>
                <a:latin typeface="Trebuchet MS"/>
              </a:rPr>
              <a:t>От главной части к придаточной</a:t>
            </a:r>
            <a:br>
              <a:rPr sz="2900"/>
            </a:br>
            <a:r>
              <a:rPr b="0" lang="ru-RU" sz="2900" spc="-1" strike="noStrike">
                <a:solidFill>
                  <a:srgbClr val="c2a874"/>
                </a:solidFill>
                <a:latin typeface="Trebuchet MS"/>
              </a:rPr>
              <a:t> можно поставить вопрос.</a:t>
            </a:r>
            <a:br>
              <a:rPr sz="2900"/>
            </a:b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Запела птица голосом блаженны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 том,</a:t>
            </a: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как мы друг друга обрели.            (А. Ахматов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                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 о том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, (как   )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979640" y="2492280"/>
            <a:ext cx="1125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 чём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692360" y="1989000"/>
            <a:ext cx="180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0"/>
          <p:cNvSpPr/>
          <p:nvPr/>
        </p:nvSpPr>
        <p:spPr>
          <a:xfrm rot="21227400">
            <a:off x="4573080" y="4881240"/>
            <a:ext cx="1668600" cy="701640"/>
          </a:xfrm>
          <a:custGeom>
            <a:avLst/>
            <a:gdLst>
              <a:gd name="textAreaLeft" fmla="*/ 291960 w 1668600"/>
              <a:gd name="textAreaRight" fmla="*/ 1209960 w 1668600"/>
              <a:gd name="textAreaTop" fmla="*/ 93960 h 701640"/>
              <a:gd name="textAreaBottom" fmla="*/ 607680 h 70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2"/>
          <p:cNvSpPr txBox="1"/>
          <p:nvPr/>
        </p:nvSpPr>
        <p:spPr>
          <a:xfrm>
            <a:off x="4932360" y="4292640"/>
            <a:ext cx="1735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 чём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1547640" y="2852640"/>
            <a:ext cx="2078280" cy="432000"/>
          </a:xfrm>
          <a:custGeom>
            <a:avLst/>
            <a:gdLst>
              <a:gd name="textAreaLeft" fmla="*/ 363600 w 2078280"/>
              <a:gd name="textAreaRight" fmla="*/ 1506960 w 2078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 rot="5400000">
            <a:off x="1776960" y="3270960"/>
            <a:ext cx="26820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WordArt 15"/>
          <p:cNvSpPr txBox="1"/>
          <p:nvPr/>
        </p:nvSpPr>
        <p:spPr>
          <a:xfrm rot="5400000">
            <a:off x="4585320" y="5431680"/>
            <a:ext cx="2685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2a874"/>
                </a:solidFill>
                <a:latin typeface="Trebuchet MS"/>
              </a:rPr>
              <a:t>Придаточная часть может находиться: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в начале предлож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Если бы язык не был поэтичен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не было бы искусства слова—поэзии. (С. Маршак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( Если        ),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       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AutoShape 4"/>
          <p:cNvSpPr/>
          <p:nvPr/>
        </p:nvSpPr>
        <p:spPr>
          <a:xfrm rot="11407200">
            <a:off x="1834920" y="4508280"/>
            <a:ext cx="2320920" cy="865080"/>
          </a:xfrm>
          <a:custGeom>
            <a:avLst/>
            <a:gdLst>
              <a:gd name="textAreaLeft" fmla="*/ 406080 w 2320920"/>
              <a:gd name="textAreaRight" fmla="*/ 1682640 w 2320920"/>
              <a:gd name="textAreaTop" fmla="*/ 115920 h 865080"/>
              <a:gd name="textAreaBottom" fmla="*/ 7491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1763640" y="4221000"/>
            <a:ext cx="2448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и каком условии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WordArt 6"/>
          <p:cNvSpPr txBox="1"/>
          <p:nvPr/>
        </p:nvSpPr>
        <p:spPr>
          <a:xfrm rot="5400000">
            <a:off x="1848600" y="2983680"/>
            <a:ext cx="26820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WordArt 7"/>
          <p:cNvSpPr txBox="1"/>
          <p:nvPr/>
        </p:nvSpPr>
        <p:spPr>
          <a:xfrm rot="5400000">
            <a:off x="3721680" y="5431680"/>
            <a:ext cx="2685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6800" y="620280"/>
            <a:ext cx="8377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в середине предлож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Ветви деревьев казались мохнатыми и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когда набегал ветерок,</a:t>
            </a: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слегка шумели первым зеленым шумом.                                (Г. Скребицкий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            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   ,(когда     ),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WordArt 4"/>
          <p:cNvSpPr txBox="1"/>
          <p:nvPr/>
        </p:nvSpPr>
        <p:spPr>
          <a:xfrm rot="5400000">
            <a:off x="7491240" y="1659600"/>
            <a:ext cx="253800" cy="333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WordArt 5"/>
          <p:cNvSpPr txBox="1"/>
          <p:nvPr/>
        </p:nvSpPr>
        <p:spPr>
          <a:xfrm rot="5400000">
            <a:off x="6089400" y="5224320"/>
            <a:ext cx="285480" cy="29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AutoShape 7"/>
          <p:cNvSpPr/>
          <p:nvPr/>
        </p:nvSpPr>
        <p:spPr>
          <a:xfrm flipH="1" flipV="1">
            <a:off x="4858560" y="4507920"/>
            <a:ext cx="1513080" cy="502920"/>
          </a:xfrm>
          <a:custGeom>
            <a:avLst/>
            <a:gdLst>
              <a:gd name="textAreaLeft" fmla="*/ 264240 w 1513080"/>
              <a:gd name="textAreaRight" fmla="*/ 1096560 w 1513080"/>
              <a:gd name="textAreaTop" fmla="*/ 67320 h 502920"/>
              <a:gd name="textAreaBottom" fmla="*/ 43560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8"/>
          <p:cNvSpPr txBox="1"/>
          <p:nvPr/>
        </p:nvSpPr>
        <p:spPr>
          <a:xfrm>
            <a:off x="4284720" y="4076640"/>
            <a:ext cx="24098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и каком условии?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3616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после главной част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Вспомни песни,</a:t>
            </a: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что пел соловей.        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(И. Бунин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 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          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, ( что    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WordArt 4"/>
          <p:cNvSpPr txBox="1"/>
          <p:nvPr/>
        </p:nvSpPr>
        <p:spPr>
          <a:xfrm rot="5400000">
            <a:off x="3281400" y="1768320"/>
            <a:ext cx="28548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 rot="5400000">
            <a:off x="3281400" y="4216320"/>
            <a:ext cx="28584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2987640" y="3500280"/>
            <a:ext cx="2151000" cy="576360"/>
          </a:xfrm>
          <a:custGeom>
            <a:avLst/>
            <a:gdLst>
              <a:gd name="textAreaLeft" fmla="*/ 376200 w 2151000"/>
              <a:gd name="textAreaRight" fmla="*/ 1559520 w 215100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7"/>
          <p:cNvSpPr txBox="1"/>
          <p:nvPr/>
        </p:nvSpPr>
        <p:spPr>
          <a:xfrm>
            <a:off x="3276720" y="3068640"/>
            <a:ext cx="13665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?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468360" y="189000"/>
            <a:ext cx="8675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чинительные союзы </a:t>
            </a:r>
            <a:r>
              <a:rPr b="1" i="1" lang="ru-RU" sz="3200" spc="-1" strike="noStrike">
                <a:solidFill>
                  <a:srgbClr val="21222b"/>
                </a:solidFill>
                <a:latin typeface="Arial"/>
              </a:rPr>
              <a:t>если, чтобы, словно,</a:t>
            </a:r>
            <a:r>
              <a:rPr b="0" lang="ru-RU" sz="3200" spc="-1" strike="noStrike">
                <a:solidFill>
                  <a:srgbClr val="21222b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1222b"/>
                </a:solidFill>
                <a:latin typeface="Arial"/>
              </a:rPr>
              <a:t>потому что</a:t>
            </a:r>
            <a:r>
              <a:rPr b="0" lang="ru-RU" sz="3200" spc="-1" strike="noStrike">
                <a:solidFill>
                  <a:srgbClr val="21222b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 находятся в придаточной части, но не являются ее членами. Они используются только для связи придаточной части с глав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юзные слова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который, чей, кто, что, где,</a:t>
            </a:r>
            <a:r>
              <a:rPr b="1" i="1" lang="ru-RU" sz="2800" spc="-1" strike="noStrike">
                <a:solidFill>
                  <a:srgbClr val="c2a87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к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 не только связывают придаточную часть с главной, но и являются членами придаточн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зьмите на замет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зьмите на замет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Управляющая кнопка: документ 13"/>
          <p:cNvSpPr/>
          <p:nvPr/>
        </p:nvSpPr>
        <p:spPr>
          <a:xfrm>
            <a:off x="7020000" y="4581360"/>
            <a:ext cx="504720" cy="792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792360"/>
              <a:gd name="textAreaBottom" fmla="*/ 759960 h 792360"/>
            </a:gdLst>
            <a:ahLst/>
            <a:rect l="textAreaLeft" t="textAreaTop" r="textAreaRight" b="textAreaBottom"/>
            <a:pathLst>
              <a:path w="21600" h="33901">
                <a:moveTo>
                  <a:pt x="0" y="0"/>
                </a:moveTo>
                <a:lnTo>
                  <a:pt x="21600" y="0"/>
                </a:lnTo>
                <a:lnTo>
                  <a:pt x="21600" y="33901"/>
                </a:lnTo>
                <a:lnTo>
                  <a:pt x="0" y="33901"/>
                </a:lnTo>
                <a:close/>
              </a:path>
              <a:path fill="lightenLess" w="21600" h="339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01">
                <a:moveTo>
                  <a:pt x="21600" y="0"/>
                </a:moveTo>
                <a:lnTo>
                  <a:pt x="21600" y="33901"/>
                </a:lnTo>
                <a:lnTo>
                  <a:pt x="20200" y="32501"/>
                </a:lnTo>
                <a:lnTo>
                  <a:pt x="20200" y="1400"/>
                </a:lnTo>
                <a:close/>
              </a:path>
              <a:path fill="darkenLess" w="21600" h="33901">
                <a:moveTo>
                  <a:pt x="21600" y="33901"/>
                </a:moveTo>
                <a:lnTo>
                  <a:pt x="0" y="33901"/>
                </a:lnTo>
                <a:lnTo>
                  <a:pt x="1400" y="32501"/>
                </a:lnTo>
                <a:lnTo>
                  <a:pt x="20200" y="32501"/>
                </a:lnTo>
                <a:close/>
              </a:path>
              <a:path fill="lighten" w="21600" h="33901">
                <a:moveTo>
                  <a:pt x="0" y="33901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01"/>
                </a:lnTo>
                <a:close/>
              </a:path>
              <a:path fill="darkenLess" w="21600" h="33901">
                <a:moveTo>
                  <a:pt x="5273" y="10136"/>
                </a:moveTo>
                <a:lnTo>
                  <a:pt x="12271" y="10136"/>
                </a:lnTo>
                <a:lnTo>
                  <a:pt x="16327" y="13634"/>
                </a:lnTo>
                <a:lnTo>
                  <a:pt x="16327" y="23766"/>
                </a:lnTo>
                <a:lnTo>
                  <a:pt x="5273" y="23766"/>
                </a:lnTo>
                <a:close/>
              </a:path>
              <a:path fill="darken" w="21600" h="33901">
                <a:moveTo>
                  <a:pt x="12271" y="10136"/>
                </a:moveTo>
                <a:lnTo>
                  <a:pt x="16327" y="13634"/>
                </a:lnTo>
                <a:lnTo>
                  <a:pt x="12271" y="13634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Управляющая кнопка: документ 12"/>
          <p:cNvSpPr/>
          <p:nvPr/>
        </p:nvSpPr>
        <p:spPr>
          <a:xfrm>
            <a:off x="3995640" y="443700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Less" w="21600" h="24646">
                <a:moveTo>
                  <a:pt x="5273" y="5508"/>
                </a:moveTo>
                <a:lnTo>
                  <a:pt x="12271" y="5508"/>
                </a:lnTo>
                <a:lnTo>
                  <a:pt x="16327" y="9007"/>
                </a:lnTo>
                <a:lnTo>
                  <a:pt x="16327" y="19138"/>
                </a:lnTo>
                <a:lnTo>
                  <a:pt x="5273" y="19138"/>
                </a:lnTo>
                <a:close/>
              </a:path>
              <a:path fill="darken" w="21600" h="24646">
                <a:moveTo>
                  <a:pt x="12271" y="5508"/>
                </a:moveTo>
                <a:lnTo>
                  <a:pt x="16327" y="9007"/>
                </a:lnTo>
                <a:lnTo>
                  <a:pt x="12271" y="9007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9"/>
          <p:cNvSpPr txBox="1"/>
          <p:nvPr/>
        </p:nvSpPr>
        <p:spPr>
          <a:xfrm>
            <a:off x="4067280" y="4581360"/>
            <a:ext cx="33156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9" name="WordArt 10"/>
          <p:cNvSpPr txBox="1"/>
          <p:nvPr/>
        </p:nvSpPr>
        <p:spPr>
          <a:xfrm>
            <a:off x="7164360" y="486900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250" name="Picture 14" descr="PE01616_"/>
          <p:cNvPicPr/>
          <p:nvPr/>
        </p:nvPicPr>
        <p:blipFill>
          <a:blip r:embed="rId1"/>
          <a:stretch/>
        </p:blipFill>
        <p:spPr>
          <a:xfrm>
            <a:off x="1619280" y="5270400"/>
            <a:ext cx="1692360" cy="1587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Возьмите на заметку!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78920" y="1268280"/>
            <a:ext cx="8666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Для того чтобы различить </a:t>
            </a:r>
            <a:r>
              <a:rPr b="0" lang="ru-RU" sz="3100" spc="-1" strike="noStrike">
                <a:solidFill>
                  <a:srgbClr val="21222b"/>
                </a:solidFill>
                <a:latin typeface="Georgia"/>
              </a:rPr>
              <a:t>союз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ru-RU" sz="3100" spc="-1" strike="noStrike">
                <a:solidFill>
                  <a:srgbClr val="ff9900"/>
                </a:solidFill>
                <a:latin typeface="Georgia"/>
              </a:rPr>
              <a:t>союзное слово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, необходимо запомнить: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100" spc="-1" strike="noStrike">
                <a:solidFill>
                  <a:srgbClr val="21222b"/>
                </a:solidFill>
                <a:latin typeface="Georgia"/>
              </a:rPr>
              <a:t>союз 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обычно можно опустить или заменить другим </a:t>
            </a:r>
            <a:r>
              <a:rPr b="0" lang="ru-RU" sz="3100" spc="-1" strike="noStrike">
                <a:solidFill>
                  <a:srgbClr val="21222b"/>
                </a:solidFill>
                <a:latin typeface="Georgia"/>
              </a:rPr>
              <a:t>союзом-синонимом,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9900"/>
                </a:solidFill>
                <a:latin typeface="Georgia"/>
              </a:rPr>
              <a:t>союзное слово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можно заменить только </a:t>
            </a:r>
            <a:r>
              <a:rPr b="0" lang="ru-RU" sz="3100" spc="-1" strike="noStrike">
                <a:solidFill>
                  <a:srgbClr val="ff9900"/>
                </a:solidFill>
                <a:latin typeface="Georgia"/>
              </a:rPr>
              <a:t>союзным словом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или словом самостоятельной части речи. </a:t>
            </a:r>
            <a:br>
              <a:rPr sz="3100"/>
            </a:br>
            <a:br>
              <a:rPr sz="3100"/>
            </a:b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Infopage"/>
          <p:cNvSpPr/>
          <p:nvPr/>
        </p:nvSpPr>
        <p:spPr>
          <a:xfrm>
            <a:off x="0" y="0"/>
            <a:ext cx="1042920" cy="1197000"/>
          </a:xfrm>
          <a:prstGeom prst="pie">
            <a:avLst/>
          </a:prstGeom>
          <a:solidFill>
            <a:srgbClr val="53548a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 flipH="1">
            <a:off x="538920" y="692280"/>
            <a:ext cx="3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24456"/>
                </a:solidFill>
                <a:latin typeface="Trebuchet MS"/>
              </a:rPr>
              <a:t>К </a:t>
            </a:r>
            <a:r>
              <a:rPr b="0" lang="ru-RU" sz="2200" spc="-1" strike="noStrike">
                <a:solidFill>
                  <a:srgbClr val="ff9900"/>
                </a:solidFill>
                <a:latin typeface="Trebuchet MS"/>
              </a:rPr>
              <a:t>союзному слову</a:t>
            </a:r>
            <a:r>
              <a:rPr b="0" lang="ru-RU" sz="2200" spc="-1" strike="noStrike">
                <a:solidFill>
                  <a:srgbClr val="424456"/>
                </a:solidFill>
                <a:latin typeface="Trebuchet MS"/>
              </a:rPr>
              <a:t> можно поставить вопрос</a:t>
            </a:r>
            <a:br>
              <a:rPr sz="2200"/>
            </a:br>
            <a:r>
              <a:rPr b="0" lang="ru-RU" sz="2200" spc="-1" strike="noStrike">
                <a:solidFill>
                  <a:srgbClr val="424456"/>
                </a:solidFill>
                <a:latin typeface="Trebuchet MS"/>
              </a:rPr>
              <a:t> и определить, каким членом предложения оно является. </a:t>
            </a:r>
            <a:br>
              <a:rPr sz="22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413000"/>
            <a:ext cx="9144000" cy="46828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рько думать, </a:t>
            </a: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йдёт жизнь без горя и без счастья, в суете дневных забот.     (И. Бунин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спомни песни, 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что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пел соловей.(И. Бунин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3059280" y="1413000"/>
            <a:ext cx="1079280" cy="649080"/>
          </a:xfrm>
          <a:prstGeom prst="ellipse">
            <a:avLst/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11180400">
            <a:off x="3637800" y="3283920"/>
            <a:ext cx="1368360" cy="431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3708360" y="2781360"/>
            <a:ext cx="129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то?</a:t>
            </a:r>
            <a:endParaRPr b="0" i="1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370836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 flipH="1" flipV="1">
            <a:off x="4067280" y="4292280"/>
            <a:ext cx="1225440" cy="10796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5364000" y="5300640"/>
            <a:ext cx="2953080" cy="73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10"/>
          <p:cNvSpPr txBox="1"/>
          <p:nvPr/>
        </p:nvSpPr>
        <p:spPr>
          <a:xfrm>
            <a:off x="5364000" y="5013360"/>
            <a:ext cx="24339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юзное слов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WordArt 11"/>
          <p:cNvSpPr txBox="1"/>
          <p:nvPr/>
        </p:nvSpPr>
        <p:spPr>
          <a:xfrm>
            <a:off x="3492360" y="4149720"/>
            <a:ext cx="1028880" cy="81000"/>
          </a:xfrm>
          <a:prstGeom prst="rect">
            <a:avLst/>
          </a:prstGeom>
        </p:spPr>
        <p:txBody>
          <a:bodyPr wrap="none" lIns="90000" rIns="90000" tIns="34200" bIns="34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_  _  _ 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5" name="WordArt 14"/>
          <p:cNvSpPr txBox="1"/>
          <p:nvPr/>
        </p:nvSpPr>
        <p:spPr>
          <a:xfrm>
            <a:off x="3059280" y="1125360"/>
            <a:ext cx="11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юз</a:t>
            </a:r>
            <a:endParaRPr b="0" lang="en-US" sz="1800" spc="1" strike="noStrike">
              <a:ln w="0">
                <a:noFill/>
              </a:ln>
              <a:solidFill>
                <a:srgbClr val="33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6" name="Picture 16" descr="C:\Users\админ\Pictures\ПРЕЗЕНТАЦИИ\заготовки през-й\Анимация\школа\Карандаш .gif"/>
          <p:cNvPicPr/>
          <p:nvPr/>
        </p:nvPicPr>
        <p:blipFill>
          <a:blip r:embed="rId1"/>
          <a:stretch/>
        </p:blipFill>
        <p:spPr>
          <a:xfrm>
            <a:off x="2484360" y="57326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67" name="Управляющая кнопка: домой 16"/>
          <p:cNvSpPr/>
          <p:nvPr/>
        </p:nvSpPr>
        <p:spPr>
          <a:xfrm>
            <a:off x="8389800" y="6021360"/>
            <a:ext cx="754200" cy="83664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36640"/>
              <a:gd name="textAreaBottom" fmla="*/ 788040 h 836640"/>
            </a:gdLst>
            <a:ahLst/>
            <a:rect l="textAreaLeft" t="textAreaTop" r="textAreaRight" b="textAreaBottom"/>
            <a:pathLst>
              <a:path w="21600" h="23960">
                <a:moveTo>
                  <a:pt x="0" y="0"/>
                </a:moveTo>
                <a:lnTo>
                  <a:pt x="21600" y="0"/>
                </a:lnTo>
                <a:lnTo>
                  <a:pt x="21600" y="23960"/>
                </a:lnTo>
                <a:lnTo>
                  <a:pt x="0" y="23960"/>
                </a:lnTo>
                <a:close/>
              </a:path>
              <a:path fill="lightenLess" w="21600" h="23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60">
                <a:moveTo>
                  <a:pt x="21600" y="0"/>
                </a:moveTo>
                <a:lnTo>
                  <a:pt x="21600" y="23960"/>
                </a:lnTo>
                <a:lnTo>
                  <a:pt x="20200" y="22560"/>
                </a:lnTo>
                <a:lnTo>
                  <a:pt x="20200" y="1400"/>
                </a:lnTo>
                <a:close/>
              </a:path>
              <a:path fill="darkenLess" w="21600" h="23960">
                <a:moveTo>
                  <a:pt x="21600" y="23960"/>
                </a:moveTo>
                <a:lnTo>
                  <a:pt x="0" y="23960"/>
                </a:lnTo>
                <a:lnTo>
                  <a:pt x="1400" y="22560"/>
                </a:lnTo>
                <a:lnTo>
                  <a:pt x="20200" y="22560"/>
                </a:lnTo>
                <a:close/>
              </a:path>
              <a:path fill="lighten" w="21600" h="23960">
                <a:moveTo>
                  <a:pt x="0" y="23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60"/>
                </a:lnTo>
                <a:close/>
              </a:path>
              <a:path fill="darken" w="21600" h="23960">
                <a:moveTo>
                  <a:pt x="10800" y="5017"/>
                </a:moveTo>
                <a:lnTo>
                  <a:pt x="13376" y="7628"/>
                </a:lnTo>
                <a:lnTo>
                  <a:pt x="13376" y="5887"/>
                </a:lnTo>
                <a:lnTo>
                  <a:pt x="15152" y="5887"/>
                </a:lnTo>
                <a:lnTo>
                  <a:pt x="15152" y="9404"/>
                </a:lnTo>
                <a:lnTo>
                  <a:pt x="17763" y="11980"/>
                </a:lnTo>
                <a:lnTo>
                  <a:pt x="16109" y="11980"/>
                </a:lnTo>
                <a:lnTo>
                  <a:pt x="16109" y="19169"/>
                </a:lnTo>
                <a:lnTo>
                  <a:pt x="5491" y="19169"/>
                </a:lnTo>
                <a:lnTo>
                  <a:pt x="5491" y="11980"/>
                </a:lnTo>
                <a:lnTo>
                  <a:pt x="3837" y="11980"/>
                </a:lnTo>
                <a:close/>
              </a:path>
              <a:path fill="darkenLess" w="21600" h="23960">
                <a:moveTo>
                  <a:pt x="13376" y="7628"/>
                </a:moveTo>
                <a:lnTo>
                  <a:pt x="13376" y="5887"/>
                </a:lnTo>
                <a:lnTo>
                  <a:pt x="15152" y="5887"/>
                </a:lnTo>
                <a:lnTo>
                  <a:pt x="15152" y="9404"/>
                </a:lnTo>
                <a:close/>
              </a:path>
              <a:path fill="darkenLess" w="21600" h="23960">
                <a:moveTo>
                  <a:pt x="9877" y="15479"/>
                </a:moveTo>
                <a:lnTo>
                  <a:pt x="11723" y="15479"/>
                </a:lnTo>
                <a:lnTo>
                  <a:pt x="11723" y="19169"/>
                </a:lnTo>
                <a:lnTo>
                  <a:pt x="16109" y="19169"/>
                </a:lnTo>
                <a:lnTo>
                  <a:pt x="16109" y="11980"/>
                </a:lnTo>
                <a:lnTo>
                  <a:pt x="5491" y="11980"/>
                </a:lnTo>
                <a:lnTo>
                  <a:pt x="5491" y="19169"/>
                </a:lnTo>
                <a:lnTo>
                  <a:pt x="9877" y="19169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7:54:41Z</dcterms:created>
  <dc:creator>Лариса</dc:creator>
  <dc:description/>
  <dc:language>en-US</dc:language>
  <cp:lastModifiedBy>Даша</cp:lastModifiedBy>
  <dcterms:modified xsi:type="dcterms:W3CDTF">2018-12-04T13:54:00Z</dcterms:modified>
  <cp:revision>51</cp:revision>
  <dc:subject/>
  <dc:title>Слайд 1</dc:title>
</cp:coreProperties>
</file>