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E2B-CDA0-4104-9483-209F5701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9D7-6378-4B4D-A55F-EFE67D49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B60-CFA3-4E1F-9B82-3B9C2E90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109-B5CD-4808-868C-036386F6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7045-00D3-455A-A52A-73576454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2677-0012-4277-98ED-6512722B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D758-197A-40BA-A56B-EAC36488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9090-926D-4BB0-BBFE-27F95B09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91F7-4998-40E1-A1F4-080905A0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94E0-FBC1-4886-917A-82292D43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C18A-3B92-4998-873F-874C2174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15A3-C018-4571-B702-31BCFC39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1110-5171-42DA-B3BD-D2BFE95F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86B3-1697-4FB5-A528-C1229C14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9405-9BDE-4327-93A0-460EC21B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2E02-EA03-4D3D-AC57-74A338AC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2FF1-3868-4DE8-9B76-B7DF7713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407C3-1DFF-440D-91C2-5E64E2D2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7D36E-EDA6-496E-B071-645EDC95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ADAF9-344E-474F-81AE-EC2D02D2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8AEA7-DD39-4131-99AD-FB0DE7A6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1DEF2-08BE-48AA-8114-0696E464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9FAE-05CF-45F0-B2B5-D2E42793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A7209-9ADD-479C-9DAF-B0B19555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DD817-3549-4D47-80F0-E47FF807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C5DFA-28ED-40C3-8A5B-97C167EB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5D4D1-481D-4F54-9427-ABB92179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6AB23-AFC3-479A-8D7E-C973E53D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E263C-DBCA-4342-A335-B2D112F6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E72A8-E76C-4D3E-BA13-01644A8D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0FD64-29D2-4F4B-A93B-0D09CA6D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DF7B65-AF3F-4C9D-984F-A50EDE88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D3B57-C3BD-49D7-BE08-AC8E2C82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E27-74A4-400F-B04D-C4C4D50D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4A58DA-75CC-4B18-8418-06D5F4C6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61172-BC5F-4F7E-B5BD-685B18C6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B2591-EA16-48EE-969D-C37E844D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B5F9B-0E42-4F76-B044-7E4ACF76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9BBF03-7C9D-4987-9BFA-322286A3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F95353-2B07-43E5-A077-35687B56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B2189F-46CD-416E-B42D-64CE9BEE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E43901-075E-49FE-927A-44DBCB3F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A17AD8-4CE4-4C2B-BC2C-A392D24A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C8F504-C017-4BB3-8988-A42EEF89B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96F-857B-48DC-AEDC-6F83CB41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B9D751-24BF-4FDF-99AF-2B13DF12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5D3E1-F6A2-4D62-ABA8-0B7C44ED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1E7B06-58E2-440E-AAD0-06473862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2CD6F-2140-427A-96D6-4862AA37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84A1E-B8DB-4463-8A93-481B53DE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9457B-C7FC-412E-8A4C-7C9A0818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C2F2F-FBB6-40EF-A861-73140306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2B396B-B4D9-40FE-AC8D-E07E21DA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06739-29CF-48DA-B8F1-F2F2FBBA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5767D4-9A00-48D7-AF19-5BC9CB1A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5DC-2E2B-4D01-BAFE-D4712E8F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98008-02AC-46A4-BFA7-E96755BE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922B8-B301-4F49-B0F8-7F040390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1324D-809E-4B9D-8D67-95758678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7AD6A-C583-4FFB-A0DE-BC60746E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EE7AA-C9EF-4C6D-8894-1CD1C5D0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0B2A6-75B9-495D-A419-FDE0F73C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01174-7B48-4F0B-8210-076225E5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0B2AF-88CA-43DF-8A98-DB5EE0B9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B3E05-592C-4754-9D98-3E94EF0C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3CDE9-B65A-47EB-8687-4AE0C3B8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A51-1ACD-4143-B187-080A6FD1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1F503-EF7B-4D92-B12D-006B498F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D4ED1-F325-4411-8E43-0A607364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8B513-E18E-418B-8E13-F0F76398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7CED64-0CBD-46C4-A2F0-3246D9BE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F556F-0669-4F2F-9934-C784BD69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4065A9-E915-41B4-897D-F9E54A0A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BD25F1-C0EC-4D3C-B5F8-84E99231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272D06-E405-434A-A188-6C585D94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A7CD03-BD71-4D81-AF51-AA4124D4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1A535B-8E15-4ADB-917B-08676DFD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DDC-D681-436E-941C-8BAF0854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D23D90-9749-441C-BF62-0CE08B86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C4662D-8F6A-488E-8A0C-3149580B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A3FC1-834B-4F90-8CB5-70AA3E2D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B6494A-7BD4-49FC-8BDF-C1E71C39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6553A-580D-4648-85A2-95BC1996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A9CC9-CBEC-4932-8875-D58331D0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71361-93FB-4E12-B985-04E7D007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B35B0-5FDF-4E18-816C-C1C9A8EC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DFDE7-3EF8-4050-98BD-0E71400A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39DDC-4232-46CE-A4D5-9B86EF4F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4D1-EF30-40E7-AFD2-5CFB8608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BB3AD-4D79-4E5D-9C29-6FC60A44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7F803-B27C-4301-AA8B-775DD00B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15582-F2FE-4F33-A216-F7F2D06D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3D935-67BA-4B15-AFAD-D6967443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9527A-6A80-4DCB-8246-5EEDC367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0171C-C022-4371-881D-E1765FC7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6349B-D64E-4F33-B108-30503879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1CEB-2F9A-4B5B-943F-D0DF0AA226A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9590-0DEE-43F4-B5A7-353302D33095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60FA-9E97-4257-BECD-E62918BBE4B0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EFF0-DE70-476B-A851-A3E0347DC19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4943-F6B4-4014-8057-47071337D76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50F8-D1F7-49BB-81CC-E3B901439BD5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9815-7486-4AAA-B17E-B57AC85034FC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E9E8-BA89-47C7-B75C-1B36F6B5667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071440" y="1499760"/>
            <a:ext cx="57150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СЛОЖНОСОЧИНЁННоЕ ПреДЛОЖЕНИЕ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адание №1.</a:t>
            </a:r>
            <a:br>
              <a:rPr sz="28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Найдите среди предложений сложносочинённые (знаки препинания не расставлены). Ответ дайте в виде цифрового ряда. 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13880" y="2101680"/>
            <a:ext cx="81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поглядел на неё и злоба выразившаяся на её лице испугала и удивила его. (Л. Толстой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На всём пути от Алдана и до Лены встретилось не более десятка одиноких дорожных домиков да небольшой посёлок в верховьях Амги. (А. Шахов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Лошадь почувствовав облегчение пойдёт быстрее и вам придётся не только идти но местами трусить…(В. Солоухин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Было необыкновенно до жути тихо и лишь лягушки надрывались в плавнях на той стороне да изредка в небе гудели самолёты наши шли на Берлин. 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Б. Полевой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Но кофий стыл нетронутым в чашках и  не тронуты были наполненные ликером узкие рюмки. (Ю. Гаецкий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раясь делать как можно меньше быстрых движений и прислушиваясь к пролетавшим всё чаще и чаще мимо пчёлам он дошёл  по тропинке до избы. (Л. Толстой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адание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№ 1 (продолжение)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85880" y="2000160"/>
            <a:ext cx="80532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Тотчас за окном вскрикнул петух рывшийся в грядке с огурцами и не оглядываясь помчался на сухих жилистых ногах прочь в глубину двора.   (К. Паустовский)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Жизнь каждого принадлежит Отечеству м не удальство а только истинная  храбрость приносит пользу. (П. Нахимов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 Газеты принесли вечером и только на другой день смогли их прочитать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. Иногда наоборот в поле поднималась метель и позёмка гнала снег по дороге. (Н. Петухов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Являются сложносочинёнными  предложения:________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7000"/>
                            </p:stCondLst>
                            <p:childTnLst>
                              <p:par>
                                <p:cTn id="4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адание №2.  </a:t>
            </a:r>
            <a:br>
              <a:rPr sz="28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Назовите условие, согласно которому запятая на границе частей сложносочинённого предложения не ставится(знаки препинания расставлены).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42600" y="1928520"/>
            <a:ext cx="81961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коро из земли по корням поступят первые капли сока, лопнут почки и деревья выбросят зелёную листву.(Г. Федосеев)__________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четырёх часов Невский проспект пуст и вряд ли вы его  встретите тна нём хотя бы одного чиновника. (Н. Гоголь)__________________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лько шуршали крахмальные юбки горничной да неслышно скользили из рук игроков атласные карты и жили своей таинственной молчаливой жизнью, особой от жизни игравших в них людей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Л.  Андреев)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уже сообщалось,  погода была чудесная и урожай был убран воврем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дко прилизанная голова его была на этот раз всклокочена и редкие жёлтые волосики стояли, как у дикобраза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Л. Андреев)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  Где живёт правда  и как её найти? __________________________________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9000"/>
                            </p:stCondLst>
                            <p:childTnLst>
                              <p:par>
                                <p:cTn id="5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адание №3.</a:t>
            </a:r>
            <a:br>
              <a:rPr sz="28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Расставьте пропущенные знаки препинания в сложносочинённых предложениях, укажите в них количество частей.</a:t>
            </a:r>
            <a:endParaRPr b="0" lang="en-US" sz="2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85880" y="2101680"/>
            <a:ext cx="805320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туманы сами рвались в клочья и горели звёзды  днём и ночью и звенела птица - троеглазка и на цыпочках ходила сказка. (А. Прокофьев)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етер крепчал и над морем звучало и  было тревожно смотреть в глубину. (А. Блок)___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же рассвело и взошло солнце засверкал кругом снег а он всё стоял поодаль и лаял. (А. Чехов)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нторе горела только одна лампа и счетовод  сидел и уныло играл на счётах. (Ю. Домбровский)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    Было тихо темно и только высоко на вершинах кое-где дрожал яркий золотой свет и переливался радугой в сетях пауке. (А. Чехов)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ловый подлесок пожелтел и под ним уже ковёр жёлтой листвы и в лесу пахнет пряниками. (М. Пришвин)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  Улыбка была слабая чуть заметная и несмотря на улыбку строгое выражение глаз не изменилось._______________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000"/>
                            </p:stCondLst>
                            <p:childTnLst>
                              <p:par>
                                <p:cTn id="5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0"/>
                            </p:stCondLst>
                            <p:childTnLst>
                              <p:par>
                                <p:cTn id="5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000"/>
                            </p:stCondLst>
                            <p:childTnLst>
                              <p:par>
                                <p:cTn id="5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8000"/>
                            </p:stCondLst>
                            <p:childTnLst>
                              <p:par>
                                <p:cTn id="6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alibri"/>
              </a:rPr>
              <a:t>Литература.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78588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. Г. Бархударов.   Русский язык. 9 класс. – М.: Просвещение, 2006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Е. В. Юминова. Пунктуация. Сложное предложение. – М.: Чистые пруды, 2008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. Г. Нарушевич. Тематические тесты для подготовки к ЕГЭ по русскому языку. – М.: Чистые пруды, 2008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. К. Каменова. Грамматика русского языка (в таблицах и схемах). – М.: Лист, 1997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4000"/>
                            </p:stCondLst>
                            <p:childTnLst>
                              <p:par>
                                <p:cTn id="64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9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Виды сложных предложений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1643040" y="2500200"/>
            <a:ext cx="2271600" cy="857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юз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ж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 4"/>
          <p:cNvSpPr/>
          <p:nvPr/>
        </p:nvSpPr>
        <p:spPr>
          <a:xfrm>
            <a:off x="5072040" y="2500200"/>
            <a:ext cx="2357640" cy="8575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союз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 5"/>
          <p:cNvSpPr/>
          <p:nvPr/>
        </p:nvSpPr>
        <p:spPr>
          <a:xfrm>
            <a:off x="1714680" y="4071960"/>
            <a:ext cx="2428560" cy="13431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чинё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оугольник 6"/>
          <p:cNvSpPr/>
          <p:nvPr/>
        </p:nvSpPr>
        <p:spPr>
          <a:xfrm>
            <a:off x="4929120" y="4071960"/>
            <a:ext cx="2428920" cy="13572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чинё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Прямая со стрелкой 9"/>
          <p:cNvCxnSpPr/>
          <p:nvPr/>
        </p:nvCxnSpPr>
        <p:spPr>
          <a:xfrm flipH="1">
            <a:off x="2642760" y="3429000"/>
            <a:ext cx="57240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Прямая со стрелкой 11"/>
          <p:cNvCxnSpPr/>
          <p:nvPr/>
        </p:nvCxnSpPr>
        <p:spPr>
          <a:xfrm>
            <a:off x="3143160" y="3429000"/>
            <a:ext cx="221544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8" name="Прямая со стрелкой 14"/>
          <p:cNvCxnSpPr/>
          <p:nvPr/>
        </p:nvCxnSpPr>
        <p:spPr>
          <a:xfrm flipH="1">
            <a:off x="3428280" y="1928880"/>
            <a:ext cx="5007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9" name="Прямая со стрелкой 16"/>
          <p:cNvCxnSpPr/>
          <p:nvPr/>
        </p:nvCxnSpPr>
        <p:spPr>
          <a:xfrm>
            <a:off x="5357520" y="1928880"/>
            <a:ext cx="57204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143000" y="1857240"/>
            <a:ext cx="7486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7030a0"/>
                </a:solidFill>
                <a:uFillTx/>
                <a:latin typeface="Calibri"/>
              </a:rPr>
              <a:t>Сложносочинённое предложение </a:t>
            </a:r>
            <a:r>
              <a:rPr b="1" lang="ru-RU" sz="2700" spc="-1" strike="noStrike">
                <a:solidFill>
                  <a:srgbClr val="7030a0"/>
                </a:solidFill>
                <a:latin typeface="Calibri"/>
              </a:rPr>
              <a:t>– это сложное предложение,  части которого соединены сочинительными союзами и грамматически не зависимы друг от друга, то есть находятся в отношениях равноправия, равнозначности. 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714240" y="4500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Прозрачный лес один чернеет , </a:t>
            </a: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и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 ель  сквозь  иней зеленеет, </a:t>
            </a: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и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речка подо льдом блестит.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Левая круглая скобка 3"/>
          <p:cNvSpPr/>
          <p:nvPr/>
        </p:nvSpPr>
        <p:spPr>
          <a:xfrm>
            <a:off x="785880" y="4572000"/>
            <a:ext cx="71280" cy="35712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0"/>
                  <a:pt x="0" y="360"/>
                </a:cubicBezTo>
                <a:lnTo>
                  <a:pt x="0" y="21240"/>
                </a:lnTo>
                <a:cubicBezTo>
                  <a:pt x="0" y="21420"/>
                  <a:pt x="10800" y="21600"/>
                  <a:pt x="2160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Левая круглая скобка 4"/>
          <p:cNvSpPr/>
          <p:nvPr/>
        </p:nvSpPr>
        <p:spPr>
          <a:xfrm>
            <a:off x="806400" y="5000760"/>
            <a:ext cx="50760" cy="357120"/>
          </a:xfrm>
          <a:custGeom>
            <a:avLst/>
            <a:gdLst>
              <a:gd name="textAreaLeft" fmla="*/ 14760 w 50760"/>
              <a:gd name="textAreaRight" fmla="*/ 51120 w 5076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30"/>
                  <a:pt x="0" y="259"/>
                </a:cubicBezTo>
                <a:lnTo>
                  <a:pt x="0" y="21341"/>
                </a:lnTo>
                <a:cubicBezTo>
                  <a:pt x="0" y="21471"/>
                  <a:pt x="10800" y="21600"/>
                  <a:pt x="2160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Правая круглая скобка 5"/>
          <p:cNvSpPr/>
          <p:nvPr/>
        </p:nvSpPr>
        <p:spPr>
          <a:xfrm>
            <a:off x="7143840" y="4572000"/>
            <a:ext cx="46080" cy="35712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5"/>
                  <a:pt x="21600" y="230"/>
                </a:cubicBezTo>
                <a:lnTo>
                  <a:pt x="21600" y="21370"/>
                </a:lnTo>
                <a:cubicBezTo>
                  <a:pt x="21600" y="21485"/>
                  <a:pt x="10800" y="21600"/>
                  <a:pt x="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Правая круглая скобка 6"/>
          <p:cNvSpPr/>
          <p:nvPr/>
        </p:nvSpPr>
        <p:spPr>
          <a:xfrm>
            <a:off x="6286680" y="5000760"/>
            <a:ext cx="72720" cy="357120"/>
          </a:xfrm>
          <a:custGeom>
            <a:avLst/>
            <a:gdLst>
              <a:gd name="textAreaLeft" fmla="*/ 0 w 72720"/>
              <a:gd name="textAreaRight" fmla="*/ 51120 w 7272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5"/>
                  <a:pt x="21600" y="369"/>
                </a:cubicBezTo>
                <a:lnTo>
                  <a:pt x="21600" y="21231"/>
                </a:lnTo>
                <a:cubicBezTo>
                  <a:pt x="21600" y="21416"/>
                  <a:pt x="10800" y="21600"/>
                  <a:pt x="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Левая круглая скобка 7"/>
          <p:cNvSpPr/>
          <p:nvPr/>
        </p:nvSpPr>
        <p:spPr>
          <a:xfrm>
            <a:off x="6929280" y="5000760"/>
            <a:ext cx="46080" cy="35712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"/>
                  <a:pt x="0" y="230"/>
                </a:cubicBezTo>
                <a:lnTo>
                  <a:pt x="0" y="21370"/>
                </a:lnTo>
                <a:cubicBezTo>
                  <a:pt x="0" y="21485"/>
                  <a:pt x="10800" y="21600"/>
                  <a:pt x="2160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Правая круглая скобка 8"/>
          <p:cNvSpPr/>
          <p:nvPr/>
        </p:nvSpPr>
        <p:spPr>
          <a:xfrm>
            <a:off x="5072040" y="542916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95,95,9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320"/>
                            </p:stCondLst>
                            <p:childTnLst>
                              <p:par>
                                <p:cTn id="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785880" y="12855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Основные группы сложносочинённых предложений по значению и союзам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Овал 3"/>
          <p:cNvSpPr/>
          <p:nvPr/>
        </p:nvSpPr>
        <p:spPr>
          <a:xfrm>
            <a:off x="1000080" y="3143160"/>
            <a:ext cx="2143080" cy="200052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единительны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юз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Овал 4"/>
          <p:cNvSpPr/>
          <p:nvPr/>
        </p:nvSpPr>
        <p:spPr>
          <a:xfrm>
            <a:off x="3500280" y="4357800"/>
            <a:ext cx="2214720" cy="214308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делительны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юз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Овал 5"/>
          <p:cNvSpPr/>
          <p:nvPr/>
        </p:nvSpPr>
        <p:spPr>
          <a:xfrm>
            <a:off x="6286680" y="3429000"/>
            <a:ext cx="2271600" cy="192888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тивительны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юз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Прямая со стрелкой 7"/>
          <p:cNvCxnSpPr/>
          <p:nvPr/>
        </p:nvCxnSpPr>
        <p:spPr>
          <a:xfrm flipH="1">
            <a:off x="2928240" y="2570760"/>
            <a:ext cx="107244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3" name="Прямая со стрелкой 9"/>
          <p:cNvCxnSpPr/>
          <p:nvPr/>
        </p:nvCxnSpPr>
        <p:spPr>
          <a:xfrm flipH="1">
            <a:off x="4857480" y="2714760"/>
            <a:ext cx="2160" cy="13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4" name="Прямая со стрелкой 11"/>
          <p:cNvCxnSpPr/>
          <p:nvPr/>
        </p:nvCxnSpPr>
        <p:spPr>
          <a:xfrm>
            <a:off x="5786280" y="2642760"/>
            <a:ext cx="858240" cy="85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99680" y="714240"/>
            <a:ext cx="864396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Соединительные (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перечисляются  явления, которые происходят одновременно, или явления, которые следуют одно за другим)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И, да (=и),  ни-ни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тоже, такж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722160" y="507204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Ни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солнца мне не виден свет,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ни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для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корней моих  простору нет.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Разделительные союзы (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указывается на чередование явлений, на возможность одного явления из двух или нескольких).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66680" y="2928960"/>
            <a:ext cx="7772400" cy="32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Или (иль), либо, то-то, не то - не то,  то ли – то ли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То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 светило солнце, </a:t>
            </a: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то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 шёл дождь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Противительные союзы (</a:t>
            </a:r>
            <a:r>
              <a:rPr b="0" lang="ru-RU" sz="3600" spc="-1" strike="noStrike">
                <a:solidFill>
                  <a:srgbClr val="00b050"/>
                </a:solidFill>
                <a:latin typeface="Calibri"/>
              </a:rPr>
              <a:t>одно явление противопоставляется другому).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66680" y="3214800"/>
            <a:ext cx="77724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А, но, да(=но),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однако, зато, же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b050"/>
                </a:solidFill>
                <a:latin typeface="Calibri"/>
              </a:rPr>
              <a:t>Жизнь пернатых начала замирать, 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зато </a:t>
            </a:r>
            <a:r>
              <a:rPr b="1" lang="ru-RU" sz="2900" spc="-1" strike="noStrike">
                <a:solidFill>
                  <a:srgbClr val="00b050"/>
                </a:solidFill>
                <a:latin typeface="Calibri"/>
              </a:rPr>
              <a:t>стала просыпаться жизнь крупных четвероноги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775f55"/>
                </a:solidFill>
                <a:uFillTx/>
                <a:latin typeface="Calibri"/>
              </a:rPr>
              <a:t>Запятая ставится </a:t>
            </a:r>
            <a:br>
              <a:rPr sz="3600"/>
            </a:br>
            <a:r>
              <a:rPr b="0" lang="ru-RU" sz="3600" spc="-1" strike="noStrike">
                <a:solidFill>
                  <a:srgbClr val="775f55"/>
                </a:solidFill>
                <a:latin typeface="Calibri"/>
              </a:rPr>
              <a:t>между частями сложного предложения, в которых есть союзы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66680" y="2857680"/>
            <a:ext cx="7772400" cy="33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И, да(=и), ни-ни, а, но, да(=но), однако, либо, или(иль), тоже, также и др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веркнула молния, </a:t>
            </a:r>
            <a:r>
              <a:rPr b="0" lang="ru-RU" sz="2900" spc="-1" strike="noStrike">
                <a:solidFill>
                  <a:srgbClr val="7030a0"/>
                </a:solidFill>
                <a:latin typeface="Calibri"/>
              </a:rPr>
              <a:t>и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послышался удар грома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0080" y="85716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775f55"/>
                </a:solidFill>
                <a:uFillTx/>
                <a:latin typeface="Calibri"/>
              </a:rPr>
              <a:t>Запятая не ставится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71720" y="1500120"/>
            <a:ext cx="7772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Если части сложного предложения имеют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общий второстепенный член предложения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Сейчас</a:t>
            </a:r>
            <a:r>
              <a:rPr b="0" lang="ru-RU" sz="2900" spc="-1" strike="noStrike">
                <a:solidFill>
                  <a:srgbClr val="0e0d0c"/>
                </a:solidFill>
                <a:latin typeface="Calibri"/>
              </a:rPr>
              <a:t> брызнет майский дождь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и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ачнётся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роза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2. Если есть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общее придаточное предложение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(Едва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рассвело)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нас разбудили 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мы отправились в путь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Левая круглая скобка 3"/>
          <p:cNvSpPr/>
          <p:nvPr/>
        </p:nvSpPr>
        <p:spPr>
          <a:xfrm>
            <a:off x="1214280" y="3143160"/>
            <a:ext cx="46080" cy="42876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428760"/>
              <a:gd name="textAreaBottom" fmla="*/ 426960 h 4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6"/>
                  <a:pt x="0" y="192"/>
                </a:cubicBezTo>
                <a:lnTo>
                  <a:pt x="0" y="21408"/>
                </a:lnTo>
                <a:cubicBezTo>
                  <a:pt x="0" y="21504"/>
                  <a:pt x="10800" y="21600"/>
                  <a:pt x="2160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Правая круглая скобка 4"/>
          <p:cNvSpPr/>
          <p:nvPr/>
        </p:nvSpPr>
        <p:spPr>
          <a:xfrm>
            <a:off x="6715080" y="3214800"/>
            <a:ext cx="46080" cy="428400"/>
          </a:xfrm>
          <a:custGeom>
            <a:avLst/>
            <a:gdLst>
              <a:gd name="textAreaLeft" fmla="*/ 0 w 46080"/>
              <a:gd name="textAreaRight" fmla="*/ 32400 w 46080"/>
              <a:gd name="textAreaTop" fmla="*/ 1800 h 428400"/>
              <a:gd name="textAreaBottom" fmla="*/ 42660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6"/>
                  <a:pt x="21600" y="192"/>
                </a:cubicBezTo>
                <a:lnTo>
                  <a:pt x="21600" y="21408"/>
                </a:lnTo>
                <a:cubicBezTo>
                  <a:pt x="21600" y="21504"/>
                  <a:pt x="10800" y="21600"/>
                  <a:pt x="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Левая круглая скобка 5"/>
          <p:cNvSpPr/>
          <p:nvPr/>
        </p:nvSpPr>
        <p:spPr>
          <a:xfrm>
            <a:off x="7143840" y="3143160"/>
            <a:ext cx="46080" cy="42876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428760"/>
              <a:gd name="textAreaBottom" fmla="*/ 426960 h 4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6"/>
                  <a:pt x="0" y="192"/>
                </a:cubicBezTo>
                <a:lnTo>
                  <a:pt x="0" y="21408"/>
                </a:lnTo>
                <a:cubicBezTo>
                  <a:pt x="0" y="21504"/>
                  <a:pt x="10800" y="21600"/>
                  <a:pt x="2160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Правая круглая скобка 6"/>
          <p:cNvSpPr/>
          <p:nvPr/>
        </p:nvSpPr>
        <p:spPr>
          <a:xfrm>
            <a:off x="2071800" y="3786120"/>
            <a:ext cx="71280" cy="357120"/>
          </a:xfrm>
          <a:custGeom>
            <a:avLst/>
            <a:gdLst>
              <a:gd name="textAreaLeft" fmla="*/ 0 w 71280"/>
              <a:gd name="textAreaRight" fmla="*/ 500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Левая круглая скобка 7"/>
          <p:cNvSpPr/>
          <p:nvPr/>
        </p:nvSpPr>
        <p:spPr>
          <a:xfrm>
            <a:off x="4000680" y="5429160"/>
            <a:ext cx="71280" cy="35712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0"/>
                  <a:pt x="0" y="360"/>
                </a:cubicBezTo>
                <a:lnTo>
                  <a:pt x="0" y="21240"/>
                </a:lnTo>
                <a:cubicBezTo>
                  <a:pt x="0" y="21420"/>
                  <a:pt x="10800" y="21600"/>
                  <a:pt x="2160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Правая круглая скобка 8"/>
          <p:cNvSpPr/>
          <p:nvPr/>
        </p:nvSpPr>
        <p:spPr>
          <a:xfrm>
            <a:off x="6572160" y="5429160"/>
            <a:ext cx="71640" cy="357120"/>
          </a:xfrm>
          <a:custGeom>
            <a:avLst/>
            <a:gdLst>
              <a:gd name="textAreaLeft" fmla="*/ 0 w 71640"/>
              <a:gd name="textAreaRight" fmla="*/ 50400 w 71640"/>
              <a:gd name="textAreaTop" fmla="*/ 2880 h 357120"/>
              <a:gd name="textAreaBottom" fmla="*/ 354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80"/>
                  <a:pt x="21600" y="360"/>
                </a:cubicBezTo>
                <a:lnTo>
                  <a:pt x="21600" y="21240"/>
                </a:lnTo>
                <a:cubicBezTo>
                  <a:pt x="21600" y="21420"/>
                  <a:pt x="10800" y="21600"/>
                  <a:pt x="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Левая круглая скобка 10"/>
          <p:cNvSpPr/>
          <p:nvPr/>
        </p:nvSpPr>
        <p:spPr>
          <a:xfrm>
            <a:off x="7072200" y="5429160"/>
            <a:ext cx="46080" cy="35712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357120"/>
              <a:gd name="textAreaBottom" fmla="*/ 355320 h 35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5"/>
                  <a:pt x="0" y="230"/>
                </a:cubicBezTo>
                <a:lnTo>
                  <a:pt x="0" y="21370"/>
                </a:lnTo>
                <a:cubicBezTo>
                  <a:pt x="0" y="21485"/>
                  <a:pt x="10800" y="21600"/>
                  <a:pt x="2160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Правая круглая скобка 12"/>
          <p:cNvSpPr/>
          <p:nvPr/>
        </p:nvSpPr>
        <p:spPr>
          <a:xfrm>
            <a:off x="5000760" y="5929200"/>
            <a:ext cx="71280" cy="428760"/>
          </a:xfrm>
          <a:custGeom>
            <a:avLst/>
            <a:gdLst>
              <a:gd name="textAreaLeft" fmla="*/ 0 w 71280"/>
              <a:gd name="textAreaRight" fmla="*/ 50040 w 71280"/>
              <a:gd name="textAreaTop" fmla="*/ 2880 h 428760"/>
              <a:gd name="textAreaBottom" fmla="*/ 42588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50"/>
                  <a:pt x="21600" y="300"/>
                </a:cubicBezTo>
                <a:lnTo>
                  <a:pt x="21600" y="21300"/>
                </a:lnTo>
                <a:cubicBezTo>
                  <a:pt x="21600" y="21450"/>
                  <a:pt x="10800" y="21600"/>
                  <a:pt x="0" y="21600"/>
                </a:cubicBezTo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4:07:35Z</dcterms:created>
  <dc:creator>Учитель</dc:creator>
  <dc:description/>
  <dc:language>en-US</dc:language>
  <cp:lastModifiedBy>Даша</cp:lastModifiedBy>
  <dcterms:modified xsi:type="dcterms:W3CDTF">2018-12-04T13:51:24Z</dcterms:modified>
  <cp:revision>247</cp:revision>
  <dc:subject/>
  <dc:title>Презентация PowerPoint</dc:title>
</cp:coreProperties>
</file>