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420-B595-4F1F-BFEF-F26EED69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D7B-8346-49DC-BB27-332E597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490-40FD-43F0-9C37-B9218CB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B42-C421-45DC-AFB4-E452A986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A2C-D442-4A62-91AD-0F1E7A90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691C-3218-463B-A48B-164621B8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F94-1E82-4F03-8C75-062E1FC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A54-D90D-4740-85FE-E6A3E13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75EA-FCE9-40FF-969F-A81BA4B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264-1351-4F87-BF68-380265F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C011-E1FD-406B-B492-DD99C7F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367-08A6-491F-81DC-8EF5EE0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9B1-F6AD-4EF6-AF88-93F145D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9AA-CC0F-492B-B4B9-F29AE9E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89D-CFED-422E-A3CE-89775AF3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A2F-6658-41E5-AA1A-A5F8A806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A7A-5BE7-4CB6-91E4-FCE45580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58701-A095-4191-8BCE-1BBCE6D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0CDBC-5BA5-40A1-B317-FF19EEBF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9B7CE-6CE4-41DC-BD73-0373AAC3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C8028-F704-4EF3-B3E7-964C27A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2BC82-0E77-4763-A47D-F95F6FE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582-0D25-493F-9441-9F72905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4AE56-E273-4C34-B172-FF3C607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B2FEA-9B11-4286-ADB2-491EF64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6520C-AD57-41E6-B28C-EB2D8E1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75B10-7F90-4132-ACF7-3260393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C549D-AE2E-4416-A8EF-F069A1C6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AB892-CC5A-4A46-8660-D900BF7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43EBB-D886-4DAB-81C0-6BC30DA0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D35AF-B48A-4182-9C85-35009F93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73C92-8EDD-4549-B6D7-982DFD40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178CF-7B42-4FCF-B2A9-3AB89DF3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5F8-788A-48A5-ACD7-3E166BAE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D1BC1-75DB-4C31-8B9E-6424249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55FD3-31B6-4B83-8665-F8366A6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74476-4C34-40C8-9BDE-2D3FE12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BC41C-9F53-4B8F-B149-999B95F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73B90-8D78-4C58-98AE-4515960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8119C-E047-4786-8E91-8B684EE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01848-FE3B-4626-8F1E-F073A527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B35A9-BF48-416F-880D-0B622E5C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E41A8-7D49-4F76-A3D2-7CE7E9FC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70595-D769-4D6D-A2EF-433A256B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09F-2A34-4A86-BF07-A447CC95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AF084-7DEC-4D79-8B68-BD01E273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729EE-0553-4F87-AAE7-82C13A0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E6494-50FB-4F9D-A772-A075DD7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70490-B232-466F-A1FE-0A09BF7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DB7DD-2135-4BD5-80B6-CFB02F1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F256C-ECCD-4AD0-9F8A-7C4BBE5E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04A74-C275-49A7-8DEA-69DB687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C330D-279F-4AC1-A9BF-233C5F5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62CA2-794B-48FC-BD5F-C52F11C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BC276-E14B-4F3D-9A01-D87C6CB8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E91-68E1-4938-8648-F6D199C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06B1E-BE1E-4EC1-9FD3-3D550D02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E5D3-F656-4D50-BB9D-ED39CC4E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27F2-1CD4-4B7E-8A70-5FD6311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CB1A-9F67-4B37-B6D8-EE7D0802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2536-50C8-4DD3-85B0-440994E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9F5C-0183-45C7-83B6-C8354A10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EAA63-1359-428A-8502-7400D35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9905-9AEF-4E74-9484-97DA4BB8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96CA-C678-48F1-9BD6-187DA49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D77E-186A-4396-B733-F5F8961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20A-6A9E-49A1-A4C8-DF02F8C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DD61-66E2-4911-A8B9-9C615D6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7D3C-6FDF-4C24-A88B-E5C48D3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388F-4788-46FA-AB01-645A71E6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B6F22-1CE8-4A51-9FCB-2367A8C7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8463A-7EE9-49CC-B6C0-DA27F77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4D686-F7D8-4C57-AEA7-3C01557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037AB-7CFA-4415-9943-DA748E9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CF030-30D8-4FCF-90D0-FF60DE3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CB14A-4443-4701-9214-58D48AF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F3631-41EB-44A8-8C1F-3CC95F5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929-1E60-46ED-B8B5-4A1013E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1E950-7693-47D1-A1B6-0E364EC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D2C25-954C-4DAD-A2CB-BF2BB27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ADD4B-E351-460F-BEEE-353937C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3BF2B-7BAF-4C35-9AF4-A3F545D3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53C35-5019-4C7D-9E89-C0BCB927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A84B0-08B6-4AF2-A7D1-D6725A3F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ACA6-1B63-497D-994E-70D6261F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8333-DC9C-469F-80C7-3F52A06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F210-8B40-4ECA-9361-DE41B7B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C5AE-5983-4711-9B89-FBDB6C55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580-79ED-4D93-8B56-F9D09F08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514B-FFF0-4DC9-8753-612E9A1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3207-50E7-4807-9F3E-D27BD75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DD8B-6BC9-4271-B6AA-10C47E9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39EB-105D-4A0F-8310-9F2AD67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7B26-17BA-4B78-AFE6-D00D954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1037-291D-431B-98F4-8C23B30F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F97D-004E-4204-B8FC-FBC90254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8F91-B2B3-439D-A710-030375C3CE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2F4-5EEF-4E2F-8C3E-45BB4FE1957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681-0A5F-4EAB-BC64-BB995BCFB5F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91E-6932-44E8-9955-355CFAFDC5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7AC8-BF1B-4040-BB5E-1D71A0216B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B2A-C451-4851-B7C0-075EF39DF6C1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2D68-141F-4430-93BE-154609B8DF5A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0AE-84D1-4555-9956-4A710E49EF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71440" y="1499760"/>
            <a:ext cx="57150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ЛОЖНОСОЧИНЁННоЕ ПреДЛОЖЕНИЕ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1.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йдите среди предложений сложносочинённые (знаки препинания не расставлены). Ответ дайте в виде цифрового ряда. 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13880" y="2101680"/>
            <a:ext cx="81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глядел на неё и злоба выразившаяся на её лице испугала и удивила его. (Л. Толст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а всём пути от Алдана и до Лены встретилось не более десятка одиноких дорожных домиков да небольшой посёлок в верховьях Амги. (А. Шах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Лошадь почувствовав облегчение пойдёт быстрее и вам придётся не только идти но местами трусить…(В. Солоухин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Было необыкновенно до жути тихо и лишь лягушки надрывались в плавнях на той стороне да изредка в небе гудели самолёты наши шли на Берлин. 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Б. Полев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Но кофий стыл нетронутым в чашках и  не тронуты были наполненные ликером узкие рюмки. (Ю. Гаецки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аясь делать как можно меньше быстрых движений и прислушиваясь к пролетавшим всё чаще и чаще мимо пчёлам он дошёл  по тропинке до избы. (Л. Толст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№ 1 (продолжение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85880" y="2000160"/>
            <a:ext cx="8053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Тотчас за окном вскрикнул петух рывшийся в грядке с огурцами и не оглядываясь помчался на сухих жилистых ногах прочь в глубину двора.   (К. Паустовский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Жизнь каждого принадлежит Отечеству м не удальство а только истинная  храбрость приносит пользу. (П. Нахим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Газеты принесли вечером и только на другой день смогли их прочитать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Иногда наоборот в поле поднималась метель и позёмка гнала снег по дороге. (Н. Петух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Являются сложносочинёнными  предложения: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2.  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зовите условие, согласно которому запятая на границе частей сложносочинённого предложения не ставится(знаки препинания расставлены)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42600" y="1928520"/>
            <a:ext cx="8196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 из земли по корням поступят первые капли сока, лопнут почки и деревья выбросят зелёную листву.(Г. Федосеев)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четырёх часов Невский проспект пуст и вряд ли вы его  встретите тна нём хотя бы одного чиновника. (Н. Гоголь)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шуршали крахмальные юбки горничной да неслышно скользили из рук игроков атласные карты и жили своей таинственной молчаливой жизнью, особой от жизни игравших в них людей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.  Андреев)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уже сообщалось,  погода была чудесная и урожай был убран воврем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дко прилизанная голова его была на этот раз всклокочена и редкие жёлтые волосики стояли, как у дикобраза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. Андреев)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Где живёт правда  и как её найти? __________________________________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3.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сставьте пропущенные знаки препинания в сложносочинённых предложениях, укажите в них количество частей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85880" y="2101680"/>
            <a:ext cx="80532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уманы сами рвались в клочья и горели звёзды  днём и ночью и звенела птица - троеглазка и на цыпочках ходила сказка. (А. Прокофьев)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етер крепчал и над морем звучало и  было тревожно смотреть в глубину. (А. Блок)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е рассвело и взошло солнце засверкал кругом снег а он всё стоял поодаль и лаял. (А. Чехов)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торе горела только одна лампа и счетовод  сидел и уныло играл на счётах. (Ю. Домбровский)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 Было тихо темно и только высоко на вершинах кое-где дрожал яркий золотой свет и переливался радугой в сетях пауке. (А. Чехов)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ловый подлесок пожелтел и под ним уже ковёр жёлтой листвы и в лесу пахнет пряниками. (М. Пришвин)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  Улыбка была слабая чуть заметная и несмотря на улыбку строгое выражение глаз не изменилось.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Литература.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8588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Г. Бархударов.   Русский язык. 9 класс. – М.: Просвещение, 2006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. В. Юминова. Пунктуация. Сложное предложение. – М.: Чистые пруды, 2008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. Г. Нарушевич. Тематические тесты для подготовки к ЕГЭ по русскому языку. – М.: Чистые пруды, 2008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К. Каменова. Грамматика русского языка (в таблицах и схемах). – М.: Лист, 1997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иды сложных предложений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1643040" y="2500200"/>
            <a:ext cx="2271600" cy="857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ю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5072040" y="2500200"/>
            <a:ext cx="2357640" cy="857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сою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1714680" y="4071960"/>
            <a:ext cx="2428560" cy="134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инё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6"/>
          <p:cNvSpPr/>
          <p:nvPr/>
        </p:nvSpPr>
        <p:spPr>
          <a:xfrm>
            <a:off x="4929120" y="4071960"/>
            <a:ext cx="2428920" cy="13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чинё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Прямая со стрелкой 9"/>
          <p:cNvCxnSpPr/>
          <p:nvPr/>
        </p:nvCxnSpPr>
        <p:spPr>
          <a:xfrm flipH="1">
            <a:off x="2642760" y="3429000"/>
            <a:ext cx="5724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11"/>
          <p:cNvCxnSpPr/>
          <p:nvPr/>
        </p:nvCxnSpPr>
        <p:spPr>
          <a:xfrm>
            <a:off x="3143160" y="3429000"/>
            <a:ext cx="22154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Прямая со стрелкой 14"/>
          <p:cNvCxnSpPr/>
          <p:nvPr/>
        </p:nvCxnSpPr>
        <p:spPr>
          <a:xfrm flipH="1">
            <a:off x="3428280" y="192888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Прямая со стрелкой 16"/>
          <p:cNvCxnSpPr/>
          <p:nvPr/>
        </p:nvCxnSpPr>
        <p:spPr>
          <a:xfrm>
            <a:off x="5357520" y="1928880"/>
            <a:ext cx="5720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143000" y="1857240"/>
            <a:ext cx="7486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7030a0"/>
                </a:solidFill>
                <a:uFillTx/>
                <a:latin typeface="Calibri"/>
              </a:rPr>
              <a:t>Сложносочинённое предложение </a:t>
            </a: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– это сложное предложение,  части которого соединены сочинительными союзами и грамматически не зависимы друг от друга, то есть находятся в отношениях равноправия, равнозначности.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714240" y="4500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озрачный лес один чернеет ,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ель  сквозь  иней зеленеет,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речка подо льдом блестит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Левая круглая скобка 3"/>
          <p:cNvSpPr/>
          <p:nvPr/>
        </p:nvSpPr>
        <p:spPr>
          <a:xfrm>
            <a:off x="785880" y="4572000"/>
            <a:ext cx="71280" cy="3571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Левая круглая скобка 4"/>
          <p:cNvSpPr/>
          <p:nvPr/>
        </p:nvSpPr>
        <p:spPr>
          <a:xfrm>
            <a:off x="806400" y="5000760"/>
            <a:ext cx="50760" cy="3571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0"/>
                  <a:pt x="0" y="259"/>
                </a:cubicBezTo>
                <a:lnTo>
                  <a:pt x="0" y="21341"/>
                </a:lnTo>
                <a:cubicBezTo>
                  <a:pt x="0" y="21471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авая круглая скобка 5"/>
          <p:cNvSpPr/>
          <p:nvPr/>
        </p:nvSpPr>
        <p:spPr>
          <a:xfrm>
            <a:off x="7143840" y="45720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авая круглая скобка 6"/>
          <p:cNvSpPr/>
          <p:nvPr/>
        </p:nvSpPr>
        <p:spPr>
          <a:xfrm>
            <a:off x="6286680" y="500076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5"/>
                  <a:pt x="21600" y="369"/>
                </a:cubicBezTo>
                <a:lnTo>
                  <a:pt x="21600" y="21231"/>
                </a:lnTo>
                <a:cubicBezTo>
                  <a:pt x="21600" y="21416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Левая круглая скобка 7"/>
          <p:cNvSpPr/>
          <p:nvPr/>
        </p:nvSpPr>
        <p:spPr>
          <a:xfrm>
            <a:off x="6929280" y="5000760"/>
            <a:ext cx="46080" cy="3571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"/>
                  <a:pt x="0" y="230"/>
                </a:cubicBezTo>
                <a:lnTo>
                  <a:pt x="0" y="21370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авая круглая скобка 8"/>
          <p:cNvSpPr/>
          <p:nvPr/>
        </p:nvSpPr>
        <p:spPr>
          <a:xfrm>
            <a:off x="5072040" y="5429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32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8588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новные группы сложносочинённых предложений по значению и союзам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Овал 3"/>
          <p:cNvSpPr/>
          <p:nvPr/>
        </p:nvSpPr>
        <p:spPr>
          <a:xfrm>
            <a:off x="1000080" y="3143160"/>
            <a:ext cx="2143080" cy="2000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един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Овал 4"/>
          <p:cNvSpPr/>
          <p:nvPr/>
        </p:nvSpPr>
        <p:spPr>
          <a:xfrm>
            <a:off x="3500280" y="4357800"/>
            <a:ext cx="2214720" cy="21430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Овал 5"/>
          <p:cNvSpPr/>
          <p:nvPr/>
        </p:nvSpPr>
        <p:spPr>
          <a:xfrm>
            <a:off x="6286680" y="3429000"/>
            <a:ext cx="2271600" cy="19288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ив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Прямая со стрелкой 7"/>
          <p:cNvCxnSpPr/>
          <p:nvPr/>
        </p:nvCxnSpPr>
        <p:spPr>
          <a:xfrm flipH="1">
            <a:off x="2928240" y="2570760"/>
            <a:ext cx="10724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Прямая со стрелкой 9"/>
          <p:cNvCxnSpPr/>
          <p:nvPr/>
        </p:nvCxnSpPr>
        <p:spPr>
          <a:xfrm flipH="1">
            <a:off x="4857480" y="2714760"/>
            <a:ext cx="2160" cy="13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11"/>
          <p:cNvCxnSpPr/>
          <p:nvPr/>
        </p:nvCxnSpPr>
        <p:spPr>
          <a:xfrm>
            <a:off x="5786280" y="2642760"/>
            <a:ext cx="85824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оединительные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перечисляются  явления, которые происходят одновременно, или явления, которые следуют одно за другим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И, да (=и),  ни-ни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тоже, такж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722160" y="5072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солнца мне не виден свет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дл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рней моих  простору нет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азделительные союзы (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казывается на чередование явлений, на возможность одного явления из двух или нескольких)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680" y="2928960"/>
            <a:ext cx="777240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Или (иль), либо, то-то, не то - не то,  то ли – то ли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То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светило солнце, </a:t>
            </a: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то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шёл дождь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Противительные союзы (</a:t>
            </a: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одно явление противопоставляется другому).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66680" y="3214800"/>
            <a:ext cx="77724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А, но, да(=но),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однако, зато, же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Жизнь пернатых начала замирать,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зато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стала просыпаться жизнь крупных четвероноги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75f55"/>
                </a:solidFill>
                <a:uFillTx/>
                <a:latin typeface="Calibri"/>
              </a:rPr>
              <a:t>Запятая ставится </a:t>
            </a:r>
            <a:br>
              <a:rPr sz="3600"/>
            </a:b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между частями сложного предложения, в которых есть союзы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66680" y="2857680"/>
            <a:ext cx="7772400" cy="33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, да(=и), ни-ни, а, но, да(=но), однако, либо, или(иль), тоже, также и др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веркнула молния, </a:t>
            </a: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ослышался удар грома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75f55"/>
                </a:solidFill>
                <a:uFillTx/>
                <a:latin typeface="Calibri"/>
              </a:rPr>
              <a:t>Запятая не ставится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71720" y="150012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ли части сложного предложения имеют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бщий второстепенный член предложения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Сейчас</a:t>
            </a:r>
            <a:r>
              <a:rPr b="0" lang="ru-RU" sz="2900" spc="-1" strike="noStrike">
                <a:solidFill>
                  <a:srgbClr val="0e0d0c"/>
                </a:solidFill>
                <a:latin typeface="Calibri"/>
              </a:rPr>
              <a:t> брызнет майский дожд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чнётся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оза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 Если ес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бщее придаточное предложени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(Едв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рассвело)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нас разбудили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мы отправились в путь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Левая круглая скобка 3"/>
          <p:cNvSpPr/>
          <p:nvPr/>
        </p:nvSpPr>
        <p:spPr>
          <a:xfrm>
            <a:off x="1214280" y="3143160"/>
            <a:ext cx="46080" cy="428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28760"/>
              <a:gd name="textAreaBottom" fmla="*/ 42696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"/>
                  <a:pt x="0" y="192"/>
                </a:cubicBezTo>
                <a:lnTo>
                  <a:pt x="0" y="21408"/>
                </a:lnTo>
                <a:cubicBezTo>
                  <a:pt x="0" y="21504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авая круглая скобка 4"/>
          <p:cNvSpPr/>
          <p:nvPr/>
        </p:nvSpPr>
        <p:spPr>
          <a:xfrm>
            <a:off x="6715080" y="3214800"/>
            <a:ext cx="46080" cy="428400"/>
          </a:xfrm>
          <a:custGeom>
            <a:avLst/>
            <a:gdLst>
              <a:gd name="textAreaLeft" fmla="*/ 0 w 46080"/>
              <a:gd name="textAreaRight" fmla="*/ 32400 w 46080"/>
              <a:gd name="textAreaTop" fmla="*/ 1800 h 428400"/>
              <a:gd name="textAreaBottom" fmla="*/ 4266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6"/>
                  <a:pt x="21600" y="192"/>
                </a:cubicBezTo>
                <a:lnTo>
                  <a:pt x="21600" y="21408"/>
                </a:lnTo>
                <a:cubicBezTo>
                  <a:pt x="21600" y="21504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Левая круглая скобка 5"/>
          <p:cNvSpPr/>
          <p:nvPr/>
        </p:nvSpPr>
        <p:spPr>
          <a:xfrm>
            <a:off x="7143840" y="3143160"/>
            <a:ext cx="46080" cy="428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28760"/>
              <a:gd name="textAreaBottom" fmla="*/ 42696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"/>
                  <a:pt x="0" y="192"/>
                </a:cubicBezTo>
                <a:lnTo>
                  <a:pt x="0" y="21408"/>
                </a:lnTo>
                <a:cubicBezTo>
                  <a:pt x="0" y="21504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авая круглая скобка 6"/>
          <p:cNvSpPr/>
          <p:nvPr/>
        </p:nvSpPr>
        <p:spPr>
          <a:xfrm>
            <a:off x="2071800" y="378612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Левая круглая скобка 7"/>
          <p:cNvSpPr/>
          <p:nvPr/>
        </p:nvSpPr>
        <p:spPr>
          <a:xfrm>
            <a:off x="4000680" y="5429160"/>
            <a:ext cx="71280" cy="3571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Правая круглая скобка 8"/>
          <p:cNvSpPr/>
          <p:nvPr/>
        </p:nvSpPr>
        <p:spPr>
          <a:xfrm>
            <a:off x="6572160" y="5429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Левая круглая скобка 10"/>
          <p:cNvSpPr/>
          <p:nvPr/>
        </p:nvSpPr>
        <p:spPr>
          <a:xfrm>
            <a:off x="7072200" y="5429160"/>
            <a:ext cx="46080" cy="3571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"/>
                  <a:pt x="0" y="230"/>
                </a:cubicBezTo>
                <a:lnTo>
                  <a:pt x="0" y="21370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равая круглая скобка 12"/>
          <p:cNvSpPr/>
          <p:nvPr/>
        </p:nvSpPr>
        <p:spPr>
          <a:xfrm>
            <a:off x="5000760" y="5929200"/>
            <a:ext cx="71280" cy="428760"/>
          </a:xfrm>
          <a:custGeom>
            <a:avLst/>
            <a:gdLst>
              <a:gd name="textAreaLeft" fmla="*/ 0 w 71280"/>
              <a:gd name="textAreaRight" fmla="*/ 500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0"/>
                  <a:pt x="21600" y="300"/>
                </a:cubicBezTo>
                <a:lnTo>
                  <a:pt x="21600" y="21300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07:35Z</dcterms:created>
  <dc:creator>Учитель</dc:creator>
  <dc:description/>
  <dc:language>en-US</dc:language>
  <cp:lastModifiedBy>Даша</cp:lastModifiedBy>
  <dcterms:modified xsi:type="dcterms:W3CDTF">2018-12-04T13:51:24Z</dcterms:modified>
  <cp:revision>247</cp:revision>
  <dc:subject/>
  <dc:title>Презентация PowerPoint</dc:title>
</cp:coreProperties>
</file>