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56A9-4C52-4451-8853-6F5E6558E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E216-55CA-4098-826E-0912B215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8D22-54B3-4697-89E0-6FBF940C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227E-C7AD-4D19-9F59-E0D9DCB5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7952-1A16-4565-A550-34A6C45C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7FEE-17B1-41CB-BC72-85DA47C4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8C1E-D0CB-47B6-A8E6-60C23396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A51B-86E0-4A2D-9DB3-7633715B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1965-218E-4A69-9DE8-8A8D2A33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6CC9-4A3C-4360-9784-246BA254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D17E-244A-491D-9513-5743DF33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E7E-9AF8-4DE3-A040-D2CB71B6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5F2E-FA15-402A-AD33-54FD7F1C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9DD4-E799-4A29-90CF-68FCCDD4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B983-27F4-46ED-BCFC-310290DA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1DA3-23DC-4489-9BA4-193B97A9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C352-1CBC-4970-BEFF-6D985958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32B8-7590-4A8C-8A5B-2B7088D2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627D-FA88-43AC-859A-3B168376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D26F-E749-41FD-A154-BD3EDB86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DAF-FE3B-40ED-B036-10A2B86D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EF3-9BC0-4E99-895D-8497E2B7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1D3-A777-4B22-A25D-3115360A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60D-6450-42E8-BB3C-CF9F3926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37E9-5CDF-4EB6-B161-8956CF3CFD0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3F41-CCCE-4A15-AD24-9FA68922A6A7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лагол - связка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 b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английском предложение  всегд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лжен  быть  глагол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а  хороша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e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go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в русском предложение  его нет,   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английском ставим  одну  из форм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b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ормы  глагола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 b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я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m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We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мы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ты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re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You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вы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о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она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s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They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они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все неживое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ры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н  умный.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s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v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бака большая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do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шка  маленькая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c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sm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опросы  и отриц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42148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вопросе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s, am, ar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стают  на первое  мест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  is big. Is he bi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вечаем на вопрос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es,  he   is.  No, he is no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отрицание  после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s, am, ar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тавим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g. 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s no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bi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Учим  это правило и получает  только хорошие  оценки!!!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 ___ clev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____ go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 ___ funn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____ childr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___ clev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___ goo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arafutdinova</cp:lastModifiedBy>
  <dcterms:modified xsi:type="dcterms:W3CDTF">2010-09-29T04:09:3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