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A5E-178F-4CCB-AF92-A7E74B1D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485-11DB-408E-A0CE-4371085B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F8E-A619-4BAB-9A36-6D230CC1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F1E-F44A-4988-8D7D-9164837B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D74C-D130-44DF-B7EB-43869B48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C354-2B83-42E9-B5EA-0DE1B557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9500-5707-4F5A-99D4-F15AFB7F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88BA-37F0-4690-9823-B3BA1458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68D0-5841-4AB9-A2CC-2AFD3B0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8E6B-D294-4192-88A7-D9D94817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B3B3-19BF-450F-AFDE-D8B6A3C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CF0-7526-4C07-9AF5-AC5ECD0F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24A4-0469-40E6-AB29-4D7FC8A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AB25-EA5F-4BD0-A605-6C3E0E9E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1456-A0E3-4025-8C21-4F48813B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2B97-118B-4D42-B932-491231FF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6A7B-BE29-4A82-82B2-8C4DAC27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316-C58A-4579-86C2-D1E12BF5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06E-9AF2-4C63-A71B-1FE1B386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B65-617D-48FC-8C33-173AACF1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40F-0FFD-40ED-98A5-1550C141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2AB-272B-48A3-9487-A4CEE615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9A0-7F81-4DFC-A04F-2333D6B1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7E7-AA52-4D4B-9B3C-0D02DA1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E333-0EF7-4800-BD61-B66DCAF3B83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80CC-F246-47DF-BB97-303542FF4A4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агол - связ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b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английском предложение  всегд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лжен  быть  глагол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а  хорош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go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в русском предложение  его нет,   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английском ставим  одну  из форм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b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ы  глагол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b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я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We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мы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ты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e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Yo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вы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о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она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They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они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все неживое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ы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  умный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ака большая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do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шка  маленькая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c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m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ы  и отриц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214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вопрос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, am, ar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стают  на первое  мест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 is big. Is he bi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чаем на вопрос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s,  he   is.  No, he is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трицание  посл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, am, ar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тавим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g.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bi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чим  это правило и получает  только хорошие  оценки!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___ cle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____ go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___ funn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____ child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___ cle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___ goo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rafutdinova</cp:lastModifiedBy>
  <dcterms:modified xsi:type="dcterms:W3CDTF">2010-09-29T04:09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