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1.gif" ContentType="image/gif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939-EC5E-42DF-8D59-72AC0BE8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60F-BDA5-4839-BF18-07CCBD0E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3F1-192D-45C4-A996-7AF6DC18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F0D-6832-4EF5-9E7D-CC9E722E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773-3D53-4CC8-9D39-978A725C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AEB-AEBC-4906-A905-09ADED4F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385-E9DC-4D59-A786-FDCB9588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761-DF06-471C-ACC6-1252D3CE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959-5925-4BE0-AB78-4CCD44A1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BCB-6964-4472-97BD-69ED2CC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3FD-75B2-4D83-8F44-D339824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1F4-A268-45AD-80A8-82613A2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2A2A-A4CE-4468-B0CB-E487F944FB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68360" y="326880"/>
            <a:ext cx="8424720" cy="614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кружающий ми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ик А.А Плешак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теме «Тундр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кла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ff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99ff"/>
                </a:solidFill>
                <a:latin typeface="Arial"/>
              </a:rPr>
              <a:t>                                           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9" descr="05"/>
          <p:cNvPicPr/>
          <p:nvPr/>
        </p:nvPicPr>
        <p:blipFill>
          <a:blip r:embed="rId1"/>
          <a:stretch/>
        </p:blipFill>
        <p:spPr>
          <a:xfrm>
            <a:off x="250920" y="3643200"/>
            <a:ext cx="27525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96280" cy="4348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" name="Rectangle 10"/>
          <p:cNvSpPr/>
          <p:nvPr/>
        </p:nvSpPr>
        <p:spPr>
          <a:xfrm>
            <a:off x="611280" y="5661000"/>
            <a:ext cx="4316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11280" y="6237360"/>
            <a:ext cx="43164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194120" y="5661000"/>
            <a:ext cx="44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dffff"/>
                </a:solidFill>
                <a:latin typeface="Tahoma"/>
              </a:rPr>
              <a:t>Зона Арктических пусты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118728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261800" y="6237360"/>
            <a:ext cx="21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99ff"/>
                </a:solidFill>
                <a:latin typeface="Tahoma"/>
              </a:rPr>
              <a:t>Зона Тунд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812960" y="333360"/>
            <a:ext cx="59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арта России. Природные з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7812000" y="1557360"/>
            <a:ext cx="398520" cy="984240"/>
          </a:xfrm>
          <a:custGeom>
            <a:avLst/>
            <a:gdLst>
              <a:gd name="textAreaLeft" fmla="*/ 0 w 398520"/>
              <a:gd name="textAreaRight" fmla="*/ 398880 w 39852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51" h="620">
                <a:moveTo>
                  <a:pt x="71" y="28"/>
                </a:moveTo>
                <a:cubicBezTo>
                  <a:pt x="96" y="103"/>
                  <a:pt x="87" y="181"/>
                  <a:pt x="108" y="256"/>
                </a:cubicBezTo>
                <a:cubicBezTo>
                  <a:pt x="95" y="365"/>
                  <a:pt x="101" y="321"/>
                  <a:pt x="53" y="393"/>
                </a:cubicBezTo>
                <a:cubicBezTo>
                  <a:pt x="33" y="455"/>
                  <a:pt x="0" y="527"/>
                  <a:pt x="62" y="567"/>
                </a:cubicBezTo>
                <a:cubicBezTo>
                  <a:pt x="68" y="586"/>
                  <a:pt x="70" y="620"/>
                  <a:pt x="108" y="604"/>
                </a:cubicBezTo>
                <a:cubicBezTo>
                  <a:pt x="117" y="600"/>
                  <a:pt x="115" y="586"/>
                  <a:pt x="117" y="576"/>
                </a:cubicBezTo>
                <a:cubicBezTo>
                  <a:pt x="121" y="561"/>
                  <a:pt x="123" y="546"/>
                  <a:pt x="126" y="531"/>
                </a:cubicBezTo>
                <a:cubicBezTo>
                  <a:pt x="132" y="458"/>
                  <a:pt x="123" y="406"/>
                  <a:pt x="162" y="348"/>
                </a:cubicBezTo>
                <a:cubicBezTo>
                  <a:pt x="165" y="287"/>
                  <a:pt x="150" y="222"/>
                  <a:pt x="172" y="165"/>
                </a:cubicBezTo>
                <a:cubicBezTo>
                  <a:pt x="180" y="145"/>
                  <a:pt x="219" y="170"/>
                  <a:pt x="236" y="156"/>
                </a:cubicBezTo>
                <a:cubicBezTo>
                  <a:pt x="251" y="144"/>
                  <a:pt x="209" y="125"/>
                  <a:pt x="190" y="119"/>
                </a:cubicBezTo>
                <a:cubicBezTo>
                  <a:pt x="178" y="122"/>
                  <a:pt x="161" y="118"/>
                  <a:pt x="153" y="128"/>
                </a:cubicBezTo>
                <a:cubicBezTo>
                  <a:pt x="147" y="136"/>
                  <a:pt x="166" y="147"/>
                  <a:pt x="162" y="156"/>
                </a:cubicBezTo>
                <a:cubicBezTo>
                  <a:pt x="158" y="165"/>
                  <a:pt x="144" y="162"/>
                  <a:pt x="135" y="165"/>
                </a:cubicBezTo>
                <a:cubicBezTo>
                  <a:pt x="132" y="156"/>
                  <a:pt x="126" y="147"/>
                  <a:pt x="126" y="137"/>
                </a:cubicBezTo>
                <a:cubicBezTo>
                  <a:pt x="126" y="128"/>
                  <a:pt x="136" y="119"/>
                  <a:pt x="135" y="110"/>
                </a:cubicBezTo>
                <a:cubicBezTo>
                  <a:pt x="133" y="91"/>
                  <a:pt x="117" y="55"/>
                  <a:pt x="117" y="55"/>
                </a:cubicBezTo>
                <a:cubicBezTo>
                  <a:pt x="129" y="19"/>
                  <a:pt x="126" y="37"/>
                  <a:pt x="126" y="0"/>
                </a:cubicBezTo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7954920" y="1247760"/>
            <a:ext cx="318960" cy="378000"/>
          </a:xfrm>
          <a:custGeom>
            <a:avLst/>
            <a:gdLst>
              <a:gd name="textAreaLeft" fmla="*/ 0 w 318960"/>
              <a:gd name="textAreaRight" fmla="*/ 319320 w 31896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01" h="238">
                <a:moveTo>
                  <a:pt x="127" y="0"/>
                </a:moveTo>
                <a:cubicBezTo>
                  <a:pt x="112" y="46"/>
                  <a:pt x="92" y="46"/>
                  <a:pt x="45" y="55"/>
                </a:cubicBezTo>
                <a:cubicBezTo>
                  <a:pt x="0" y="85"/>
                  <a:pt x="21" y="91"/>
                  <a:pt x="36" y="137"/>
                </a:cubicBezTo>
                <a:cubicBezTo>
                  <a:pt x="39" y="168"/>
                  <a:pt x="33" y="201"/>
                  <a:pt x="45" y="229"/>
                </a:cubicBezTo>
                <a:cubicBezTo>
                  <a:pt x="49" y="238"/>
                  <a:pt x="70" y="229"/>
                  <a:pt x="72" y="220"/>
                </a:cubicBezTo>
                <a:cubicBezTo>
                  <a:pt x="75" y="209"/>
                  <a:pt x="60" y="201"/>
                  <a:pt x="54" y="192"/>
                </a:cubicBezTo>
                <a:cubicBezTo>
                  <a:pt x="42" y="131"/>
                  <a:pt x="42" y="148"/>
                  <a:pt x="82" y="110"/>
                </a:cubicBezTo>
                <a:cubicBezTo>
                  <a:pt x="73" y="107"/>
                  <a:pt x="51" y="110"/>
                  <a:pt x="54" y="101"/>
                </a:cubicBezTo>
                <a:cubicBezTo>
                  <a:pt x="58" y="88"/>
                  <a:pt x="78" y="86"/>
                  <a:pt x="91" y="83"/>
                </a:cubicBezTo>
                <a:cubicBezTo>
                  <a:pt x="127" y="76"/>
                  <a:pt x="164" y="76"/>
                  <a:pt x="200" y="73"/>
                </a:cubicBezTo>
                <a:cubicBezTo>
                  <a:pt x="197" y="55"/>
                  <a:pt x="201" y="34"/>
                  <a:pt x="191" y="19"/>
                </a:cubicBezTo>
                <a:cubicBezTo>
                  <a:pt x="184" y="9"/>
                  <a:pt x="167" y="13"/>
                  <a:pt x="155" y="9"/>
                </a:cubicBezTo>
                <a:cubicBezTo>
                  <a:pt x="146" y="6"/>
                  <a:pt x="127" y="0"/>
                  <a:pt x="127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40"/>
          <p:cNvSpPr/>
          <p:nvPr/>
        </p:nvSpPr>
        <p:spPr>
          <a:xfrm>
            <a:off x="3879720" y="1335240"/>
            <a:ext cx="563760" cy="377640"/>
          </a:xfrm>
          <a:custGeom>
            <a:avLst/>
            <a:gdLst>
              <a:gd name="textAreaLeft" fmla="*/ 0 w 563760"/>
              <a:gd name="textAreaRight" fmla="*/ 564120 w 56376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355" h="238">
                <a:moveTo>
                  <a:pt x="217" y="55"/>
                </a:moveTo>
                <a:cubicBezTo>
                  <a:pt x="165" y="38"/>
                  <a:pt x="157" y="38"/>
                  <a:pt x="143" y="92"/>
                </a:cubicBezTo>
                <a:cubicBezTo>
                  <a:pt x="130" y="78"/>
                  <a:pt x="115" y="64"/>
                  <a:pt x="107" y="46"/>
                </a:cubicBezTo>
                <a:cubicBezTo>
                  <a:pt x="102" y="34"/>
                  <a:pt x="106" y="19"/>
                  <a:pt x="98" y="9"/>
                </a:cubicBezTo>
                <a:cubicBezTo>
                  <a:pt x="92" y="1"/>
                  <a:pt x="79" y="3"/>
                  <a:pt x="70" y="0"/>
                </a:cubicBezTo>
                <a:cubicBezTo>
                  <a:pt x="45" y="26"/>
                  <a:pt x="0" y="69"/>
                  <a:pt x="34" y="110"/>
                </a:cubicBezTo>
                <a:cubicBezTo>
                  <a:pt x="42" y="120"/>
                  <a:pt x="58" y="115"/>
                  <a:pt x="70" y="119"/>
                </a:cubicBezTo>
                <a:cubicBezTo>
                  <a:pt x="88" y="124"/>
                  <a:pt x="125" y="137"/>
                  <a:pt x="125" y="137"/>
                </a:cubicBezTo>
                <a:cubicBezTo>
                  <a:pt x="165" y="179"/>
                  <a:pt x="145" y="217"/>
                  <a:pt x="207" y="238"/>
                </a:cubicBezTo>
                <a:cubicBezTo>
                  <a:pt x="239" y="228"/>
                  <a:pt x="253" y="210"/>
                  <a:pt x="281" y="192"/>
                </a:cubicBezTo>
                <a:cubicBezTo>
                  <a:pt x="304" y="156"/>
                  <a:pt x="355" y="111"/>
                  <a:pt x="281" y="92"/>
                </a:cubicBezTo>
                <a:cubicBezTo>
                  <a:pt x="266" y="88"/>
                  <a:pt x="250" y="85"/>
                  <a:pt x="235" y="82"/>
                </a:cubicBezTo>
                <a:cubicBezTo>
                  <a:pt x="225" y="42"/>
                  <a:pt x="235" y="37"/>
                  <a:pt x="217" y="55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41"/>
          <p:cNvSpPr/>
          <p:nvPr/>
        </p:nvSpPr>
        <p:spPr>
          <a:xfrm>
            <a:off x="3348000" y="1916280"/>
            <a:ext cx="939960" cy="509400"/>
          </a:xfrm>
          <a:custGeom>
            <a:avLst/>
            <a:gdLst>
              <a:gd name="textAreaLeft" fmla="*/ 0 w 939960"/>
              <a:gd name="textAreaRight" fmla="*/ 940320 w 939960"/>
              <a:gd name="textAreaTop" fmla="*/ 0 h 509400"/>
              <a:gd name="textAreaBottom" fmla="*/ 509400 h 509400"/>
            </a:gdLst>
            <a:ahLst/>
            <a:rect l="textAreaLeft" t="textAreaTop" r="textAreaRight" b="textAreaBottom"/>
            <a:pathLst>
              <a:path w="592" h="321">
                <a:moveTo>
                  <a:pt x="539" y="28"/>
                </a:moveTo>
                <a:cubicBezTo>
                  <a:pt x="473" y="7"/>
                  <a:pt x="486" y="0"/>
                  <a:pt x="429" y="37"/>
                </a:cubicBezTo>
                <a:cubicBezTo>
                  <a:pt x="378" y="30"/>
                  <a:pt x="343" y="28"/>
                  <a:pt x="301" y="1"/>
                </a:cubicBezTo>
                <a:cubicBezTo>
                  <a:pt x="289" y="4"/>
                  <a:pt x="275" y="2"/>
                  <a:pt x="265" y="10"/>
                </a:cubicBezTo>
                <a:cubicBezTo>
                  <a:pt x="192" y="71"/>
                  <a:pt x="297" y="30"/>
                  <a:pt x="219" y="55"/>
                </a:cubicBezTo>
                <a:cubicBezTo>
                  <a:pt x="165" y="112"/>
                  <a:pt x="117" y="103"/>
                  <a:pt x="36" y="110"/>
                </a:cubicBezTo>
                <a:cubicBezTo>
                  <a:pt x="30" y="116"/>
                  <a:pt x="22" y="121"/>
                  <a:pt x="18" y="129"/>
                </a:cubicBezTo>
                <a:cubicBezTo>
                  <a:pt x="10" y="146"/>
                  <a:pt x="0" y="183"/>
                  <a:pt x="0" y="183"/>
                </a:cubicBezTo>
                <a:cubicBezTo>
                  <a:pt x="49" y="234"/>
                  <a:pt x="14" y="292"/>
                  <a:pt x="91" y="321"/>
                </a:cubicBezTo>
                <a:cubicBezTo>
                  <a:pt x="112" y="257"/>
                  <a:pt x="115" y="284"/>
                  <a:pt x="100" y="238"/>
                </a:cubicBezTo>
                <a:cubicBezTo>
                  <a:pt x="116" y="191"/>
                  <a:pt x="167" y="193"/>
                  <a:pt x="210" y="183"/>
                </a:cubicBezTo>
                <a:cubicBezTo>
                  <a:pt x="267" y="170"/>
                  <a:pt x="325" y="144"/>
                  <a:pt x="384" y="138"/>
                </a:cubicBezTo>
                <a:cubicBezTo>
                  <a:pt x="439" y="133"/>
                  <a:pt x="493" y="132"/>
                  <a:pt x="548" y="129"/>
                </a:cubicBezTo>
                <a:cubicBezTo>
                  <a:pt x="551" y="111"/>
                  <a:pt x="548" y="90"/>
                  <a:pt x="557" y="74"/>
                </a:cubicBezTo>
                <a:cubicBezTo>
                  <a:pt x="562" y="66"/>
                  <a:pt x="582" y="74"/>
                  <a:pt x="585" y="65"/>
                </a:cubicBezTo>
                <a:cubicBezTo>
                  <a:pt x="592" y="46"/>
                  <a:pt x="539" y="28"/>
                  <a:pt x="539" y="2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42"/>
          <p:cNvSpPr/>
          <p:nvPr/>
        </p:nvSpPr>
        <p:spPr>
          <a:xfrm>
            <a:off x="4818240" y="1698480"/>
            <a:ext cx="311040" cy="319320"/>
          </a:xfrm>
          <a:custGeom>
            <a:avLst/>
            <a:gdLst>
              <a:gd name="textAreaLeft" fmla="*/ 0 w 311040"/>
              <a:gd name="textAreaRight" fmla="*/ 311400 w 3110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196" h="201">
                <a:moveTo>
                  <a:pt x="119" y="73"/>
                </a:moveTo>
                <a:cubicBezTo>
                  <a:pt x="128" y="70"/>
                  <a:pt x="150" y="73"/>
                  <a:pt x="147" y="64"/>
                </a:cubicBezTo>
                <a:cubicBezTo>
                  <a:pt x="140" y="41"/>
                  <a:pt x="96" y="15"/>
                  <a:pt x="74" y="0"/>
                </a:cubicBezTo>
                <a:cubicBezTo>
                  <a:pt x="37" y="12"/>
                  <a:pt x="27" y="37"/>
                  <a:pt x="0" y="64"/>
                </a:cubicBezTo>
                <a:cubicBezTo>
                  <a:pt x="30" y="92"/>
                  <a:pt x="33" y="102"/>
                  <a:pt x="10" y="137"/>
                </a:cubicBezTo>
                <a:cubicBezTo>
                  <a:pt x="16" y="155"/>
                  <a:pt x="18" y="173"/>
                  <a:pt x="37" y="183"/>
                </a:cubicBezTo>
                <a:cubicBezTo>
                  <a:pt x="54" y="192"/>
                  <a:pt x="92" y="201"/>
                  <a:pt x="92" y="201"/>
                </a:cubicBezTo>
                <a:cubicBezTo>
                  <a:pt x="104" y="198"/>
                  <a:pt x="120" y="201"/>
                  <a:pt x="128" y="192"/>
                </a:cubicBezTo>
                <a:cubicBezTo>
                  <a:pt x="196" y="113"/>
                  <a:pt x="106" y="151"/>
                  <a:pt x="174" y="128"/>
                </a:cubicBezTo>
                <a:cubicBezTo>
                  <a:pt x="162" y="109"/>
                  <a:pt x="146" y="73"/>
                  <a:pt x="119" y="73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43"/>
          <p:cNvSpPr/>
          <p:nvPr/>
        </p:nvSpPr>
        <p:spPr>
          <a:xfrm>
            <a:off x="4809960" y="1889280"/>
            <a:ext cx="532080" cy="412560"/>
          </a:xfrm>
          <a:custGeom>
            <a:avLst/>
            <a:gdLst>
              <a:gd name="textAreaLeft" fmla="*/ 0 w 532080"/>
              <a:gd name="textAreaRight" fmla="*/ 532440 w 53208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35" h="260">
                <a:moveTo>
                  <a:pt x="197" y="8"/>
                </a:moveTo>
                <a:cubicBezTo>
                  <a:pt x="185" y="11"/>
                  <a:pt x="168" y="7"/>
                  <a:pt x="161" y="17"/>
                </a:cubicBezTo>
                <a:cubicBezTo>
                  <a:pt x="155" y="25"/>
                  <a:pt x="172" y="35"/>
                  <a:pt x="170" y="44"/>
                </a:cubicBezTo>
                <a:cubicBezTo>
                  <a:pt x="168" y="55"/>
                  <a:pt x="161" y="66"/>
                  <a:pt x="152" y="72"/>
                </a:cubicBezTo>
                <a:cubicBezTo>
                  <a:pt x="141" y="79"/>
                  <a:pt x="127" y="78"/>
                  <a:pt x="115" y="81"/>
                </a:cubicBezTo>
                <a:cubicBezTo>
                  <a:pt x="125" y="111"/>
                  <a:pt x="142" y="124"/>
                  <a:pt x="152" y="154"/>
                </a:cubicBezTo>
                <a:cubicBezTo>
                  <a:pt x="116" y="206"/>
                  <a:pt x="101" y="201"/>
                  <a:pt x="33" y="209"/>
                </a:cubicBezTo>
                <a:cubicBezTo>
                  <a:pt x="24" y="212"/>
                  <a:pt x="8" y="209"/>
                  <a:pt x="5" y="218"/>
                </a:cubicBezTo>
                <a:cubicBezTo>
                  <a:pt x="0" y="232"/>
                  <a:pt x="49" y="244"/>
                  <a:pt x="51" y="245"/>
                </a:cubicBezTo>
                <a:cubicBezTo>
                  <a:pt x="124" y="198"/>
                  <a:pt x="20" y="260"/>
                  <a:pt x="133" y="218"/>
                </a:cubicBezTo>
                <a:cubicBezTo>
                  <a:pt x="141" y="215"/>
                  <a:pt x="143" y="202"/>
                  <a:pt x="152" y="200"/>
                </a:cubicBezTo>
                <a:cubicBezTo>
                  <a:pt x="188" y="192"/>
                  <a:pt x="225" y="194"/>
                  <a:pt x="261" y="191"/>
                </a:cubicBezTo>
                <a:cubicBezTo>
                  <a:pt x="284" y="168"/>
                  <a:pt x="311" y="158"/>
                  <a:pt x="335" y="136"/>
                </a:cubicBezTo>
                <a:cubicBezTo>
                  <a:pt x="286" y="120"/>
                  <a:pt x="221" y="156"/>
                  <a:pt x="243" y="90"/>
                </a:cubicBezTo>
                <a:cubicBezTo>
                  <a:pt x="237" y="81"/>
                  <a:pt x="230" y="73"/>
                  <a:pt x="225" y="63"/>
                </a:cubicBezTo>
                <a:cubicBezTo>
                  <a:pt x="221" y="54"/>
                  <a:pt x="221" y="43"/>
                  <a:pt x="216" y="35"/>
                </a:cubicBezTo>
                <a:cubicBezTo>
                  <a:pt x="195" y="0"/>
                  <a:pt x="197" y="31"/>
                  <a:pt x="197" y="8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45"/>
          <p:cNvSpPr/>
          <p:nvPr/>
        </p:nvSpPr>
        <p:spPr>
          <a:xfrm>
            <a:off x="5940360" y="1844640"/>
            <a:ext cx="523800" cy="352440"/>
          </a:xfrm>
          <a:custGeom>
            <a:avLst/>
            <a:gdLst>
              <a:gd name="textAreaLeft" fmla="*/ 0 w 523800"/>
              <a:gd name="textAreaRight" fmla="*/ 524160 w 5238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30" h="222">
                <a:moveTo>
                  <a:pt x="310" y="36"/>
                </a:moveTo>
                <a:cubicBezTo>
                  <a:pt x="301" y="30"/>
                  <a:pt x="293" y="22"/>
                  <a:pt x="283" y="18"/>
                </a:cubicBezTo>
                <a:cubicBezTo>
                  <a:pt x="265" y="10"/>
                  <a:pt x="228" y="0"/>
                  <a:pt x="228" y="0"/>
                </a:cubicBezTo>
                <a:cubicBezTo>
                  <a:pt x="222" y="6"/>
                  <a:pt x="211" y="9"/>
                  <a:pt x="209" y="18"/>
                </a:cubicBezTo>
                <a:cubicBezTo>
                  <a:pt x="207" y="28"/>
                  <a:pt x="226" y="39"/>
                  <a:pt x="219" y="46"/>
                </a:cubicBezTo>
                <a:cubicBezTo>
                  <a:pt x="217" y="48"/>
                  <a:pt x="129" y="62"/>
                  <a:pt x="118" y="64"/>
                </a:cubicBezTo>
                <a:cubicBezTo>
                  <a:pt x="74" y="130"/>
                  <a:pt x="137" y="50"/>
                  <a:pt x="8" y="100"/>
                </a:cubicBezTo>
                <a:cubicBezTo>
                  <a:pt x="0" y="103"/>
                  <a:pt x="21" y="112"/>
                  <a:pt x="27" y="119"/>
                </a:cubicBezTo>
                <a:cubicBezTo>
                  <a:pt x="57" y="156"/>
                  <a:pt x="29" y="141"/>
                  <a:pt x="72" y="155"/>
                </a:cubicBezTo>
                <a:cubicBezTo>
                  <a:pt x="88" y="222"/>
                  <a:pt x="106" y="201"/>
                  <a:pt x="173" y="192"/>
                </a:cubicBezTo>
                <a:cubicBezTo>
                  <a:pt x="225" y="112"/>
                  <a:pt x="211" y="135"/>
                  <a:pt x="310" y="119"/>
                </a:cubicBezTo>
                <a:cubicBezTo>
                  <a:pt x="307" y="107"/>
                  <a:pt x="298" y="94"/>
                  <a:pt x="301" y="82"/>
                </a:cubicBezTo>
                <a:cubicBezTo>
                  <a:pt x="304" y="70"/>
                  <a:pt x="326" y="67"/>
                  <a:pt x="328" y="55"/>
                </a:cubicBezTo>
                <a:cubicBezTo>
                  <a:pt x="330" y="46"/>
                  <a:pt x="310" y="36"/>
                  <a:pt x="310" y="36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46"/>
          <p:cNvSpPr/>
          <p:nvPr/>
        </p:nvSpPr>
        <p:spPr>
          <a:xfrm>
            <a:off x="7283520" y="1203480"/>
            <a:ext cx="218880" cy="217440"/>
          </a:xfrm>
          <a:custGeom>
            <a:avLst/>
            <a:gdLst>
              <a:gd name="textAreaLeft" fmla="*/ 0 w 218880"/>
              <a:gd name="textAreaRight" fmla="*/ 219240 w 2188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38" h="137">
                <a:moveTo>
                  <a:pt x="57" y="1"/>
                </a:moveTo>
                <a:cubicBezTo>
                  <a:pt x="40" y="6"/>
                  <a:pt x="6" y="13"/>
                  <a:pt x="2" y="37"/>
                </a:cubicBezTo>
                <a:cubicBezTo>
                  <a:pt x="0" y="48"/>
                  <a:pt x="14" y="56"/>
                  <a:pt x="20" y="65"/>
                </a:cubicBezTo>
                <a:cubicBezTo>
                  <a:pt x="31" y="135"/>
                  <a:pt x="25" y="137"/>
                  <a:pt x="93" y="120"/>
                </a:cubicBezTo>
                <a:cubicBezTo>
                  <a:pt x="127" y="85"/>
                  <a:pt x="138" y="57"/>
                  <a:pt x="84" y="37"/>
                </a:cubicBezTo>
                <a:cubicBezTo>
                  <a:pt x="81" y="28"/>
                  <a:pt x="82" y="17"/>
                  <a:pt x="75" y="10"/>
                </a:cubicBezTo>
                <a:cubicBezTo>
                  <a:pt x="65" y="0"/>
                  <a:pt x="30" y="1"/>
                  <a:pt x="57" y="1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Freeform 39"/>
          <p:cNvSpPr/>
          <p:nvPr/>
        </p:nvSpPr>
        <p:spPr>
          <a:xfrm>
            <a:off x="2627280" y="1557360"/>
            <a:ext cx="5113440" cy="1440000"/>
          </a:xfrm>
          <a:custGeom>
            <a:avLst/>
            <a:gdLst>
              <a:gd name="textAreaLeft" fmla="*/ 0 w 5113440"/>
              <a:gd name="textAreaRight" fmla="*/ 5113440 w 511344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245" h="878">
                <a:moveTo>
                  <a:pt x="27" y="37"/>
                </a:moveTo>
                <a:cubicBezTo>
                  <a:pt x="7" y="100"/>
                  <a:pt x="27" y="23"/>
                  <a:pt x="27" y="129"/>
                </a:cubicBezTo>
                <a:cubicBezTo>
                  <a:pt x="27" y="162"/>
                  <a:pt x="24" y="196"/>
                  <a:pt x="18" y="229"/>
                </a:cubicBezTo>
                <a:cubicBezTo>
                  <a:pt x="15" y="248"/>
                  <a:pt x="0" y="284"/>
                  <a:pt x="0" y="284"/>
                </a:cubicBezTo>
                <a:cubicBezTo>
                  <a:pt x="3" y="302"/>
                  <a:pt x="1" y="322"/>
                  <a:pt x="9" y="339"/>
                </a:cubicBezTo>
                <a:cubicBezTo>
                  <a:pt x="14" y="349"/>
                  <a:pt x="34" y="346"/>
                  <a:pt x="36" y="357"/>
                </a:cubicBezTo>
                <a:cubicBezTo>
                  <a:pt x="46" y="405"/>
                  <a:pt x="14" y="466"/>
                  <a:pt x="45" y="504"/>
                </a:cubicBezTo>
                <a:cubicBezTo>
                  <a:pt x="70" y="535"/>
                  <a:pt x="124" y="510"/>
                  <a:pt x="164" y="513"/>
                </a:cubicBezTo>
                <a:cubicBezTo>
                  <a:pt x="233" y="535"/>
                  <a:pt x="306" y="527"/>
                  <a:pt x="375" y="549"/>
                </a:cubicBezTo>
                <a:cubicBezTo>
                  <a:pt x="406" y="582"/>
                  <a:pt x="385" y="565"/>
                  <a:pt x="448" y="586"/>
                </a:cubicBezTo>
                <a:cubicBezTo>
                  <a:pt x="457" y="589"/>
                  <a:pt x="475" y="595"/>
                  <a:pt x="475" y="595"/>
                </a:cubicBezTo>
                <a:cubicBezTo>
                  <a:pt x="478" y="616"/>
                  <a:pt x="474" y="640"/>
                  <a:pt x="484" y="659"/>
                </a:cubicBezTo>
                <a:cubicBezTo>
                  <a:pt x="488" y="668"/>
                  <a:pt x="503" y="671"/>
                  <a:pt x="512" y="668"/>
                </a:cubicBezTo>
                <a:cubicBezTo>
                  <a:pt x="546" y="657"/>
                  <a:pt x="563" y="636"/>
                  <a:pt x="585" y="613"/>
                </a:cubicBezTo>
                <a:cubicBezTo>
                  <a:pt x="637" y="668"/>
                  <a:pt x="571" y="592"/>
                  <a:pt x="612" y="659"/>
                </a:cubicBezTo>
                <a:cubicBezTo>
                  <a:pt x="619" y="671"/>
                  <a:pt x="649" y="689"/>
                  <a:pt x="658" y="696"/>
                </a:cubicBezTo>
                <a:cubicBezTo>
                  <a:pt x="672" y="738"/>
                  <a:pt x="666" y="831"/>
                  <a:pt x="685" y="860"/>
                </a:cubicBezTo>
                <a:cubicBezTo>
                  <a:pt x="692" y="871"/>
                  <a:pt x="710" y="866"/>
                  <a:pt x="722" y="869"/>
                </a:cubicBezTo>
                <a:cubicBezTo>
                  <a:pt x="822" y="860"/>
                  <a:pt x="830" y="878"/>
                  <a:pt x="850" y="796"/>
                </a:cubicBezTo>
                <a:cubicBezTo>
                  <a:pt x="862" y="799"/>
                  <a:pt x="878" y="796"/>
                  <a:pt x="887" y="805"/>
                </a:cubicBezTo>
                <a:cubicBezTo>
                  <a:pt x="896" y="814"/>
                  <a:pt x="886" y="834"/>
                  <a:pt x="896" y="842"/>
                </a:cubicBezTo>
                <a:cubicBezTo>
                  <a:pt x="911" y="855"/>
                  <a:pt x="951" y="860"/>
                  <a:pt x="951" y="860"/>
                </a:cubicBezTo>
                <a:cubicBezTo>
                  <a:pt x="996" y="830"/>
                  <a:pt x="1013" y="821"/>
                  <a:pt x="1042" y="778"/>
                </a:cubicBezTo>
                <a:cubicBezTo>
                  <a:pt x="1067" y="674"/>
                  <a:pt x="1028" y="797"/>
                  <a:pt x="1079" y="723"/>
                </a:cubicBezTo>
                <a:cubicBezTo>
                  <a:pt x="1083" y="717"/>
                  <a:pt x="1097" y="642"/>
                  <a:pt x="1097" y="641"/>
                </a:cubicBezTo>
                <a:cubicBezTo>
                  <a:pt x="1138" y="643"/>
                  <a:pt x="1314" y="661"/>
                  <a:pt x="1389" y="641"/>
                </a:cubicBezTo>
                <a:cubicBezTo>
                  <a:pt x="1393" y="640"/>
                  <a:pt x="1423" y="607"/>
                  <a:pt x="1426" y="604"/>
                </a:cubicBezTo>
                <a:cubicBezTo>
                  <a:pt x="1449" y="585"/>
                  <a:pt x="1471" y="568"/>
                  <a:pt x="1499" y="559"/>
                </a:cubicBezTo>
                <a:cubicBezTo>
                  <a:pt x="1529" y="539"/>
                  <a:pt x="1557" y="533"/>
                  <a:pt x="1591" y="522"/>
                </a:cubicBezTo>
                <a:cubicBezTo>
                  <a:pt x="1600" y="516"/>
                  <a:pt x="1608" y="508"/>
                  <a:pt x="1618" y="504"/>
                </a:cubicBezTo>
                <a:cubicBezTo>
                  <a:pt x="1636" y="496"/>
                  <a:pt x="1673" y="485"/>
                  <a:pt x="1673" y="485"/>
                </a:cubicBezTo>
                <a:cubicBezTo>
                  <a:pt x="1688" y="488"/>
                  <a:pt x="1708" y="484"/>
                  <a:pt x="1719" y="495"/>
                </a:cubicBezTo>
                <a:cubicBezTo>
                  <a:pt x="1725" y="501"/>
                  <a:pt x="1706" y="506"/>
                  <a:pt x="1700" y="513"/>
                </a:cubicBezTo>
                <a:cubicBezTo>
                  <a:pt x="1669" y="550"/>
                  <a:pt x="1699" y="534"/>
                  <a:pt x="1655" y="549"/>
                </a:cubicBezTo>
                <a:cubicBezTo>
                  <a:pt x="1652" y="558"/>
                  <a:pt x="1651" y="569"/>
                  <a:pt x="1645" y="577"/>
                </a:cubicBezTo>
                <a:cubicBezTo>
                  <a:pt x="1638" y="585"/>
                  <a:pt x="1613" y="585"/>
                  <a:pt x="1618" y="595"/>
                </a:cubicBezTo>
                <a:cubicBezTo>
                  <a:pt x="1628" y="615"/>
                  <a:pt x="1673" y="632"/>
                  <a:pt x="1673" y="632"/>
                </a:cubicBezTo>
                <a:cubicBezTo>
                  <a:pt x="1737" y="629"/>
                  <a:pt x="1803" y="637"/>
                  <a:pt x="1865" y="623"/>
                </a:cubicBezTo>
                <a:cubicBezTo>
                  <a:pt x="1895" y="616"/>
                  <a:pt x="1909" y="578"/>
                  <a:pt x="1938" y="568"/>
                </a:cubicBezTo>
                <a:cubicBezTo>
                  <a:pt x="1955" y="620"/>
                  <a:pt x="2003" y="607"/>
                  <a:pt x="2057" y="613"/>
                </a:cubicBezTo>
                <a:cubicBezTo>
                  <a:pt x="2100" y="610"/>
                  <a:pt x="2143" y="611"/>
                  <a:pt x="2185" y="604"/>
                </a:cubicBezTo>
                <a:cubicBezTo>
                  <a:pt x="2289" y="586"/>
                  <a:pt x="2095" y="567"/>
                  <a:pt x="2267" y="595"/>
                </a:cubicBezTo>
                <a:cubicBezTo>
                  <a:pt x="2307" y="620"/>
                  <a:pt x="2292" y="633"/>
                  <a:pt x="2331" y="659"/>
                </a:cubicBezTo>
                <a:cubicBezTo>
                  <a:pt x="2340" y="650"/>
                  <a:pt x="2352" y="643"/>
                  <a:pt x="2359" y="632"/>
                </a:cubicBezTo>
                <a:cubicBezTo>
                  <a:pt x="2373" y="612"/>
                  <a:pt x="2361" y="592"/>
                  <a:pt x="2386" y="577"/>
                </a:cubicBezTo>
                <a:cubicBezTo>
                  <a:pt x="2402" y="567"/>
                  <a:pt x="2441" y="559"/>
                  <a:pt x="2441" y="559"/>
                </a:cubicBezTo>
                <a:cubicBezTo>
                  <a:pt x="2491" y="571"/>
                  <a:pt x="2494" y="594"/>
                  <a:pt x="2523" y="549"/>
                </a:cubicBezTo>
                <a:cubicBezTo>
                  <a:pt x="2518" y="533"/>
                  <a:pt x="2502" y="500"/>
                  <a:pt x="2523" y="485"/>
                </a:cubicBezTo>
                <a:cubicBezTo>
                  <a:pt x="2538" y="474"/>
                  <a:pt x="2559" y="477"/>
                  <a:pt x="2578" y="476"/>
                </a:cubicBezTo>
                <a:cubicBezTo>
                  <a:pt x="2642" y="471"/>
                  <a:pt x="2706" y="470"/>
                  <a:pt x="2770" y="467"/>
                </a:cubicBezTo>
                <a:cubicBezTo>
                  <a:pt x="2796" y="449"/>
                  <a:pt x="2813" y="432"/>
                  <a:pt x="2843" y="421"/>
                </a:cubicBezTo>
                <a:cubicBezTo>
                  <a:pt x="2868" y="383"/>
                  <a:pt x="2859" y="365"/>
                  <a:pt x="2898" y="339"/>
                </a:cubicBezTo>
                <a:cubicBezTo>
                  <a:pt x="2920" y="306"/>
                  <a:pt x="2935" y="306"/>
                  <a:pt x="2971" y="293"/>
                </a:cubicBezTo>
                <a:cubicBezTo>
                  <a:pt x="2980" y="284"/>
                  <a:pt x="2992" y="277"/>
                  <a:pt x="2999" y="266"/>
                </a:cubicBezTo>
                <a:cubicBezTo>
                  <a:pt x="3014" y="244"/>
                  <a:pt x="2998" y="234"/>
                  <a:pt x="3026" y="220"/>
                </a:cubicBezTo>
                <a:cubicBezTo>
                  <a:pt x="3056" y="205"/>
                  <a:pt x="3095" y="199"/>
                  <a:pt x="3127" y="193"/>
                </a:cubicBezTo>
                <a:cubicBezTo>
                  <a:pt x="3146" y="135"/>
                  <a:pt x="3139" y="118"/>
                  <a:pt x="3200" y="101"/>
                </a:cubicBezTo>
                <a:cubicBezTo>
                  <a:pt x="3205" y="96"/>
                  <a:pt x="3245" y="65"/>
                  <a:pt x="3236" y="47"/>
                </a:cubicBezTo>
                <a:cubicBezTo>
                  <a:pt x="3232" y="38"/>
                  <a:pt x="3218" y="40"/>
                  <a:pt x="3209" y="37"/>
                </a:cubicBezTo>
                <a:cubicBezTo>
                  <a:pt x="3141" y="14"/>
                  <a:pt x="3172" y="31"/>
                  <a:pt x="3127" y="1"/>
                </a:cubicBezTo>
                <a:cubicBezTo>
                  <a:pt x="3099" y="4"/>
                  <a:pt x="3070" y="0"/>
                  <a:pt x="3044" y="10"/>
                </a:cubicBezTo>
                <a:cubicBezTo>
                  <a:pt x="3035" y="13"/>
                  <a:pt x="3040" y="29"/>
                  <a:pt x="3035" y="37"/>
                </a:cubicBezTo>
                <a:cubicBezTo>
                  <a:pt x="3020" y="63"/>
                  <a:pt x="2996" y="85"/>
                  <a:pt x="2971" y="101"/>
                </a:cubicBezTo>
                <a:cubicBezTo>
                  <a:pt x="2955" y="149"/>
                  <a:pt x="2938" y="172"/>
                  <a:pt x="2889" y="184"/>
                </a:cubicBezTo>
                <a:cubicBezTo>
                  <a:pt x="2864" y="222"/>
                  <a:pt x="2873" y="240"/>
                  <a:pt x="2834" y="266"/>
                </a:cubicBezTo>
                <a:cubicBezTo>
                  <a:pt x="2825" y="263"/>
                  <a:pt x="2808" y="266"/>
                  <a:pt x="2807" y="257"/>
                </a:cubicBezTo>
                <a:cubicBezTo>
                  <a:pt x="2804" y="238"/>
                  <a:pt x="2825" y="202"/>
                  <a:pt x="2825" y="202"/>
                </a:cubicBezTo>
                <a:cubicBezTo>
                  <a:pt x="2738" y="174"/>
                  <a:pt x="2722" y="216"/>
                  <a:pt x="2669" y="266"/>
                </a:cubicBezTo>
                <a:cubicBezTo>
                  <a:pt x="2651" y="358"/>
                  <a:pt x="2632" y="330"/>
                  <a:pt x="2532" y="321"/>
                </a:cubicBezTo>
                <a:cubicBezTo>
                  <a:pt x="2482" y="304"/>
                  <a:pt x="2483" y="326"/>
                  <a:pt x="2496" y="367"/>
                </a:cubicBezTo>
                <a:cubicBezTo>
                  <a:pt x="2487" y="370"/>
                  <a:pt x="2478" y="378"/>
                  <a:pt x="2468" y="376"/>
                </a:cubicBezTo>
                <a:cubicBezTo>
                  <a:pt x="2459" y="374"/>
                  <a:pt x="2457" y="363"/>
                  <a:pt x="2450" y="357"/>
                </a:cubicBezTo>
                <a:cubicBezTo>
                  <a:pt x="2426" y="337"/>
                  <a:pt x="2423" y="339"/>
                  <a:pt x="2395" y="330"/>
                </a:cubicBezTo>
                <a:cubicBezTo>
                  <a:pt x="2383" y="333"/>
                  <a:pt x="2364" y="328"/>
                  <a:pt x="2359" y="339"/>
                </a:cubicBezTo>
                <a:cubicBezTo>
                  <a:pt x="2354" y="349"/>
                  <a:pt x="2375" y="356"/>
                  <a:pt x="2377" y="367"/>
                </a:cubicBezTo>
                <a:cubicBezTo>
                  <a:pt x="2378" y="374"/>
                  <a:pt x="2362" y="422"/>
                  <a:pt x="2359" y="431"/>
                </a:cubicBezTo>
                <a:cubicBezTo>
                  <a:pt x="2368" y="434"/>
                  <a:pt x="2382" y="431"/>
                  <a:pt x="2386" y="440"/>
                </a:cubicBezTo>
                <a:cubicBezTo>
                  <a:pt x="2404" y="485"/>
                  <a:pt x="2335" y="489"/>
                  <a:pt x="2313" y="495"/>
                </a:cubicBezTo>
                <a:cubicBezTo>
                  <a:pt x="2276" y="519"/>
                  <a:pt x="2286" y="529"/>
                  <a:pt x="2258" y="559"/>
                </a:cubicBezTo>
                <a:cubicBezTo>
                  <a:pt x="2234" y="556"/>
                  <a:pt x="2208" y="557"/>
                  <a:pt x="2185" y="549"/>
                </a:cubicBezTo>
                <a:cubicBezTo>
                  <a:pt x="2148" y="536"/>
                  <a:pt x="2162" y="520"/>
                  <a:pt x="2148" y="495"/>
                </a:cubicBezTo>
                <a:cubicBezTo>
                  <a:pt x="2135" y="473"/>
                  <a:pt x="2112" y="449"/>
                  <a:pt x="2093" y="431"/>
                </a:cubicBezTo>
                <a:cubicBezTo>
                  <a:pt x="2026" y="476"/>
                  <a:pt x="2060" y="463"/>
                  <a:pt x="1993" y="476"/>
                </a:cubicBezTo>
                <a:cubicBezTo>
                  <a:pt x="1990" y="497"/>
                  <a:pt x="1999" y="525"/>
                  <a:pt x="1984" y="540"/>
                </a:cubicBezTo>
                <a:cubicBezTo>
                  <a:pt x="1970" y="554"/>
                  <a:pt x="1900" y="509"/>
                  <a:pt x="1883" y="504"/>
                </a:cubicBezTo>
                <a:cubicBezTo>
                  <a:pt x="1810" y="528"/>
                  <a:pt x="1847" y="525"/>
                  <a:pt x="1773" y="513"/>
                </a:cubicBezTo>
                <a:cubicBezTo>
                  <a:pt x="1759" y="469"/>
                  <a:pt x="1769" y="472"/>
                  <a:pt x="1810" y="458"/>
                </a:cubicBezTo>
                <a:cubicBezTo>
                  <a:pt x="1816" y="440"/>
                  <a:pt x="1831" y="412"/>
                  <a:pt x="1810" y="394"/>
                </a:cubicBezTo>
                <a:cubicBezTo>
                  <a:pt x="1795" y="381"/>
                  <a:pt x="1755" y="376"/>
                  <a:pt x="1755" y="376"/>
                </a:cubicBezTo>
                <a:cubicBezTo>
                  <a:pt x="1701" y="319"/>
                  <a:pt x="1634" y="352"/>
                  <a:pt x="1554" y="357"/>
                </a:cubicBezTo>
                <a:cubicBezTo>
                  <a:pt x="1488" y="427"/>
                  <a:pt x="1509" y="394"/>
                  <a:pt x="1353" y="403"/>
                </a:cubicBezTo>
                <a:cubicBezTo>
                  <a:pt x="1311" y="445"/>
                  <a:pt x="1286" y="432"/>
                  <a:pt x="1234" y="449"/>
                </a:cubicBezTo>
                <a:cubicBezTo>
                  <a:pt x="1259" y="550"/>
                  <a:pt x="1206" y="515"/>
                  <a:pt x="1088" y="522"/>
                </a:cubicBezTo>
                <a:cubicBezTo>
                  <a:pt x="1082" y="528"/>
                  <a:pt x="1073" y="532"/>
                  <a:pt x="1069" y="540"/>
                </a:cubicBezTo>
                <a:cubicBezTo>
                  <a:pt x="1047" y="583"/>
                  <a:pt x="1080" y="584"/>
                  <a:pt x="1033" y="568"/>
                </a:cubicBezTo>
                <a:cubicBezTo>
                  <a:pt x="1006" y="571"/>
                  <a:pt x="973" y="561"/>
                  <a:pt x="951" y="577"/>
                </a:cubicBezTo>
                <a:cubicBezTo>
                  <a:pt x="940" y="585"/>
                  <a:pt x="962" y="602"/>
                  <a:pt x="969" y="613"/>
                </a:cubicBezTo>
                <a:cubicBezTo>
                  <a:pt x="992" y="648"/>
                  <a:pt x="1029" y="637"/>
                  <a:pt x="914" y="623"/>
                </a:cubicBezTo>
                <a:cubicBezTo>
                  <a:pt x="947" y="589"/>
                  <a:pt x="939" y="573"/>
                  <a:pt x="896" y="559"/>
                </a:cubicBezTo>
                <a:cubicBezTo>
                  <a:pt x="905" y="556"/>
                  <a:pt x="916" y="556"/>
                  <a:pt x="923" y="549"/>
                </a:cubicBezTo>
                <a:cubicBezTo>
                  <a:pt x="932" y="539"/>
                  <a:pt x="938" y="505"/>
                  <a:pt x="923" y="495"/>
                </a:cubicBezTo>
                <a:cubicBezTo>
                  <a:pt x="902" y="481"/>
                  <a:pt x="874" y="484"/>
                  <a:pt x="850" y="476"/>
                </a:cubicBezTo>
                <a:cubicBezTo>
                  <a:pt x="803" y="509"/>
                  <a:pt x="801" y="543"/>
                  <a:pt x="740" y="559"/>
                </a:cubicBezTo>
                <a:cubicBezTo>
                  <a:pt x="758" y="614"/>
                  <a:pt x="752" y="564"/>
                  <a:pt x="722" y="595"/>
                </a:cubicBezTo>
                <a:cubicBezTo>
                  <a:pt x="715" y="602"/>
                  <a:pt x="716" y="614"/>
                  <a:pt x="713" y="623"/>
                </a:cubicBezTo>
                <a:cubicBezTo>
                  <a:pt x="729" y="670"/>
                  <a:pt x="725" y="632"/>
                  <a:pt x="695" y="677"/>
                </a:cubicBezTo>
                <a:cubicBezTo>
                  <a:pt x="667" y="719"/>
                  <a:pt x="709" y="697"/>
                  <a:pt x="658" y="714"/>
                </a:cubicBezTo>
                <a:cubicBezTo>
                  <a:pt x="650" y="690"/>
                  <a:pt x="650" y="664"/>
                  <a:pt x="640" y="641"/>
                </a:cubicBezTo>
                <a:cubicBezTo>
                  <a:pt x="633" y="625"/>
                  <a:pt x="615" y="617"/>
                  <a:pt x="603" y="604"/>
                </a:cubicBezTo>
                <a:cubicBezTo>
                  <a:pt x="585" y="550"/>
                  <a:pt x="586" y="532"/>
                  <a:pt x="548" y="495"/>
                </a:cubicBezTo>
                <a:cubicBezTo>
                  <a:pt x="527" y="558"/>
                  <a:pt x="548" y="542"/>
                  <a:pt x="503" y="559"/>
                </a:cubicBezTo>
                <a:cubicBezTo>
                  <a:pt x="462" y="544"/>
                  <a:pt x="440" y="514"/>
                  <a:pt x="402" y="495"/>
                </a:cubicBezTo>
                <a:cubicBezTo>
                  <a:pt x="393" y="490"/>
                  <a:pt x="356" y="479"/>
                  <a:pt x="347" y="476"/>
                </a:cubicBezTo>
                <a:cubicBezTo>
                  <a:pt x="368" y="433"/>
                  <a:pt x="384" y="412"/>
                  <a:pt x="329" y="394"/>
                </a:cubicBezTo>
                <a:cubicBezTo>
                  <a:pt x="308" y="397"/>
                  <a:pt x="282" y="389"/>
                  <a:pt x="265" y="403"/>
                </a:cubicBezTo>
                <a:cubicBezTo>
                  <a:pt x="255" y="411"/>
                  <a:pt x="264" y="432"/>
                  <a:pt x="274" y="440"/>
                </a:cubicBezTo>
                <a:cubicBezTo>
                  <a:pt x="286" y="450"/>
                  <a:pt x="305" y="446"/>
                  <a:pt x="320" y="449"/>
                </a:cubicBezTo>
                <a:cubicBezTo>
                  <a:pt x="298" y="514"/>
                  <a:pt x="197" y="482"/>
                  <a:pt x="146" y="476"/>
                </a:cubicBezTo>
                <a:cubicBezTo>
                  <a:pt x="173" y="467"/>
                  <a:pt x="212" y="481"/>
                  <a:pt x="228" y="458"/>
                </a:cubicBezTo>
                <a:cubicBezTo>
                  <a:pt x="258" y="416"/>
                  <a:pt x="181" y="360"/>
                  <a:pt x="146" y="348"/>
                </a:cubicBezTo>
                <a:cubicBezTo>
                  <a:pt x="130" y="399"/>
                  <a:pt x="138" y="408"/>
                  <a:pt x="82" y="394"/>
                </a:cubicBezTo>
                <a:cubicBezTo>
                  <a:pt x="92" y="365"/>
                  <a:pt x="108" y="350"/>
                  <a:pt x="119" y="321"/>
                </a:cubicBezTo>
                <a:cubicBezTo>
                  <a:pt x="125" y="258"/>
                  <a:pt x="136" y="208"/>
                  <a:pt x="119" y="147"/>
                </a:cubicBezTo>
                <a:cubicBezTo>
                  <a:pt x="106" y="101"/>
                  <a:pt x="47" y="80"/>
                  <a:pt x="27" y="37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t_040"/>
          <p:cNvPicPr/>
          <p:nvPr/>
        </p:nvPicPr>
        <p:blipFill>
          <a:blip r:embed="rId1"/>
          <a:stretch/>
        </p:blipFill>
        <p:spPr>
          <a:xfrm>
            <a:off x="-36360" y="-27000"/>
            <a:ext cx="9288360" cy="6985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ffff00"/>
                </a:solidFill>
                <a:latin typeface="Arial"/>
              </a:rPr>
              <a:t>Тундра</a:t>
            </a:r>
            <a:endParaRPr b="0" lang="en-US" sz="5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54760" y="2852640"/>
            <a:ext cx="846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Расположена чуть южнее Аркт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Холодная бескрайняя равнина                </a:t>
            </a:r>
            <a:r>
              <a:rPr b="1" i="1" lang="en-US" sz="1400" spc="-1" strike="noStrike">
                <a:solidFill>
                  <a:srgbClr val="008080"/>
                </a:solidFill>
                <a:latin typeface="Tahoma"/>
              </a:rPr>
              <a:t>o</a:t>
            </a: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Зима длится около 7-8 месяцев, </a:t>
            </a:r>
            <a:r>
              <a:rPr b="1" i="1" lang="en-US" sz="2800" spc="-1" strike="noStrike">
                <a:solidFill>
                  <a:srgbClr val="008080"/>
                </a:solidFill>
                <a:latin typeface="Tahoma"/>
              </a:rPr>
              <a:t>t - </a:t>
            </a: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 -5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2 месяца – полярная ноч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За короткое лето поверхность оттаив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на глубину  от 50 см  до 1 м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Кругом болота, так как вода н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8080"/>
                </a:solidFill>
                <a:latin typeface="Tahoma"/>
              </a:rPr>
              <a:t>впитывается  в мёрзлую земл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antun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морошка"/>
          <p:cNvPicPr/>
          <p:nvPr/>
        </p:nvPicPr>
        <p:blipFill>
          <a:blip r:embed="rId1"/>
          <a:stretch/>
        </p:blipFill>
        <p:spPr>
          <a:xfrm>
            <a:off x="4932360" y="1700280"/>
            <a:ext cx="343548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 Тундры</a:t>
            </a:r>
            <a:endParaRPr b="0" lang="en-US" sz="5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ус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уб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ликовая 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ликовая берё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ений лишайник(яге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8" descr="брусника"/>
          <p:cNvPicPr/>
          <p:nvPr/>
        </p:nvPicPr>
        <p:blipFill>
          <a:blip r:embed="rId2"/>
          <a:stretch/>
        </p:blipFill>
        <p:spPr>
          <a:xfrm>
            <a:off x="4932360" y="170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голубика"/>
          <p:cNvPicPr/>
          <p:nvPr/>
        </p:nvPicPr>
        <p:blipFill>
          <a:blip r:embed="rId3"/>
          <a:stretch/>
        </p:blipFill>
        <p:spPr>
          <a:xfrm>
            <a:off x="4932360" y="17002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Копия Изображениезз"/>
          <p:cNvPicPr/>
          <p:nvPr/>
        </p:nvPicPr>
        <p:blipFill>
          <a:blip r:embed="rId4"/>
          <a:stretch/>
        </p:blipFill>
        <p:spPr>
          <a:xfrm>
            <a:off x="4932360" y="170028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Изображениезз"/>
          <p:cNvPicPr/>
          <p:nvPr/>
        </p:nvPicPr>
        <p:blipFill>
          <a:blip r:embed="rId5"/>
          <a:stretch/>
        </p:blipFill>
        <p:spPr>
          <a:xfrm>
            <a:off x="4932360" y="1700280"/>
            <a:ext cx="3456000" cy="2557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k01320i"/>
          <p:cNvPicPr/>
          <p:nvPr/>
        </p:nvPicPr>
        <p:blipFill>
          <a:blip r:embed="rId6"/>
          <a:stretch/>
        </p:blipFill>
        <p:spPr>
          <a:xfrm>
            <a:off x="4932360" y="1700280"/>
            <a:ext cx="34560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TUND_01I"/>
          <p:cNvPicPr/>
          <p:nvPr/>
        </p:nvPicPr>
        <p:blipFill>
          <a:blip r:embed="rId1"/>
          <a:stretch/>
        </p:blipFill>
        <p:spPr>
          <a:xfrm>
            <a:off x="250920" y="549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TUND_04I"/>
          <p:cNvPicPr/>
          <p:nvPr/>
        </p:nvPicPr>
        <p:blipFill>
          <a:blip r:embed="rId2"/>
          <a:stretch/>
        </p:blipFill>
        <p:spPr>
          <a:xfrm>
            <a:off x="395280" y="4221000"/>
            <a:ext cx="2843280" cy="2132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TUND_06I"/>
          <p:cNvPicPr/>
          <p:nvPr/>
        </p:nvPicPr>
        <p:blipFill>
          <a:blip r:embed="rId3"/>
          <a:stretch/>
        </p:blipFill>
        <p:spPr>
          <a:xfrm>
            <a:off x="3276720" y="1844640"/>
            <a:ext cx="2842920" cy="213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TUND_14"/>
          <p:cNvPicPr/>
          <p:nvPr/>
        </p:nvPicPr>
        <p:blipFill>
          <a:blip r:embed="rId4"/>
          <a:stretch/>
        </p:blipFill>
        <p:spPr>
          <a:xfrm>
            <a:off x="6945480" y="549360"/>
            <a:ext cx="1670040" cy="25192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1042920" y="2781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й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145520" y="649116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уп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160160" y="4437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Чай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7225560" y="31417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реч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5" descr="TUND_11I"/>
          <p:cNvPicPr/>
          <p:nvPr/>
        </p:nvPicPr>
        <p:blipFill>
          <a:blip r:embed="rId5"/>
          <a:stretch/>
        </p:blipFill>
        <p:spPr>
          <a:xfrm>
            <a:off x="6012000" y="414972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0"/>
          <p:cNvSpPr/>
          <p:nvPr/>
        </p:nvSpPr>
        <p:spPr>
          <a:xfrm>
            <a:off x="6907680" y="64911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вцеб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3489840" y="185760"/>
            <a:ext cx="30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ивотные Тундры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(Фотограф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Животные Тундры</a:t>
            </a:r>
            <a:br>
              <a:rPr sz="4200"/>
            </a:b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(Фотографии</a:t>
            </a:r>
            <a:r>
              <a:rPr b="1" i="1" lang="ru-RU" sz="4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3" name="Picture 21" descr="TUND_13I"/>
          <p:cNvPicPr/>
          <p:nvPr/>
        </p:nvPicPr>
        <p:blipFill>
          <a:blip r:embed="rId1"/>
          <a:stretch/>
        </p:blipFill>
        <p:spPr>
          <a:xfrm>
            <a:off x="5796000" y="4005360"/>
            <a:ext cx="3101760" cy="2327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8" descr="TUND_08I"/>
          <p:cNvPicPr/>
          <p:nvPr/>
        </p:nvPicPr>
        <p:blipFill>
          <a:blip r:embed="rId2"/>
          <a:stretch/>
        </p:blipFill>
        <p:spPr>
          <a:xfrm>
            <a:off x="5867280" y="170028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0"/>
          <p:cNvSpPr/>
          <p:nvPr/>
        </p:nvSpPr>
        <p:spPr>
          <a:xfrm>
            <a:off x="4534920" y="148428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оля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488040" y="595008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еверные олен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6" descr="TUND_10I"/>
          <p:cNvPicPr/>
          <p:nvPr/>
        </p:nvPicPr>
        <p:blipFill>
          <a:blip r:embed="rId3"/>
          <a:stretch/>
        </p:blipFill>
        <p:spPr>
          <a:xfrm>
            <a:off x="684360" y="2706840"/>
            <a:ext cx="2919240" cy="2187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8"/>
          <p:cNvSpPr/>
          <p:nvPr/>
        </p:nvSpPr>
        <p:spPr>
          <a:xfrm>
            <a:off x="1386000" y="522936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Заяц - беля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8-12-06T10:55:2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