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1C89-F75C-4E41-B345-9ACFB1E28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B0B8-A900-4BBC-923E-FFECA249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B73B-844C-4D7F-8E1E-C5FBE6535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AA7C-1FC5-4F0C-892F-ADC77ED76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0A21-17A6-4BCA-9654-A5FD8A628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5E4A-3A30-4C2F-9B84-97BAF7D0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46B2-EF86-4CC3-9E57-EE6BBB9B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F5B7-6636-41F6-803C-90A07140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5BA7-5326-4FAA-96CC-F479C987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0634-2D6F-4E3F-8FBA-066ED257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5491-1BF3-4E37-B875-575F9089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EEAE-5D49-4954-861D-80D47351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35DE-60E4-42B9-ADD8-E92D659F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7CB9-82C7-43AB-83F5-5C8FDC62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33C2-C98C-4DD7-9372-F944A449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7594-915C-48CD-A597-7A913CB15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4FD4-B448-4F98-81B7-857091925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9A1534-E3F6-46F5-95E4-B237AE92A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31C830-6040-426C-9F9C-DDCFC00F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D7FE12-5546-4285-8261-D03E7A51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F4524D-BF9B-4C5D-BA5A-C67E0DFC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097408-2495-4806-BF49-FAA475FB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72C8-53A1-4533-BC29-D53E83D7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55FE10-C937-4ADE-872A-AE1BE75F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36B8B3-CE8C-4B9B-9F85-878580E4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CEF2E2-D59D-4618-859D-39F56E76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05E40D-B53A-4FCD-9F91-16AE7C11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1040CE-37A8-4CE8-9767-97690ED4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D65610-05FF-43B1-BF1B-B9CA42CCD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2ED435-70E0-4824-A2E0-BAAEE796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91C5E-DA33-4AC9-9E3F-2FF108BFA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7CFA8-9EF6-4D55-883A-211BC8EB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DCCB6-8B0B-4FFF-AC77-4757B2C0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57C3-632D-496A-A1FC-7EEA942B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53F3F-2916-4798-8D15-C81C6920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14195-E767-4759-A045-97908E59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EBAA5-D0B4-4ADE-BE4D-7F0B658D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2F873-08C8-46CD-B22C-56A165A7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D7D1B-D57E-4E35-A396-E72FC7F4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C91C2-50CC-4122-967D-48406C1C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49D87-A64F-4355-8D86-08D8F013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D4263-9950-426B-A1CA-45E8D8F7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6E393-7D63-4A6E-924D-59CE5DFB7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95F6E7-E4E8-478C-A6D2-F20A1E3F9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3B85-BCC6-496B-930D-DC0AA6AB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D57555-D662-4BDF-918A-217E8FA9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D577B0-E7E2-410D-B50A-9FD6F83C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A7AFE1-AA58-402F-BEB9-E13A5FAE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E7F894-998E-46F3-8A60-1E7ECFBA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EBF0DB-ECC0-4D5F-A91B-0AD42731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EA1146-56D7-4DFB-BE28-4F772240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7FCB5C-4E6A-4359-AE5C-84751F88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6489BB-0FB3-4D93-8B29-6DECAEE6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757195-FBB1-4F49-ADFC-23EFBCCB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F3F5D3-98CB-46ED-B654-4621A94BF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1B96-EF8D-44E1-AD82-74380093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8565DD-F5E4-4FF7-BBCD-B24DE21D0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AF0D4F-26F9-4976-9DB7-10C943FBE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2CF45C-793F-4A79-997B-82D00343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A7E7F9-95B1-4D43-A72C-60B36898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FF9B32-A251-4929-A977-BBA252F0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CE799A-0AB6-4539-9597-8AB9BDD4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7CF921-DA1D-4ADE-8E44-35A9EB3E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8A1C8F-3DF9-466F-9698-CDF4C629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EF8B90-1776-4A80-AF53-1B9A3B11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CA7F4F-39A7-4A62-98FD-67BD7B92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AB3A-480E-43AC-B397-20BEF69F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770613-8E85-4BAB-8044-65A95992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858D58-CAB2-418B-B984-D615E5245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E1FADC-5E7A-4CC3-B9C5-3ED15B203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CE9A68-B3D3-4CCE-BCEA-BF755ED77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CD050E-2060-4BE2-837B-BDA12D52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FD0F47-E766-42A1-83B9-99624022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E16425-1DA0-4C5E-B188-8B101AFB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106235-9534-4681-9397-B8941DA2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252ED0-3FDF-4B30-A392-DFA5D5A9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C600C7-60D9-4B6B-B7DE-72CEE6FE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2189-39BC-4209-951A-95A8ED65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D5A90B-ABBF-4124-93DA-CDC47B25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DBB17D-2FE2-4071-AA00-FD51D2D9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A8DB98-2D81-4118-9B32-A5D7A56E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C5F4BB-1541-4930-8A49-E5E238BE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973A36-939E-40C4-90B8-B6BFF1C40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25AC-42B6-4C7B-8881-31E35061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7e4b3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2d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0b74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7e4b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7e4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7e4b3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2355-5B48-4C65-A7D9-D2F697171D9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7e4b3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7e4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7e4b3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7e4b3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ceed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ceed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ef7e9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7e4b3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ef7e9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7e4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7e4b3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7e4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7e4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7e4b3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2d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0b74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7e4b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72E3-B79B-4620-934A-D76869550A4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7e4b3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7e4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7e4b3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2d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0b74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7e4b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548C-5FFF-406E-97CA-07B3D4D8D88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7e4b3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7e4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7e4b3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7e4b3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ceed0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ceed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ef7e9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7e4b3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ef7e9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7e4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7e4b3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7e4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7e4b3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7e4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2d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0b74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7e4b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89D9-C486-4E53-AF6B-8B7C2B84A81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7e4b3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7e4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7e4b3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2d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0b74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7e4b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DFED-96F7-4FDB-AC35-3D688C80D66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7e4b3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7e4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7e4b3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7e4b3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7e4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7e4b3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2d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0b74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7e4b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FA45-0B1E-4DF4-9DEC-A2DC9199F78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7e4b3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7e4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7e4b3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7e4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7e4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7e4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92d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80b74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7e4b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25D6-2978-4A2E-8025-8080C9A1FC4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42600" y="571680"/>
            <a:ext cx="7467480" cy="23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Arial"/>
                <a:ea typeface="Arial"/>
              </a:rPr>
              <a:t>ТЕМА:</a:t>
            </a:r>
            <a:r>
              <a:rPr b="1" lang="ru-RU" sz="2700" spc="-1" strike="noStrike">
                <a:solidFill>
                  <a:srgbClr val="244583"/>
                </a:solidFill>
                <a:latin typeface="Arial"/>
                <a:ea typeface="Arial"/>
              </a:rPr>
              <a:t> «НОВЫЕ МЕТОДИКИ ИСПОЛЬЗОВАНИЯ </a:t>
            </a:r>
            <a:br>
              <a:rPr sz="2700"/>
            </a:br>
            <a:r>
              <a:rPr b="1" lang="ru-RU" sz="2700" spc="-1" strike="noStrike">
                <a:solidFill>
                  <a:srgbClr val="244583"/>
                </a:solidFill>
                <a:latin typeface="Arial"/>
                <a:ea typeface="Arial"/>
              </a:rPr>
              <a:t>НА ЗАНЯТИЯХ МАТЕРИАЛЬНО – ТЕХНИЧЕСКОГО ОСНАЩЕНИЯ В СООТВЕТСТВИИ С КАЛЕНДАРНО – ТЕМАТИЧЕСКИМ ПЛАНОМ ПРЕПОДАВАТЕЛЯ»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6" name="Picture 11" descr="C:\Users\1\Desktop\картинки\0_da1a_ada550ae_XL.jpeg"/>
          <p:cNvPicPr/>
          <p:nvPr/>
        </p:nvPicPr>
        <p:blipFill>
          <a:blip r:embed="rId1"/>
          <a:stretch/>
        </p:blipFill>
        <p:spPr>
          <a:xfrm>
            <a:off x="4357800" y="3000240"/>
            <a:ext cx="3709800" cy="30006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DSC01265"/>
          <p:cNvPicPr/>
          <p:nvPr/>
        </p:nvPicPr>
        <p:blipFill>
          <a:blip r:embed="rId2"/>
          <a:stretch/>
        </p:blipFill>
        <p:spPr>
          <a:xfrm>
            <a:off x="500040" y="3214800"/>
            <a:ext cx="36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"/>
          <p:cNvGraphicFramePr/>
          <p:nvPr/>
        </p:nvGraphicFramePr>
        <p:xfrm>
          <a:off x="1000080" y="0"/>
          <a:ext cx="6953400" cy="1001880"/>
        </p:xfrm>
        <a:graphic>
          <a:graphicData uri="http://schemas.openxmlformats.org/drawingml/2006/table">
            <a:tbl>
              <a:tblPr/>
              <a:tblGrid>
                <a:gridCol w="298440"/>
                <a:gridCol w="1381320"/>
                <a:gridCol w="314280"/>
                <a:gridCol w="438120"/>
                <a:gridCol w="504720"/>
                <a:gridCol w="1317600"/>
                <a:gridCol w="1255680"/>
                <a:gridCol w="1443240"/>
              </a:tblGrid>
              <a:tr h="52236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№ </a:t>
                      </a: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нят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именование разделов,тем поппрограмме, тем отдельных заняти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л-в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час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л-в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час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ам.Раб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ид заняти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чебно- методическое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беспечение заняти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УМО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дания для студ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иды самостоятельной работы студ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 gridSpan="8"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Теоретические занятия и практические занятия по фармацевтической технологи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gridSpan="8"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семест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8" name=""/>
          <p:cNvGraphicFramePr/>
          <p:nvPr/>
        </p:nvGraphicFramePr>
        <p:xfrm>
          <a:off x="1000080" y="1143000"/>
          <a:ext cx="7000920" cy="4383000"/>
        </p:xfrm>
        <a:graphic>
          <a:graphicData uri="http://schemas.openxmlformats.org/drawingml/2006/table">
            <a:tbl>
              <a:tblPr/>
              <a:tblGrid>
                <a:gridCol w="301680"/>
                <a:gridCol w="1388880"/>
                <a:gridCol w="316080"/>
                <a:gridCol w="442800"/>
                <a:gridCol w="507960"/>
                <a:gridCol w="1327320"/>
                <a:gridCol w="1263600"/>
                <a:gridCol w="1452600"/>
              </a:tblGrid>
              <a:tr h="109440">
                <a:tc gridSpan="8"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карственные препараты промышленного производств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80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еоретическое занятие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ути развития современной промышленной фармтехнологии. Общие принципы фармацевтического производства. Основные положения 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MP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кц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уктурированная лекция, презентация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бота с учебной литературой. Выполнение домашних заданий. Создание опорных конспектов, графологических структур по темам раздела. Решение профессиональных задач по вопросам производства, стандартизации, хранения и отпуска лекарственных препаратов промышленного производства. Выполнение реферативных рабо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стойки. Экстракты. Новогаленовые препараты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кц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чебник В.И. Погорелов стр.4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868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аблетки. Драже. Гранулы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кц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уктурированная лекция, презентации, видео фильмы. Таблетки в упаковка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чебник В.И. Погорелов «Фармацевтическая технология» стр. 466-47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81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ягкие лекарственные формы, пластыри. Номенклатура, требование к качеству. Упаковка. Хранение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8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кц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уктурированная лекц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здаточный материал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езентац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идеофильм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чебник 2011г. И.И. Краснюк, Г.В. Михайлова, Л.И, Мурадова стр. 74-8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8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бота с учебной литературой. Выполнение домашних заданий. Создание опорных конспектов, графологических структур по темам раздела. Решение профессиональных задач по вопросам производства, стандартизации, хранения и отпуска лекарственных препаратов промышленного производства. Выполнение реферативных рабо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азообразные препараты. Аэрозоли. Номенклатура, требование к качеству. Упаковка. Хранение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кц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уктурированная лекц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езентац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здаточный материал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чебник В.И. Погорелов стр. 456-465 (Аэрозоль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868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лонгированные лекарственные формы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кц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уктурированная лекц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езентац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здаточный материал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чебник В.И. Погорелов стр. 480-48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81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сновы биотехнологии лекарственных средст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кц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чебный видеофильм «Учебное электронное пособие»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уктурированная лекц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здаточный материал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чебник В.И. Погорелов стр. 488-5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868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етские лекарственные формы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кц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уктурированная лекц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езентац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здаточный материал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чебник В.И. Погорелов стр. 350-35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868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ериатрические лекарственные формы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кц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уктурированная лекц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езентац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здаточный материал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кционный материал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83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иофармация как теория основы фармацевтической технологи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кц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уктурированная лекц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езентац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здаточный материал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чебник В.И. Погорелов стр. 46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868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рганопрепараты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кция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уктурированная лекц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езентац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здаточный материал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чебник И.А. Муравьев «Технология лекарственных форм» стр. 460-46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75f6d"/>
                </a:solidFill>
                <a:latin typeface="Century Schoolbook"/>
              </a:rPr>
              <a:t>НЕТРАДИЦИОННЫЕ ФОРМЫ ЗАНЯТИЙ (ОТКРЫТЫЕ) ПРОВЕДЕННЫЕ ПЕДАГОГОМ ФАРМАЦЕВТИЧЕСКОЙ ТЕХНОЛОГИИ ЗАХАРОВОЙ Н.И. 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1071720"/>
            <a:ext cx="811548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Деловая игра с использованием компьютерных технологий и ТСО, с имитацией организации и проведения выставки «Фармацевтические ассоциации производителей гомеопатических лекарственных средств» - «Гомеопатические лекарственные средства»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Интегрированное занятие с использованием мультимедийной презентации, ТСО, с элементами тренинга по фармацевтической технологии, клинической патологии, основам экономики и права, организации и экономики фармации с основами менеджмента – «Лекарственные формы аптечного производства для новорожденных и детей в возрасте до 1 года»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аучно – практическая конференция по итогам производственной практики студентов «Изготовление лекарственных форм в аптечных учреждениях» с использованием компьютерных презентаций студентов – «Анализ расхождений теории и практики в приготовлении жидких лекарственных форм в аптеках ГУП «Столичные аптеки» и ЛПУ»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6840" y="356760"/>
            <a:ext cx="746748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еоретический семинар с использованием мультимедийной презентации. Защита внеаудиторных работ студентов по ДВ «Целебные дары гомеопатии» - «Современные направления в гомеопатии: «От Ганемана до Реккевега»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инарное занятие по фармацевтической технологии и фармакогнозии с использованием мультимедийной презентации, ТСО. Защита внеаудиторной деятельности студентов – «Водные извлечения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одульное обучение по дисциплине по выбору «Региональный компонент – Готовые лекарственные формы» - «Современные лекарственные препараты высоких технологий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6840" y="214200"/>
            <a:ext cx="7467480" cy="625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нтегрированное занятие (лекция проблемного характера) по дисциплине по выбору «Региональный компонент – Готовые лекарственные формы, организации и экономике фармации и фармакологии» - «Лекарственные формы в гериатрии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инарное занятие по фармацевтической технологии и фармакогнозии с использованием мультимедийной презентации – «Гомеопатические лекарственные препараты растительного происхождения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6840" y="285480"/>
            <a:ext cx="8115480" cy="61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668c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Интегрированное практическое занятие по учебным дисциплинам фармацевтической технологии и экономике фармации (частично - поисковый) с использованием тренинга (КС) – решение конкретной ситуации и мультимедийной презентации– «Приготовление глазных капель растворением сухого вещества (ядовитого)»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668c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облемный (решение профессиональных ситуационных задач и обсуждение выполненых внеаудиторных работ в малых группах) с использованием мультимедийной презентации по фармацевтической технологии – «Гомеопатические лекарственные средства»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668c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облемный (решение ситуационных задач и обсуждение самостоятельных внеаудиторных работ студентов, выполненых при поддержке тьютора) – «Технологические особенности аптечного изготовления жидких, твердых и мягких лекарственных форм (подготовка к промежуточной аттестации)»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6840" y="285480"/>
            <a:ext cx="8115480" cy="61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668c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актическое занятие – тренинг по фармацевтической технологии с использованием мультимедийной презентации и видеофильма – «Насыщение гомеопатических гранул»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668c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Интегрированное практическое занятие – тренинг по фармацевтической технологии и фармацевтической химии (частично - поисковый) с использованием мультимедийной презентации – «Приготовление и проведение обязательных видов внутриаптечного контроля качества раствора внутреннего применения (микстуры) для новорожденного ребенка»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668c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актическое занятие с использованием учебно – исследовательсной работы студентов– «Изготовление масляной эмульсии»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3668c4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Интегрированное практическое занятие по профессиональному модулю ПМ 02 «Изготовление лекарственных форм и проведение обязательных видов внутриаптечного контроля» и ОГЭС .03 «Иностранный язык» (английский язык)– «Работа с нормативно – правовой документацией по изготовлению жидких лекарственных форм, проверка доз лекарственных средств: ядовитых, сильнодействующих и имеющих ВРД иВСД»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356760"/>
            <a:ext cx="81867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ЛИЧНОСТНО – ОРИЕНТИРОВАННОЕ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ОБУЧЕНИЕ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Овал 4"/>
          <p:cNvSpPr/>
          <p:nvPr/>
        </p:nvSpPr>
        <p:spPr>
          <a:xfrm>
            <a:off x="714240" y="1857240"/>
            <a:ext cx="5000760" cy="4214880"/>
          </a:xfrm>
          <a:prstGeom prst="ellipse">
            <a:avLst/>
          </a:prstGeom>
          <a:solidFill>
            <a:srgbClr val="acc1e8"/>
          </a:solidFill>
          <a:ln w="25560">
            <a:solidFill>
              <a:srgbClr val="366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Это такое обучение, которое во главу угла ставит самобытность студента, его самоценность, субъективность процесса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Выноска со стрелкой вниз 3"/>
          <p:cNvSpPr/>
          <p:nvPr/>
        </p:nvSpPr>
        <p:spPr>
          <a:xfrm>
            <a:off x="214200" y="285840"/>
            <a:ext cx="3929040" cy="1071360"/>
          </a:xfrm>
          <a:prstGeom prst="downArrowCallout">
            <a:avLst>
              <a:gd name="adj1" fmla="val 24994"/>
              <a:gd name="adj2" fmla="val 25009"/>
              <a:gd name="adj3" fmla="val 25000"/>
              <a:gd name="adj4" fmla="val 64977"/>
            </a:avLst>
          </a:prstGeom>
          <a:solidFill>
            <a:srgbClr val="92d050"/>
          </a:solidFill>
          <a:ln w="25560">
            <a:solidFill>
              <a:srgbClr val="6a9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Традиционное занят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Выноска со стрелкой вниз 4"/>
          <p:cNvSpPr/>
          <p:nvPr/>
        </p:nvSpPr>
        <p:spPr>
          <a:xfrm>
            <a:off x="4572000" y="285840"/>
            <a:ext cx="4214880" cy="1071360"/>
          </a:xfrm>
          <a:prstGeom prst="downArrowCallout">
            <a:avLst>
              <a:gd name="adj1" fmla="val 24991"/>
              <a:gd name="adj2" fmla="val 25007"/>
              <a:gd name="adj3" fmla="val 25000"/>
              <a:gd name="adj4" fmla="val 64977"/>
            </a:avLst>
          </a:prstGeom>
          <a:solidFill>
            <a:srgbClr val="92d050"/>
          </a:solidFill>
          <a:ln w="25560">
            <a:solidFill>
              <a:srgbClr val="6a9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Личностно – ориентированное заня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5"/>
          <p:cNvSpPr/>
          <p:nvPr/>
        </p:nvSpPr>
        <p:spPr>
          <a:xfrm>
            <a:off x="214200" y="1785960"/>
            <a:ext cx="3857760" cy="1285920"/>
          </a:xfrm>
          <a:prstGeom prst="rect">
            <a:avLst/>
          </a:prstGeom>
          <a:solidFill>
            <a:srgbClr val="acc1e8"/>
          </a:solidFill>
          <a:ln w="25560">
            <a:solidFill>
              <a:srgbClr val="366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еподаватель показывает, объясняет, раскрывает, диктует, требует, доказывает, упражняет, проверяет, оцени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6"/>
          <p:cNvSpPr/>
          <p:nvPr/>
        </p:nvSpPr>
        <p:spPr>
          <a:xfrm>
            <a:off x="4714920" y="1785960"/>
            <a:ext cx="4000320" cy="1214280"/>
          </a:xfrm>
          <a:prstGeom prst="rect">
            <a:avLst/>
          </a:prstGeom>
          <a:solidFill>
            <a:srgbClr val="acc1e8"/>
          </a:solidFill>
          <a:ln w="25560">
            <a:solidFill>
              <a:srgbClr val="3668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еподаватель – организатор учеб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7-конечная звезда 13"/>
          <p:cNvSpPr/>
          <p:nvPr/>
        </p:nvSpPr>
        <p:spPr>
          <a:xfrm>
            <a:off x="642960" y="3500280"/>
            <a:ext cx="3286080" cy="2143440"/>
          </a:xfrm>
          <a:prstGeom prst="pie">
            <a:avLst/>
          </a:prstGeom>
          <a:solidFill>
            <a:srgbClr val="f6fbf1"/>
          </a:solidFill>
          <a:ln w="25560">
            <a:solidFill>
              <a:srgbClr val="b2d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Централь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Фигура – преподав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7-конечная звезда 14"/>
          <p:cNvSpPr/>
          <p:nvPr/>
        </p:nvSpPr>
        <p:spPr>
          <a:xfrm>
            <a:off x="5072040" y="3429000"/>
            <a:ext cx="3286080" cy="2286000"/>
          </a:xfrm>
          <a:prstGeom prst="pie">
            <a:avLst/>
          </a:prstGeom>
          <a:solidFill>
            <a:srgbClr val="f6fbf1"/>
          </a:solidFill>
          <a:ln w="25560">
            <a:solidFill>
              <a:srgbClr val="b2d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Централь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Фигура - студ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ЗАДАЧИ ПРЕПОДАВАТЕЛЯ: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оздать условия практического овладения профессиональных и общих компетенций для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каждого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студента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Выбирать методы обучения, которые позволили бы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каждому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студенту проявить свою активность, свое творчество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Активировать познавательную деятельность 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каждого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студента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1320" y="1142640"/>
            <a:ext cx="7467480" cy="36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РЕКВИЗИТ ПРЕПОДАВАТЕЛЯ В РЕАЛИЗАЦИИ ЛИЧНОСТНО – ОРИЕНТИРОВАННОГО ПОДХОДА В ОБУЧЕНИИ.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357120"/>
            <a:ext cx="746748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ПРИНЦИПЫ ИСПОЛЬЗОВАНИЯ СРЕДСТВ ОБУЧЕНИЯ: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- учет возрастных и психологических особенностей обучающихся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- гармоничное использование разнообразных средств обучения: традиционных и современных для комплексного, целенаправленного воздействия на эмоции, сознание, поведение  обучающегося в образовательных целях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- учет дидактических целей и принципов дидактики (принципа наглядности, доступности и т.д.)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- сотворчество педагога и обучающегося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- приоритет правил безопасности в использовании средств обучения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ОБЩИЕ ТРЕБОВАНИЯ К СРЕДСТВАМ ОБУЧЕНИЯ: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213920"/>
            <a:ext cx="74674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Средства обучения (СО), используемые в образовательных учреждениях: натуральные объекты; модели; учебные приборы; экранно – звуковые средства обучения; печатные средства обучения; средства вычислительной техники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Информация, передаваемая с помощью СО, должна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- быть научно достоверной, соответствовать современному состоянию изучаемой науки, а содержание, объем и глубина заложенной в СО информации должны соответствовать содержанию программы и учебника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- соответствовать возрастным особенностям и уровню подготовки обучающихся, т.е. должно быть доступно для обучающегося конкретного возраста, соответствовать достигнутому уровню знаний, умений и навыков  обучающегося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- быть наглядным, активизировать внимание обучающихся, вызывать интерес и сосредоточение на объекте, явлении, результате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- быть приспособлено к комплексному использованию, т.е. органично сочетаться с другими СО, применяемыми при изучении данного вопроса (темы) программы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2d05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0" y="476280"/>
          <a:ext cx="9144000" cy="6522840"/>
        </p:xfrm>
        <a:graphic>
          <a:graphicData uri="http://schemas.openxmlformats.org/drawingml/2006/table">
            <a:tbl>
              <a:tblPr/>
              <a:tblGrid>
                <a:gridCol w="2484360"/>
                <a:gridCol w="3382920"/>
                <a:gridCol w="3276720"/>
              </a:tblGrid>
              <a:tr h="48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руд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еотехн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икаменты и вспомогательный материа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парат инфундирны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ьюте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икам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ретка на 10 мес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тер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er Jet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012 № 0549970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нки 36, 56 75 мм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шинка укупороч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зерная указ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петки измерительны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вадистилятор ДЭ – 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ео техника  и  Мультимедийная техника и экра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помогательный материал: бумага(парафинова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ксер «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inex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ор М – 44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уп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лы ассистентск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ead projector (Paxilux mobil 250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патели фарфоровы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тушка наполь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кроскоп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обки для порошк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тушка настоль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оплен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жка дозато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лект штанглас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льтимедийные программ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монстрационное оборудование: стерилизатор вертикальны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лект гир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лочки для размеши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сы тарир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клянная аптечная посуда (флаконы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лодильник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помогательный материал: этикетки, капсул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нные вес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блиц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чные вес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яная баня двухместная с сенсорным управление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 – 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46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75f6d"/>
                </a:solidFill>
                <a:latin typeface="Century Schoolbook"/>
              </a:rPr>
              <a:t>1. </a:t>
            </a:r>
            <a:r>
              <a:rPr b="1" lang="ru-RU" sz="1600" spc="-1" strike="noStrike">
                <a:solidFill>
                  <a:srgbClr val="575f6d"/>
                </a:solidFill>
                <a:latin typeface="Century Schoolbook"/>
              </a:rPr>
              <a:t>МАТЕРИАЛЬНО – ТЕХНИЧЕСКАЯ  БАЗА КАБИНЕТА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5f6d"/>
                </a:solidFill>
                <a:latin typeface="Century Schoolbook"/>
              </a:rPr>
              <a:t>2. ОБРАЗОВАТЕЛЬНЫЕ ТЕХНОЛОГИИ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179280" y="620640"/>
          <a:ext cx="8713800" cy="6237360"/>
        </p:xfrm>
        <a:graphic>
          <a:graphicData uri="http://schemas.openxmlformats.org/drawingml/2006/table">
            <a:tbl>
              <a:tblPr/>
              <a:tblGrid>
                <a:gridCol w="363600"/>
                <a:gridCol w="2805120"/>
                <a:gridCol w="1406520"/>
                <a:gridCol w="308160"/>
                <a:gridCol w="2423880"/>
                <a:gridCol w="140652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чебные занятия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еподаватели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неаудиторная работ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уководител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6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Arial"/>
                        </a:rPr>
                        <a:t>Учебно – исследовательская работы по темам: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«Порошки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«Мази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«Суспензии и Эмульси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«Таблетк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«Коллоидные растворы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Филиппова К.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ахарова Н.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едметный кружок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UM SATIS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курс «Лучший технолог»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(в рамках марафон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Шевцова Е.В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харова Н.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илиппова К.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5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Arial"/>
                        </a:rPr>
                        <a:t>Метод проектов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нтегрированное занятие по фармацевтической технологии и фармакогноз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ахарова Н.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анилина А.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ыставк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портфолио,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реферативных работ, плака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и творческих работ студен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в рамках марафона дисципл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харова Н.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арасова А.Ф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Филиппова К.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Шевцова Е.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ейс –метод, разбор конкретной ситуации интегрированное занятие по фармацевтической технологии и организации и экономике фарм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ахарова Н.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уровова О.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езентация проек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в: «Суппозитории», «Жидкие лекарственные формы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в рамках марафона дисципл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ахарова Н.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актические занятия с использованием мультимедийной презента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арасова А.Ф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харова Н.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илиппова К.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Шевцова Е.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кторина «Жидкие лекарственные формы»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(в рамках марафона дисципл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арасова А.Ф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ехнология «Портфолио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Захарова Н.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21:37:25Z</dcterms:created>
  <dc:creator>Захарова</dc:creator>
  <dc:description/>
  <dc:language>en-US</dc:language>
  <cp:lastModifiedBy>prepodavatel</cp:lastModifiedBy>
  <dcterms:modified xsi:type="dcterms:W3CDTF">2018-12-06T09:46:49Z</dcterms:modified>
  <cp:revision>69</cp:revision>
  <dc:subject/>
  <dc:title>Выступление на педагогическом совете   24.10.2013 года</dc:title>
</cp:coreProperties>
</file>