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6A8-C620-40FE-8A0B-294C0354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AC3-90DA-45E4-8CDE-EF2007AC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473-F9E8-4E03-8BD9-BA77CCDE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550-8CDE-45B6-9733-7BC8E1F6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6FBA-74B1-46EE-B65B-DC48BDCF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B3A-8AEC-442F-9564-71FDF5F9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F118-4D54-4DD8-8D1D-F3667C80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64C-B986-47F5-917E-08BEF96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0900-3815-4798-9298-0EC7A76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CA4E-FEB5-417A-8E3E-B868137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2CCE-8734-4FE5-BEB5-BEC7F8B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C4E-A779-4F3E-8911-E5A77540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1B0-0A78-4B96-B390-999E407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8A23-CCC6-4B4C-8083-22D3F650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609-9995-43C1-9C40-EE603F3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C67E-F672-48D5-992C-22811EAE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521F-8EAB-4072-B6F6-7227DFAB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977B6-B4D1-435E-8383-AFBC14EC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743EB-342D-4A71-82C7-05226F6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45465-B004-48EB-BE30-8B1D660D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A0AAE-DB38-4D90-9298-15DFA92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67713-7D17-486B-A178-FECF551F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55F-EE1A-4FFE-B2A9-47D8592A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DAE17-1F83-4220-806F-5758F0D9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43614-37CC-48FA-8E3A-B6980F1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7C6A3-82E5-400B-BC38-5B66E999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12E2F-E967-4C86-B7C6-FE95EE5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21D11-68C6-4380-97F1-B34A9AFD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131EE-6050-40FE-8E74-C5D74326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5873A-43E1-4663-BA13-F2A069B1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B68F-FB50-40D0-8089-2449EA24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BCC3-A31E-4716-BBED-86B96593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865D-07F0-454A-93C5-C465920F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958-5767-4BEB-929D-4604740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F5BE-DED5-467F-A94F-7471C51C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609C-383A-4BE9-AB3D-C8A4E62D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4700-40E7-403B-A6E9-DF66932D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F0EE-ECE9-44DB-8C8A-73A19DB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7CBD-5B94-4604-9211-0D9EB26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403C0-1C93-49CB-86EC-AA9E12E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4D34-AB67-4E30-BDAB-6C7B7BCD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ED8F-E5FA-4690-9B8C-06370E22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5D32-945B-45BE-B0E5-9F68F66C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911D4-4FDE-4E24-AC5B-F52A8B75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83C-F369-43F1-9FFC-620677E9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861C2-4CB2-4EFF-931E-7B7A1EE5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9E2CE-B466-4610-9036-53B61389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12268-1946-4ACE-B45F-89F0830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552AB-58CA-4ACD-BEE8-29103C32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B496A-7CDB-4E65-AF00-67866A4B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314F2-DBE2-4429-9060-4E8FB98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32690-30C1-40ED-A56B-D3CCDED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56679-57F6-447B-86AA-2A43F43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F463E-AC75-4208-A84E-90CA1B86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786F9-C915-44E8-ABF0-397BB312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7F1-A364-4AB4-97F9-54C35DB8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78355-FD11-4DAB-9E41-8521F22F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035BD-547D-49C5-99B9-0CE1E9F2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74A8E-8269-453D-839F-9EB52A1A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00A34-524A-4844-BC32-9967169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36F6E-A9CD-47DB-9D7F-92FFC363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DE2BE-5ABD-4CBD-8D0E-31CC3DD0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E376C-AB1E-4BB9-8D61-3EB14EB7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30094-66EC-48EF-BD3D-F6997A3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C8450-0826-49F3-AC99-D24C571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F4C57-6ED2-4991-854A-1829F50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496-7473-4DEC-BA96-964C04C0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EF719-1C4C-4C36-AC4E-5113E593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BAB26-167B-45E5-8EE8-EDB246C6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0515B-B853-4DEA-9E9D-AEBE95AA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FCBED-CDC6-4F24-A9FF-87842FF8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00C68-C623-4A02-A12B-3AC0F740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5A64C-1023-4FBE-9E78-F86DA3DE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14C4E-51EE-45E5-B10A-A579D18F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A13B3-4C0F-433C-BFDF-5F5253BF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1B126-1572-488A-9B2A-587FAE23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C0967-ADD3-4725-B8A2-D64FFF81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617-1187-4F09-958C-8E93DA2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289A6-A7CC-4FF2-931D-87ED477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73982-4E79-4B87-B70A-0A23795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D01BD-251F-4D68-9869-769164D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4592C-DBC9-4568-B8DB-3D1EF4B3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36655-124B-4952-B4F9-DC3791F9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E3C-F0F5-474B-A654-14BDE02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AE0-9B4C-4624-96B9-8E3D5A8E82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7e4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e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e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ef7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7e4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ef7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7e4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7e4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DCF3-0CC8-415D-91DB-19F93D3B37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2F9-C270-46E0-980B-D0CD7E4AA4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7e4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e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e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ef7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7e4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ef7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7e4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7e4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6EF-D482-4FCF-AB01-5162609714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5789-F6A9-409D-B67E-6D16D1F69C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F557-9559-4164-AE4B-338CE5F34B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D751-BEAC-44C9-AD95-4F80072747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46748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Arial"/>
                <a:ea typeface="Arial"/>
              </a:rPr>
              <a:t>ТЕМА:</a:t>
            </a:r>
            <a:r>
              <a:rPr b="1" lang="ru-RU" sz="2700" spc="-1" strike="noStrike">
                <a:solidFill>
                  <a:srgbClr val="244583"/>
                </a:solidFill>
                <a:latin typeface="Arial"/>
                <a:ea typeface="Arial"/>
              </a:rPr>
              <a:t> «НОВЫЕ МЕТОДИКИ ИСПОЛЬЗОВАНИЯ </a:t>
            </a:r>
            <a:br>
              <a:rPr sz="2700"/>
            </a:br>
            <a:r>
              <a:rPr b="1" lang="ru-RU" sz="2700" spc="-1" strike="noStrike">
                <a:solidFill>
                  <a:srgbClr val="244583"/>
                </a:solidFill>
                <a:latin typeface="Arial"/>
                <a:ea typeface="Arial"/>
              </a:rPr>
              <a:t>НА ЗАНЯТИЯХ МАТЕРИАЛЬНО – ТЕХНИЧЕСКОГО ОСНАЩЕНИЯ В СООТВЕТСТВИИ С КАЛЕНДАРНО – ТЕМАТИЧЕСКИМ ПЛАНОМ ПРЕПОДАВАТЕЛЯ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11" descr="C:\Users\1\Desktop\картинки\0_da1a_ada550ae_XL.jpeg"/>
          <p:cNvPicPr/>
          <p:nvPr/>
        </p:nvPicPr>
        <p:blipFill>
          <a:blip r:embed="rId1"/>
          <a:stretch/>
        </p:blipFill>
        <p:spPr>
          <a:xfrm>
            <a:off x="4357800" y="3000240"/>
            <a:ext cx="3709800" cy="3000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DSC01265"/>
          <p:cNvPicPr/>
          <p:nvPr/>
        </p:nvPicPr>
        <p:blipFill>
          <a:blip r:embed="rId2"/>
          <a:stretch/>
        </p:blipFill>
        <p:spPr>
          <a:xfrm>
            <a:off x="500040" y="3214800"/>
            <a:ext cx="36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00080" y="0"/>
          <a:ext cx="6953400" cy="1001880"/>
        </p:xfrm>
        <a:graphic>
          <a:graphicData uri="http://schemas.openxmlformats.org/drawingml/2006/table">
            <a:tbl>
              <a:tblPr/>
              <a:tblGrid>
                <a:gridCol w="298440"/>
                <a:gridCol w="1381320"/>
                <a:gridCol w="314280"/>
                <a:gridCol w="438120"/>
                <a:gridCol w="504720"/>
                <a:gridCol w="1317600"/>
                <a:gridCol w="1255680"/>
                <a:gridCol w="1443240"/>
              </a:tblGrid>
              <a:tr h="52236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нят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разделов,тем поппрограмме, тем отдельных зан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-в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ас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-в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ас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.Ра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 зан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о- методическо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еспечение зан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М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дания для студ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ы самостоятельной работы студ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8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Теоретические занятия и практические занятия по фармацевтической технолог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8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семест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1000080" y="1143000"/>
          <a:ext cx="7000920" cy="4383000"/>
        </p:xfrm>
        <a:graphic>
          <a:graphicData uri="http://schemas.openxmlformats.org/drawingml/2006/table">
            <a:tbl>
              <a:tblPr/>
              <a:tblGrid>
                <a:gridCol w="301680"/>
                <a:gridCol w="1388880"/>
                <a:gridCol w="316080"/>
                <a:gridCol w="442800"/>
                <a:gridCol w="507960"/>
                <a:gridCol w="1327320"/>
                <a:gridCol w="1263600"/>
                <a:gridCol w="1452600"/>
              </a:tblGrid>
              <a:tr h="109440">
                <a:tc gridSpan="8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арственные препараты промышленного производ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оретическое занятие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ти развития современной промышленной фармтехнологии. Общие принципы фармацевтического производства. Основные положения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MP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, презентация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 с учебной литературой. Выполнение домашних заданий. Создание опорных конспектов, графологических структур по темам раздела. Решение профессиональных задач по вопросам производства, стандартизации, хранения и отпуска лекарственных препаратов промышленного производства. Выполнение реферативных рабо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стойки. Экстракты. Новогаленовые препарат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4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аблетки. Драже. Гранул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, презентации, видео фильмы. Таблетки в упаковка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«Фармацевтическая технология» стр. 466-4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ягкие лекарственные формы, пластыри. Номенклатура, требование к качеству. Упаковка. Хранение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еофильм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2011г. И.И. Краснюк, Г.В. Михайлова, Л.И, Мурадова стр. 74-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 с учебной литературой. Выполнение домашних заданий. Создание опорных конспектов, графологических структур по темам раздела. Решение профессиональных задач по вопросам производства, стандартизации, хранения и отпуска лекарственных препаратов промышленного производства. Выполнение реферативных рабо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зообразные препараты. Аэрозоли. Номенклатура, требование к качеству. Упаковка. Хранение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56-465 (Аэрозоль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лонгированные лекарственные форм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80-4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ы биотехнологии лекарственных сред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ый видеофильм «Учебное электронное пособие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88-5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тские лекарственные форм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350-3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риатрические лекарственные форм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он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иофармация как теория основы фармацевтической технолог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опрепарат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И.А. Муравьев «Технология лекарственных форм» стр. 460-4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НЕТРАДИЦИОННЫЕ ФОРМЫ ЗАНЯТИЙ (ОТКРЫТЫЕ) ПРОВЕДЕННЫЕ ПЕДАГОГОМ ФАРМАЦЕВТИЧЕСКОЙ ТЕХНОЛОГИИ ЗАХАРОВОЙ Н.И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071720"/>
            <a:ext cx="8115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ловая игра с использованием компьютерных технологий и ТСО, с имитацией организации и проведения выставки «Фармацевтические ассоциации производителей гомеопатических лекарственных средств» - «Гомеопатические лекарственные средств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занятие с использованием мультимедийной презентации, ТСО, с элементами тренинга по фармацевтической технологии, клинической патологии, основам экономики и права, организации и экономики фармации с основами менеджмента – «Лекарственные формы аптечного производства для новорожденных и детей в возрасте до 1 год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учно – практическая конференция по итогам производственной практики студентов «Изготовление лекарственных форм в аптечных учреждениях» с использованием компьютерных презентаций студентов – «Анализ расхождений теории и практики в приготовлении жидких лекарственных форм в аптеках ГУП «Столичные аптеки» и ЛПУ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оретический семинар с использованием мультимедийной презентации. Защита внеаудиторных работ студентов по ДВ «Целебные дары гомеопатии» - «Современные направления в гомеопатии: «От Ганемана до Реккевега»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нарное занятие по фармацевтической технологии и фармакогнозии с использованием мультимедийной презентации, ТСО. Защита внеаудиторной деятельности студентов – «Водные извлечения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ульное обучение по дисциплине по выбору «Региональный компонент – Готовые лекарственные формы» - «Современные лекарственные препараты высоких технологий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грированное занятие (лекция проблемного характера) по дисциплине по выбору «Региональный компонент – Готовые лекарственные формы, организации и экономике фармации и фармакологии» - «Лекарственные формы в гериатрии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нарное занятие по фармацевтической технологии и фармакогнозии с использованием мультимедийной презентации – «Гомеопатические лекарственные препараты растительного происхождения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285480"/>
            <a:ext cx="8115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практическое занятие по учебным дисциплинам фармацевтической технологии и экономике фармации (частично - поисковый) с использованием тренинга (КС) – решение конкретной ситуации и мультимедийной презентации– «Приготовление глазных капель растворением сухого вещества (ядовитого)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блемный (решение профессиональных ситуационных задач и обсуждение выполненых внеаудиторных работ в малых группах) с использованием мультимедийной презентации по фармацевтической технологии – «Гомеопатические лекарственные средств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блемный (решение ситуационных задач и обсуждение самостоятельных внеаудиторных работ студентов, выполненых при поддержке тьютора) – «Технологические особенности аптечного изготовления жидких, твердых и мягких лекарственных форм (подготовка к промежуточной аттестации)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285480"/>
            <a:ext cx="8115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актическое занятие – тренинг по фармацевтической технологии с использованием мультимедийной презентации и видеофильма – «Насыщение гомеопатических гранул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практическое занятие – тренинг по фармацевтической технологии и фармацевтической химии (частично - поисковый) с использованием мультимедийной презентации – «Приготовление и проведение обязательных видов внутриаптечного контроля качества раствора внутреннего применения (микстуры) для новорожденного ребенк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актическое занятие с использованием учебно – исследовательсной работы студентов– «Изготовление масляной эмульсии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практическое занятие по профессиональному модулю ПМ 02 «Изготовление лекарственных форм и проведение обязательных видов внутриаптечного контроля» и ОГЭС .03 «Иностранный язык» (английский язык)– «Работа с нормативно – правовой документацией по изготовлению жидких лекарственных форм, проверка доз лекарственных средств: ядовитых, сильнодействующих и имеющих ВРД иВСД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НОСТНО – ОРИЕНТИРОВАННО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ОБУЧЕНИЕ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714240" y="1857240"/>
            <a:ext cx="5000760" cy="4214880"/>
          </a:xfrm>
          <a:prstGeom prst="ellipse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то такое обучение, которое во главу угла ставит самобытность студента, его самоценность, субъективность процесс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Выноска со стрелкой вниз 3"/>
          <p:cNvSpPr/>
          <p:nvPr/>
        </p:nvSpPr>
        <p:spPr>
          <a:xfrm>
            <a:off x="214200" y="285840"/>
            <a:ext cx="3929040" cy="1071360"/>
          </a:xfrm>
          <a:prstGeom prst="downArrowCallout">
            <a:avLst>
              <a:gd name="adj1" fmla="val 24994"/>
              <a:gd name="adj2" fmla="val 25009"/>
              <a:gd name="adj3" fmla="val 25000"/>
              <a:gd name="adj4" fmla="val 64977"/>
            </a:avLst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радиционное заня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Выноска со стрелкой вниз 4"/>
          <p:cNvSpPr/>
          <p:nvPr/>
        </p:nvSpPr>
        <p:spPr>
          <a:xfrm>
            <a:off x="4572000" y="285840"/>
            <a:ext cx="4214880" cy="1071360"/>
          </a:xfrm>
          <a:prstGeom prst="downArrowCallout">
            <a:avLst>
              <a:gd name="adj1" fmla="val 24991"/>
              <a:gd name="adj2" fmla="val 25007"/>
              <a:gd name="adj3" fmla="val 25000"/>
              <a:gd name="adj4" fmla="val 64977"/>
            </a:avLst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ичностно – ориентированное за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200" y="1785960"/>
            <a:ext cx="3857760" cy="1285920"/>
          </a:xfrm>
          <a:prstGeom prst="rect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подаватель показывает, объясняет, раскрывает, диктует, требует, доказывает, упражняет, проверяет, оцен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4714920" y="1785960"/>
            <a:ext cx="4000320" cy="1214280"/>
          </a:xfrm>
          <a:prstGeom prst="rect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подаватель – организатор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7-конечная звезда 13"/>
          <p:cNvSpPr/>
          <p:nvPr/>
        </p:nvSpPr>
        <p:spPr>
          <a:xfrm>
            <a:off x="642960" y="3500280"/>
            <a:ext cx="3286080" cy="2143440"/>
          </a:xfrm>
          <a:prstGeom prst="pie">
            <a:avLst/>
          </a:prstGeom>
          <a:solidFill>
            <a:srgbClr val="f6fbf1"/>
          </a:solidFill>
          <a:ln w="25560">
            <a:solidFill>
              <a:srgbClr val="b2d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игура – 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7-конечная звезда 14"/>
          <p:cNvSpPr/>
          <p:nvPr/>
        </p:nvSpPr>
        <p:spPr>
          <a:xfrm>
            <a:off x="5072040" y="3429000"/>
            <a:ext cx="3286080" cy="2286000"/>
          </a:xfrm>
          <a:prstGeom prst="pie">
            <a:avLst/>
          </a:prstGeom>
          <a:solidFill>
            <a:srgbClr val="f6fbf1"/>
          </a:solidFill>
          <a:ln w="25560">
            <a:solidFill>
              <a:srgbClr val="b2d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игура - сту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ЗАДАЧИ ПРЕПОДАВАТЕЛЯ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здать условия практического овладения профессиональных и общих компетенций для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аждог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студент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ыбирать методы обучения, которые позволили бы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аждом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студенту проявить свою активность, свое творчество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ктивировать познавательную деятельность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аждог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студент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1142640"/>
            <a:ext cx="746748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ЕКВИЗИТ ПРЕПОДАВАТЕЛЯ В РЕАЛИЗАЦИИ ЛИЧНОСТНО – ОРИЕНТИРОВАННОГО ПОДХОДА В ОБУЧЕНИИ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ИНЦИПЫ ИСПОЛЬЗОВАНИЯ СРЕДСТВ ОБУЧЕНИЯ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учет возрастных и психологических особенностей обучающих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гармоничное использование разнообразных средств обучения: традиционных и современных для комплексного, целенаправленного воздействия на эмоции, сознание, поведение  обучающегося в образовательных целях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учет дидактических целей и принципов дидактики (принципа наглядности, доступности и т.д.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сотворчество педагога и обучающего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риоритет правил безопасности в использовании средств обуч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БЩИЕ ТРЕБОВАНИЯ К СРЕДСТВАМ ОБУЧЕНИЯ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213920"/>
            <a:ext cx="7467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редства обучения (СО), используемые в образовательных учреждениях: натуральные объекты; модели; учебные приборы; экранно – звуковые средства обучения; печатные средства обучения; средства вычислительной техник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нформация, передаваемая с помощью СО, должн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быть научно достоверной, соответствовать современному состоянию изучаемой науки, а содержание, объем и глубина заложенной в СО информации должны соответствовать содержанию программы и учебник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соответствовать возрастным особенностям и уровню подготовки обучающихся, т.е. должно быть доступно для обучающегося конкретного возраста, соответствовать достигнутому уровню знаний, умений и навыков  обучающегос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быть наглядным, активизировать внимание обучающихся, вызывать интерес и сосредоточение на объекте, явлении, результате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быть приспособлено к комплексному использованию, т.е. органично сочетаться с другими СО, применяемыми при изучении данного вопроса (темы) программы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476280"/>
          <a:ext cx="9144000" cy="6522840"/>
        </p:xfrm>
        <a:graphic>
          <a:graphicData uri="http://schemas.openxmlformats.org/drawingml/2006/table">
            <a:tbl>
              <a:tblPr/>
              <a:tblGrid>
                <a:gridCol w="2484360"/>
                <a:gridCol w="3382920"/>
                <a:gridCol w="327672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техн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каменты и вспомогательный материа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арат инфундир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ьюте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ка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ретка на 10 мес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 Jet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12 № 054997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ки 36, 56 75 м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ка укупороч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зерная указ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петки измеритель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вадистилятор ДЭ – 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 техника  и  Мультимедийная техника и экр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огательный материал: бумага(парафинов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сер «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ine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ор М – 44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п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ы ассистент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 projector (Paxilux mobil 250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патели фарфоров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тушка наполь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ск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бки для порош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тушка настоль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оплен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 до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т штангла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дийные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нстрационное оборудование: стерилизатор вертикаль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т ги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очки для размеши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ы тари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ая аптечная посуда (флако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ильни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огательный материал: этикетки, капсул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ые ве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чные ве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яная баня двухместная с сенсорным управлени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 – 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1.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МАТЕРИАЛЬНО – ТЕХНИЧЕСКАЯ  БАЗА КАБИНЕТА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2. ОБРАЗОВАТЕЛЬНЫЕ ТЕХНОЛОГИ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79280" y="620640"/>
          <a:ext cx="8713800" cy="6237360"/>
        </p:xfrm>
        <a:graphic>
          <a:graphicData uri="http://schemas.openxmlformats.org/drawingml/2006/table">
            <a:tbl>
              <a:tblPr/>
              <a:tblGrid>
                <a:gridCol w="363600"/>
                <a:gridCol w="2805120"/>
                <a:gridCol w="1406520"/>
                <a:gridCol w="308160"/>
                <a:gridCol w="2423880"/>
                <a:gridCol w="140652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ые занят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подавате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еаудиторная рабо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ководит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Учебно – исследовательская работы по темам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Порошк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Маз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Суспензии и Эмульс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Таблет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Коллоидные растворы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метный кружок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UM SAT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с «Лучший технолог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в рамках марафо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евцова Е.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Метод проект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грированное занятие по фармацевтической технологии и фармакогноз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анилина А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ста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ортфолио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реферативных работ, плака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творческих работ студ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в рамках марафона дисципл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харова Н.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арасова А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евцова Е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ейс –метод, разбор конкретной ситуации интегрированное занятие по фармацевтической технологии и организации и экономике фа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ровова О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зентация проек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: «Суппозитории», «Жидкие лекарственные форм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в рамках марафона дисципл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ктические занятия с использованием мультимедийной презен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расова А.Ф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евцова Е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кторина «Жидкие лекарственные формы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в рамках марафона дисципл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расова А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ехнология «Портфоли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21:37:25Z</dcterms:created>
  <dc:creator>Захарова</dc:creator>
  <dc:description/>
  <dc:language>en-US</dc:language>
  <cp:lastModifiedBy>prepodavatel</cp:lastModifiedBy>
  <dcterms:modified xsi:type="dcterms:W3CDTF">2018-12-06T09:46:49Z</dcterms:modified>
  <cp:revision>69</cp:revision>
  <dc:subject/>
  <dc:title>Выступление на педагогическом совете   24.10.2013 года</dc:title>
</cp:coreProperties>
</file>