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73F-A242-4995-9957-A49632E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4E0-D97B-46C9-AA01-3544507F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764-47B2-4CC2-8CDA-99CD51C2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A44-A6D0-4492-A3B5-13E41C19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082-7540-4222-A5A0-F84132A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7D5-54F8-4087-A478-CBDD46A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25D-0ECE-4598-882B-EE56A848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443-EADB-4FDC-AD5F-0E98EAFD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DD7-7ED2-45D2-A99B-B25342F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D63-8BDE-4A0C-B2FD-28F865E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6CC-ED74-4053-B31D-8A4E76C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366-6572-4F10-82A4-CA8536B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AED-3D03-46B5-BE4A-39FEFED29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stih.ru/daniil-xarms-44-vesyolye-chizhi/" TargetMode="External"/><Relationship Id="rId3" Type="http://schemas.openxmlformats.org/officeDocument/2006/relationships/hyperlink" Target="http://lidmanage.com/wp/wp-content/uploads/bgbig4.jpg" TargetMode="External"/><Relationship Id="rId4" Type="http://schemas.openxmlformats.org/officeDocument/2006/relationships/hyperlink" Target="https://otvet.imgsmail.ru/download/b7013f3f8c79f7b3b55cd86c01179394_i-13365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потребление числительных в речи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рительный диктан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86040" y="5105160"/>
            <a:ext cx="3352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авриленко В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Л-15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кт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выполнения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s1200?webp=false"/>
          <p:cNvPicPr/>
          <p:nvPr/>
        </p:nvPicPr>
        <p:blipFill>
          <a:blip r:embed="rId2"/>
          <a:stretch/>
        </p:blipFill>
        <p:spPr>
          <a:xfrm>
            <a:off x="7086600" y="4181400"/>
            <a:ext cx="233676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лайде представлено стихотворение, вы его читаете и запоминаете в течение 1-ой минуты, обращая особое внимание на орфографию и пунк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этого вы записываете стихотворение в тетрадь по памяти. Будьте вниматель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рительный диктан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2193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квартире Сорок четы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 четыре веселых чиж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суд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пол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огородн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вод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кухар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хозяй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на посылк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трубоч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Даниил Хар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arduelis_spinus_f"/>
          <p:cNvPicPr/>
          <p:nvPr/>
        </p:nvPicPr>
        <p:blipFill>
          <a:blip r:embed="rId2"/>
          <a:stretch/>
        </p:blipFill>
        <p:spPr>
          <a:xfrm>
            <a:off x="6153120" y="2971800"/>
            <a:ext cx="2990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иш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s://banner2.kisspng.com/20180329/scq/kisspng-writing-cartoon-drawing-comics-clip-art-writing-5abccdf8d17766.926066191522322936858.jpg"/>
          <p:cNvPicPr/>
          <p:nvPr/>
        </p:nvPicPr>
        <p:blipFill>
          <a:blip r:embed="rId2"/>
          <a:stretch/>
        </p:blipFill>
        <p:spPr>
          <a:xfrm>
            <a:off x="838080" y="1727280"/>
            <a:ext cx="76964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ь сосе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квартире Сорок четы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 четыре веселых чиж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суд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пол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огородн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вод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кухар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хозяй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на посылк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трубоч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Даниил Хар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mudryiy-filin1-300x300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ошибок – «5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2 ошибки – «4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4 ошибки – «3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и более ошибок – «2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rustih.ru/daniil-xarms-44-vesyolye-chizhi/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dmanage.com/wp/wp-content/uploads/bgbig4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otvet.imgsmail.ru/download/b7013f3f8c79f7b3b55cd86c01179394_i-13365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s://avatars.mds.yandex.net/get-pdb/1008348/25473706-e6de-43f3-b586-d4d5f9a4c629/s1200?webp=fal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://nachalo4ka.ru/wp-content/uploads/2014/08/mudryiy-filin1-300x300.p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s://banner2.kisspng.com/20180329/scq/kisspng-writing-cartoon-drawing-comics-clip-art-writing-5abccdf8d17766.926066191522322936858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7T07:07:40Z</dcterms:created>
  <dc:creator>user</dc:creator>
  <dc:description/>
  <dc:language>en-US</dc:language>
  <cp:lastModifiedBy>user</cp:lastModifiedBy>
  <dcterms:modified xsi:type="dcterms:W3CDTF">2018-12-06T07:45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