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D5E-F31F-4841-A280-666A0195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30C-7724-4DD8-BBD2-A3E20BD4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1FF-000E-4BFD-8685-488E4FEE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4F59-17C0-4F7A-9E13-55BE9FFE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7A7-6FDD-4455-B4AC-A5988633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1F6-0C5B-427E-A947-720330F9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28F-89A3-4940-A857-E1BA1B5C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ACC-1D7F-4238-BBB7-990E5A8F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86C-4CD0-44AD-BDF6-D1206579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72E-D763-42D4-B6E1-509DD8E9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AF9-C2E2-4296-9804-F5BA6662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5F08-0A23-4700-803F-4B3F9F38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9741-9A66-4AE1-98F0-EBB72A920D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stih.ru/daniil-xarms-44-vesyolye-chizhi/" TargetMode="External"/><Relationship Id="rId3" Type="http://schemas.openxmlformats.org/officeDocument/2006/relationships/hyperlink" Target="http://lidmanage.com/wp/wp-content/uploads/bgbig4.jpg" TargetMode="External"/><Relationship Id="rId4" Type="http://schemas.openxmlformats.org/officeDocument/2006/relationships/hyperlink" Target="https://otvet.imgsmail.ru/download/b7013f3f8c79f7b3b55cd86c01179394_i-13365.jpg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потребление числительных в речи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рительный диктант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486040" y="5105160"/>
            <a:ext cx="3352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авриленко В. 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Л-15-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Диктант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ядок выполнения дикт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s1200?webp=false"/>
          <p:cNvPicPr/>
          <p:nvPr/>
        </p:nvPicPr>
        <p:blipFill>
          <a:blip r:embed="rId2"/>
          <a:stretch/>
        </p:blipFill>
        <p:spPr>
          <a:xfrm>
            <a:off x="7086600" y="4181400"/>
            <a:ext cx="2336760" cy="2676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лайде представлено стихотворение, вы его читаете и запоминаете в течение 1-ой минуты, обращая особое внимание на орфографию и пункту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этого вы записываете стихотворение в тетрадь по памяти. Будьте вниматель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Зрительный диктан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219320"/>
            <a:ext cx="670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ли в квартире Сорок четыр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рок четыре веселых чиж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судомой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поломой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огородни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водовоз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за кухарк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за хозяйк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на посылках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трубочи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Даниил Харм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arduelis_spinus_f"/>
          <p:cNvPicPr/>
          <p:nvPr/>
        </p:nvPicPr>
        <p:blipFill>
          <a:blip r:embed="rId2"/>
          <a:stretch/>
        </p:blipFill>
        <p:spPr>
          <a:xfrm>
            <a:off x="6153120" y="2971800"/>
            <a:ext cx="2990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иш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s://banner2.kisspng.com/20180329/scq/kisspng-writing-cartoon-drawing-comics-clip-art-writing-5abccdf8d17766.926066191522322936858.jpg"/>
          <p:cNvPicPr/>
          <p:nvPr/>
        </p:nvPicPr>
        <p:blipFill>
          <a:blip r:embed="rId2"/>
          <a:stretch/>
        </p:blipFill>
        <p:spPr>
          <a:xfrm>
            <a:off x="838080" y="1727280"/>
            <a:ext cx="769644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ь сосед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129492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ли в квартире Сорок четыр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рок четыре веселых чиж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судомой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поломойк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огородни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водовоз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за кухарк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за хозяйку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 на посылках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ж-трубочи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Даниил Харм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mudryiy-filin1-300x300"/>
          <p:cNvPicPr/>
          <p:nvPr/>
        </p:nvPicPr>
        <p:blipFill>
          <a:blip r:embed="rId2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цени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 ошибок – «5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-2 ошибки – «4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-4 ошибки – «3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и более ошибок – «2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gbig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тери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rustih.ru/daniil-xarms-44-vesyolye-chizhi/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ртин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lidmanage.com/wp/wp-content/uploads/bgbig4.jp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otvet.imgsmail.ru/download/b7013f3f8c79f7b3b55cd86c01179394_i-13365.jp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https://avatars.mds.yandex.net/get-pdb/1008348/25473706-e6de-43f3-b586-d4d5f9a4c629/s1200?webp=fal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http://nachalo4ka.ru/wp-content/uploads/2014/08/mudryiy-filin1-300x300.p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s://banner2.kisspng.com/20180329/scq/kisspng-writing-cartoon-drawing-comics-clip-art-writing-5abccdf8d17766.926066191522322936858.jp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7T07:07:40Z</dcterms:created>
  <dc:creator>user</dc:creator>
  <dc:description/>
  <dc:language>en-US</dc:language>
  <cp:lastModifiedBy>user</cp:lastModifiedBy>
  <dcterms:modified xsi:type="dcterms:W3CDTF">2018-12-06T07:45:2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