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065D-D5E0-49E6-8100-0983EECC2B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E2C4-25EF-46F4-88EF-55E4D97EAAA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F9B8-ECD7-4FE6-BFB4-D7217CC1C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0EED-16AF-4F39-BB66-A927D198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67AA-92A4-41BB-AF37-8727410C6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2BC6-ED5B-49C8-B2E8-9A625A77D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59C8-AD02-4CE9-9A7F-2EBB6BAF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BC08-16AF-4E7A-A239-8216008C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D49A-462E-462B-8EA8-E974A6FA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7A0A-1714-4DC8-B684-E238CDA2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D50E-A2F6-4EA1-885D-68F28DF4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0846-7D44-4AE3-9DF6-B0EAB901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A722-1DB9-404B-AF75-546A3A3B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9EFB-B04D-4113-BB01-D06F3D1F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A6A4-FBD3-4272-BEDF-9FAC1D6F1C1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4200" y="220680"/>
            <a:ext cx="8715600" cy="53164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Умножение и деление положительных и отрицательных чисел.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9" name="Object 1"/>
          <p:cNvGraphicFramePr/>
          <p:nvPr/>
        </p:nvGraphicFramePr>
        <p:xfrm>
          <a:off x="384120" y="282600"/>
          <a:ext cx="2122560" cy="163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282600"/>
                    <a:ext cx="2122560" cy="16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6"/>
          <p:cNvSpPr/>
          <p:nvPr/>
        </p:nvSpPr>
        <p:spPr>
          <a:xfrm>
            <a:off x="4911840" y="5859360"/>
            <a:ext cx="3792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МБОУ СОШ ст. Дряз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бзева Н. 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 ВАРИАНТ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4,7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 ВАРИАНТ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8,2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41520" y="1571760"/>
            <a:ext cx="8229600" cy="30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          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)  № 378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2) № 385 (в,г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3) повторить правил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9" name="Object 2"/>
          <p:cNvGraphicFramePr/>
          <p:nvPr/>
        </p:nvGraphicFramePr>
        <p:xfrm>
          <a:off x="304920" y="5097600"/>
          <a:ext cx="1371600" cy="17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097600"/>
                    <a:ext cx="137160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4"/>
          <p:cNvGraphicFramePr/>
          <p:nvPr/>
        </p:nvGraphicFramePr>
        <p:xfrm>
          <a:off x="7620120" y="5099040"/>
          <a:ext cx="1344600" cy="175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0120" y="5099040"/>
                    <a:ext cx="1344600" cy="17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Прямоугольник 6" descr=""/>
          <p:cNvPicPr/>
          <p:nvPr/>
        </p:nvPicPr>
        <p:blipFill>
          <a:blip r:embed="rId5"/>
          <a:stretch/>
        </p:blipFill>
        <p:spPr>
          <a:xfrm>
            <a:off x="2706840" y="4413240"/>
            <a:ext cx="3975120" cy="1944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ДОМАШНЕЕ ЗАДАНИЕ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9646"/>
                </a:solidFill>
                <a:latin typeface="Calibri"/>
              </a:rPr>
              <a:t>Не зевай, быстрей считай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77840" y="1569600"/>
            <a:ext cx="8802720" cy="307044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Овал 3"/>
          <p:cNvSpPr/>
          <p:nvPr/>
        </p:nvSpPr>
        <p:spPr>
          <a:xfrm>
            <a:off x="955800" y="1965240"/>
            <a:ext cx="722160" cy="755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0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,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Овал 11"/>
          <p:cNvSpPr/>
          <p:nvPr/>
        </p:nvSpPr>
        <p:spPr>
          <a:xfrm>
            <a:off x="2679840" y="1984320"/>
            <a:ext cx="722160" cy="69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Овал 12"/>
          <p:cNvSpPr/>
          <p:nvPr/>
        </p:nvSpPr>
        <p:spPr>
          <a:xfrm>
            <a:off x="4411800" y="1998720"/>
            <a:ext cx="722160" cy="691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Овал 13"/>
          <p:cNvSpPr/>
          <p:nvPr/>
        </p:nvSpPr>
        <p:spPr>
          <a:xfrm>
            <a:off x="6146640" y="1976400"/>
            <a:ext cx="722520" cy="69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Овал 14"/>
          <p:cNvSpPr/>
          <p:nvPr/>
        </p:nvSpPr>
        <p:spPr>
          <a:xfrm>
            <a:off x="7881840" y="1995480"/>
            <a:ext cx="722520" cy="69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Овал 16"/>
          <p:cNvSpPr/>
          <p:nvPr/>
        </p:nvSpPr>
        <p:spPr>
          <a:xfrm>
            <a:off x="944640" y="3427560"/>
            <a:ext cx="720720" cy="691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Calibri"/>
              </a:rPr>
              <a:t>7,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Овал 17"/>
          <p:cNvSpPr/>
          <p:nvPr/>
        </p:nvSpPr>
        <p:spPr>
          <a:xfrm>
            <a:off x="2692440" y="3416400"/>
            <a:ext cx="722160" cy="691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Овал 18"/>
          <p:cNvSpPr/>
          <p:nvPr/>
        </p:nvSpPr>
        <p:spPr>
          <a:xfrm>
            <a:off x="4402080" y="3487680"/>
            <a:ext cx="720720" cy="690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Овал 19"/>
          <p:cNvSpPr/>
          <p:nvPr/>
        </p:nvSpPr>
        <p:spPr>
          <a:xfrm>
            <a:off x="6110280" y="3394080"/>
            <a:ext cx="720720" cy="69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Овал 21"/>
          <p:cNvSpPr/>
          <p:nvPr/>
        </p:nvSpPr>
        <p:spPr>
          <a:xfrm>
            <a:off x="7846920" y="3452760"/>
            <a:ext cx="722520" cy="69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Стрелка вправо 65"/>
          <p:cNvSpPr/>
          <p:nvPr/>
        </p:nvSpPr>
        <p:spPr>
          <a:xfrm>
            <a:off x="1692360" y="349416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: (-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Стрелка вправо 66"/>
          <p:cNvSpPr/>
          <p:nvPr/>
        </p:nvSpPr>
        <p:spPr>
          <a:xfrm>
            <a:off x="6880320" y="2049480"/>
            <a:ext cx="979560" cy="484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∙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(-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Стрелка вправо 67"/>
          <p:cNvSpPr/>
          <p:nvPr/>
        </p:nvSpPr>
        <p:spPr>
          <a:xfrm>
            <a:off x="5149800" y="207972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- 0,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Стрелка вправо 68"/>
          <p:cNvSpPr/>
          <p:nvPr/>
        </p:nvSpPr>
        <p:spPr>
          <a:xfrm>
            <a:off x="3419640" y="2066760"/>
            <a:ext cx="977760" cy="48600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: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Стрелка вправо 69"/>
          <p:cNvSpPr/>
          <p:nvPr/>
        </p:nvSpPr>
        <p:spPr>
          <a:xfrm>
            <a:off x="1687680" y="209700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∙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(-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Стрелка вправо 70"/>
          <p:cNvSpPr/>
          <p:nvPr/>
        </p:nvSpPr>
        <p:spPr>
          <a:xfrm>
            <a:off x="6851520" y="349416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∙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(-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Стрелка вправо 71"/>
          <p:cNvSpPr/>
          <p:nvPr/>
        </p:nvSpPr>
        <p:spPr>
          <a:xfrm>
            <a:off x="5119560" y="3522600"/>
            <a:ext cx="979560" cy="48600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∙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(-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Стрелка вправо 74"/>
          <p:cNvSpPr/>
          <p:nvPr/>
        </p:nvSpPr>
        <p:spPr>
          <a:xfrm>
            <a:off x="3430440" y="3511440"/>
            <a:ext cx="978120" cy="48600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- 0,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2" name="Object 17"/>
          <p:cNvGraphicFramePr/>
          <p:nvPr/>
        </p:nvGraphicFramePr>
        <p:xfrm>
          <a:off x="781200" y="260280"/>
          <a:ext cx="1145880" cy="124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260280"/>
                    <a:ext cx="114588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Box 32"/>
          <p:cNvSpPr/>
          <p:nvPr/>
        </p:nvSpPr>
        <p:spPr>
          <a:xfrm>
            <a:off x="8013240" y="2101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1.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Box 33"/>
          <p:cNvSpPr/>
          <p:nvPr/>
        </p:nvSpPr>
        <p:spPr>
          <a:xfrm>
            <a:off x="7973280" y="357516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-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7880" y="32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Найдите ошибки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315800" y="2154240"/>
            <a:ext cx="6043320" cy="40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) 0,5 ∙ (- 2, 1)  = 10,5;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2) (- 2,24) : (- 0, 2) = 224 : 2 = 112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Calibri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9" name="Object 2"/>
          <p:cNvGraphicFramePr/>
          <p:nvPr/>
        </p:nvGraphicFramePr>
        <p:xfrm>
          <a:off x="781200" y="260280"/>
          <a:ext cx="1145880" cy="124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260280"/>
                    <a:ext cx="114588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Box 12"/>
          <p:cNvSpPr/>
          <p:nvPr/>
        </p:nvSpPr>
        <p:spPr>
          <a:xfrm>
            <a:off x="2260080" y="4462560"/>
            <a:ext cx="26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Box 27"/>
          <p:cNvSpPr/>
          <p:nvPr/>
        </p:nvSpPr>
        <p:spPr>
          <a:xfrm>
            <a:off x="6972480" y="3443400"/>
            <a:ext cx="18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СПОМНИМ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66760" y="1452240"/>
            <a:ext cx="350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ри умножении 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54040" y="2930400"/>
            <a:ext cx="3075120" cy="32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(+) ∙ (-) =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(-) ∙ (+) =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(+) ∙ (+) =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(-) ∙  (-) =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5960" y="1493640"/>
            <a:ext cx="37652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При делении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240" y="2830320"/>
            <a:ext cx="324144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(+) : (-) =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(-) :  (+) =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(+) : (+) =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(-)  :  (-) =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781200" y="260280"/>
          <a:ext cx="1145880" cy="124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260280"/>
                    <a:ext cx="114588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9720" y="1022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br>
              <a:rPr sz="23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Найдите значение выражения: </a:t>
            </a:r>
            <a:br>
              <a:rPr sz="4000"/>
            </a:br>
            <a:br>
              <a:rPr sz="2300"/>
            </a:br>
            <a:br>
              <a:rPr sz="23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1" name="Object 1"/>
          <p:cNvGraphicFramePr/>
          <p:nvPr/>
        </p:nvGraphicFramePr>
        <p:xfrm>
          <a:off x="7372440" y="0"/>
          <a:ext cx="1146240" cy="124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72440" y="0"/>
                    <a:ext cx="114624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7"/>
          <p:cNvSpPr/>
          <p:nvPr/>
        </p:nvSpPr>
        <p:spPr>
          <a:xfrm>
            <a:off x="1152360" y="3143160"/>
            <a:ext cx="7240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,5 : ( - 25) + 18 : ( - 60)  -  (- 0,2) ∙ 3 =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963720" y="4835520"/>
            <a:ext cx="76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6,4 ∙ 2,05 – 23,712 : (17,5 – 28,9)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9646"/>
                </a:solidFill>
                <a:latin typeface="Calibri"/>
              </a:rPr>
              <a:t>Решай уравнения </a:t>
            </a:r>
            <a:br>
              <a:rPr sz="4000"/>
            </a:br>
            <a:r>
              <a:rPr b="0" lang="ru-RU" sz="4000" spc="-1" strike="noStrike">
                <a:solidFill>
                  <a:srgbClr val="f79646"/>
                </a:solidFill>
                <a:latin typeface="Calibri"/>
              </a:rPr>
              <a:t>без промедления!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69600" y="2602080"/>
            <a:ext cx="3825720" cy="32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70000"/>
              </a:lnSpc>
              <a:spcBef>
                <a:spcPts val="624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6,2 х = 18,6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70000"/>
              </a:lnSpc>
              <a:spcBef>
                <a:spcPts val="624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711320" y="2590560"/>
            <a:ext cx="42116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2) </a:t>
            </a: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y </a:t>
            </a: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: (- 0,2) = - 4,5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8" name="Object 3"/>
          <p:cNvGraphicFramePr/>
          <p:nvPr/>
        </p:nvGraphicFramePr>
        <p:xfrm>
          <a:off x="250920" y="260280"/>
          <a:ext cx="1106280" cy="12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0280"/>
                    <a:ext cx="11062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TextBox 5"/>
          <p:cNvSpPr/>
          <p:nvPr/>
        </p:nvSpPr>
        <p:spPr>
          <a:xfrm>
            <a:off x="3566880" y="2593800"/>
            <a:ext cx="5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-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8183160" y="2624040"/>
            <a:ext cx="6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0,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79646"/>
                </a:solidFill>
                <a:latin typeface="Calibri"/>
              </a:rPr>
              <a:t>Задачу решай – число отгадай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72600" y="2387160"/>
            <a:ext cx="8355240" cy="27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Петя задумал число, умножил его на </a:t>
            </a:r>
            <a:r>
              <a:rPr b="1" lang="ru-RU" sz="2500" spc="-1" strike="noStrike">
                <a:solidFill>
                  <a:srgbClr val="f79646"/>
                </a:solidFill>
                <a:latin typeface="Calibri"/>
              </a:rPr>
              <a:t>2</a:t>
            </a: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, а затем из произведения вычел </a:t>
            </a:r>
            <a:r>
              <a:rPr b="1" lang="ru-RU" sz="2500" spc="-1" strike="noStrike">
                <a:solidFill>
                  <a:srgbClr val="f79646"/>
                </a:solidFill>
                <a:latin typeface="Calibri"/>
              </a:rPr>
              <a:t>2,5</a:t>
            </a: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. В результате получил  </a:t>
            </a:r>
            <a:r>
              <a:rPr b="1" lang="ru-RU" sz="2500" spc="-1" strike="noStrike">
                <a:solidFill>
                  <a:srgbClr val="f79646"/>
                </a:solidFill>
                <a:latin typeface="Calibri"/>
              </a:rPr>
              <a:t>- 31,7</a:t>
            </a: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. Какое число задумал Петя? 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04" name="Object 2"/>
          <p:cNvGraphicFramePr/>
          <p:nvPr/>
        </p:nvGraphicFramePr>
        <p:xfrm>
          <a:off x="250920" y="260280"/>
          <a:ext cx="1146240" cy="124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0280"/>
                    <a:ext cx="114624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79646"/>
                </a:solidFill>
                <a:latin typeface="Calibri"/>
              </a:rPr>
              <a:t>Повторение – мать учения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ана аналитическая модель числового промежутка. Постройте его геометрическую модель и составьте соответствующую символическую запись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а) х ≥ 0                                                              х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б) х &lt; - 0,7                                                         х          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) – 3 &lt; х &lt; 5                                                      х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г) -7 ≤ х ≤ 3,4                                                     х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08" name="Прямая со стрелкой 4"/>
          <p:cNvCxnSpPr/>
          <p:nvPr/>
        </p:nvCxnSpPr>
        <p:spPr>
          <a:xfrm>
            <a:off x="2184120" y="3166560"/>
            <a:ext cx="2578680" cy="252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09" name="Прямая со стрелкой 6"/>
          <p:cNvCxnSpPr/>
          <p:nvPr/>
        </p:nvCxnSpPr>
        <p:spPr>
          <a:xfrm>
            <a:off x="2142720" y="3889440"/>
            <a:ext cx="2661480" cy="216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10" name="Прямая со стрелкой 10"/>
          <p:cNvCxnSpPr/>
          <p:nvPr/>
        </p:nvCxnSpPr>
        <p:spPr>
          <a:xfrm>
            <a:off x="2142720" y="4626000"/>
            <a:ext cx="2702160" cy="216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11" name="Прямая со стрелкой 12"/>
          <p:cNvCxnSpPr/>
          <p:nvPr/>
        </p:nvCxnSpPr>
        <p:spPr>
          <a:xfrm flipV="1">
            <a:off x="2224080" y="5363280"/>
            <a:ext cx="2621520" cy="10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graphicFrame>
        <p:nvGraphicFramePr>
          <p:cNvPr id="112" name="Object 2"/>
          <p:cNvGraphicFramePr/>
          <p:nvPr/>
        </p:nvGraphicFramePr>
        <p:xfrm>
          <a:off x="250920" y="260280"/>
          <a:ext cx="1146240" cy="12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0280"/>
                    <a:ext cx="114624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0" y="1100160"/>
          <a:ext cx="8950320" cy="5297400"/>
        </p:xfrm>
        <a:graphic>
          <a:graphicData uri="http://schemas.openxmlformats.org/drawingml/2006/table">
            <a:tbl>
              <a:tblPr/>
              <a:tblGrid>
                <a:gridCol w="4435560"/>
                <a:gridCol w="4514760"/>
              </a:tblGrid>
              <a:tr h="529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 вариан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)-3∙(-5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)15;     2)-15;       3)8;         4)-8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)42:(-6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)-8;      2)8;         3)-7;         4)7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)-14,2:(-71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)-0,2;    2)0,2;    3)2;          4)-2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)-3,5∙1,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)-4,2;    2)0,42;   3)4,2 ;   4)-0,4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) (6,5-8,32)∙1,5+(-12+41,4):(-2,4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 вариан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)15∙(-2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)30;       2)-30;    3)13;       4)17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)-30: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)5;          2)4;       3)-5,1;     4)6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)-423:(-3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)14,1;  2)-1,41;  3)-14,1;   4)141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)2,5∙(-3,2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)-8;       2)8;       3)0,8;         4)-0,8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) (5,6-7,38)∙4,5+(-22+67,1):(-4,4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Text Box 29"/>
          <p:cNvSpPr/>
          <p:nvPr/>
        </p:nvSpPr>
        <p:spPr>
          <a:xfrm>
            <a:off x="2604960" y="0"/>
            <a:ext cx="30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ЧИСЛИТ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verdvd.org</cp:lastModifiedBy>
  <dcterms:modified xsi:type="dcterms:W3CDTF">2018-11-29T15:37:37Z</dcterms:modified>
  <cp:revision>201</cp:revision>
  <dc:subject/>
  <dc:title>Умножение и деление положительных и отрицательных чисел</dc:title>
</cp:coreProperties>
</file>