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A17A-75BE-497B-8BA0-C3D0D1EC1C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88B5-1B1C-479F-BE55-574BBDF083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F17-A8B9-4CFC-A856-85DFE615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FEC-A5DA-4030-A3A7-0A31D280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51E-418D-4ADC-964E-EE63F0C8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E4D-CDAA-4C55-B090-FCA47D15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67F-EA07-42DE-A95F-381BDB8E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DA3-2A0B-4E44-8B9A-048EFCC9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A44-0F98-42BA-ABEA-9287E35F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BE5-AC6A-4EA3-8A49-6234725F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D40-F939-4131-8431-EA1D0749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FDD-538E-408C-A992-9699D25E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63D-8813-408E-A55F-4071D50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BEB-5997-4F2D-88E8-C217E24A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2FDC-A3B8-49FC-B134-5E78DADCE50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220680"/>
            <a:ext cx="8715600" cy="53164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Умножение и деление положительных и отрицательных чисел.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Object 1"/>
          <p:cNvGraphicFramePr/>
          <p:nvPr/>
        </p:nvGraphicFramePr>
        <p:xfrm>
          <a:off x="384120" y="282600"/>
          <a:ext cx="212256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82600"/>
                    <a:ext cx="212256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6"/>
          <p:cNvSpPr/>
          <p:nvPr/>
        </p:nvSpPr>
        <p:spPr>
          <a:xfrm>
            <a:off x="4911840" y="5859360"/>
            <a:ext cx="3792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БОУ СОШ ст. Дряз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бзева Н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ВАРИАН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4,7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ВАРИАН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8,2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41520" y="1571760"/>
            <a:ext cx="822960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 № 37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№ 385 (в,г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) повторить правил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304920" y="5097600"/>
          <a:ext cx="137160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097600"/>
                    <a:ext cx="137160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4"/>
          <p:cNvGraphicFramePr/>
          <p:nvPr/>
        </p:nvGraphicFramePr>
        <p:xfrm>
          <a:off x="7620120" y="5099040"/>
          <a:ext cx="1344600" cy="17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5099040"/>
                    <a:ext cx="13446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Прямоугольник 6" descr=""/>
          <p:cNvPicPr/>
          <p:nvPr/>
        </p:nvPicPr>
        <p:blipFill>
          <a:blip r:embed="rId5"/>
          <a:stretch/>
        </p:blipFill>
        <p:spPr>
          <a:xfrm>
            <a:off x="2706840" y="4413240"/>
            <a:ext cx="3975120" cy="1944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Не зевай, быстрей считай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7840" y="1569600"/>
            <a:ext cx="8802720" cy="307044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Овал 3"/>
          <p:cNvSpPr/>
          <p:nvPr/>
        </p:nvSpPr>
        <p:spPr>
          <a:xfrm>
            <a:off x="955800" y="1965240"/>
            <a:ext cx="722160" cy="75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Овал 11"/>
          <p:cNvSpPr/>
          <p:nvPr/>
        </p:nvSpPr>
        <p:spPr>
          <a:xfrm>
            <a:off x="2679840" y="1984320"/>
            <a:ext cx="72216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Овал 12"/>
          <p:cNvSpPr/>
          <p:nvPr/>
        </p:nvSpPr>
        <p:spPr>
          <a:xfrm>
            <a:off x="4411800" y="1998720"/>
            <a:ext cx="722160" cy="69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Овал 13"/>
          <p:cNvSpPr/>
          <p:nvPr/>
        </p:nvSpPr>
        <p:spPr>
          <a:xfrm>
            <a:off x="6146640" y="1976400"/>
            <a:ext cx="72252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7881840" y="1995480"/>
            <a:ext cx="72252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16"/>
          <p:cNvSpPr/>
          <p:nvPr/>
        </p:nvSpPr>
        <p:spPr>
          <a:xfrm>
            <a:off x="944640" y="3427560"/>
            <a:ext cx="720720" cy="69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7,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17"/>
          <p:cNvSpPr/>
          <p:nvPr/>
        </p:nvSpPr>
        <p:spPr>
          <a:xfrm>
            <a:off x="2692440" y="3416400"/>
            <a:ext cx="722160" cy="69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18"/>
          <p:cNvSpPr/>
          <p:nvPr/>
        </p:nvSpPr>
        <p:spPr>
          <a:xfrm>
            <a:off x="4402080" y="3487680"/>
            <a:ext cx="720720" cy="690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19"/>
          <p:cNvSpPr/>
          <p:nvPr/>
        </p:nvSpPr>
        <p:spPr>
          <a:xfrm>
            <a:off x="6110280" y="3394080"/>
            <a:ext cx="72072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вал 21"/>
          <p:cNvSpPr/>
          <p:nvPr/>
        </p:nvSpPr>
        <p:spPr>
          <a:xfrm>
            <a:off x="7846920" y="3452760"/>
            <a:ext cx="72252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Стрелка вправо 65"/>
          <p:cNvSpPr/>
          <p:nvPr/>
        </p:nvSpPr>
        <p:spPr>
          <a:xfrm>
            <a:off x="1692360" y="34941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: (-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Стрелка вправо 66"/>
          <p:cNvSpPr/>
          <p:nvPr/>
        </p:nvSpPr>
        <p:spPr>
          <a:xfrm>
            <a:off x="6880320" y="204948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∙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-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Стрелка вправо 67"/>
          <p:cNvSpPr/>
          <p:nvPr/>
        </p:nvSpPr>
        <p:spPr>
          <a:xfrm>
            <a:off x="5149800" y="2079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0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трелка вправо 68"/>
          <p:cNvSpPr/>
          <p:nvPr/>
        </p:nvSpPr>
        <p:spPr>
          <a:xfrm>
            <a:off x="3419640" y="206676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трелка вправо 69"/>
          <p:cNvSpPr/>
          <p:nvPr/>
        </p:nvSpPr>
        <p:spPr>
          <a:xfrm>
            <a:off x="1687680" y="2097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∙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-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трелка вправо 70"/>
          <p:cNvSpPr/>
          <p:nvPr/>
        </p:nvSpPr>
        <p:spPr>
          <a:xfrm>
            <a:off x="6851520" y="34941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∙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-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Стрелка вправо 71"/>
          <p:cNvSpPr/>
          <p:nvPr/>
        </p:nvSpPr>
        <p:spPr>
          <a:xfrm>
            <a:off x="5119560" y="3522600"/>
            <a:ext cx="979560" cy="486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∙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-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трелка вправо 74"/>
          <p:cNvSpPr/>
          <p:nvPr/>
        </p:nvSpPr>
        <p:spPr>
          <a:xfrm>
            <a:off x="3430440" y="351144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0,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Object 17"/>
          <p:cNvGraphicFramePr/>
          <p:nvPr/>
        </p:nvGraphicFramePr>
        <p:xfrm>
          <a:off x="781200" y="260280"/>
          <a:ext cx="114588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60280"/>
                    <a:ext cx="11458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Box 32"/>
          <p:cNvSpPr/>
          <p:nvPr/>
        </p:nvSpPr>
        <p:spPr>
          <a:xfrm>
            <a:off x="8013240" y="2101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7973280" y="35751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788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йдите ошибки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15800" y="2154240"/>
            <a:ext cx="604332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0,5 ∙ (- 2, 1)  = 10,5;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(- 2,24) : (- 0, 2) = 224 : 2 = 112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781200" y="260280"/>
          <a:ext cx="114588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60280"/>
                    <a:ext cx="11458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Box 12"/>
          <p:cNvSpPr/>
          <p:nvPr/>
        </p:nvSpPr>
        <p:spPr>
          <a:xfrm>
            <a:off x="2260080" y="4462560"/>
            <a:ext cx="2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6972480" y="344340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ПОМНИМ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760" y="1452240"/>
            <a:ext cx="350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 умножении 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4040" y="2930400"/>
            <a:ext cx="3075120" cy="32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+) ∙ (-) =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) ∙ (+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+) ∙ (+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) ∙  (-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5960" y="1493640"/>
            <a:ext cx="3765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 делении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240" y="2830320"/>
            <a:ext cx="324144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+) : (-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) :  (+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+) : (+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)  :  (-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781200" y="260280"/>
          <a:ext cx="114588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60280"/>
                    <a:ext cx="11458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10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йдите значение выражения: </a:t>
            </a:r>
            <a:br>
              <a:rPr sz="4000"/>
            </a:br>
            <a:br>
              <a:rPr sz="2300"/>
            </a:br>
            <a:br>
              <a:rPr sz="23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Object 1"/>
          <p:cNvGraphicFramePr/>
          <p:nvPr/>
        </p:nvGraphicFramePr>
        <p:xfrm>
          <a:off x="7372440" y="0"/>
          <a:ext cx="114624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2440" y="0"/>
                    <a:ext cx="114624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152360" y="3143160"/>
            <a:ext cx="724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,5 : ( - 25) + 18 : ( - 60)  -  (- 0,2) ∙ 3 =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63720" y="4835520"/>
            <a:ext cx="76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6,4 ∙ 2,05 – 23,712 : (17,5 – 28,9)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9646"/>
                </a:solidFill>
                <a:latin typeface="Calibri"/>
              </a:rPr>
              <a:t>Решай уравнения </a:t>
            </a:r>
            <a:br>
              <a:rPr sz="4000"/>
            </a:br>
            <a:r>
              <a:rPr b="0" lang="ru-RU" sz="4000" spc="-1" strike="noStrike">
                <a:solidFill>
                  <a:srgbClr val="f79646"/>
                </a:solidFill>
                <a:latin typeface="Calibri"/>
              </a:rPr>
              <a:t>без промедления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9600" y="2602080"/>
            <a:ext cx="3825720" cy="32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6,2 х = 18,6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11320" y="2590560"/>
            <a:ext cx="4211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: (- 0,2) = - 4,5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250920" y="260280"/>
          <a:ext cx="11062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11062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Box 5"/>
          <p:cNvSpPr/>
          <p:nvPr/>
        </p:nvSpPr>
        <p:spPr>
          <a:xfrm>
            <a:off x="3566880" y="259380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8183160" y="262404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0,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9646"/>
                </a:solidFill>
                <a:latin typeface="Calibri"/>
              </a:rPr>
              <a:t>Задачу решай – число отгадай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2600" y="2387160"/>
            <a:ext cx="8355240" cy="27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етя задумал число, умножил его на </a:t>
            </a:r>
            <a:r>
              <a:rPr b="1" lang="ru-RU" sz="2500" spc="-1" strike="noStrike">
                <a:solidFill>
                  <a:srgbClr val="f79646"/>
                </a:solidFill>
                <a:latin typeface="Calibri"/>
              </a:rPr>
              <a:t>2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, а затем из произведения вычел </a:t>
            </a:r>
            <a:r>
              <a:rPr b="1" lang="ru-RU" sz="2500" spc="-1" strike="noStrike">
                <a:solidFill>
                  <a:srgbClr val="f79646"/>
                </a:solidFill>
                <a:latin typeface="Calibri"/>
              </a:rPr>
              <a:t>2,5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. В результате получил  </a:t>
            </a:r>
            <a:r>
              <a:rPr b="1" lang="ru-RU" sz="2500" spc="-1" strike="noStrike">
                <a:solidFill>
                  <a:srgbClr val="f79646"/>
                </a:solidFill>
                <a:latin typeface="Calibri"/>
              </a:rPr>
              <a:t>- 31,7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. Какое число задумал Петя?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250920" y="260280"/>
          <a:ext cx="114624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114624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9646"/>
                </a:solidFill>
                <a:latin typeface="Calibri"/>
              </a:rPr>
              <a:t>Повторение – мать учения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ана аналитическая модель числового промежутка. Постройте его геометрическую модель и составьте соответствующую символическую запись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) х ≥ 0                                                              х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) х &lt; - 0,7                                                         х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) – 3 &lt; х &lt; 5                                                      х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) -7 ≤ х ≤ 3,4                                                     х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8" name="Прямая со стрелкой 4"/>
          <p:cNvCxnSpPr/>
          <p:nvPr/>
        </p:nvCxnSpPr>
        <p:spPr>
          <a:xfrm>
            <a:off x="2184120" y="3166560"/>
            <a:ext cx="257868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9" name="Прямая со стрелкой 6"/>
          <p:cNvCxnSpPr/>
          <p:nvPr/>
        </p:nvCxnSpPr>
        <p:spPr>
          <a:xfrm>
            <a:off x="2142720" y="3889440"/>
            <a:ext cx="2661480" cy="2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Прямая со стрелкой 10"/>
          <p:cNvCxnSpPr/>
          <p:nvPr/>
        </p:nvCxnSpPr>
        <p:spPr>
          <a:xfrm>
            <a:off x="2142720" y="4626000"/>
            <a:ext cx="2702160" cy="2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Прямая со стрелкой 12"/>
          <p:cNvCxnSpPr/>
          <p:nvPr/>
        </p:nvCxnSpPr>
        <p:spPr>
          <a:xfrm flipV="1">
            <a:off x="2224080" y="5363280"/>
            <a:ext cx="2621520" cy="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graphicFrame>
        <p:nvGraphicFramePr>
          <p:cNvPr id="112" name="Object 2"/>
          <p:cNvGraphicFramePr/>
          <p:nvPr/>
        </p:nvGraphicFramePr>
        <p:xfrm>
          <a:off x="250920" y="260280"/>
          <a:ext cx="114624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11462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100160"/>
          <a:ext cx="8950320" cy="5297400"/>
        </p:xfrm>
        <a:graphic>
          <a:graphicData uri="http://schemas.openxmlformats.org/drawingml/2006/table">
            <a:tbl>
              <a:tblPr/>
              <a:tblGrid>
                <a:gridCol w="4435560"/>
                <a:gridCol w="4514760"/>
              </a:tblGrid>
              <a:tr h="52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)-3∙(-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15;     2)-15;       3)8;         4)-8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)42:(-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-8;      2)8;         3)-7;         4)7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)-14,2:(-7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-0,2;    2)0,2;    3)2;          4)-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)-3,5∙1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-4,2;    2)0,42;   3)4,2 ;   4)-0,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) (6,5-8,32)∙1,5+(-12+41,4):(-2,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)15∙(-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30;       2)-30;    3)13;       4)17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)-30: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5;          2)4;       3)-5,1;     4)6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)-423:(-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14,1;  2)-1,41;  3)-14,1;   4)14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)2,5∙(-3,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-8;       2)8;       3)0,8;         4)-0,8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) (5,6-7,38)∙4,5+(-22+67,1):(-4,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29"/>
          <p:cNvSpPr/>
          <p:nvPr/>
        </p:nvSpPr>
        <p:spPr>
          <a:xfrm>
            <a:off x="2604960" y="0"/>
            <a:ext cx="30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ИТ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dvd.org</cp:lastModifiedBy>
  <dcterms:modified xsi:type="dcterms:W3CDTF">2018-11-29T15:37:37Z</dcterms:modified>
  <cp:revision>201</cp:revision>
  <dc:subject/>
  <dc:title>Умножение и деление положительных и отрицательных чисел</dc:title>
</cp:coreProperties>
</file>