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55240" y="933120"/>
            <a:ext cx="434196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59576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F47-245F-4F6F-A823-E93E5EBA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4099-7FA3-4CF2-9DD5-EBAE4C79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00AB5-0ACE-432B-A084-47F1DD49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18918-33D5-4EFF-8143-E1A604E9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96626-F55F-4316-9742-6D7D466D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5F4BB-0DA1-47E0-A873-9DB944B3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64082-E8C7-407D-B6BF-151A71F3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BBA97-56D8-4F4A-88E9-44561BFC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4B90A-1F84-41CC-BD08-F8D2235F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54A27-87DE-47EA-9F68-99573A1A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84FC6-922C-4A93-9DC4-CC6158F2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0EEEF-2D45-4F03-B41C-60DBBE1C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1A5D-4FE5-4DD8-B823-8A363CBA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8CF47-404E-40E4-822E-813BB847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4BA40-4546-4A29-8FF3-B6CD0128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166DE-48FC-43AE-8618-569D6141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C6AB5-DDD0-4314-8033-544E39E0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BF050-F15F-4EFF-9B2B-CED82695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EB666-AA1B-4883-875B-21E71914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933A4-4B63-4C58-A07A-6F0B86BD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27F65-8124-40A2-ACB4-5D284F16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E6EF7-ECA6-4252-9CD4-A0DC1008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0DB95-7275-4C70-A726-4CB3AC81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BA2-F3A6-48B3-B085-9AE0FAC1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E0648-2293-41DB-BB49-2D44C24B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EB0B0-F9A9-4B58-9D6B-F9A549AA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60B1B-1390-469C-B78A-CFC8CF52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2EDCB-CC66-4887-A73D-0DFBE5BE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8E150-9A31-4010-811A-763D3C19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E3AD9-F3FF-456F-961D-30707296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25C42-2104-458A-A880-7D0BD56A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8B556-CBE4-40CF-8EAA-2D301B0E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2C36A-ABBD-4271-88C8-D4F5B9B3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ADDD2-BF75-4F13-B2C3-C700281A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CE93-BAD7-4571-8765-CD90E325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F19D2-8970-4019-9F64-BDC9F819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B5100-9CF7-4E78-9FF7-FC58A277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9E87E-BF81-4245-9757-25A00BC8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34A9E-8CC5-414F-85D4-A24AE2DE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86F97-8F1F-408F-83E0-85AE82A4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25ABE-4998-4777-A8DF-F0C795A3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04B45-6447-40B5-AE20-9FC7A943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481B1-0DCC-4D96-8C59-DA053900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58F28-A219-4883-B4A0-7F050FD3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A2761-217D-4892-9E5D-C27D576B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7D3B-92BF-4484-AC91-6885B2A4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F3906-C144-4C02-8D8F-6E0B060A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AEB32-2224-45F2-8B86-E163406A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F4F07-501C-4D2C-AB8B-3101B8D0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B66BA-B10A-486C-BF37-0300AC56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92CB9-9068-472F-BFE0-150DA790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F48B-AEB5-4CEF-B4B4-54D3EAA4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2740-293C-45E6-9FD7-2C66A1EA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E86F-643F-4E7E-A14B-ED06B474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4353-4D3D-460C-87C4-AEEAD68E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20B5-33AD-4F29-80A6-4D3A97DF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6E9-F560-4D2F-B1E7-02CBC52A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EB22-CEFB-47A6-8403-A83207BA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2155-0F29-497A-AE9D-C7B80E86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2F3D-728B-4465-9054-9E32D036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DBDB-CEFB-4EA0-B7C3-E1ACA063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60CC-86E3-4C6D-93D1-366A45B3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52E1F-172C-400E-8905-56668151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FE8D8-C7B2-4225-B1D0-61744062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24ADC-36DB-433A-B730-91722F52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D5852-96DA-4BC7-8123-D663350F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B8479-380D-40B8-B6CD-CD3BE018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9CC-9E74-4495-AA67-51FDF98E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E9BBF-67E7-4592-93D5-F576518F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03CF4-BD10-4C74-9149-90D5C3D2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E2B15-5B90-46A1-9D1C-3BF852A9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11E23-2629-4F08-A5FC-C7EE0C0A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275FA-9F15-40C8-8E59-95510C48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D37FC-55C4-48C6-AF39-F3216CC0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7BA71-6B38-4F00-A40A-3F82282C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CAEB3-3E11-415A-9D7F-E9C305AB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72B97-00FF-4A68-8D5F-5AA96823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F2FEB-3EB8-4227-BCD6-A7BF7650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47E-095A-487F-B22A-1DA2648A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7E79C-6657-49D3-950D-0B612F56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ECDE0-B164-40A7-AF87-BC3CA726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E6846-0307-4F54-B889-AE9B9EAF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C9BD5-3A35-4FBF-A1FC-53D23E2E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E5403-63D9-452A-AC11-0AF8AC48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8EEC5-9056-48DB-B58D-A49B4C04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DE9E7-081A-4CC4-93E5-EFF14142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5BA41-244B-42A4-B0FF-68BD7D33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05D8A-D9D0-4A80-BE0C-5A33BB2E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91DBE-E246-4EDA-9B87-C0507938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3429-AFA2-45B8-B172-7AC128AC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07128-86DC-4379-83C8-E79AF9FA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08A6D-24FD-4DBF-8C9C-1DBB320A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E734F-98C1-4FE4-A119-03A618E8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3F6AB-0E0A-4C92-979E-F47F2E42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0F2F8-57C8-4AF0-95DB-A456A7EF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7D980-0406-4D87-8F7F-7C0F0223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35EC7-05AA-45BA-8E3C-F37CF699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5BFBB-9633-4B6C-9BB4-A22698B0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32319-F208-4918-B8CD-EED005DE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D4DA2-6034-4618-8022-445914DC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26A2-8141-4CB8-B3F8-A4AA73D1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FC170-DCB6-4566-AF21-C744D5A4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1360C-950D-4BAE-9491-BD0930B6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27F58-73A1-4DF5-B665-5E456986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65EC6-4055-4474-9EE4-2E59DA11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180ED-5E35-4129-9A73-708DCBC8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BCC26-3AB7-4049-AB67-C5A657D9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3B1F1-0148-4952-B8D8-C49216E6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827AD-5CAB-421D-809C-7953955B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11370-52E5-4BB0-9435-643DF25A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86ABF-328C-4129-868E-D2D027D1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124-421C-4954-B50F-78CF0FF2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BA644-4E01-4371-A26E-FC11A350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D3E5E-B5F7-454F-9ABE-0A3DC33A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3064A-0E3F-4A0E-906D-634C0CE7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AA4A3-7AE8-40E4-8DB9-ECE6E25B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15F43-1072-414E-B562-F3350A4E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1B5A5-289C-4970-B711-140C14BA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193A9-A8DF-40AA-B9C3-41B7956D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53560-B282-489D-AA24-342F49EF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47041-0B82-44B2-B154-9282CBBD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50F6A-5AA9-40E0-B289-BC2FA283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C08B-BABD-44A7-B77E-D1AFC52B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293B0-F235-4F55-8506-BB05D65D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BEA30-45B4-4E8E-B261-D86DC77C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0B41C-0E89-478C-8627-B0CC8358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EBA7F-87C3-4C48-895C-209ED14F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441DC-F8A1-403D-9A84-8FAF1988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357BD-6D1F-487F-B89B-BCF334DF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A91F3-1809-46E7-9ACE-6E2E3F5F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A0D9F-6C20-424E-AB75-152B0DDE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1775D-32C9-47FD-8FF5-2C26A4AC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C3239-77A7-4733-8892-5F4B4B04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08BC-E6D2-4E48-920A-725232A2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E82DE-BDD7-4C3E-A5CD-BFE89F8D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9FEC5-6604-4C89-9523-1C0FA03F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15635-FAA1-467E-BFE4-0BD75A4A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DD09D-E119-4A55-B8F1-000AB64A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73218-2191-4C16-917E-C85C9A93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A146E-4021-4F2A-B95E-AE33D40C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B5E1F-4084-46D9-9DB6-40B12052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E156D-867B-42A6-B6BC-AA615B98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AAD4B-0751-4496-A8AA-9BBA0691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5AEFB-1EE8-4031-A871-3447D5DB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056D15-3B71-49C4-8D5C-5FE0284B4598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3E746CE-6B7E-44AB-9AE2-721740FEDD01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4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6AF9B9-5D15-4A50-AE9F-99866D05B319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4BF844-3B76-400D-9D50-C729021238A4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6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76CEBB-9E79-499A-BF56-C14F9A36B944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061CD6-8D79-4174-8C0C-4DF62EDC4344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985BD5-7096-432E-8511-EA35C05F1815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B28E4E-4FA5-4793-8212-B1A704C5841D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B07EE3-E461-491D-B411-21614AD40219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2B5AA2-97DB-41D7-82AB-08B737E1F49E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42E7C0-46C8-4397-9BDC-FD34CE508FC0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22A1A9-4B63-447A-834C-87E574316B91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hyperlink" Target="https://www.maam.ru/maps/news/271997.html" TargetMode="External"/><Relationship Id="rId3" Type="http://schemas.openxmlformats.org/officeDocument/2006/relationships/hyperlink" Target="https://nsportal.ru/user/297631/video" TargetMode="External"/><Relationship Id="rId4" Type="http://schemas.openxmlformats.org/officeDocument/2006/relationships/hyperlink" Target="https://nsportal.ru/user/297631/video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68565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922223"/>
                </a:solidFill>
                <a:latin typeface="Corbel"/>
              </a:rPr>
              <a:t>Портфолио</a:t>
            </a:r>
            <a:r>
              <a:rPr b="1" i="1" lang="ru-RU" sz="3100" spc="-1" strike="noStrike">
                <a:solidFill>
                  <a:srgbClr val="922223"/>
                </a:solidFill>
                <a:latin typeface="Corbel"/>
              </a:rPr>
              <a:t> </a:t>
            </a:r>
            <a:br>
              <a:rPr sz="3100"/>
            </a:br>
            <a:r>
              <a:rPr b="0" i="1" lang="ru-RU" sz="2200" spc="-1" strike="noStrike">
                <a:solidFill>
                  <a:srgbClr val="c00000"/>
                </a:solidFill>
                <a:latin typeface="Corbel"/>
              </a:rPr>
              <a:t>Тарейкиной Нины Васильевны,</a:t>
            </a:r>
            <a:br>
              <a:rPr sz="2200"/>
            </a:br>
            <a:r>
              <a:rPr b="0" i="1" lang="ru-RU" sz="2200" spc="-1" strike="noStrike">
                <a:solidFill>
                  <a:srgbClr val="c00000"/>
                </a:solidFill>
                <a:latin typeface="Corbel"/>
              </a:rPr>
              <a:t>музыкального руководителя </a:t>
            </a:r>
            <a:br>
              <a:rPr sz="2000"/>
            </a:br>
            <a:r>
              <a:rPr b="0" i="1" lang="ru-RU" sz="2000" spc="-1" strike="noStrike">
                <a:solidFill>
                  <a:srgbClr val="c00000"/>
                </a:solidFill>
                <a:latin typeface="Corbel"/>
              </a:rPr>
              <a:t>МДОБУ «Кемлянский детский сад </a:t>
            </a:r>
            <a:br>
              <a:rPr sz="2000"/>
            </a:br>
            <a:r>
              <a:rPr b="0" i="1" lang="ru-RU" sz="2000" spc="-1" strike="noStrike">
                <a:solidFill>
                  <a:srgbClr val="c00000"/>
                </a:solidFill>
                <a:latin typeface="Corbel"/>
              </a:rPr>
              <a:t>комбинированного вида» </a:t>
            </a:r>
            <a:br>
              <a:rPr sz="2000"/>
            </a:br>
            <a:r>
              <a:rPr b="0" i="1" lang="ru-RU" sz="2000" spc="-1" strike="noStrike">
                <a:solidFill>
                  <a:srgbClr val="c00000"/>
                </a:solidFill>
                <a:latin typeface="Corbel"/>
              </a:rPr>
              <a:t>Ичалковского муниципального района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971280" y="3141720"/>
            <a:ext cx="7561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22223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922223"/>
                </a:solidFill>
                <a:latin typeface="Times New Roman"/>
              </a:rPr>
              <a:t>Дата рождения: </a:t>
            </a:r>
            <a:r>
              <a:rPr b="0" i="1" lang="ru-RU" sz="1800" spc="-1" strike="noStrike">
                <a:solidFill>
                  <a:srgbClr val="922223"/>
                </a:solidFill>
                <a:latin typeface="Times New Roman"/>
              </a:rPr>
              <a:t>15.04.1962 г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22223"/>
                </a:solidFill>
                <a:latin typeface="Times New Roman"/>
              </a:rPr>
              <a:t>Профессиональное образование: </a:t>
            </a:r>
            <a:r>
              <a:rPr b="0" i="1" lang="ru-RU" sz="1800" spc="-1" strike="noStrike">
                <a:solidFill>
                  <a:srgbClr val="922223"/>
                </a:solidFill>
                <a:latin typeface="Times New Roman"/>
              </a:rPr>
              <a:t>высшее, МГПИ им М.Е. Евсевьева, учитель музыки, </a:t>
            </a:r>
            <a:r>
              <a:rPr b="0" lang="ru-RU" sz="1800" spc="-1" strike="noStrike" u="sng">
                <a:solidFill>
                  <a:srgbClr val="922122"/>
                </a:solidFill>
                <a:uFillTx/>
                <a:latin typeface="Times New Roman"/>
                <a:hlinkClick r:id="rId1" action="ppaction://hlinksldjump"/>
              </a:rPr>
              <a:t>диплом ЦВ № 218742, 12.07.1991 г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22223"/>
                </a:solidFill>
                <a:latin typeface="Times New Roman"/>
              </a:rPr>
              <a:t>Общий стаж работы</a:t>
            </a:r>
            <a:r>
              <a:rPr b="0" i="1" lang="ru-RU" sz="1800" spc="-1" strike="noStrike">
                <a:solidFill>
                  <a:srgbClr val="922223"/>
                </a:solidFill>
                <a:latin typeface="Times New Roman"/>
              </a:rPr>
              <a:t> – 37, </a:t>
            </a:r>
            <a:r>
              <a:rPr b="1" i="1" lang="ru-RU" sz="1800" spc="-1" strike="noStrike">
                <a:solidFill>
                  <a:srgbClr val="922223"/>
                </a:solidFill>
                <a:latin typeface="Times New Roman"/>
              </a:rPr>
              <a:t>педагогический – </a:t>
            </a:r>
            <a:r>
              <a:rPr b="0" i="1" lang="ru-RU" sz="1800" spc="-1" strike="noStrike">
                <a:solidFill>
                  <a:srgbClr val="922223"/>
                </a:solidFill>
                <a:latin typeface="Times New Roman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22223"/>
                </a:solidFill>
                <a:latin typeface="Times New Roman"/>
              </a:rPr>
              <a:t>Наличие квалификационной категории: </a:t>
            </a:r>
            <a:r>
              <a:rPr b="0" i="1" lang="ru-RU" sz="1800" spc="-1" strike="noStrike">
                <a:solidFill>
                  <a:srgbClr val="922223"/>
                </a:solidFill>
                <a:latin typeface="Times New Roman"/>
              </a:rPr>
              <a:t>первая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22223"/>
                </a:solidFill>
                <a:latin typeface="Times New Roman"/>
              </a:rPr>
              <a:t>Дата последней аттестации: </a:t>
            </a:r>
            <a:r>
              <a:rPr b="0" i="1" lang="ru-RU" sz="1800" spc="-1" strike="noStrike">
                <a:solidFill>
                  <a:srgbClr val="922223"/>
                </a:solidFill>
                <a:latin typeface="Times New Roman"/>
              </a:rPr>
              <a:t>04.04. 2014 г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22223"/>
                </a:solidFill>
                <a:latin typeface="Times New Roman"/>
              </a:rPr>
              <a:t>Дата прохождения курсов: </a:t>
            </a:r>
            <a:r>
              <a:rPr b="0" i="1" lang="ru-RU" sz="1800" spc="-1" strike="noStrike">
                <a:solidFill>
                  <a:srgbClr val="922223"/>
                </a:solidFill>
                <a:latin typeface="Times New Roman"/>
              </a:rPr>
              <a:t>26.09.-30.09.2016 г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22223"/>
                </a:solidFill>
                <a:latin typeface="Times New Roman"/>
              </a:rPr>
              <a:t>Портфолио документов</a:t>
            </a:r>
            <a:r>
              <a:rPr b="0" i="1" lang="ru-RU" sz="1800" spc="-1" strike="noStrike">
                <a:solidFill>
                  <a:srgbClr val="922223"/>
                </a:solidFill>
                <a:latin typeface="Times New Roman"/>
              </a:rPr>
              <a:t>:</a:t>
            </a:r>
            <a:r>
              <a:rPr b="0" lang="en-US" sz="1800" spc="-1" strike="noStrike" u="sng">
                <a:solidFill>
                  <a:srgbClr val="922122"/>
                </a:solidFill>
                <a:uFillTx/>
                <a:latin typeface="Times New Roman"/>
                <a:hlinkClick r:id="rId2"/>
              </a:rPr>
              <a:t>https://www.maam.ru/maps/news/271997.htm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22223"/>
                </a:solidFill>
                <a:latin typeface="Times New Roman"/>
              </a:rPr>
              <a:t>Фрагмент видео занятия:</a:t>
            </a:r>
            <a:r>
              <a:rPr b="0" lang="en-US" sz="1800" spc="-1" strike="noStrike" u="sng">
                <a:solidFill>
                  <a:srgbClr val="922122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n-US" sz="1800" spc="-1" strike="noStrike" u="sng">
                <a:solidFill>
                  <a:srgbClr val="922122"/>
                </a:solidFill>
                <a:uFillTx/>
                <a:latin typeface="Times New Roman"/>
                <a:hlinkClick r:id="rId4"/>
              </a:rPr>
              <a:t>https://nsportal.ru/user/297631/vide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Прямоугольник 7"/>
          <p:cNvSpPr/>
          <p:nvPr/>
        </p:nvSpPr>
        <p:spPr>
          <a:xfrm>
            <a:off x="1000080" y="18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922223"/>
                </a:solidFill>
                <a:latin typeface="Corbel"/>
              </a:rPr>
              <a:t>Министерство образования Республики Мордо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5"/>
          <a:stretch/>
        </p:blipFill>
        <p:spPr>
          <a:xfrm>
            <a:off x="6732720" y="620640"/>
            <a:ext cx="2141280" cy="298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1:06:49Z</dcterms:created>
  <dc:creator>User User</dc:creator>
  <dc:description/>
  <dc:language>en-US</dc:language>
  <cp:lastModifiedBy>Comach</cp:lastModifiedBy>
  <dcterms:modified xsi:type="dcterms:W3CDTF">2018-12-07T15:52:33Z</dcterms:modified>
  <cp:revision>242</cp:revision>
  <dc:subject/>
  <dc:title>Роль ПНПО в развитии (модернизации) образования страны</dc:title>
</cp:coreProperties>
</file>