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AutoShape 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AutoShape 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1155240" y="933120"/>
            <a:ext cx="4341960" cy="33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1031760" y="4624560"/>
            <a:ext cx="4595760" cy="37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Text Box 1"/>
          <p:cNvSpPr/>
          <p:nvPr/>
        </p:nvSpPr>
        <p:spPr>
          <a:xfrm>
            <a:off x="1143000" y="677880"/>
            <a:ext cx="4572000" cy="344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body"/>
          </p:nvPr>
        </p:nvSpPr>
        <p:spPr>
          <a:xfrm>
            <a:off x="1031400" y="4624200"/>
            <a:ext cx="459756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1CD38-632D-416F-BE61-7C58B19B0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26904-585D-40BF-BF06-7D41BA6BD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CB785A-F5ED-4B2C-8488-7DD2E360B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FB18EE-78C4-4C0E-A864-2874B495F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022C78-8384-4701-9ACE-23C03815A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F1D2EC-8A24-431B-8C4F-E07BE6C4D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AAB1E8-A713-4E72-BE88-73C72E703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A07105-D05D-49A0-8BB7-4E0417E51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FC2D59-A0CD-4C62-A46D-701739F78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3DAA1A-8984-4F90-B8CE-A02314EAF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4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5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42ECAB-67D5-42CC-9DF4-C9DA9EEAA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5CE0A7-4D02-473A-84E3-6C93B537C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EAE0D-A2D6-42EA-A3C5-634F8329D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D5949A-0358-476B-AF38-05F5AB405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EF94EF-B272-4656-9F55-1DB8DBB29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BD5CA1-0AE1-4264-890C-D36A4928E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35158D-49C3-4033-BE59-C5701CBA8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0E26BE-412B-4A9C-981B-D8457B82D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A7F378-F461-43E2-ABB7-3D8EF665E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4672DF-A937-49CE-B9C7-0A730CD15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D73607-8402-4FED-853B-B1AA36273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C48EF9-C3AD-4420-A726-2B9D86117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2D2B02-B953-4BEF-9DD5-E5A8FE191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F18C3-AB1D-427D-9017-221BB7827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1BBD40-8482-4EEC-8B96-7080676C1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4F169E-7AA9-4462-BB38-4B7142425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DC39A1-C977-467B-BC00-656ED3962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483CFE-867F-4D90-BD52-0AC9FB609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369DB1-DD10-4BB4-A6A1-6EE0DF1FD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535162-ECC2-4C9A-A294-B4684E6BF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8FBCAF-4E0E-483C-A057-5015BF0B0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1002A1-1DAE-476C-8210-630BF3F1A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4E8B19-78E3-421A-AA0C-225DF0D3D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8B3E6B-33AE-4A4B-910C-347C6094A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9ECDE-FB0F-4C41-91B3-300EB58BE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2FC599-99A0-44F1-8576-3E7130642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DEC061-818C-438A-9EB8-FFC33031F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02F8AE-9708-47DF-B954-9E9ACE21C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D32CE3-292B-4ABA-8EC7-8CBACE2E9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41AC46-F9E4-4A69-A070-A867507A0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DB18A5-A19D-4010-AAD8-34CDFE931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D642BE-BCEC-48FB-9B2D-DE1A262A7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D1CDAE-8C12-4C57-BDFA-0D38CF66D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AB0B56-280F-4160-BE18-67839FA00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530705-F5AE-45EE-8919-73AC36A89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CE373-113D-440B-8FF0-A9318A4F9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623251-AD7F-429C-A725-29296EE37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E20F30-7D7F-465D-A1B6-B3889F15A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2FDD89-1BFD-4A10-8A2A-9D10CF687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5A1EBE-EDAE-414C-973B-2DB3D4767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B427B6-E60B-414D-9D78-43A0EAB7C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7771B-F3FF-4BAD-B49C-34BD412EC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1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2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526E8-CB7C-4940-875B-95B063519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69304-9923-46ED-A474-BDE77D7A9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606CD-5824-416E-B8F5-D403921CF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25717-E016-4B0A-A0D6-D160EA304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7C489-8BE7-451C-B04D-D7040719A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CE685-C275-49AE-8376-6AB091C38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3AAE1-E689-4FAC-8AB2-57B2B8067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2050F-EA33-494E-A94C-16C493C72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8451B-820A-44DE-894A-5DA2E51D0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79347-3ACF-4D5B-9EB9-791F45B4A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B2AF2E-A299-4C6F-AC3C-FF17C8CF0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71C751-1F77-40CB-8620-5A0A5B7E2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258422-B7E5-4B96-BDBC-7061312B3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78FB6C-F9AA-4B39-B65E-058660D75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1FFA3D-61B6-4BEA-A680-136EC9268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2F65E-6579-4A03-B4EA-8B10B0BED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EAB287-F332-4284-8287-C8274B9CD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D79A59-C247-4496-ADD5-A585A8CF2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2CB730-2C0C-41CD-B3A0-C2562DCDD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AB334E-0D56-4BCE-B568-E1D33D78F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B99EF1-396F-4CD5-A949-B571C447E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9F5047-9386-4922-89E2-BA965FFE1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337820-1864-44E2-A868-6A6D06832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3EDF40-6A39-48DC-9942-93A590C29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95588B-0D1D-4AA5-8FDF-6713D8D89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9BD421-41BA-40ED-BACF-E71F13C58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50673-A3AD-4D54-A7B5-061CDAE29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ED7A66-9E4C-4643-B9B8-3127562D0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46CCA6-56AC-449D-B5F3-89112C603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3BDAA6-F8C0-41D0-8328-B5A0AA457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1B47B0-847C-4571-8ABF-814513926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D38F33-51CE-471E-A103-BCC6D1FCE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82CAA8-78F3-465F-A91E-FCC7CDBB9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28E5ED-918C-4FBD-A89E-89051E357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1201B1-4FE6-4C06-8124-B521FD75A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8AE4AB-DB3B-4F82-BB1F-842FF2EC5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261A44-725C-4608-A966-C9B1BA7D4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ACEB0-9D67-4B35-ABD9-7C75BBAFE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1D6C56-CF6B-4563-AC8D-7572925AD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CD3114-151D-470D-BD58-2550F0310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B6949D-4B25-4FEE-B83C-EF01FDC52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9E43F0-E50D-42DA-910A-8EFC18366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E5ACFD-FEFC-4F22-898F-0F412AABC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C35A0A-475A-4EC9-9102-17F92A331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619FE8-2435-4391-9761-7462AF4C0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16F27D-5FBA-4F98-A458-7F1FBA0DD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0A752C-1D43-4989-A7CE-89B482CDD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E692E2-3BE9-4ECD-9E3C-5ECD6D0E9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85362-6B02-4E35-A6FF-B56A2645E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E8152E-12FA-4EAB-BA22-044C1015E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21822D-AA85-44D1-84F4-AA805DBD4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FF1F15-3AC6-409C-BCC1-F38C24C6B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5C7FF5-E0BB-4796-A227-4E7EB748A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128CFF-5C4A-436F-BCB1-4F0E2D014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C8313F-B61E-4F6F-A3A6-7718B36E1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95D6F2-C7A3-4C45-A5F6-B78DC3C97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1549AB-1094-4B92-8FE2-BDA7A15F2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D3AA6F-A7BF-4C3A-8B90-0A744BCDD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AA5D5E-A4C2-4F64-9F98-FD7A4BF15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9D0DE-70A5-49E5-8311-C37990716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47A74B-0E9C-49D7-BAD0-B656AD6E7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52C58A-1D5A-48D3-A0F7-DE0F5DE86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2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0D78D4-3ACD-462B-A197-1502EF96D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4D52F4-A554-4D3B-BA0E-CD66F220D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89F4A7-E2AE-4E7B-A7E2-61A346FA9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762F0A-98D5-4608-A281-DB00783A7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9BACDE-00A7-445F-A9B6-1D97DEA41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33480A-8BF6-49FD-BB65-DF0ECA76C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2218A4-38F3-4C57-AD5B-D5CAAC852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5656DF-7362-47BA-8D98-84523C9F5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0B61D-574C-46D0-93D1-FF300840B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8C7261-E07A-4C8B-A94F-D49438BD1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5A18E7-33BF-4499-8809-10346CED3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0B3440-FC50-4A1C-91AB-90E64EA60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7A6344-2FFD-41EE-B57D-E4BA9FFA8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F7D225-BD02-4D25-BB94-4D4265BD9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C1BA77-9B7A-43E9-B7E5-0057ED8D4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8EFC82-74EE-4E28-BF53-09AF1AFEA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86A2BA-8B4D-4CE2-BC89-6B55F65BE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3C0A22-005F-44AB-B9D5-2C770FD61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11E1CB-BF53-4497-946C-4B0340C66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3B39F-2A56-4BD4-99FD-2E776F96D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950089-2549-4FA3-968B-967F3AC55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B074A2-86F0-4C8D-8222-4268E8D11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A772C7-8D0C-4171-9E56-AECC95B44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C30AC7-43F3-40BE-85B6-66218CF3B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9A22B1-448A-4A7E-83BA-D9FC5BD75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F0B682-C264-4E8A-A04D-652A3AF7E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C57E8E-AA32-48C7-BF0B-E57EE5E50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FE9E85-729E-4E79-A45A-48BDC48C4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039897-AD3F-4F73-93A6-1D1AA9538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3059CA-14D7-40E1-BCFC-C212174E1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C4D6E8D-4A14-4049-A936-F9639A26FB0B}" type="slidenum">
              <a:rPr b="0" lang="en-US" sz="1200" spc="-1" strike="noStrike">
                <a:solidFill>
                  <a:srgbClr val="b5a788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6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417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8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19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dt" idx="28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 type="ftr" idx="29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 type="sldNum" idx="30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603F2A0-0E9A-479E-A943-B137BD60F9A1}" type="slidenum">
              <a:rPr b="0" lang="en-US" sz="1200" spc="-1" strike="noStrike">
                <a:solidFill>
                  <a:srgbClr val="b5a788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4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465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67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 type="dt" idx="3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 type="ftr" idx="3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 type="sldNum" idx="3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4FA04ED-D631-45DE-A334-AB8F165DA754}" type="slidenum">
              <a:rPr b="0" lang="en-US" sz="1200" spc="-1" strike="noStrike">
                <a:solidFill>
                  <a:srgbClr val="b5a788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1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1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 type="dt" idx="3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 type="ftr" idx="3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 type="sldNum" idx="3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E34384E-1ECC-43C0-930F-0F40F79D88BF}" type="slidenum">
              <a:rPr b="0" lang="en-US" sz="1200" spc="-1" strike="noStrike">
                <a:solidFill>
                  <a:srgbClr val="b5a788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6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6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6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48C15CF-7567-4E44-A856-1B9FAB8EB44A}" type="slidenum">
              <a:rPr b="0" lang="en-US" sz="1200" spc="-1" strike="noStrike">
                <a:solidFill>
                  <a:srgbClr val="b5a788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10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01F3CE4-4289-45FB-AC68-FA9DD211EF0B}" type="slidenum">
              <a:rPr b="0" lang="en-US" sz="1200" spc="-1" strike="noStrike">
                <a:solidFill>
                  <a:srgbClr val="b5a788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0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51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3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76EE98B-55CE-4509-85C0-D307134F04BC}" type="slidenum">
              <a:rPr b="0" lang="en-US" sz="1200" spc="-1" strike="noStrike">
                <a:solidFill>
                  <a:srgbClr val="b5a788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7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198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0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3ED5715-19D7-418C-B329-B17AD60908FD}" type="slidenum">
              <a:rPr b="0" lang="en-US" sz="1200" spc="-1" strike="noStrike">
                <a:solidFill>
                  <a:srgbClr val="b5a788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457179F-2900-4E08-AC9C-1B301AB0A7D8}" type="slidenum">
              <a:rPr b="0" lang="en-US" sz="1200" spc="-1" strike="noStrike">
                <a:solidFill>
                  <a:srgbClr val="b5a788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6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287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8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9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8502C29-1B0F-4E85-850F-400B72BDB9CD}" type="slidenum">
              <a:rPr b="0" lang="en-US" sz="1200" spc="-1" strike="noStrike">
                <a:solidFill>
                  <a:srgbClr val="b5a788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dt" idx="22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 type="ftr" idx="23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 type="sldNum" idx="24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D575A00-2504-4556-A206-CF4E3549F7CF}" type="slidenum">
              <a:rPr b="0" lang="en-US" sz="1200" spc="-1" strike="noStrike">
                <a:solidFill>
                  <a:srgbClr val="b5a788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dt" idx="25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ftr" idx="26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 type="sldNum" idx="27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912908A-B77F-44FE-B866-DC2468627BC2}" type="slidenum">
              <a:rPr b="0" lang="en-US" sz="1200" spc="-1" strike="noStrike">
                <a:solidFill>
                  <a:srgbClr val="b5a788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35.xml"/><Relationship Id="rId2" Type="http://schemas.openxmlformats.org/officeDocument/2006/relationships/hyperlink" Target="https://www.maam.ru/maps/news/271997.html" TargetMode="External"/><Relationship Id="rId3" Type="http://schemas.openxmlformats.org/officeDocument/2006/relationships/hyperlink" Target="https://nsportal.ru/user/297631/video" TargetMode="External"/><Relationship Id="rId4" Type="http://schemas.openxmlformats.org/officeDocument/2006/relationships/hyperlink" Target="https://nsportal.ru/user/297631/video" TargetMode="External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45.xml"/><Relationship Id="rId7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395280" y="620280"/>
            <a:ext cx="6856560" cy="25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i="1" lang="ru-RU" sz="3100" spc="-1" strike="noStrike">
                <a:solidFill>
                  <a:srgbClr val="922223"/>
                </a:solidFill>
                <a:latin typeface="Corbel"/>
              </a:rPr>
              <a:t>Портфолио</a:t>
            </a:r>
            <a:r>
              <a:rPr b="1" i="1" lang="ru-RU" sz="3100" spc="-1" strike="noStrike">
                <a:solidFill>
                  <a:srgbClr val="922223"/>
                </a:solidFill>
                <a:latin typeface="Corbel"/>
              </a:rPr>
              <a:t> </a:t>
            </a:r>
            <a:br>
              <a:rPr sz="3100"/>
            </a:br>
            <a:r>
              <a:rPr b="0" i="1" lang="ru-RU" sz="2200" spc="-1" strike="noStrike">
                <a:solidFill>
                  <a:srgbClr val="c00000"/>
                </a:solidFill>
                <a:latin typeface="Corbel"/>
              </a:rPr>
              <a:t>Тарейкиной Нины Васильевны,</a:t>
            </a:r>
            <a:br>
              <a:rPr sz="2200"/>
            </a:br>
            <a:r>
              <a:rPr b="0" i="1" lang="ru-RU" sz="2200" spc="-1" strike="noStrike">
                <a:solidFill>
                  <a:srgbClr val="c00000"/>
                </a:solidFill>
                <a:latin typeface="Corbel"/>
              </a:rPr>
              <a:t>музыкального руководителя </a:t>
            </a:r>
            <a:br>
              <a:rPr sz="2000"/>
            </a:br>
            <a:r>
              <a:rPr b="0" i="1" lang="ru-RU" sz="2000" spc="-1" strike="noStrike">
                <a:solidFill>
                  <a:srgbClr val="c00000"/>
                </a:solidFill>
                <a:latin typeface="Corbel"/>
              </a:rPr>
              <a:t>МДОБУ «Кемлянский детский сад </a:t>
            </a:r>
            <a:br>
              <a:rPr sz="2000"/>
            </a:br>
            <a:r>
              <a:rPr b="0" i="1" lang="ru-RU" sz="2000" spc="-1" strike="noStrike">
                <a:solidFill>
                  <a:srgbClr val="c00000"/>
                </a:solidFill>
                <a:latin typeface="Corbel"/>
              </a:rPr>
              <a:t>комбинированного вида» </a:t>
            </a:r>
            <a:br>
              <a:rPr sz="2000"/>
            </a:br>
            <a:r>
              <a:rPr b="0" i="1" lang="ru-RU" sz="2000" spc="-1" strike="noStrike">
                <a:solidFill>
                  <a:srgbClr val="c00000"/>
                </a:solidFill>
                <a:latin typeface="Corbel"/>
              </a:rPr>
              <a:t>Ичалковского муниципального района</a:t>
            </a:r>
            <a:br>
              <a:rPr sz="2000"/>
            </a:br>
            <a:endParaRPr b="0" lang="en-US" sz="2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subTitle"/>
          </p:nvPr>
        </p:nvSpPr>
        <p:spPr>
          <a:xfrm>
            <a:off x="971280" y="3141720"/>
            <a:ext cx="756108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22223"/>
                </a:solidFill>
                <a:latin typeface="Times New Roman"/>
              </a:rPr>
              <a:t> </a:t>
            </a:r>
            <a:r>
              <a:rPr b="1" i="1" lang="ru-RU" sz="1800" spc="-1" strike="noStrike">
                <a:solidFill>
                  <a:srgbClr val="922223"/>
                </a:solidFill>
                <a:latin typeface="Times New Roman"/>
              </a:rPr>
              <a:t>Дата рождения: </a:t>
            </a:r>
            <a:r>
              <a:rPr b="0" i="1" lang="ru-RU" sz="1800" spc="-1" strike="noStrike">
                <a:solidFill>
                  <a:srgbClr val="922223"/>
                </a:solidFill>
                <a:latin typeface="Times New Roman"/>
              </a:rPr>
              <a:t>15.04.1962 г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22223"/>
                </a:solidFill>
                <a:latin typeface="Times New Roman"/>
              </a:rPr>
              <a:t>Профессиональное образование: </a:t>
            </a:r>
            <a:r>
              <a:rPr b="0" i="1" lang="ru-RU" sz="1800" spc="-1" strike="noStrike">
                <a:solidFill>
                  <a:srgbClr val="922223"/>
                </a:solidFill>
                <a:latin typeface="Times New Roman"/>
              </a:rPr>
              <a:t>высшее, МГПИ им М.Е. Евсевьева, учитель музыки, </a:t>
            </a:r>
            <a:r>
              <a:rPr b="0" lang="ru-RU" sz="1800" spc="-1" strike="noStrike" u="sng">
                <a:solidFill>
                  <a:srgbClr val="922122"/>
                </a:solidFill>
                <a:uFillTx/>
                <a:latin typeface="Times New Roman"/>
                <a:hlinkClick r:id="rId1" action="ppaction://hlinksldjump"/>
              </a:rPr>
              <a:t>диплом ЦВ № 218742, 12.07.1991 г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22223"/>
                </a:solidFill>
                <a:latin typeface="Times New Roman"/>
              </a:rPr>
              <a:t>Общий стаж работы</a:t>
            </a:r>
            <a:r>
              <a:rPr b="0" i="1" lang="ru-RU" sz="1800" spc="-1" strike="noStrike">
                <a:solidFill>
                  <a:srgbClr val="922223"/>
                </a:solidFill>
                <a:latin typeface="Times New Roman"/>
              </a:rPr>
              <a:t> – 37, </a:t>
            </a:r>
            <a:r>
              <a:rPr b="1" i="1" lang="ru-RU" sz="1800" spc="-1" strike="noStrike">
                <a:solidFill>
                  <a:srgbClr val="922223"/>
                </a:solidFill>
                <a:latin typeface="Times New Roman"/>
              </a:rPr>
              <a:t>педагогический – </a:t>
            </a:r>
            <a:r>
              <a:rPr b="0" i="1" lang="ru-RU" sz="1800" spc="-1" strike="noStrike">
                <a:solidFill>
                  <a:srgbClr val="922223"/>
                </a:solidFill>
                <a:latin typeface="Times New Roman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22223"/>
                </a:solidFill>
                <a:latin typeface="Times New Roman"/>
              </a:rPr>
              <a:t>Наличие квалификационной категории: </a:t>
            </a:r>
            <a:r>
              <a:rPr b="0" i="1" lang="ru-RU" sz="1800" spc="-1" strike="noStrike">
                <a:solidFill>
                  <a:srgbClr val="922223"/>
                </a:solidFill>
                <a:latin typeface="Times New Roman"/>
              </a:rPr>
              <a:t>первая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22223"/>
                </a:solidFill>
                <a:latin typeface="Times New Roman"/>
              </a:rPr>
              <a:t>Дата последней аттестации: </a:t>
            </a:r>
            <a:r>
              <a:rPr b="0" i="1" lang="ru-RU" sz="1800" spc="-1" strike="noStrike">
                <a:solidFill>
                  <a:srgbClr val="922223"/>
                </a:solidFill>
                <a:latin typeface="Times New Roman"/>
              </a:rPr>
              <a:t>04.04. 2014 г.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22223"/>
                </a:solidFill>
                <a:latin typeface="Times New Roman"/>
              </a:rPr>
              <a:t>Дата прохождения курсов: </a:t>
            </a:r>
            <a:r>
              <a:rPr b="0" i="1" lang="ru-RU" sz="1800" spc="-1" strike="noStrike">
                <a:solidFill>
                  <a:srgbClr val="922223"/>
                </a:solidFill>
                <a:latin typeface="Times New Roman"/>
              </a:rPr>
              <a:t>26.09.-30.09.2016 г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22223"/>
                </a:solidFill>
                <a:latin typeface="Times New Roman"/>
              </a:rPr>
              <a:t>Портфолио документов</a:t>
            </a:r>
            <a:r>
              <a:rPr b="0" i="1" lang="ru-RU" sz="1800" spc="-1" strike="noStrike">
                <a:solidFill>
                  <a:srgbClr val="922223"/>
                </a:solidFill>
                <a:latin typeface="Times New Roman"/>
              </a:rPr>
              <a:t>:</a:t>
            </a:r>
            <a:r>
              <a:rPr b="0" lang="en-US" sz="1800" spc="-1" strike="noStrike" u="sng">
                <a:solidFill>
                  <a:srgbClr val="922122"/>
                </a:solidFill>
                <a:uFillTx/>
                <a:latin typeface="Times New Roman"/>
                <a:hlinkClick r:id="rId2"/>
              </a:rPr>
              <a:t>https://www.maam.ru/maps/news/271997.html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22223"/>
                </a:solidFill>
                <a:latin typeface="Times New Roman"/>
              </a:rPr>
              <a:t>Фрагмент видео занятия:</a:t>
            </a:r>
            <a:r>
              <a:rPr b="0" lang="en-US" sz="1800" spc="-1" strike="noStrike" u="sng">
                <a:solidFill>
                  <a:srgbClr val="922122"/>
                </a:solidFill>
                <a:uFillTx/>
                <a:latin typeface="Times New Roman"/>
                <a:hlinkClick r:id="rId3"/>
              </a:rPr>
              <a:t> </a:t>
            </a:r>
            <a:r>
              <a:rPr b="0" lang="en-US" sz="1800" spc="-1" strike="noStrike" u="sng">
                <a:solidFill>
                  <a:srgbClr val="922122"/>
                </a:solidFill>
                <a:uFillTx/>
                <a:latin typeface="Times New Roman"/>
                <a:hlinkClick r:id="rId4"/>
              </a:rPr>
              <a:t>https://nsportal.ru/user/297631/video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5" name="Прямоугольник 7"/>
          <p:cNvSpPr/>
          <p:nvPr/>
        </p:nvSpPr>
        <p:spPr>
          <a:xfrm>
            <a:off x="1000080" y="189000"/>
            <a:ext cx="81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000" spc="-1" strike="noStrike">
                <a:solidFill>
                  <a:srgbClr val="922223"/>
                </a:solidFill>
                <a:latin typeface="Corbel"/>
              </a:rPr>
              <a:t>Министерство образования Республики Мордов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6" name="Picture 5" descr=""/>
          <p:cNvPicPr/>
          <p:nvPr/>
        </p:nvPicPr>
        <p:blipFill>
          <a:blip r:embed="rId5"/>
          <a:stretch/>
        </p:blipFill>
        <p:spPr>
          <a:xfrm>
            <a:off x="6732720" y="620640"/>
            <a:ext cx="2141280" cy="29815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04T11:06:49Z</dcterms:created>
  <dc:creator>User User</dc:creator>
  <dc:description/>
  <dc:language>en-US</dc:language>
  <cp:lastModifiedBy>Comach</cp:lastModifiedBy>
  <dcterms:modified xsi:type="dcterms:W3CDTF">2018-12-07T15:52:33Z</dcterms:modified>
  <cp:revision>242</cp:revision>
  <dc:subject/>
  <dc:title>Роль ПНПО в развитии (модернизации) образования страны</dc:title>
</cp:coreProperties>
</file>