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6.jpeg" ContentType="image/jpeg"/>
  <Override PartName="/ppt/media/image7.jpeg" ContentType="image/jpeg"/>
  <Override PartName="/ppt/media/image20.png" ContentType="image/pn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header&gt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DEE68A-2AFE-41FD-BBD3-CF366B9530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CBFC-30DC-4D52-8245-AEE9DEC75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0752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8537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320" y="3984840"/>
            <a:ext cx="8537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AFD2-F1E1-46CE-8743-204789A15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0752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676520"/>
            <a:ext cx="4165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320" y="3984840"/>
            <a:ext cx="4165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984840"/>
            <a:ext cx="4165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6F8F-432B-46F5-908B-2B3084B47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0752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2748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8160" y="1676520"/>
            <a:ext cx="2748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5000" y="1676520"/>
            <a:ext cx="2748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320" y="3984840"/>
            <a:ext cx="2748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8160" y="3984840"/>
            <a:ext cx="2748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5000" y="3984840"/>
            <a:ext cx="2748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7A04-FD2F-4F46-9D42-505287E60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86F46-8B71-4579-86A0-5158CDEFB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0752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320" y="1676520"/>
            <a:ext cx="8537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48ED7-C4E8-4544-BB23-EF827343C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0752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8537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15058-FFE5-4136-9FDA-6980413E7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0752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676520"/>
            <a:ext cx="4165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46EEB-543A-42C6-9200-90445F0BA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0752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C5140-E4EE-48EE-8B06-C10DF0238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07520" cy="61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802A8-2AA9-4368-9F28-19C9F361B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0752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676520"/>
            <a:ext cx="4165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320" y="3984840"/>
            <a:ext cx="4165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2490F-0B08-4FDD-9287-A93F437E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0752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320" y="1676520"/>
            <a:ext cx="8537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EB26-0A3D-49CC-ADB2-E42A8FC70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0752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676520"/>
            <a:ext cx="4165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984840"/>
            <a:ext cx="4165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3C5D6-E119-4003-9B7F-C154688F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0752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676520"/>
            <a:ext cx="4165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320" y="3984840"/>
            <a:ext cx="8537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7A5C7-215E-4596-9B51-149A5ACD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0752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8537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320" y="3984840"/>
            <a:ext cx="8537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37A1D-0879-4117-BB5B-1D7328F74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0752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676520"/>
            <a:ext cx="4165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320" y="3984840"/>
            <a:ext cx="4165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984840"/>
            <a:ext cx="4165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9EE2D-2F54-4119-97AF-498E9E89D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0752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2748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8160" y="1676520"/>
            <a:ext cx="2748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5000" y="1676520"/>
            <a:ext cx="2748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320" y="3984840"/>
            <a:ext cx="2748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8160" y="3984840"/>
            <a:ext cx="2748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5000" y="3984840"/>
            <a:ext cx="2748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F922B-F061-42DD-A159-F28598E87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0752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8537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C160-297A-445E-B596-9AD58A641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0752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676520"/>
            <a:ext cx="4165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04D2-7CA8-4EB0-AC80-C878D7B90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0752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B105-268B-428B-AB54-AC24CC471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07520" cy="61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FECF-3427-4BF2-8D00-FCF3519E2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0752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676520"/>
            <a:ext cx="4165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320" y="3984840"/>
            <a:ext cx="4165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9C97-DD9D-46AD-A671-0EA07FE6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0752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676520"/>
            <a:ext cx="4165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984840"/>
            <a:ext cx="4165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B56E-EC28-4EE3-AC3F-821EF1C6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0752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320" y="1676520"/>
            <a:ext cx="4165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676520"/>
            <a:ext cx="4165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320" y="3984840"/>
            <a:ext cx="8537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87CF-975B-49F3-B8E3-EA229057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0752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320" y="1676520"/>
            <a:ext cx="8537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2"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3"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4"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5"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6"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245280"/>
            <a:ext cx="228276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9F9FB4-2244-4613-A5D9-08196C245544}" type="datetime">
              <a:rPr b="0" lang="ru-RU" sz="1800" spc="-1" strike="noStrike">
                <a:solidFill>
                  <a:srgbClr val="ffffff"/>
                </a:solidFill>
                <a:latin typeface="Calibri"/>
              </a:rPr>
              <a:t>28.07.26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2831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18A30C-6DBD-4DBA-9538-D6E9EE07D4DB}" type="slidenum">
              <a:rPr b="0" lang="ru-RU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980720"/>
            <a:ext cx="7769160" cy="15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71240" y="3886200"/>
            <a:ext cx="6397560" cy="17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1000"/>
          </a:bodyPr>
          <a:p>
            <a:pPr marL="140400" indent="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40400" indent="-14040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0400" indent="-14040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40400" indent="-14040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0400" indent="-140400" algn="ctr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0400" indent="-140400" algn="ctr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0400" indent="-140400" algn="ctr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560" y="6245280"/>
            <a:ext cx="228276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3B4D51-E998-4860-971D-62EA4C06BEAA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2831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8CF06D-7FB4-422C-810D-757835A503F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4000" y="1341360"/>
            <a:ext cx="854064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Много в природе дивных сил,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98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но сильней человека – нет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984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фокл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984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98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Много есть чудес на свете,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98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Человек их всех чудесней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3984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фокл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Vasilyeva E.A. 2017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68360" y="189000"/>
            <a:ext cx="8229600" cy="95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a4"/>
                </a:solidFill>
                <a:latin typeface="Arial"/>
              </a:rPr>
              <a:t>1941-1945 г.г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68360" y="1268280"/>
            <a:ext cx="8280360" cy="5113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Vasilyeva E.A. 2017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96472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600" spc="-1" strike="noStrike">
                <a:solidFill>
                  <a:srgbClr val="ffff00"/>
                </a:solidFill>
                <a:latin typeface="Times New Roman"/>
              </a:rPr>
              <a:t>Демографический кризис -</a:t>
            </a:r>
            <a:r>
              <a:rPr b="0" lang="ru-RU" sz="4800" spc="-1" strike="noStrike">
                <a:solidFill>
                  <a:srgbClr val="b7e7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3141360"/>
            <a:ext cx="8540640" cy="29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езкое уменьшени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численности населения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(в результате превыше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мертности над рождаемостью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Vasilyeva E.A. 2017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68360" y="20520"/>
            <a:ext cx="822960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Arial"/>
              </a:rPr>
              <a:t>Современная перепись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116000" y="981000"/>
            <a:ext cx="6985080" cy="4343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24000" y="5516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Первая перепись в Российской Федерации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была проведена в 2002 году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Vasilyeva E.A. 2017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01680" y="219240"/>
            <a:ext cx="85104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308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276720" y="5734080"/>
            <a:ext cx="253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42,9 млн. чел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Vasilyeva E.A. 2017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Фактическая и гипотетическая численность населения на современной территории России (1900-2000)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826920" y="1773360"/>
            <a:ext cx="7632720" cy="446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Vasilyeva E.A. 2017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Основные показатели воспроизводства населения по РФ до 2045 года </a:t>
            </a:r>
            <a:br>
              <a:rPr sz="2800"/>
            </a:b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50920" y="1052640"/>
          <a:ext cx="8540640" cy="5238720"/>
        </p:xfrm>
        <a:graphic>
          <a:graphicData uri="http://schemas.openxmlformats.org/drawingml/2006/table">
            <a:tbl>
              <a:tblPr/>
              <a:tblGrid>
                <a:gridCol w="2135160"/>
                <a:gridCol w="2135160"/>
                <a:gridCol w="2135160"/>
                <a:gridCol w="2135160"/>
              </a:tblGrid>
              <a:tr h="671040">
                <a:tc>
                  <a:txBody>
                    <a:bodyPr lIns="90000" rIns="90000" tIns="997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д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97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ждаем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97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мертн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997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стественный прирос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1960"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7,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1960"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9,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1960"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,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11,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1960"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4,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1960"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,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15,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1960"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,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17,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1960"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3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,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19,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1960"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,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21,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2560"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4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8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,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105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23,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Vasilyeva E.A. 2017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Times New Roman"/>
              </a:rPr>
              <a:t>Работа в группах со статистическим материалом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о данным таблиц составить графики изменения численности населения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1 группа – в России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2 группа – в Липецкой област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3 группа – в Елецком районе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о одному представителю от каждой группы выступить с выводом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Vasilyeva E.A. 2017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Times New Roman"/>
              </a:rPr>
              <a:t>Проверить правильность выполнения задания (сверить с эталоном)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39640" y="1773360"/>
            <a:ext cx="7993080" cy="41767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337560" y="6021360"/>
            <a:ext cx="26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График по России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Vasilyeva E.A. 2017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Times New Roman"/>
              </a:rPr>
              <a:t>График по Липецкой области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7848360" cy="446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Vasilyeva E.A. 2017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График по Елецкому району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826920" y="1844640"/>
            <a:ext cx="7561440" cy="439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Vasilyeva E.A. 2017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50920" y="4221000"/>
            <a:ext cx="4176720" cy="21812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643280" y="4292640"/>
            <a:ext cx="4184640" cy="2158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250920" y="2133720"/>
            <a:ext cx="4176720" cy="20890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250920" y="0"/>
            <a:ext cx="4176720" cy="2160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4643280" y="0"/>
            <a:ext cx="4176720" cy="2232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7"/>
          <a:stretch/>
        </p:blipFill>
        <p:spPr>
          <a:xfrm>
            <a:off x="4643280" y="2205000"/>
            <a:ext cx="4178520" cy="2158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Vasilyeva E.A. 2017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8360" y="-15840"/>
            <a:ext cx="8229600" cy="8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Социологическое исследование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08000" y="1128600"/>
          <a:ext cx="8858160" cy="5224680"/>
        </p:xfrm>
        <a:graphic>
          <a:graphicData uri="http://schemas.openxmlformats.org/drawingml/2006/table">
            <a:tbl>
              <a:tblPr/>
              <a:tblGrid>
                <a:gridCol w="549360"/>
                <a:gridCol w="2619360"/>
                <a:gridCol w="2311200"/>
                <a:gridCol w="1617840"/>
                <a:gridCol w="1760400"/>
              </a:tblGrid>
              <a:tr h="1067040">
                <a:tc>
                  <a:txBody>
                    <a:bodyPr lIns="90000" rIns="90000" tIns="85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85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милия, Имя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85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детей у прабабушек и прадедушек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85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детей у бабушек и дедушек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85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детей у ваших родителе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69720">
                <a:tc>
                  <a:txBody>
                    <a:bodyPr lIns="90000" rIns="90000" tIns="907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907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розов Иль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907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- 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907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- 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907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907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907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дова Верон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907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- 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907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- 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907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907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907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рина Алё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907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907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907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907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907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ремская Ди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907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- 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907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- 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907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907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907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рченко Кристи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907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- 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907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907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907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907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ршин Рома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907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907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907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907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907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ротина Татья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907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- 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907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907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907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907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викова Ан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907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- 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907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907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907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907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довова Ольг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907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907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907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907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907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кринский Дании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907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907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- 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907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0440">
                <a:tc>
                  <a:txBody>
                    <a:bodyPr lIns="90000" rIns="90000" tIns="9072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72000" bIns="468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DejaVu Serif"/>
                        </a:rPr>
                        <a:t>Першикова Валерия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- 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- 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Vasilyeva E.A. 2017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24000" y="260280"/>
            <a:ext cx="8510400" cy="132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a4"/>
                </a:solidFill>
                <a:latin typeface="Times New Roman"/>
              </a:rPr>
              <a:t>Демографическая политика -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"/>
          <p:cNvSpPr/>
          <p:nvPr/>
        </p:nvSpPr>
        <p:spPr>
          <a:xfrm>
            <a:off x="301680" y="1989000"/>
            <a:ext cx="854064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омплекс экономических, административных, пропагандистских мероприятий, с помощью которых государство влияет на изменение численности населения в желаемом для себя направлении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Vasilyeva E.A. 2017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imes New Roman"/>
              </a:rPr>
              <a:t>Приоритетные национальные проекты в современной России направлены на: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величение продолжительности жизни населения за счёт улучшения качества жизн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нижение преждевременной смертности, в первую очередь младенческой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кращение заболеваемости, травматизма, инвалидност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имулирование многодетных семей, усыновление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ддержка семейно-брачных отношен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Vasilyeva E.A. 2017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Подведём итог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 Какова численность населения России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От чего зависит численность населения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 Что называют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демографией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демографическим кризисом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демографической политико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. Какая демографическая ситуация характерна для современной России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. Какие меры предпринимает государство по увеличению численности населения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Vasilyeva E.A. 2017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24000" y="260280"/>
            <a:ext cx="85104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"/>
          <p:cNvSpPr/>
          <p:nvPr/>
        </p:nvSpPr>
        <p:spPr>
          <a:xfrm>
            <a:off x="301680" y="2924280"/>
            <a:ext cx="8540640" cy="31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§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38, повторить термины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Times New Roman"/>
              </a:rPr>
              <a:t>«3»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– вопросы 1,3 после параграф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Vasilyeva E.A. 2017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228600"/>
            <a:ext cx="851076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  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168720" cy="2135160"/>
          </a:xfrm>
          <a:prstGeom prst="rect">
            <a:avLst/>
          </a:prstGeom>
          <a:ln cap="sq" w="57240">
            <a:solidFill>
              <a:srgbClr val="6699ff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979640" y="1844640"/>
            <a:ext cx="3168720" cy="2158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3635280" y="3716280"/>
            <a:ext cx="3168720" cy="21448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5975280" y="4729320"/>
            <a:ext cx="3168720" cy="2128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Vasilyeva E.A. 2017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7200" spc="-1" strike="noStrike" u="sng">
                <a:solidFill>
                  <a:srgbClr val="ffff00"/>
                </a:solidFill>
                <a:uFillTx/>
                <a:latin typeface="Arial"/>
              </a:rPr>
              <a:t>Население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301680" y="1676520"/>
            <a:ext cx="854064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Где живут люди?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Кто они?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Как они живут?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Сколько людей?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Vasilyeva E.A. 2017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24000" y="189000"/>
            <a:ext cx="8510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Тема урока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108000" y="1052640"/>
            <a:ext cx="885672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a4"/>
                </a:solidFill>
                <a:latin typeface="Times New Roman"/>
              </a:rPr>
              <a:t>«Численность населения России»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403280" y="1916280"/>
            <a:ext cx="6761160" cy="8997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Vasilyeva E.A. 2017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39640" y="105264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900" spc="-1" strike="noStrike" u="sng">
                <a:solidFill>
                  <a:srgbClr val="ffff00"/>
                </a:solidFill>
                <a:uFillTx/>
                <a:latin typeface="Times New Roman"/>
              </a:rPr>
              <a:t>Демография – наука о населении</a:t>
            </a:r>
            <a:endParaRPr b="0" lang="en-US" sz="5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2708280"/>
            <a:ext cx="79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(от греческого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s –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народ,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rapho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– пишу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Vasilyeva E.A. 2017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50920" y="0"/>
            <a:ext cx="8713800" cy="65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a4"/>
                </a:solidFill>
                <a:latin typeface="Arial"/>
              </a:rPr>
              <a:t>Место современной России в населении мир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68360" y="907920"/>
          <a:ext cx="8139240" cy="4896000"/>
        </p:xfrm>
        <a:graphic>
          <a:graphicData uri="http://schemas.openxmlformats.org/drawingml/2006/table">
            <a:tbl>
              <a:tblPr/>
              <a:tblGrid>
                <a:gridCol w="1439640"/>
                <a:gridCol w="3602160"/>
                <a:gridCol w="3097440"/>
              </a:tblGrid>
              <a:tr h="355680">
                <a:tc>
                  <a:txBody>
                    <a:bodyPr lIns="90000" rIns="90000" tIns="871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енность насел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05080">
                <a:tc>
                  <a:txBody>
                    <a:bodyPr lIns="90000" rIns="90000" tIns="10728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та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 339 450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04720">
                <a:tc>
                  <a:txBody>
                    <a:bodyPr lIns="90000" rIns="90000" tIns="10728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 187 550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3280">
                <a:tc>
                  <a:txBody>
                    <a:bodyPr lIns="90000" rIns="90000" tIns="10728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Ш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8 613 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04720">
                <a:tc>
                  <a:txBody>
                    <a:bodyPr lIns="90000" rIns="90000" tIns="10728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онез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2 812 2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4720">
                <a:tc>
                  <a:txBody>
                    <a:bodyPr lIns="90000" rIns="90000" tIns="10728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азил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3 260 22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05080">
                <a:tc>
                  <a:txBody>
                    <a:bodyPr lIns="90000" rIns="90000" tIns="10728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киста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 048 02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2920">
                <a:tc>
                  <a:txBody>
                    <a:bodyPr lIns="90000" rIns="90000" tIns="10728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гер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 516 90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05080">
                <a:tc>
                  <a:txBody>
                    <a:bodyPr lIns="90000" rIns="90000" tIns="10728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нгладеш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 951 2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4720">
                <a:tc>
                  <a:txBody>
                    <a:bodyPr lIns="90000" rIns="90000" tIns="10728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с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6 206 09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68360" y="5805360"/>
          <a:ext cx="8137440" cy="517320"/>
        </p:xfrm>
        <a:graphic>
          <a:graphicData uri="http://schemas.openxmlformats.org/drawingml/2006/table">
            <a:tbl>
              <a:tblPr/>
              <a:tblGrid>
                <a:gridCol w="1439640"/>
                <a:gridCol w="3600720"/>
                <a:gridCol w="3097080"/>
              </a:tblGrid>
              <a:tr h="517320">
                <a:tc>
                  <a:txBody>
                    <a:bodyPr lIns="90000" rIns="90000" tIns="10728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по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9720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7 040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Vasilyeva E.A. 2017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68360" y="0"/>
            <a:ext cx="82296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Перепись населени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765000"/>
            <a:ext cx="8362800" cy="561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a4"/>
                </a:solidFill>
                <a:latin typeface="Times New Roman"/>
              </a:rPr>
              <a:t>XVII </a:t>
            </a:r>
            <a:r>
              <a:rPr b="1" lang="ru-RU" sz="2800" spc="-1" strike="noStrike">
                <a:solidFill>
                  <a:srgbClr val="0000a4"/>
                </a:solidFill>
                <a:latin typeface="Times New Roman"/>
              </a:rPr>
              <a:t>век – подворная перепись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a4"/>
                </a:solidFill>
                <a:latin typeface="Times New Roman"/>
              </a:rPr>
              <a:t>XVIII</a:t>
            </a:r>
            <a:r>
              <a:rPr b="1" lang="ru-RU" sz="2800" spc="-1" strike="noStrike">
                <a:solidFill>
                  <a:srgbClr val="0000a4"/>
                </a:solidFill>
                <a:latin typeface="Times New Roman"/>
              </a:rPr>
              <a:t> век – «подушная» перепись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a4"/>
                </a:solidFill>
                <a:latin typeface="Times New Roman"/>
              </a:rPr>
              <a:t>Февраль 1897 г. – первая научно- организованная перепись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a4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a4"/>
                </a:solidFill>
                <a:latin typeface="Times New Roman"/>
              </a:rPr>
              <a:t>1926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a4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a4"/>
                </a:solidFill>
                <a:latin typeface="Times New Roman"/>
              </a:rPr>
              <a:t>1937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a4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a4"/>
                </a:solidFill>
                <a:latin typeface="Times New Roman"/>
              </a:rPr>
              <a:t>1939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a4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a4"/>
                </a:solidFill>
                <a:latin typeface="Times New Roman"/>
              </a:rPr>
              <a:t>1959             7 переписей в СССР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a4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a4"/>
                </a:solidFill>
                <a:latin typeface="Times New Roman"/>
              </a:rPr>
              <a:t>1970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a4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a4"/>
                </a:solidFill>
                <a:latin typeface="Times New Roman"/>
              </a:rPr>
              <a:t>1979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a4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a4"/>
                </a:solidFill>
                <a:latin typeface="Times New Roman"/>
              </a:rPr>
              <a:t>1989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"/>
          <p:cNvSpPr/>
          <p:nvPr/>
        </p:nvSpPr>
        <p:spPr>
          <a:xfrm>
            <a:off x="2262240" y="2708280"/>
            <a:ext cx="431640" cy="3610080"/>
          </a:xfrm>
          <a:custGeom>
            <a:avLst/>
            <a:gdLst>
              <a:gd name="textAreaLeft" fmla="*/ 0 w 431640"/>
              <a:gd name="textAreaRight" fmla="*/ 155880 w 431640"/>
              <a:gd name="textAreaTop" fmla="*/ 10440 h 3610080"/>
              <a:gd name="textAreaBottom" fmla="*/ 3599640 h 361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2"/>
                  <a:pt x="10800" y="204"/>
                </a:cubicBezTo>
                <a:lnTo>
                  <a:pt x="10800" y="10596"/>
                </a:lnTo>
                <a:cubicBezTo>
                  <a:pt x="10800" y="10698"/>
                  <a:pt x="16200" y="10800"/>
                  <a:pt x="21600" y="10800"/>
                </a:cubicBezTo>
                <a:cubicBezTo>
                  <a:pt x="16200" y="10800"/>
                  <a:pt x="10800" y="10902"/>
                  <a:pt x="10800" y="11004"/>
                </a:cubicBezTo>
                <a:lnTo>
                  <a:pt x="10800" y="21396"/>
                </a:lnTo>
                <a:cubicBezTo>
                  <a:pt x="10800" y="21498"/>
                  <a:pt x="5400" y="21600"/>
                  <a:pt x="0" y="21600"/>
                </a:cubicBezTo>
              </a:path>
            </a:pathLst>
          </a:custGeom>
          <a:noFill/>
          <a:ln cap="sq" w="76320">
            <a:solidFill>
              <a:srgbClr val="000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Vasilyeva E.A. 2017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01680" y="219240"/>
            <a:ext cx="85104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8856720" cy="604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Vasilyeva E.A. 2017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1T14:20:06Z</dcterms:created>
  <dc:creator>Андрей</dc:creator>
  <dc:description/>
  <dc:language>en-US</dc:language>
  <cp:lastModifiedBy>user</cp:lastModifiedBy>
  <dcterms:modified xsi:type="dcterms:W3CDTF">2017-03-20T18:26:17Z</dcterms:modified>
  <cp:revision>56</cp:revision>
  <dc:subject/>
  <dc:title>Презентация PowerPoint</dc:title>
</cp:coreProperties>
</file>