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20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7AF7FE-46D3-4099-B9A3-F49ECEF357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DBEC-8402-4AC9-8898-A9C46C847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8537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320" y="3984840"/>
            <a:ext cx="8537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6DD4-8991-48F1-A31F-4CC6F44D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320" y="398484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98484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C567-1D07-415C-8C39-7ABDFC556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2748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8160" y="1676520"/>
            <a:ext cx="2748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5000" y="1676520"/>
            <a:ext cx="2748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320" y="3984840"/>
            <a:ext cx="2748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8160" y="3984840"/>
            <a:ext cx="2748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5000" y="3984840"/>
            <a:ext cx="2748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7799-E885-4BE4-97BC-722D286A0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30B7-9BEC-434E-8D0E-6017634E6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320" y="1676520"/>
            <a:ext cx="8537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CE85-7134-4E14-A627-5B5EC61E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8537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973B-4C51-49AB-B7EB-3BC254FE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16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7C09-9480-40BD-8003-F2103395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8357-655C-4AF4-B4B7-2F4C3614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07520" cy="61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4E75-20B1-4F22-983C-6B8B3245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16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320" y="398484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402B-F839-4D8A-8F5F-BDEDC317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320" y="1676520"/>
            <a:ext cx="8537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0150-23B2-46A3-AE3C-8D6D70A9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98484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D02D-5929-4801-814B-6D79D44C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320" y="3984840"/>
            <a:ext cx="8537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EBDC-D7B2-4000-B480-D0F1B0CE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8537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320" y="3984840"/>
            <a:ext cx="8537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757B-691C-4AD0-9D63-DD1DD59B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320" y="398484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98484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BF40-7394-41F8-A922-3BDDBE2CC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2748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8160" y="1676520"/>
            <a:ext cx="2748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5000" y="1676520"/>
            <a:ext cx="2748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320" y="3984840"/>
            <a:ext cx="2748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8160" y="3984840"/>
            <a:ext cx="2748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5000" y="3984840"/>
            <a:ext cx="2748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BAE3-79C9-46B6-9F05-9664EA3CF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8537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BC62-AB66-497D-9B21-998ED409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16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0071-A39E-4B62-9543-889A7126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8B43-F0B9-4442-B694-CCCB1F60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07520" cy="61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47B3-B9D1-4446-BE71-73FA2E02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16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320" y="398484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B797-B90A-402E-BB3F-09FD055D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98484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FB2D-5FB1-48B2-8A94-49DD1242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320" y="3984840"/>
            <a:ext cx="8537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410D-F886-4346-AFDB-23772A18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320" y="1676520"/>
            <a:ext cx="8537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3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4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5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6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245280"/>
            <a:ext cx="22827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E6A43-FD9A-4AD4-9B5A-C5AC646EEFEF}" type="datetime">
              <a:rPr b="0" lang="ru-RU" sz="1800" spc="-1" strike="noStrike">
                <a:solidFill>
                  <a:srgbClr val="ffffff"/>
                </a:solidFill>
                <a:latin typeface="Calibri"/>
              </a:rPr>
              <a:t>30.07.26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283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AC121-4B91-4A6E-9375-5C640927D9C9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980720"/>
            <a:ext cx="7769160" cy="15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marL="140400" indent="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40400" indent="-14040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0400" indent="-14040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0400" indent="-14040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0400" indent="-14040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0400" indent="-14040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0400" indent="-14040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560" y="6245280"/>
            <a:ext cx="22827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138D9-AFD7-4FA2-AB10-AED3CD9A3229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283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3AA7F-46F1-41D2-BD71-E111C028630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4000" y="1341360"/>
            <a:ext cx="854064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Много в природе дивных сил,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но сильней человека – нет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фок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Много есть чудес на свете,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Человек их всех чудесней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фок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 2017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68360" y="189000"/>
            <a:ext cx="8229600" cy="95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a4"/>
                </a:solidFill>
                <a:latin typeface="Arial"/>
              </a:rPr>
              <a:t>1941-1945 г.г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8280360" cy="511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 2017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ffff00"/>
                </a:solidFill>
                <a:latin typeface="Times New Roman"/>
              </a:rPr>
              <a:t>Демографический кризис -</a:t>
            </a:r>
            <a:r>
              <a:rPr b="0" lang="ru-RU" sz="4800" spc="-1" strike="noStrike">
                <a:solidFill>
                  <a:srgbClr val="b7e7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3141360"/>
            <a:ext cx="854064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езкое уменьшени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численности населения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(в результате превыш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мертности над рождаемостью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 2017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68360" y="20520"/>
            <a:ext cx="82296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Arial"/>
              </a:rPr>
              <a:t>Современная перепис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116000" y="981000"/>
            <a:ext cx="6985080" cy="4343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24000" y="5516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Первая перепись в Российской Федераци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была проведена в 2002 году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 2017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1680" y="219240"/>
            <a:ext cx="85104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276720" y="5734080"/>
            <a:ext cx="25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42,9 млн. чел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 2017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Фактическая и гипотетическая численность населения на современной территории России (1900-2000)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26920" y="1773360"/>
            <a:ext cx="7632720" cy="446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 2017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Основные показатели воспроизводства населения по РФ до 2045 года </a:t>
            </a:r>
            <a:br>
              <a:rPr sz="28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0920" y="1052640"/>
          <a:ext cx="8540640" cy="5238720"/>
        </p:xfrm>
        <a:graphic>
          <a:graphicData uri="http://schemas.openxmlformats.org/drawingml/2006/table">
            <a:tbl>
              <a:tblPr/>
              <a:tblGrid>
                <a:gridCol w="2135160"/>
                <a:gridCol w="2135160"/>
                <a:gridCol w="2135160"/>
                <a:gridCol w="2135160"/>
              </a:tblGrid>
              <a:tr h="671040">
                <a:tc>
                  <a:txBody>
                    <a:bodyPr lIns="90000" rIns="90000" tIns="997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97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ждаем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97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ерт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97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тественный приро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1960"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7,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1960"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9,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1960"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11,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1960"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4,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1960"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15,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1960"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17,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1960"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3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,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19,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1960"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21,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560"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23,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 2017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Работа в группах со статистическим материалом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 данным таблиц составить графики изменения численности населения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1 группа – в России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2 группа – в Липецкой област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3 группа – в Елецком районе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 одному представителю от каждой группы выступить с выводом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 2017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Times New Roman"/>
              </a:rPr>
              <a:t>Проверить правильность выполнения задания (сверить с эталоном)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7993080" cy="4176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337560" y="602136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График по Росси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 2017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График по Липецкой област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7848360" cy="446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 2017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График по Елецкому району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826920" y="1844640"/>
            <a:ext cx="7561440" cy="43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 2017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4221000"/>
            <a:ext cx="4176720" cy="2181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643280" y="4292640"/>
            <a:ext cx="4184640" cy="2158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250920" y="2133720"/>
            <a:ext cx="4176720" cy="2089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250920" y="0"/>
            <a:ext cx="4176720" cy="2160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4643280" y="0"/>
            <a:ext cx="4176720" cy="2232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4643280" y="2205000"/>
            <a:ext cx="4178520" cy="215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 2017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8360" y="-15840"/>
            <a:ext cx="8229600" cy="8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Социологическое исследование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08000" y="1128600"/>
          <a:ext cx="8858160" cy="5224680"/>
        </p:xfrm>
        <a:graphic>
          <a:graphicData uri="http://schemas.openxmlformats.org/drawingml/2006/table">
            <a:tbl>
              <a:tblPr/>
              <a:tblGrid>
                <a:gridCol w="549360"/>
                <a:gridCol w="2619360"/>
                <a:gridCol w="2311200"/>
                <a:gridCol w="1617840"/>
                <a:gridCol w="1760400"/>
              </a:tblGrid>
              <a:tr h="1067040">
                <a:tc>
                  <a:txBody>
                    <a:bodyPr lIns="90000" rIns="90000" tIns="85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85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, Им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85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детей у прабабушек и прадедуше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85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детей у бабушек и дедуше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85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детей у ваших родителе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9720">
                <a:tc>
                  <a:txBody>
                    <a:bodyPr lIns="90000" rIns="90000" tIns="907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розов Иль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- 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- 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907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дова Верон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- 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- 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907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рина Алё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907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ремская Ди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- 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- 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907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ченко Кристи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- 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907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шин Рома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907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ротина Татья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- 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907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викова Ан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- 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907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довова Ольг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907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кринский Дании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-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0440">
                <a:tc>
                  <a:txBody>
                    <a:bodyPr lIns="90000" rIns="90000" tIns="907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7200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DejaVu Serif"/>
                        </a:rPr>
                        <a:t>Першикова Валери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- 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- 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 2017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24000" y="260280"/>
            <a:ext cx="8510400" cy="13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a4"/>
                </a:solidFill>
                <a:latin typeface="Times New Roman"/>
              </a:rPr>
              <a:t>Демографическая политика -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301680" y="1989000"/>
            <a:ext cx="854064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омплекс экономических, административных, пропагандистских мероприятий, с помощью которых государство влияет на изменение численности населения в желаемом для себя направлени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 2017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Приоритетные национальные проекты в современной России направлены на: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величение продолжительности жизни населения за счёт улучшения качества жизн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нижение преждевременной смертности, в первую очередь младенческо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кращение заболеваемости, травматизма, инвалидност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имулирование многодетных семей, усыновление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держка семейно-брачных отноше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 2017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Подведём итог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Какова численность населения Росси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От чего зависит численность населения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Что называют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демографие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демографическим кризисом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демографической политик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Какая демографическая ситуация характерна для современной Росси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. Какие меры предпринимает государство по увеличению численности населения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 2017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2400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/>
          <p:nvPr/>
        </p:nvSpPr>
        <p:spPr>
          <a:xfrm>
            <a:off x="301680" y="2924280"/>
            <a:ext cx="8540640" cy="31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§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38, повторить термины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Times New Roman"/>
              </a:rPr>
              <a:t>«3»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– вопросы 1,3 после параграф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 2017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168720" cy="2135160"/>
          </a:xfrm>
          <a:prstGeom prst="rect">
            <a:avLst/>
          </a:prstGeom>
          <a:ln cap="sq" w="57240">
            <a:solidFill>
              <a:srgbClr val="6699ff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979640" y="1844640"/>
            <a:ext cx="3168720" cy="2158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3635280" y="3716280"/>
            <a:ext cx="3168720" cy="2144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5975280" y="4729320"/>
            <a:ext cx="3168720" cy="212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 2017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 u="sng">
                <a:solidFill>
                  <a:srgbClr val="ffff00"/>
                </a:solidFill>
                <a:uFillTx/>
                <a:latin typeface="Arial"/>
              </a:rPr>
              <a:t>Население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01680" y="1676520"/>
            <a:ext cx="854064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Где живут люди?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Кто они?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Как они живут?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Сколько людей?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 2017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24000" y="189000"/>
            <a:ext cx="8510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108000" y="1052640"/>
            <a:ext cx="885672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a4"/>
                </a:solidFill>
                <a:latin typeface="Times New Roman"/>
              </a:rPr>
              <a:t>«Численность населения России»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03280" y="1916280"/>
            <a:ext cx="6761160" cy="899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 2017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9640" y="105264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900" spc="-1" strike="noStrike" u="sng">
                <a:solidFill>
                  <a:srgbClr val="ffff00"/>
                </a:solidFill>
                <a:uFillTx/>
                <a:latin typeface="Times New Roman"/>
              </a:rPr>
              <a:t>Демография – наука о населении</a:t>
            </a: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270828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(от греческого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s –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народ,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apho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– пишу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 2017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0920" y="0"/>
            <a:ext cx="8713800" cy="65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a4"/>
                </a:solidFill>
                <a:latin typeface="Arial"/>
              </a:rPr>
              <a:t>Место современной России в населении мир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68360" y="907920"/>
          <a:ext cx="8139240" cy="4896000"/>
        </p:xfrm>
        <a:graphic>
          <a:graphicData uri="http://schemas.openxmlformats.org/drawingml/2006/table">
            <a:tbl>
              <a:tblPr/>
              <a:tblGrid>
                <a:gridCol w="1439640"/>
                <a:gridCol w="3602160"/>
                <a:gridCol w="3097440"/>
              </a:tblGrid>
              <a:tr h="355680"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сел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05080"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та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 339 450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4720"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 187 550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3280"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Ш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8 613 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4720"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онез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2 812 2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4720"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азил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3 260 22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5080"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киста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 048 0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2920"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гер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 516 9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5080"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гладе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 951 2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4720"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 206 0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68360" y="5805360"/>
          <a:ext cx="8137440" cy="517320"/>
        </p:xfrm>
        <a:graphic>
          <a:graphicData uri="http://schemas.openxmlformats.org/drawingml/2006/table">
            <a:tbl>
              <a:tblPr/>
              <a:tblGrid>
                <a:gridCol w="1439640"/>
                <a:gridCol w="3600720"/>
                <a:gridCol w="3097080"/>
              </a:tblGrid>
              <a:tr h="517320"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по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 040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 2017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68360" y="0"/>
            <a:ext cx="82296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ерепись населени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765000"/>
            <a:ext cx="8362800" cy="56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a4"/>
                </a:solidFill>
                <a:latin typeface="Times New Roman"/>
              </a:rPr>
              <a:t>XVII </a:t>
            </a:r>
            <a:r>
              <a:rPr b="1" lang="ru-RU" sz="2800" spc="-1" strike="noStrike">
                <a:solidFill>
                  <a:srgbClr val="0000a4"/>
                </a:solidFill>
                <a:latin typeface="Times New Roman"/>
              </a:rPr>
              <a:t>век – подворная перепись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a4"/>
                </a:solidFill>
                <a:latin typeface="Times New Roman"/>
              </a:rPr>
              <a:t>XVIII</a:t>
            </a:r>
            <a:r>
              <a:rPr b="1" lang="ru-RU" sz="2800" spc="-1" strike="noStrike">
                <a:solidFill>
                  <a:srgbClr val="0000a4"/>
                </a:solidFill>
                <a:latin typeface="Times New Roman"/>
              </a:rPr>
              <a:t> век – «подушная» перепись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a4"/>
                </a:solidFill>
                <a:latin typeface="Times New Roman"/>
              </a:rPr>
              <a:t>Февраль 1897 г. – первая научно- организованная перепись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a4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a4"/>
                </a:solidFill>
                <a:latin typeface="Times New Roman"/>
              </a:rPr>
              <a:t>1926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a4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a4"/>
                </a:solidFill>
                <a:latin typeface="Times New Roman"/>
              </a:rPr>
              <a:t>1937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a4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a4"/>
                </a:solidFill>
                <a:latin typeface="Times New Roman"/>
              </a:rPr>
              <a:t>1939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a4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a4"/>
                </a:solidFill>
                <a:latin typeface="Times New Roman"/>
              </a:rPr>
              <a:t>1959             7 переписей в СССР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a4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a4"/>
                </a:solidFill>
                <a:latin typeface="Times New Roman"/>
              </a:rPr>
              <a:t>197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a4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a4"/>
                </a:solidFill>
                <a:latin typeface="Times New Roman"/>
              </a:rPr>
              <a:t>1979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a4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a4"/>
                </a:solidFill>
                <a:latin typeface="Times New Roman"/>
              </a:rPr>
              <a:t>1989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2262240" y="2708280"/>
            <a:ext cx="431640" cy="3610080"/>
          </a:xfrm>
          <a:custGeom>
            <a:avLst/>
            <a:gdLst>
              <a:gd name="textAreaLeft" fmla="*/ 0 w 431640"/>
              <a:gd name="textAreaRight" fmla="*/ 155880 w 431640"/>
              <a:gd name="textAreaTop" fmla="*/ 10440 h 3610080"/>
              <a:gd name="textAreaBottom" fmla="*/ 3599640 h 361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2"/>
                  <a:pt x="10800" y="204"/>
                </a:cubicBezTo>
                <a:lnTo>
                  <a:pt x="10800" y="10596"/>
                </a:lnTo>
                <a:cubicBezTo>
                  <a:pt x="10800" y="10698"/>
                  <a:pt x="16200" y="10800"/>
                  <a:pt x="21600" y="10800"/>
                </a:cubicBezTo>
                <a:cubicBezTo>
                  <a:pt x="16200" y="10800"/>
                  <a:pt x="10800" y="10902"/>
                  <a:pt x="10800" y="11004"/>
                </a:cubicBezTo>
                <a:lnTo>
                  <a:pt x="10800" y="21396"/>
                </a:lnTo>
                <a:cubicBezTo>
                  <a:pt x="10800" y="21498"/>
                  <a:pt x="5400" y="21600"/>
                  <a:pt x="0" y="21600"/>
                </a:cubicBezTo>
              </a:path>
            </a:pathLst>
          </a:custGeom>
          <a:noFill/>
          <a:ln cap="sq" w="7632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 2017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1680" y="219240"/>
            <a:ext cx="85104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8856720" cy="604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 2017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1T14:20:06Z</dcterms:created>
  <dc:creator>Андрей</dc:creator>
  <dc:description/>
  <dc:language>en-US</dc:language>
  <cp:lastModifiedBy>user</cp:lastModifiedBy>
  <dcterms:modified xsi:type="dcterms:W3CDTF">2017-03-20T18:26:17Z</dcterms:modified>
  <cp:revision>56</cp:revision>
  <dc:subject/>
  <dc:title>Презентация PowerPoint</dc:title>
</cp:coreProperties>
</file>