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jpeg" ContentType="image/jpeg"/>
  <Override PartName="/ppt/media/image17.gif" ContentType="image/gif"/>
  <Override PartName="/ppt/media/image26.png" ContentType="image/png"/>
  <Override PartName="/ppt/media/image33.gif" ContentType="image/gif"/>
  <Override PartName="/ppt/media/image13.gif" ContentType="image/gif"/>
  <Override PartName="/ppt/media/image16.png" ContentType="image/png"/>
  <Override PartName="/ppt/media/image6.wmf" ContentType="image/x-wmf"/>
  <Override PartName="/ppt/media/image7.gif" ContentType="image/gif"/>
  <Override PartName="/ppt/media/image35.png" ContentType="image/png"/>
  <Override PartName="/ppt/media/image12.gif" ContentType="image/gif"/>
  <Override PartName="/ppt/media/image9.gif" ContentType="image/gif"/>
  <Override PartName="/ppt/media/image31.wmf" ContentType="image/x-wmf"/>
  <Override PartName="/ppt/media/image5.gif" ContentType="image/gif"/>
  <Override PartName="/ppt/media/image10.gif" ContentType="image/gif"/>
  <Override PartName="/ppt/media/image14.png" ContentType="image/png"/>
  <Override PartName="/ppt/media/image11.gif" ContentType="image/gif"/>
  <Override PartName="/ppt/media/image32.png" ContentType="image/png"/>
  <Override PartName="/ppt/media/image34.wmf" ContentType="image/x-wmf"/>
  <Override PartName="/ppt/media/image8.gif" ContentType="image/gif"/>
  <Override PartName="/ppt/media/image4.jpeg" ContentType="image/jpeg"/>
  <Override PartName="/ppt/media/image19.jpeg" ContentType="image/jpeg"/>
  <Override PartName="/ppt/media/image2.gif" ContentType="image/gif"/>
  <Override PartName="/ppt/media/image25.gif" ContentType="image/gif"/>
  <Override PartName="/ppt/media/image29.wmf" ContentType="image/x-wmf"/>
  <Override PartName="/ppt/media/image1.png" ContentType="image/png"/>
  <Override PartName="/ppt/media/image15.gif" ContentType="image/gif"/>
  <Override PartName="/ppt/media/image20.png" ContentType="image/png"/>
  <Override PartName="/ppt/media/image24.jpeg" ContentType="image/jpeg"/>
  <Override PartName="/ppt/media/image22.png" ContentType="image/png"/>
  <Override PartName="/ppt/media/image18.gif" ContentType="image/gif"/>
  <Override PartName="/ppt/media/image30.gif" ContentType="image/gif"/>
  <Override PartName="/ppt/media/image23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271-AB68-4F97-ACD9-C9322A4E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3FFA-34A8-403A-914F-DCD5BA52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1FB-8889-4B8D-BF41-F5F8CABD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1F2-3413-4362-AE48-7E8FDA43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BEF2-EF5B-431F-BD7C-5E18C699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CBD0-612B-4D0A-9F9B-6052FC3E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DFD4-0430-4CC7-B8F1-48A6BE24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4C81-8256-4192-97C5-176351F5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F746-E0F7-4C4A-916A-7FACC022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2E39-7D4D-4C82-A204-546C0864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D41E-2715-49D0-BDA9-7770D0FB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C06-0748-45DD-B4E2-E89DBFC9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B4D-A829-4F92-AC3A-BA75FED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83D9-8340-4B73-BA7B-8771B3DB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21EB-4B60-4230-A7C5-674AE057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CC76-54C5-4692-99A1-3BEA4610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BC1A-B0F9-4A72-A029-6CA3E363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96749-23AF-40AE-BA6E-8403DDDE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4C9BE-F031-4BE1-93F2-0E43781B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9EC4-C992-4E08-B07A-0FE89805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C2213-27CB-4F43-AC5C-7394E175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ABD4-B9E9-4E68-9557-3908DC83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69E-2268-4567-8F7A-D35FCDAE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2CB5C-452C-4676-8DEE-F4FC2F6E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1CC0F-F00F-4139-95EF-50975823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6E89-D060-409C-A4C7-B281A6EC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A2E24-5B45-472F-A3A4-E9F99C1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8655-0C4F-46DD-A1D2-E12144F4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C13F-4C9F-462C-87C4-1D35F290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A6A9-FF50-4D29-9E30-01F14525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E5AB0-4EA5-4A5F-AC39-CAC118FB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E4C7-6601-46C8-A832-1A58DB91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D152-F308-4A3A-92AE-DD9ABD3F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FF0-5A10-4506-949F-1D20EE87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0146-464B-4F66-9E08-1C1EBF61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20B3B-030B-4484-B1F0-7B97A5D4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39EBB-876D-4F3A-9332-1518CC62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288EB-03E4-46E3-89AF-FBC0BC1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1CF6B-4233-41F0-B629-476E8E62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A1FC-AA3E-466D-8DE8-45D06212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AD7CC-6995-4952-BB4C-194A1D09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828D9-52FE-439F-BB8B-D2945B65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9955E-19A4-4E90-BA3C-2EF3B7A2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47C95-2E1D-42D8-89D1-AE1B6D7B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F6E-2808-466D-94B6-3D9AF607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33429-D1E4-45A2-A869-B637A0A1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0DBA0-8C69-4670-8A75-D76C4946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EA32A-C81E-4E8C-8EEA-C11AC431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BCAD4-E94A-460F-994A-7978FFD8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77FA3-19CC-4A57-BA07-3A248C2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3A99F-E838-4511-8CF0-07DEF2ED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003239-E62E-43C9-BF92-DD1F5CC6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2A06E-CF3A-4EF0-BE1F-C50A89AD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9DA3EB-0A4A-4859-8685-AEAD63AB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30393-6215-4737-A21F-BD8012C2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1EA-C1A5-481E-971D-371F42E2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704F4-56AA-437B-970A-C0CD9F4E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2458E-BDE4-43C2-9FBC-1BE54F9C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8FFE2-F7E1-4720-B3EB-29688F3F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8EC78-D5E9-4EB2-A4F0-761193F1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DC136-3865-4CBB-B295-051C1CF2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ECB3-C268-4C3F-BAAF-584FC2DB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ABFDA-C8E9-4722-A895-2E12017C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AB40-B6B3-4E95-9B59-2EF2CD4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83E7-0435-4659-81FC-2B744265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903B9-4627-4CF2-9535-D18CE836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70AD-A643-4135-9F36-476CEFCE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B71B8-D3A9-4323-A009-4BCD4F98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F8C96-C717-42E1-891B-0894F7B4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3121E-1526-48C8-819D-E8ED50A2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1B7-6D46-4BFE-99B5-4A8439C8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74B-3040-4CEE-8D44-830B6521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C7FB-3B52-4293-A2DE-9DCD14F3CA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D17A-B23D-4CEA-BB50-2C79B456D4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CEA2-2750-41D7-9B26-9FB4341B6D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B651-9EF3-4F95-923D-E47D26FEFD7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C751-7E8E-4432-BF3E-AB2E0783E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7DE9-C30D-4E49-8B20-28702145D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chechnyafree.ru/upload/iblock/cba/10545.jpg&amp;pageurl=http://edingagauz.com/content/blogsection/9/216/9/54/&amp;id=36648009&amp;iid=2&amp;imgwidth=160&amp;imgheight=116&amp;imgsize=141238&amp;images_links=b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9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miles.33b.ru/smile.103428.html" TargetMode="Externa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"/><Relationship Id="rId4" Type="http://schemas.openxmlformats.org/officeDocument/2006/relationships/image" Target="../media/image34.wmf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Урок русского языка в 9 класс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Публичное выступление и доклад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ла :учитель русского языка Мешкова В.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» Филимоновская СОШ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ступление на собрании, совещании, митинге, в средствах массовой информации – разновидность ораторской речи. Выступление должно отличаться ясностью, целеустремленностью, глубиной содержания, оперативностью, информационной насыщенностью, яркостью и доступност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212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ступающий вынужден, как правило, отстаивать свою точку зрения, склонять других к ее принятию, убеждать в своей правот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ступления различаются по тематике, объему, различны цели выступающих, различны аудитории, различна обстанов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227640" y="4724280"/>
            <a:ext cx="2916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ществуют устойчивые приемы речевой разработки текста выступ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К выступлению обязательно надо подготовиться. Не следует рассчитывать на удачную импровизацию, если существует хотя бы малейшая возможность подготов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700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Прежде всего четко сформулировать тему выступ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Определить цель выступления. Чего добиться? Поставить новую проблему? Опровергнуть чужую точку зрения? Переубедить аудиторию? Изменить ход обсуждения? Внести существенные дополнения в обсуждаемую проблему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740720" y="5445000"/>
            <a:ext cx="1403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В начале выступления надо сразу же сформулировать основную мысль выступления, основной тезис. Не следует затягивать введение тезиса. Если затягивается изложение сути дела, то раздражение аудитории растет в геометрической прогресс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8" descr="http://im2-tub.mail.ru/i?id=36648009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1280" y="4797360"/>
            <a:ext cx="5292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Определить главную мысль , расчленить ее на отдельные составляющ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авляющие главную мысль компоненты должны быть соразмерны по важности, связаны между собой в одно целое. Каждая составляющая главной мысли должна представлять отдельную часть выступления, которая может быть названа по ключевому слову этой части выступ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2" descr="computer_girl"/>
          <p:cNvPicPr/>
          <p:nvPr/>
        </p:nvPicPr>
        <p:blipFill>
          <a:blip r:embed="rId1"/>
          <a:stretch/>
        </p:blipFill>
        <p:spPr>
          <a:xfrm>
            <a:off x="5003640" y="5489640"/>
            <a:ext cx="32799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. Начинать изложение содержания нужно с самых важных, основополагающих тезисов. На конец нужно оставить второстепенные компонен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7. Очень полезно подобрать к каждому тезису необходимую информацию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тистические  данные, сведения по истории вопроса, результаты социологических 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http://megaobzor.com/load/humor/dpro4.jpg"/>
          <p:cNvPicPr/>
          <p:nvPr/>
        </p:nvPicPr>
        <p:blipFill>
          <a:blip r:embed="rId1"/>
          <a:stretch/>
        </p:blipFill>
        <p:spPr>
          <a:xfrm>
            <a:off x="6156360" y="4869000"/>
            <a:ext cx="32749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.Свое мнение можно подкрепить ссылкой на лицо, которое признано авторитетным: привести цитату, пересказать высказывание, воспроизвести элементы личной бесе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 Высказываемая мысль будет более убедительной, если подкрепить ее пример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 Приводя аргументы, необходимо расположить таким образом, чтобы их доказательная сила возрастала. Самые сильные аргументы ставятся в конце выступления, так как конечный аргумент фиксируется в памяти  лучше, чем первы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6192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иемы подготовки выступле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. В заключение необходимо оценить непротиворечивость всего текста в целом. Проверить , насколько соответствует последовательность изложения материала поставленной цели, характеру аудитории, конкретной речевой ситуации, сложившейся к моменту начала выступ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чи выступления должны быть  написа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лностью и прочитаны по рукописи, сказаны с предварительной подготовкой, но без записи и заучи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j0283011"/>
          <p:cNvPicPr/>
          <p:nvPr/>
        </p:nvPicPr>
        <p:blipFill>
          <a:blip r:embed="rId1"/>
          <a:stretch/>
        </p:blipFill>
        <p:spPr>
          <a:xfrm>
            <a:off x="2987640" y="5373720"/>
            <a:ext cx="6156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убличное выступление. Доклад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линно движущая и направляющая сила внешних данных и приемов оратора заключается в его глубоком переживании взаимного общения с аудиторией. Настоятельная внутренняя потребность выполнить свой долг перед слушателями даст правильного поведения гораздо больше, чем нарочито технические приемы. Влияние ухищрения в осанке, манерах, жестах никогда не создадут настоящего облика оратора, воодушевленного мощной идеей и желанием поделиться ею с аудитори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.  Соп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0"/>
            <a:ext cx="2880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ое обеспечение выступ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обходимо уделять внимание иллюстративному материалу и материалу, составляющему информационное обеспечение вы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ранее подумать о приводимых цифрах: в тексте не должно быть много цифрового материала, это утомляет аудиторию, заслоняет глав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140360" y="5157720"/>
            <a:ext cx="5003640" cy="1700280"/>
          </a:xfrm>
          <a:prstGeom prst="rect">
            <a:avLst/>
          </a:prstGeom>
          <a:ln w="57240">
            <a:solidFill>
              <a:srgbClr val="00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ое обеспечение выступ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остоятельное направление работы составляет работа с цита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 – первых, ее нужно прове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рить ее  с оригин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 – вторых, смысл цитаты должен совпадать со смыслом цитируемого отры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771640" y="5229360"/>
            <a:ext cx="63723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с цита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– третьих, по своему объему цитата должна быть достаточной, чтобы ее смысл был самостоятелен и устойч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цитируется малый объем материала. То не следует жалеть времени , чтобы разъяснить ауди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ысл цитируемых с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еченное цитирование – один из способов манипулирования общественным мн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6" descr="http://www.adme.ru/files/paedia/print/part_19/191272/file/uchitel8284.jpg"/>
          <p:cNvPicPr/>
          <p:nvPr/>
        </p:nvPicPr>
        <p:blipFill>
          <a:blip r:embed="rId1"/>
          <a:stretch/>
        </p:blipFill>
        <p:spPr>
          <a:xfrm>
            <a:off x="5435640" y="0"/>
            <a:ext cx="3708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Назначение цит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чит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124000" y="2349360"/>
            <a:ext cx="4952880" cy="4038480"/>
            <a:chOff x="2124000" y="2349360"/>
            <a:chExt cx="4952880" cy="4038480"/>
          </a:xfrm>
        </p:grpSpPr>
        <p:sp>
          <p:nvSpPr>
            <p:cNvPr id="339" name=""/>
            <p:cNvSpPr/>
            <p:nvPr/>
          </p:nvSpPr>
          <p:spPr>
            <a:xfrm>
              <a:off x="3776400" y="3542760"/>
              <a:ext cx="1265760" cy="2845080"/>
            </a:xfrm>
            <a:custGeom>
              <a:avLst/>
              <a:gdLst/>
              <a:ahLst/>
              <a:rect l="l" t="t" r="r" b="b"/>
              <a:pathLst>
                <a:path w="501" h="1198">
                  <a:moveTo>
                    <a:pt x="501" y="1198"/>
                  </a:moveTo>
                  <a:lnTo>
                    <a:pt x="451" y="1158"/>
                  </a:lnTo>
                  <a:lnTo>
                    <a:pt x="403" y="1115"/>
                  </a:lnTo>
                  <a:lnTo>
                    <a:pt x="359" y="1072"/>
                  </a:lnTo>
                  <a:lnTo>
                    <a:pt x="318" y="1027"/>
                  </a:lnTo>
                  <a:lnTo>
                    <a:pt x="281" y="983"/>
                  </a:lnTo>
                  <a:lnTo>
                    <a:pt x="248" y="938"/>
                  </a:lnTo>
                  <a:lnTo>
                    <a:pt x="217" y="896"/>
                  </a:lnTo>
                  <a:lnTo>
                    <a:pt x="190" y="853"/>
                  </a:lnTo>
                  <a:lnTo>
                    <a:pt x="167" y="814"/>
                  </a:lnTo>
                  <a:lnTo>
                    <a:pt x="147" y="777"/>
                  </a:lnTo>
                  <a:lnTo>
                    <a:pt x="129" y="743"/>
                  </a:lnTo>
                  <a:lnTo>
                    <a:pt x="115" y="714"/>
                  </a:lnTo>
                  <a:lnTo>
                    <a:pt x="105" y="689"/>
                  </a:lnTo>
                  <a:lnTo>
                    <a:pt x="97" y="669"/>
                  </a:lnTo>
                  <a:lnTo>
                    <a:pt x="92" y="654"/>
                  </a:lnTo>
                  <a:lnTo>
                    <a:pt x="71" y="583"/>
                  </a:lnTo>
                  <a:lnTo>
                    <a:pt x="56" y="518"/>
                  </a:lnTo>
                  <a:lnTo>
                    <a:pt x="45" y="454"/>
                  </a:lnTo>
                  <a:lnTo>
                    <a:pt x="39" y="396"/>
                  </a:lnTo>
                  <a:lnTo>
                    <a:pt x="36" y="343"/>
                  </a:lnTo>
                  <a:lnTo>
                    <a:pt x="36" y="294"/>
                  </a:lnTo>
                  <a:lnTo>
                    <a:pt x="37" y="251"/>
                  </a:lnTo>
                  <a:lnTo>
                    <a:pt x="41" y="212"/>
                  </a:lnTo>
                  <a:lnTo>
                    <a:pt x="46" y="180"/>
                  </a:lnTo>
                  <a:lnTo>
                    <a:pt x="52" y="151"/>
                  </a:lnTo>
                  <a:lnTo>
                    <a:pt x="57" y="129"/>
                  </a:lnTo>
                  <a:lnTo>
                    <a:pt x="61" y="114"/>
                  </a:lnTo>
                  <a:lnTo>
                    <a:pt x="65" y="105"/>
                  </a:lnTo>
                  <a:lnTo>
                    <a:pt x="66" y="101"/>
                  </a:lnTo>
                  <a:lnTo>
                    <a:pt x="0" y="63"/>
                  </a:lnTo>
                  <a:lnTo>
                    <a:pt x="241" y="0"/>
                  </a:lnTo>
                  <a:lnTo>
                    <a:pt x="306" y="245"/>
                  </a:lnTo>
                  <a:lnTo>
                    <a:pt x="230" y="200"/>
                  </a:lnTo>
                  <a:lnTo>
                    <a:pt x="229" y="203"/>
                  </a:lnTo>
                  <a:lnTo>
                    <a:pt x="226" y="208"/>
                  </a:lnTo>
                  <a:lnTo>
                    <a:pt x="221" y="217"/>
                  </a:lnTo>
                  <a:lnTo>
                    <a:pt x="216" y="231"/>
                  </a:lnTo>
                  <a:lnTo>
                    <a:pt x="209" y="249"/>
                  </a:lnTo>
                  <a:lnTo>
                    <a:pt x="203" y="272"/>
                  </a:lnTo>
                  <a:lnTo>
                    <a:pt x="196" y="300"/>
                  </a:lnTo>
                  <a:lnTo>
                    <a:pt x="192" y="332"/>
                  </a:lnTo>
                  <a:lnTo>
                    <a:pt x="189" y="369"/>
                  </a:lnTo>
                  <a:lnTo>
                    <a:pt x="187" y="413"/>
                  </a:lnTo>
                  <a:lnTo>
                    <a:pt x="187" y="462"/>
                  </a:lnTo>
                  <a:lnTo>
                    <a:pt x="191" y="516"/>
                  </a:lnTo>
                  <a:lnTo>
                    <a:pt x="199" y="578"/>
                  </a:lnTo>
                  <a:lnTo>
                    <a:pt x="209" y="638"/>
                  </a:lnTo>
                  <a:lnTo>
                    <a:pt x="222" y="696"/>
                  </a:lnTo>
                  <a:lnTo>
                    <a:pt x="239" y="751"/>
                  </a:lnTo>
                  <a:lnTo>
                    <a:pt x="257" y="804"/>
                  </a:lnTo>
                  <a:lnTo>
                    <a:pt x="278" y="854"/>
                  </a:lnTo>
                  <a:lnTo>
                    <a:pt x="300" y="901"/>
                  </a:lnTo>
                  <a:lnTo>
                    <a:pt x="323" y="946"/>
                  </a:lnTo>
                  <a:lnTo>
                    <a:pt x="346" y="987"/>
                  </a:lnTo>
                  <a:lnTo>
                    <a:pt x="369" y="1025"/>
                  </a:lnTo>
                  <a:lnTo>
                    <a:pt x="392" y="1060"/>
                  </a:lnTo>
                  <a:lnTo>
                    <a:pt x="414" y="1091"/>
                  </a:lnTo>
                  <a:lnTo>
                    <a:pt x="434" y="1119"/>
                  </a:lnTo>
                  <a:lnTo>
                    <a:pt x="453" y="1142"/>
                  </a:lnTo>
                  <a:lnTo>
                    <a:pt x="469" y="1161"/>
                  </a:lnTo>
                  <a:lnTo>
                    <a:pt x="483" y="1178"/>
                  </a:lnTo>
                  <a:lnTo>
                    <a:pt x="493" y="1189"/>
                  </a:lnTo>
                  <a:lnTo>
                    <a:pt x="500" y="1196"/>
                  </a:lnTo>
                  <a:lnTo>
                    <a:pt x="501" y="1198"/>
                  </a:lnTo>
                  <a:close/>
                </a:path>
              </a:pathLst>
            </a:custGeom>
            <a:gradFill rotWithShape="0">
              <a:gsLst>
                <a:gs pos="0">
                  <a:srgbClr val="53e1b8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24000" y="2559960"/>
              <a:ext cx="3102120" cy="1105920"/>
            </a:xfrm>
            <a:custGeom>
              <a:avLst/>
              <a:gdLst/>
              <a:ahLst/>
              <a:rect l="l" t="t" r="r" b="b"/>
              <a:pathLst>
                <a:path w="1225" h="467">
                  <a:moveTo>
                    <a:pt x="0" y="104"/>
                  </a:moveTo>
                  <a:lnTo>
                    <a:pt x="2" y="102"/>
                  </a:lnTo>
                  <a:lnTo>
                    <a:pt x="11" y="97"/>
                  </a:lnTo>
                  <a:lnTo>
                    <a:pt x="26" y="91"/>
                  </a:lnTo>
                  <a:lnTo>
                    <a:pt x="46" y="82"/>
                  </a:lnTo>
                  <a:lnTo>
                    <a:pt x="71" y="71"/>
                  </a:lnTo>
                  <a:lnTo>
                    <a:pt x="100" y="61"/>
                  </a:lnTo>
                  <a:lnTo>
                    <a:pt x="135" y="49"/>
                  </a:lnTo>
                  <a:lnTo>
                    <a:pt x="174" y="38"/>
                  </a:lnTo>
                  <a:lnTo>
                    <a:pt x="218" y="27"/>
                  </a:lnTo>
                  <a:lnTo>
                    <a:pt x="264" y="17"/>
                  </a:lnTo>
                  <a:lnTo>
                    <a:pt x="316" y="9"/>
                  </a:lnTo>
                  <a:lnTo>
                    <a:pt x="370" y="3"/>
                  </a:lnTo>
                  <a:lnTo>
                    <a:pt x="427" y="0"/>
                  </a:lnTo>
                  <a:lnTo>
                    <a:pt x="489" y="0"/>
                  </a:lnTo>
                  <a:lnTo>
                    <a:pt x="552" y="3"/>
                  </a:lnTo>
                  <a:lnTo>
                    <a:pt x="618" y="11"/>
                  </a:lnTo>
                  <a:lnTo>
                    <a:pt x="687" y="22"/>
                  </a:lnTo>
                  <a:lnTo>
                    <a:pt x="758" y="40"/>
                  </a:lnTo>
                  <a:lnTo>
                    <a:pt x="821" y="60"/>
                  </a:lnTo>
                  <a:lnTo>
                    <a:pt x="879" y="80"/>
                  </a:lnTo>
                  <a:lnTo>
                    <a:pt x="929" y="104"/>
                  </a:lnTo>
                  <a:lnTo>
                    <a:pt x="975" y="127"/>
                  </a:lnTo>
                  <a:lnTo>
                    <a:pt x="1015" y="150"/>
                  </a:lnTo>
                  <a:lnTo>
                    <a:pt x="1049" y="173"/>
                  </a:lnTo>
                  <a:lnTo>
                    <a:pt x="1078" y="195"/>
                  </a:lnTo>
                  <a:lnTo>
                    <a:pt x="1102" y="214"/>
                  </a:lnTo>
                  <a:lnTo>
                    <a:pt x="1122" y="233"/>
                  </a:lnTo>
                  <a:lnTo>
                    <a:pt x="1136" y="247"/>
                  </a:lnTo>
                  <a:lnTo>
                    <a:pt x="1146" y="258"/>
                  </a:lnTo>
                  <a:lnTo>
                    <a:pt x="1153" y="266"/>
                  </a:lnTo>
                  <a:lnTo>
                    <a:pt x="1154" y="269"/>
                  </a:lnTo>
                  <a:lnTo>
                    <a:pt x="1225" y="227"/>
                  </a:lnTo>
                  <a:lnTo>
                    <a:pt x="1162" y="467"/>
                  </a:lnTo>
                  <a:lnTo>
                    <a:pt x="916" y="407"/>
                  </a:lnTo>
                  <a:lnTo>
                    <a:pt x="990" y="356"/>
                  </a:lnTo>
                  <a:lnTo>
                    <a:pt x="987" y="354"/>
                  </a:lnTo>
                  <a:lnTo>
                    <a:pt x="982" y="346"/>
                  </a:lnTo>
                  <a:lnTo>
                    <a:pt x="973" y="334"/>
                  </a:lnTo>
                  <a:lnTo>
                    <a:pt x="960" y="319"/>
                  </a:lnTo>
                  <a:lnTo>
                    <a:pt x="944" y="301"/>
                  </a:lnTo>
                  <a:lnTo>
                    <a:pt x="922" y="280"/>
                  </a:lnTo>
                  <a:lnTo>
                    <a:pt x="896" y="258"/>
                  </a:lnTo>
                  <a:lnTo>
                    <a:pt x="863" y="235"/>
                  </a:lnTo>
                  <a:lnTo>
                    <a:pt x="827" y="211"/>
                  </a:lnTo>
                  <a:lnTo>
                    <a:pt x="785" y="187"/>
                  </a:lnTo>
                  <a:lnTo>
                    <a:pt x="737" y="164"/>
                  </a:lnTo>
                  <a:lnTo>
                    <a:pt x="683" y="142"/>
                  </a:lnTo>
                  <a:lnTo>
                    <a:pt x="622" y="123"/>
                  </a:lnTo>
                  <a:lnTo>
                    <a:pt x="554" y="106"/>
                  </a:lnTo>
                  <a:lnTo>
                    <a:pt x="488" y="92"/>
                  </a:lnTo>
                  <a:lnTo>
                    <a:pt x="425" y="83"/>
                  </a:lnTo>
                  <a:lnTo>
                    <a:pt x="365" y="76"/>
                  </a:lnTo>
                  <a:lnTo>
                    <a:pt x="307" y="74"/>
                  </a:lnTo>
                  <a:lnTo>
                    <a:pt x="254" y="73"/>
                  </a:lnTo>
                  <a:lnTo>
                    <a:pt x="205" y="75"/>
                  </a:lnTo>
                  <a:lnTo>
                    <a:pt x="160" y="78"/>
                  </a:lnTo>
                  <a:lnTo>
                    <a:pt x="120" y="82"/>
                  </a:lnTo>
                  <a:lnTo>
                    <a:pt x="85" y="87"/>
                  </a:lnTo>
                  <a:lnTo>
                    <a:pt x="55" y="92"/>
                  </a:lnTo>
                  <a:lnTo>
                    <a:pt x="31" y="96"/>
                  </a:lnTo>
                  <a:lnTo>
                    <a:pt x="14" y="100"/>
                  </a:lnTo>
                  <a:lnTo>
                    <a:pt x="4" y="102"/>
                  </a:lnTo>
                  <a:lnTo>
                    <a:pt x="0" y="104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8480" y="2349360"/>
              <a:ext cx="2408400" cy="2251440"/>
            </a:xfrm>
            <a:custGeom>
              <a:avLst/>
              <a:gdLst/>
              <a:ahLst/>
              <a:rect l="l" t="t" r="r" b="b"/>
              <a:pathLst>
                <a:path w="952" h="947">
                  <a:moveTo>
                    <a:pt x="0" y="756"/>
                  </a:moveTo>
                  <a:lnTo>
                    <a:pt x="191" y="591"/>
                  </a:lnTo>
                  <a:lnTo>
                    <a:pt x="190" y="672"/>
                  </a:lnTo>
                  <a:lnTo>
                    <a:pt x="194" y="672"/>
                  </a:lnTo>
                  <a:lnTo>
                    <a:pt x="205" y="672"/>
                  </a:lnTo>
                  <a:lnTo>
                    <a:pt x="225" y="671"/>
                  </a:lnTo>
                  <a:lnTo>
                    <a:pt x="250" y="667"/>
                  </a:lnTo>
                  <a:lnTo>
                    <a:pt x="281" y="662"/>
                  </a:lnTo>
                  <a:lnTo>
                    <a:pt x="316" y="653"/>
                  </a:lnTo>
                  <a:lnTo>
                    <a:pt x="356" y="641"/>
                  </a:lnTo>
                  <a:lnTo>
                    <a:pt x="399" y="626"/>
                  </a:lnTo>
                  <a:lnTo>
                    <a:pt x="444" y="605"/>
                  </a:lnTo>
                  <a:lnTo>
                    <a:pt x="492" y="578"/>
                  </a:lnTo>
                  <a:lnTo>
                    <a:pt x="540" y="547"/>
                  </a:lnTo>
                  <a:lnTo>
                    <a:pt x="587" y="508"/>
                  </a:lnTo>
                  <a:lnTo>
                    <a:pt x="635" y="463"/>
                  </a:lnTo>
                  <a:lnTo>
                    <a:pt x="689" y="405"/>
                  </a:lnTo>
                  <a:lnTo>
                    <a:pt x="737" y="350"/>
                  </a:lnTo>
                  <a:lnTo>
                    <a:pt x="780" y="298"/>
                  </a:lnTo>
                  <a:lnTo>
                    <a:pt x="816" y="249"/>
                  </a:lnTo>
                  <a:lnTo>
                    <a:pt x="847" y="204"/>
                  </a:lnTo>
                  <a:lnTo>
                    <a:pt x="873" y="164"/>
                  </a:lnTo>
                  <a:lnTo>
                    <a:pt x="895" y="126"/>
                  </a:lnTo>
                  <a:lnTo>
                    <a:pt x="913" y="94"/>
                  </a:lnTo>
                  <a:lnTo>
                    <a:pt x="926" y="66"/>
                  </a:lnTo>
                  <a:lnTo>
                    <a:pt x="936" y="42"/>
                  </a:lnTo>
                  <a:lnTo>
                    <a:pt x="944" y="24"/>
                  </a:lnTo>
                  <a:lnTo>
                    <a:pt x="949" y="12"/>
                  </a:lnTo>
                  <a:lnTo>
                    <a:pt x="952" y="2"/>
                  </a:lnTo>
                  <a:lnTo>
                    <a:pt x="952" y="0"/>
                  </a:lnTo>
                  <a:lnTo>
                    <a:pt x="952" y="4"/>
                  </a:lnTo>
                  <a:lnTo>
                    <a:pt x="950" y="17"/>
                  </a:lnTo>
                  <a:lnTo>
                    <a:pt x="948" y="36"/>
                  </a:lnTo>
                  <a:lnTo>
                    <a:pt x="942" y="62"/>
                  </a:lnTo>
                  <a:lnTo>
                    <a:pt x="936" y="93"/>
                  </a:lnTo>
                  <a:lnTo>
                    <a:pt x="927" y="130"/>
                  </a:lnTo>
                  <a:lnTo>
                    <a:pt x="914" y="172"/>
                  </a:lnTo>
                  <a:lnTo>
                    <a:pt x="899" y="217"/>
                  </a:lnTo>
                  <a:lnTo>
                    <a:pt x="881" y="264"/>
                  </a:lnTo>
                  <a:lnTo>
                    <a:pt x="857" y="315"/>
                  </a:lnTo>
                  <a:lnTo>
                    <a:pt x="830" y="368"/>
                  </a:lnTo>
                  <a:lnTo>
                    <a:pt x="798" y="421"/>
                  </a:lnTo>
                  <a:lnTo>
                    <a:pt x="762" y="475"/>
                  </a:lnTo>
                  <a:lnTo>
                    <a:pt x="719" y="529"/>
                  </a:lnTo>
                  <a:lnTo>
                    <a:pt x="671" y="582"/>
                  </a:lnTo>
                  <a:lnTo>
                    <a:pt x="613" y="637"/>
                  </a:lnTo>
                  <a:lnTo>
                    <a:pt x="555" y="685"/>
                  </a:lnTo>
                  <a:lnTo>
                    <a:pt x="500" y="726"/>
                  </a:lnTo>
                  <a:lnTo>
                    <a:pt x="447" y="761"/>
                  </a:lnTo>
                  <a:lnTo>
                    <a:pt x="396" y="790"/>
                  </a:lnTo>
                  <a:lnTo>
                    <a:pt x="350" y="813"/>
                  </a:lnTo>
                  <a:lnTo>
                    <a:pt x="307" y="831"/>
                  </a:lnTo>
                  <a:lnTo>
                    <a:pt x="270" y="845"/>
                  </a:lnTo>
                  <a:lnTo>
                    <a:pt x="238" y="855"/>
                  </a:lnTo>
                  <a:lnTo>
                    <a:pt x="212" y="862"/>
                  </a:lnTo>
                  <a:lnTo>
                    <a:pt x="192" y="866"/>
                  </a:lnTo>
                  <a:lnTo>
                    <a:pt x="181" y="868"/>
                  </a:lnTo>
                  <a:lnTo>
                    <a:pt x="176" y="868"/>
                  </a:lnTo>
                  <a:lnTo>
                    <a:pt x="167" y="947"/>
                  </a:lnTo>
                  <a:lnTo>
                    <a:pt x="0" y="756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867280" y="1900080"/>
            <a:ext cx="450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ппелируют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н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700360" y="5589720"/>
            <a:ext cx="83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Опираются на авторитет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исто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ление контакта с аудитор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нужное коммуникативное состояние, которое позволит успешно взаимодействовать с аудитори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етить говорящему думать о посторонних вещ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редоточить внимание на слушател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имательно следить за реакци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бедить себя в том, что  в данный момент нет ничего более важного, чем выступл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867280" y="0"/>
            <a:ext cx="4028760" cy="1968120"/>
            <a:chOff x="5867280" y="0"/>
            <a:chExt cx="4028760" cy="1968120"/>
          </a:xfrm>
        </p:grpSpPr>
        <p:pic>
          <p:nvPicPr>
            <p:cNvPr id="347" name="" descr=""/>
            <p:cNvPicPr/>
            <p:nvPr/>
          </p:nvPicPr>
          <p:blipFill>
            <a:blip r:embed="rId1"/>
            <a:stretch/>
          </p:blipFill>
          <p:spPr>
            <a:xfrm>
              <a:off x="6730560" y="0"/>
              <a:ext cx="2181240" cy="113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5867280" y="611640"/>
              <a:ext cx="4028760" cy="135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становление контакта с аудитори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адывать в речевое действие все физические и моральные си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ть волевой наступательный настрой: вести аудиторию за собой, а не идти на поводу у аудитор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имать, что публичное выступлени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профессиональное действие , связанное с осуществлением вашего намерения, которое должно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Рисунок 1" descr="892fe85eed3c.png"/>
          <p:cNvPicPr/>
          <p:nvPr/>
        </p:nvPicPr>
        <p:blipFill>
          <a:blip r:embed="rId1"/>
          <a:stretch/>
        </p:blipFill>
        <p:spPr>
          <a:xfrm>
            <a:off x="6516720" y="0"/>
            <a:ext cx="2627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Речевые действия, помогающие установить и поддерживать контак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К ним относятся обращение, приветствие, комплимент, проща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Начинать выступление без приветствия и обращения можно лишь на сугубо деловом совещании в узком кругу специалистов, встречи с которыми довольно час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Назначение речевых действ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Обращения могут и должны употребляться  и в центральной части выступления, они активизируют внимание слушател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2825640"/>
            <a:ext cx="2850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атекстовые конструкци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Метатекст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это слова и предложения, в которых говорится о том, как построена речь, о чем и в какой последовательности выступающий собирается говорить, то есть метатекст – это текст о текст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4" descr="2"/>
          <p:cNvPicPr/>
          <p:nvPr/>
        </p:nvPicPr>
        <p:blipFill>
          <a:blip r:embed="rId2"/>
          <a:stretch/>
        </p:blipFill>
        <p:spPr>
          <a:xfrm>
            <a:off x="0" y="4653000"/>
            <a:ext cx="26272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одготовка к публичному выступлению. Как побороть страх перед публичным выступлением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раторы, как и спортсмены, нуждаются в собранности перед выступлением. Непрерывная практика публичных выступлений – наилучшее средство против смущения и страх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3276720" cy="270828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начение метатекстовых конструкций в ораторской реч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ороший оратор  использует такие метатекстовые конструкции: в начале своего выступления я бы хотел обратить внимание на…, повторим еще раз…, теперь перейдем к вопросу о…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- первых,…во – вторых, …в заключение хотелось бы сказать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Логические аспекты ораторской речи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Быть последовательным в своей речи , не переходить к следующему пункту выступления, пока не закончен предыдущий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ачинать выступление с наиболее существенных положений, оставляя на конец частное и второстепенное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тратить время на то, что не является необходимым, без чего можно обойтись в выступлении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3" descr="C:\Documents and Settings\Admin\Local Settings\Temporary Internet Files\Content.IE5\B2KKZN7I\MCj04241680000[1].wmf"/>
          <p:cNvPicPr/>
          <p:nvPr/>
        </p:nvPicPr>
        <p:blipFill>
          <a:blip r:embed="rId2"/>
          <a:stretch/>
        </p:blipFill>
        <p:spPr>
          <a:xfrm>
            <a:off x="3708360" y="5516640"/>
            <a:ext cx="5435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Логичность выступ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повторяться , только если это необходимо, но оговорить это специально, дать понять, что это намеренное повторение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не уходить в сторону от обсуждаемого вопроса, не отвлекаться на посторонние , не значимые для сути дела проблемы, факты, сведения, пример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В конце выступления обобщить сказанное и сделать вывод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2" descr="C:\Documents and Settings\Admin\Local Settings\Temporary Internet Files\Content.IE5\B2KKZN7I\MCj04247300000[1].wmf"/>
          <p:cNvPicPr/>
          <p:nvPr/>
        </p:nvPicPr>
        <p:blipFill>
          <a:blip r:embed="rId2"/>
          <a:stretch/>
        </p:blipFill>
        <p:spPr>
          <a:xfrm>
            <a:off x="7020000" y="0"/>
            <a:ext cx="212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ические качества реч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тношение оратора к аудитории должно быть доброжелательным и профессиональны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должно быть таких форм речевого поведения, как агрессивность  в ее проявлениях( упреки, угрозы, оскорбления) и демагогия( ложь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3" descr="C:\Documents and Settings\User\Local Settings\Temporary Internet Files\Content.IE5\MT9YTIPN\MMj02835590000[1].gif"/>
          <p:cNvPicPr/>
          <p:nvPr/>
        </p:nvPicPr>
        <p:blipFill>
          <a:blip r:embed="rId2"/>
          <a:stretch/>
        </p:blipFill>
        <p:spPr>
          <a:xfrm>
            <a:off x="7164360" y="-5317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Этические качества реч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следует обижаться на аудиторию и вступать с ней в конфликтные отнош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о это не значит, что нужно идти у нее на поводу, заигрывать с не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ратор должен относиться к аудитории , как врач к  больному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C:\Documents and Settings\Admin\Local Settings\Temporary Internet Files\Content.IE5\TGDIOGZF\MCj04344110000[1].wmf"/>
          <p:cNvPicPr/>
          <p:nvPr/>
        </p:nvPicPr>
        <p:blipFill>
          <a:blip r:embed="rId2"/>
          <a:stretch/>
        </p:blipFill>
        <p:spPr>
          <a:xfrm>
            <a:off x="6012000" y="5157720"/>
            <a:ext cx="2786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Хорошее  выступление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выступление цельное в ритмико – интонационном отношении.Но внутри него должно быть разнообразие, монотонность притупляет внимание, однообразие ритма и интонации отрицательно сказывается на восприяти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илевая манера изложения предполагает элементы разнообразия: увеличение или замедление темпа, разнообразная интонац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едует доклад обязательно прочитывать вслух, по крайней мере, - проговаривать про себ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менно интонация, ритм речи подскажут, где переставить слов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2" descr="C:\Documents and Settings\User\Local Settings\Temporary Internet Files\Content.IE5\MT9YTIPN\MCj04338230000[1].png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В заключение хотелось бы отметить,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 мастерство публичного выступления состоит в умении использовать обе формы человеческого мышления: логическую и образну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владев мастерством публичного выступления, люди поймут всю прелесть и красоту нашего язы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948360" y="0"/>
            <a:ext cx="2195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зыв А.П. Чехов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Verdana"/>
              </a:rPr>
              <a:t>« Учитесь владеть языком, настоящие и будущие ораторы! Язык – ваша база и ваше профессио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Verdana"/>
              </a:rPr>
              <a:t>нальное оруж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6012000" y="1700280"/>
          <a:ext cx="3132000" cy="43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1700280"/>
                    <a:ext cx="3132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9" name="MSj00747090000[1].wav" descr=""/>
          <p:cNvPicPr/>
          <p:nvPr/>
        </p:nvPicPr>
        <p:blipFill>
          <a:blip r:embed="rId5"/>
          <a:stretch/>
        </p:blipFill>
        <p:spPr>
          <a:xfrm>
            <a:off x="7451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43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Помочь могут следующие советы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отдать себе отчет в причине страха; никто вас не обидит; ваши слушатели дружески настроены и желают вам только успеха; они понимают стоящие перед вами трудности, особенно в речи перед классом, где вы « из одной команды»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419640" y="5157720"/>
            <a:ext cx="5724360" cy="17002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. выступать в полной готовности; у вас будут основания испытывать « беспокойство», если вы наспех, перед самым выступлением, просмотрите свои заметки или внезапно « блеснет идея», в связи с которой вы нацарапаете несколько случайных замечаний на клочке бумаги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3. сохранять уверенный вид, он действует на слушателя , если вы внушите ему веру в ваши возможности, у вас самих возникнет уверенность в себе, полезно сделать несколько расслабляющих вздохов перед началом речи, надо быть осмотрительным особенно во вступительных замечаниях, если поддаться первому побуждению 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292720" y="0"/>
          <a:ext cx="3851280" cy="18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0"/>
                    <a:ext cx="385128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спешить – ваша нервозность только возрастет, паузы надо делать так часто, как посчитаете нужным, не надо стесняться, если случайно оговорился, слушатели не придадут этому значения, если самим не смутиться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03640" y="4581360"/>
            <a:ext cx="5940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. преодолеть страх перед действием, футболист борется с нервным возбуждением перед началом игры энергичной разминкой, надо действовать подобным же образом: не бояться приступить сразу же к делу, вы только увеличите напряжение, если не разрядите ег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идется иметь в виду, что предстоит учиться на опыте и на ошибках, может быть , чувства уверенности и не будет, но энергично произнесенные фразы произведут впечатление на слушателей, препятствия на пути к мощному слову и делу не устранимы без мужественного упражнения вол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3:19:13Z</dcterms:created>
  <dc:creator>Валентина Николаевна Мешкова</dc:creator>
  <dc:description/>
  <dc:language>en-US</dc:language>
  <cp:lastModifiedBy>валентина</cp:lastModifiedBy>
  <dcterms:modified xsi:type="dcterms:W3CDTF">2018-12-06T17:53:45Z</dcterms:modified>
  <cp:revision>4</cp:revision>
  <dc:subject/>
  <dc:title>Слайд 1</dc:title>
</cp:coreProperties>
</file>