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jpeg" ContentType="image/jpeg"/>
  <Override PartName="/ppt/media/image17.gif" ContentType="image/gif"/>
  <Override PartName="/ppt/media/image26.png" ContentType="image/png"/>
  <Override PartName="/ppt/media/image33.gif" ContentType="image/gif"/>
  <Override PartName="/ppt/media/image13.gif" ContentType="image/gif"/>
  <Override PartName="/ppt/media/image16.png" ContentType="image/png"/>
  <Override PartName="/ppt/media/image6.wmf" ContentType="image/x-wmf"/>
  <Override PartName="/ppt/media/image7.gif" ContentType="image/gif"/>
  <Override PartName="/ppt/media/image35.png" ContentType="image/png"/>
  <Override PartName="/ppt/media/image12.gif" ContentType="image/gif"/>
  <Override PartName="/ppt/media/image9.gif" ContentType="image/gif"/>
  <Override PartName="/ppt/media/image31.wmf" ContentType="image/x-wmf"/>
  <Override PartName="/ppt/media/image5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32.png" ContentType="image/png"/>
  <Override PartName="/ppt/media/image34.wmf" ContentType="image/x-wmf"/>
  <Override PartName="/ppt/media/image8.gif" ContentType="image/gif"/>
  <Override PartName="/ppt/media/image4.jpeg" ContentType="image/jpeg"/>
  <Override PartName="/ppt/media/image19.jpeg" ContentType="image/jpeg"/>
  <Override PartName="/ppt/media/image2.gif" ContentType="image/gif"/>
  <Override PartName="/ppt/media/image25.gif" ContentType="image/gif"/>
  <Override PartName="/ppt/media/image29.wmf" ContentType="image/x-wmf"/>
  <Override PartName="/ppt/media/image1.png" ContentType="image/png"/>
  <Override PartName="/ppt/media/image15.gif" ContentType="image/gif"/>
  <Override PartName="/ppt/media/image20.png" ContentType="image/png"/>
  <Override PartName="/ppt/media/image24.jpeg" ContentType="image/jpeg"/>
  <Override PartName="/ppt/media/image22.png" ContentType="image/png"/>
  <Override PartName="/ppt/media/image18.gif" ContentType="image/gif"/>
  <Override PartName="/ppt/media/image30.gif" ContentType="image/gif"/>
  <Override PartName="/ppt/media/image23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5E6-8CC6-4549-948C-B5281C40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70F-70C9-4610-A637-FC228A8E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695-8BEB-4AA1-BDFA-0E2317FB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25F-1F2C-4AAB-BFA2-1A1379DF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E47-F424-4C95-978B-FBAC7CCC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29B5-7CE2-49FC-9E2B-90468023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0C83-2A01-4C90-B9CF-92EB85FC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455-3785-4E27-AA41-9BCF61B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403E-806D-4EF4-A753-81F8BDF2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0EED-8B1D-48CE-8532-820D67A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2669-4392-427F-911E-030A6F4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E22-B1C8-4470-AEEC-90F28E4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CB1B-0DB3-49A1-A3BF-31BF4A0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BE77-8DC5-45B4-A1C4-2273010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65D3-8309-4DF0-A3C4-5928334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413B-001A-4B6E-BCA5-09CA7F71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922B-8BF7-4F72-BA53-2FAF69E4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A76B-CBE9-4523-92E1-4D4447CB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F0E6-C655-46EA-AFE4-D0562C4A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3C06-0EEB-4E58-AEB2-0C998009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6363-CF83-4902-B648-0957479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E8C4-1927-4C04-8537-3AC5FC1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E1C-1745-4385-B7FE-79190C1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55B0-C93E-4131-8B03-05D217B4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CE1D-E86B-4249-A1D3-1C9D631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C36C-2AE6-4E9D-98D5-3C79D8D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C45A-5FD4-4FF8-92BE-964DB06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B75E-348B-41C9-BE79-74DA28B4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D4E5-ABC5-4BD9-A8D7-69832079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471F-CF40-41A9-8369-7ED76847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755A-642C-432C-B61E-3C210798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A485-D135-401C-89F3-C4803981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C84C-40D2-49AB-B053-7572C779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A42-22B5-48C1-94AD-ACE26DA4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8B75-1EAD-4E53-9CA6-1A793CC0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F776-8E88-4D90-AA6D-91E5B48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F55AC-19F9-4B83-82A5-DC20FEA4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FE13-3071-4EFD-8B41-99E9BD0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D0A1-88C1-4B36-84F7-71B514BC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D513-62ED-4F11-96DC-6C4EAC9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7B4C7-4F1A-40D1-9847-8B2CCFCB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073D-36FB-4F11-80CB-19DF7EA8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2618-CFB3-405B-9C47-12F91642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9A562-B77C-479E-91C2-2BA1E1C5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4C5-CB14-4391-8F6F-59E84DC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F36BE-43AF-48EB-ADA1-DFAECB7E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86F2C-7BF6-4E21-A5DC-17BB37CB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762D4-6FB4-4784-B531-84D7BB6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32CEF-9561-49E1-97F5-0506AF2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D7B73-AF57-4171-BB75-EC359EB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3DC88-4C50-4913-A840-B80F44C9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09892-445D-46B8-943E-63BDCEF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31E28-FB25-4C08-88C5-EF34B375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9E70C-B1D2-4795-994F-58C068D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DF470-6343-4D2A-98A1-CF58F86A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79B-6FCC-4BBC-B25E-33D4886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53682-BB90-4F44-9D56-DD031557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19E1-4424-48AA-BC21-815C818F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1034-D00F-4362-93FF-08BF214C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3F5D-5A8A-4D03-9FCB-275960F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939F-D148-4836-AE19-C4254E4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8A26-1A67-4E64-AD4B-4ECA4BC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DC03B-6ECE-471A-80C2-A53FFED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236A-922D-40D8-934E-6E1A7E4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DC7D-A604-4BF7-81B3-2A49131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35999-A95B-4542-B76A-CC8CBFF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415-482C-418F-B910-99B3CC8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EF84D-FEF3-4EF2-AA84-4DC2BDF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665B-AD00-4B65-98D6-5541FC7B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74A9-A2C1-40EE-819A-3256EDBC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9A6-0828-4A35-AD78-9E43642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636-91AE-4AA6-A5E5-8FB5CCF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2FE-4A38-4733-91A3-24BA7A8C1E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C618-950A-4F4C-8776-D3485F8FD9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5104-2480-498A-B58B-46DC57E2DF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84EE-AAC8-4C0A-845C-D5D14CDA49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18B7-5456-4F69-91AF-35281C040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6A2-C664-4EAA-8835-AF114586F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chechnyafree.ru/upload/iblock/cba/10545.jpg&amp;pageurl=http://edingagauz.com/content/blogsection/9/216/9/54/&amp;id=36648009&amp;iid=2&amp;imgwidth=160&amp;imgheight=116&amp;imgsize=141238&amp;images_links=b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9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428.html" TargetMode="Externa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Урок русского языка в 9 класс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убличное выступление и доклад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:учитель русского языка Мешкова В.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» Филимонов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тупление на собрании, совещании, митинге, в средствах массовой информации – разновидность ораторской речи. Выступление должно отличаться ясностью, целеустремленностью, глубиной содержания, оперативностью, информационной насыщенностью, яркостью и доступнос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212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тупающий вынужден, как правило, отстаивать свою точку зрения, склонять других к ее принятию, убеждать в своей право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тупления различаются по тематике, объему, различны цели выступающих, различны аудитории, различна обстанов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291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ествуют устойчивые приемы речевой разработки текста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К выступлению обязательно надо подготовиться. Не следует рассчитывать на удачную импровизацию, если существует хотя бы малейшая возможность подготов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700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Прежде всего четко сформулировать тему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Определить цель выступления. Чего добиться? Поставить новую проблему? Опровергнуть чужую точку зрения? Переубедить аудиторию? Изменить ход обсуждения? Внести существенные дополнения в обсуждаемую пробл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740720" y="5445000"/>
            <a:ext cx="1403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В начале выступления надо сразу же сформулировать основную мысль выступления, основной тезис. Не следует затягивать введение тезиса. Если затягивается изложение сути дела, то раздражение аудитории растет в геометрической прогре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8" descr="http://im2-tub.mail.ru/i?id=36648009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5292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Определить главную мысль , расчленить ее на отдельные составляющ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авляющие главную мысль компоненты должны быть соразмерны по важности, связаны между собой в одно целое. Каждая составляющая главной мысли должна представлять отдельную часть выступления, которая может быть названа по ключевому слову этой части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2" descr="computer_girl"/>
          <p:cNvPicPr/>
          <p:nvPr/>
        </p:nvPicPr>
        <p:blipFill>
          <a:blip r:embed="rId1"/>
          <a:stretch/>
        </p:blipFill>
        <p:spPr>
          <a:xfrm>
            <a:off x="5003640" y="5489640"/>
            <a:ext cx="3279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Начинать изложение содержания нужно с самых важных, основополагающих тезисов. На конец нужно оставить второстепенные компонен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. Очень полезно подобрать к каждому тезису необходимую информацию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тистические  данные, сведения по истории вопроса, результаты социологических 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http://megaobzor.com/load/humor/dpro4.jpg"/>
          <p:cNvPicPr/>
          <p:nvPr/>
        </p:nvPicPr>
        <p:blipFill>
          <a:blip r:embed="rId1"/>
          <a:stretch/>
        </p:blipFill>
        <p:spPr>
          <a:xfrm>
            <a:off x="6156360" y="4869000"/>
            <a:ext cx="32749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Свое мнение можно подкрепить ссылкой на лицо, которое признано авторитетным: привести цитату, пересказать высказывание, воспроизвести элементы личной бес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 Высказываемая мысль будет более убедительной, если подкрепить ее пример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 Приводя аргументы, необходимо расположить таким образом, чтобы их доказательная сила возрастала. Самые сильные аргументы ставятся в конце выступления, так как конечный аргумент фиксируется в памяти  лучше, чем перв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6192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. В заключение необходимо оценить непротиворечивость всего текста в целом. Проверить , насколько соответствует последовательность изложения материала поставленной цели, характеру аудитории, конкретной речевой ситуации, сложившейся к моменту начала выступ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чи выступления должны быть  напис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лностью и прочитаны по рукописи, сказаны с предварительной подготовкой, но без записи и заучи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j0283011"/>
          <p:cNvPicPr/>
          <p:nvPr/>
        </p:nvPicPr>
        <p:blipFill>
          <a:blip r:embed="rId1"/>
          <a:stretch/>
        </p:blipFill>
        <p:spPr>
          <a:xfrm>
            <a:off x="2987640" y="5373720"/>
            <a:ext cx="6156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убличное выступление. Докла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линно движущая и направляющая сила внешних данных и приемов оратора заключается в его глубоком переживании взаимного общения с аудиторией. Настоятельная внутренняя потребность выполнить свой долг перед слушателями даст правильного поведения гораздо больше, чем нарочито технические приемы. Влияние ухищрения в осанке, манерах, жестах никогда не создадут настоящего облика оратора, воодушевленного мощной идеей и желанием поделиться ею с аудитори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.  Соп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0"/>
            <a:ext cx="2880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е обеспечение выступ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уделять внимание иллюстративному материалу и материалу, составляющему информационное обеспечение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ранее подумать о приводимых цифрах: в тексте не должно быть много цифрового материала, это утомляет аудиторию, заслоняет гла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140360" y="5157720"/>
            <a:ext cx="5003640" cy="1700280"/>
          </a:xfrm>
          <a:prstGeom prst="rect">
            <a:avLst/>
          </a:prstGeom>
          <a:ln w="5724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е обеспечение выступ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ое направление работы составляет работа с цит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– первых, ее нужно про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ить ее  с ориги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– вторых, смысл цитаты должен совпадать со смыслом цитируемого отры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771640" y="5229360"/>
            <a:ext cx="6372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цита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– третьих, по своему объему цитата должна быть достаточной, чтобы ее смысл был самостоятелен и устойч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цитируется малый объем материала. То не следует жалеть времени , чтобы разъяснить ауд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ысл цитируемых 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еченное цитирование – один из способов манипулирования общественным м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http://www.adme.ru/files/paedia/print/part_19/191272/file/uchitel8284.jpg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Назначение цит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чит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124000" y="2349360"/>
            <a:ext cx="4952880" cy="4038480"/>
            <a:chOff x="2124000" y="2349360"/>
            <a:chExt cx="4952880" cy="4038480"/>
          </a:xfrm>
        </p:grpSpPr>
        <p:sp>
          <p:nvSpPr>
            <p:cNvPr id="339" name=""/>
            <p:cNvSpPr/>
            <p:nvPr/>
          </p:nvSpPr>
          <p:spPr>
            <a:xfrm>
              <a:off x="3776400" y="3542760"/>
              <a:ext cx="1265760" cy="284508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24000" y="2559960"/>
              <a:ext cx="3102120" cy="110592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8480" y="2349360"/>
              <a:ext cx="2408400" cy="225144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867280" y="1900080"/>
            <a:ext cx="45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ппелируют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558972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пираются на авторите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ст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ление контакта с аудито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ужное коммуникативное состояние, которое позволит успешно взаимодействовать с аудитор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тить говорящему думать о посторонних вещ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редоточить внимание на слушател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следить за реакци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едить себя в том, что  в данный момент нет ничего более важного, чем выступ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867280" y="0"/>
            <a:ext cx="4028760" cy="1968120"/>
            <a:chOff x="5867280" y="0"/>
            <a:chExt cx="4028760" cy="196812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6730560" y="0"/>
              <a:ext cx="2181240" cy="11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5867280" y="611640"/>
              <a:ext cx="4028760" cy="135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ление контакта с аудито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адывать в речевое действие все физические и моральные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ть волевой наступательный настрой: вести аудиторию за собой, а не идти на поводу у аудитор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имать, что публичное выступл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рофессиональное действие , связанное с осуществлением вашего намерения, которое должно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Рисунок 1" descr="892fe85eed3c.png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Речевые действия, помогающие установить и поддерживать контак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К ним относятся обращение, приветствие, комплимент, прощ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Начинать выступление без приветствия и обращения можно лишь на сугубо деловом совещании в узком кругу специалистов, встречи с которыми довольно час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Назначение речевых действ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Обращения могут и должны употребляться  и в центральной части выступления, они активизируют внимание слушател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2825640"/>
            <a:ext cx="2850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атекстовые конструкци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Метатекст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это слова и предложения, в которых говорится о том, как построена речь, о чем и в какой последовательности выступающий собирается говорить, то есть метатекст – это текст о текс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4" descr="2"/>
          <p:cNvPicPr/>
          <p:nvPr/>
        </p:nvPicPr>
        <p:blipFill>
          <a:blip r:embed="rId2"/>
          <a:stretch/>
        </p:blipFill>
        <p:spPr>
          <a:xfrm>
            <a:off x="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дготовка к публичному выступлению. Как побороть страх перед публичным выступлением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раторы, как и спортсмены, нуждаются в собранности перед выступлением. Непрерывная практика публичных выступлений – наилучшее средство против смущения и страх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3276720" cy="270828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начение метатекстовых конструкций в ораторской реч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ороший оратор  использует такие метатекстовые конструкции: в начале своего выступления я бы хотел обратить внимание на…, повторим еще раз…, теперь перейдем к вопросу о…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- первых,…во – вторых, …в заключение хотелось бы сказать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Логические аспекты ораторской р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ыть последовательным в своей речи , не переходить к следующему пункту выступления, пока не закончен предыдущий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чинать выступление с наиболее существенных положений, оставляя на конец частное и второстепенно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тратить время на то, что не является необходимым, без чего можно обойтись в выступлении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3" descr="C:\Documents and Settings\Admin\Local Settings\Temporary Internet Files\Content.IE5\B2KKZN7I\MCj04241680000[1].wmf"/>
          <p:cNvPicPr/>
          <p:nvPr/>
        </p:nvPicPr>
        <p:blipFill>
          <a:blip r:embed="rId2"/>
          <a:stretch/>
        </p:blipFill>
        <p:spPr>
          <a:xfrm>
            <a:off x="3708360" y="5516640"/>
            <a:ext cx="5435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Логичность выступ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повторяться , только если это необходимо, но оговорить это специально, дать понять, что это намеренное повторени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уходить в сторону от обсуждаемого вопроса, не отвлекаться на посторонние , не значимые для сути дела проблемы, факты, сведения, пример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конце выступления обобщить сказанное и сделать вывод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" descr="C:\Documents and Settings\Admin\Local Settings\Temporary Internet Files\Content.IE5\B2KKZN7I\MCj04247300000[1].wmf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ческие качества реч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тношение оратора к аудитории должно быть доброжелательным и профессиональны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должно быть таких форм речевого поведения, как агрессивность  в ее проявлениях( упреки, угрозы, оскорбления) и демагогия( ложь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3" descr="C:\Documents and Settings\User\Local Settings\Temporary Internet Files\Content.IE5\MT9YTIPN\MMj02835590000[1].gif"/>
          <p:cNvPicPr/>
          <p:nvPr/>
        </p:nvPicPr>
        <p:blipFill>
          <a:blip r:embed="rId2"/>
          <a:stretch/>
        </p:blipFill>
        <p:spPr>
          <a:xfrm>
            <a:off x="7164360" y="-5317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ческие качества реч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следует обижаться на аудиторию и вступать с ней в конфликтные отнош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это не значит, что нужно идти у нее на поводу, заигрывать с н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ратор должен относиться к аудитории , как врач к  больном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C:\Documents and Settings\Admin\Local Settings\Temporary Internet Files\Content.IE5\TGDIOGZF\MCj04344110000[1].wmf"/>
          <p:cNvPicPr/>
          <p:nvPr/>
        </p:nvPicPr>
        <p:blipFill>
          <a:blip r:embed="rId2"/>
          <a:stretch/>
        </p:blipFill>
        <p:spPr>
          <a:xfrm>
            <a:off x="6012000" y="5157720"/>
            <a:ext cx="2786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орошее  выступлени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выступление цельное в ритмико – интонационном отношении.Но внутри него должно быть разнообразие, монотонность притупляет внимание, однообразие ритма и интонации отрицательно сказывается на восприят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илевая манера изложения предполагает элементы разнообразия: увеличение или замедление темпа, разнообразная интон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едует доклад обязательно прочитывать вслух, по крайней мере, - проговаривать про себ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менно интонация, ритм речи подскажут, где переставить сло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C:\Documents and Settings\User\Local Settings\Temporary Internet Files\Content.IE5\MT9YTIPN\MCj04338230000[1].png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 заключение хотелось бы отметить,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 мастерство публичного выступления состоит в умении использовать обе формы человеческого мышления: логическую и образну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владев мастерством публичного выступления, люди поймут всю прелесть и красоту нашего язы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948360" y="0"/>
            <a:ext cx="2195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зыв А.П. Чехо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Verdana"/>
              </a:rPr>
              <a:t>« Учитесь владеть языком, настоящие и будущие ораторы! Язык – ваша база и ваше профессио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Verdana"/>
              </a:rPr>
              <a:t>нальное оруж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012000" y="1700280"/>
          <a:ext cx="31320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1700280"/>
                    <a:ext cx="313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MSj00747090000[1].wav" descr=""/>
          <p:cNvPicPr/>
          <p:nvPr/>
        </p:nvPicPr>
        <p:blipFill>
          <a:blip r:embed="rId5"/>
          <a:stretch/>
        </p:blipFill>
        <p:spPr>
          <a:xfrm>
            <a:off x="7451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43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мочь могут следующие советы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отдать себе отчет в причине страха; никто вас не обидит; ваши слушатели дружески настроены и желают вам только успеха; они понимают стоящие перед вами трудности, особенно в речи перед классом, где вы « из одной команды»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419640" y="5157720"/>
            <a:ext cx="5724360" cy="1700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 выступать в полной готовности; у вас будут основания испытывать « беспокойство», если вы наспех, перед самым выступлением, просмотрите свои заметки или внезапно « блеснет идея», в связи с которой вы нацарапаете несколько случайных замечаний на клочке бумаг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сохранять уверенный вид, он действует на слушателя , если вы внушите ему веру в ваши возможности, у вас самих возникнет уверенность в себе, полезно сделать несколько расслабляющих вздохов перед началом речи, надо быть осмотрительным особенно во вступительных замечаниях, если поддаться первому побуждению 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292720" y="0"/>
          <a:ext cx="385128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0"/>
                    <a:ext cx="385128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спешить – ваша нервозность только возрастет, паузы надо делать так часто, как посчитаете нужным, не надо стесняться, если случайно оговорился, слушатели не придадут этому значения, если самим не смутитьс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5940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 преодолеть страх перед действием, футболист борется с нервным возбуждением перед началом игры энергичной разминкой, надо действовать подобным же образом: не бояться приступить сразу же к делу, вы только увеличите напряжение, если не разрядите 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дется иметь в виду, что предстоит учиться на опыте и на ошибках, может быть , чувства уверенности и не будет, но энергично произнесенные фразы произведут впечатление на слушателей, препятствия на пути к мощному слову и делу не устранимы без мужественного упражнения во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3:19:13Z</dcterms:created>
  <dc:creator>Валентина Николаевна Мешкова</dc:creator>
  <dc:description/>
  <dc:language>en-US</dc:language>
  <cp:lastModifiedBy>валентина</cp:lastModifiedBy>
  <dcterms:modified xsi:type="dcterms:W3CDTF">2018-12-06T17:53:45Z</dcterms:modified>
  <cp:revision>4</cp:revision>
  <dc:subject/>
  <dc:title>Слайд 1</dc:title>
</cp:coreProperties>
</file>