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A29E-0BC0-4343-A065-3B3DD9EF1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0A62-BAA2-48D1-902E-C717848AD9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8471-F11D-4C92-A2A2-3D5FE62C7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8B89-12C4-4437-9F0C-C1AC77D5A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516-ABFE-4D55-8BAC-D4E0FD76F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D32B-24CF-4D64-91C7-C55410A6F3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25A3-D6BA-4DAB-9403-FA091D1AB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8A8C-52F2-49CB-AA0F-A00FB8EB5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F545-7BCE-4544-B9F9-E8E72FD3AD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1198-0A34-4114-A7FD-6AFBE4F22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25A2-873C-47BB-BB1D-08FA9023B6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918E-ADA9-4EC5-8ACA-EE8252E5D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25DE-7F0D-47AA-813E-5C71DE1CF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BBC-645C-418F-8A99-5C46BD6DD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A803-61AB-4830-8918-55681A04B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0A2C-5DAE-4DCD-B7BE-08C3830E3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401-104B-4223-92A8-FC027B19E3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CE83-2554-42C0-B172-499A67833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ABE-4140-4836-AC30-BA6D9B3A8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70A6-26C5-4A09-A4B0-F596A3C09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C95B-025C-4C11-A9F3-6CDDDD6C33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CD29-14B0-4EFA-BC3F-BFD49BAB21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3E88-E6A1-4E2D-BE03-AB787FB17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2735-0325-4D45-B9BE-485C0B1ABA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482-39BA-4C4A-B7C2-484347BB5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3E4-5374-43B9-AFC5-072D2964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66E-025F-42E0-BC80-E879B05E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1726-3DC3-4460-9FCB-FE34DF60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6AD-37E8-42AC-A034-4E692B73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B92-6269-4546-A71F-D656D917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95D-76AC-4AE6-9A63-4C2DE31C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814-80D9-4DC9-9B63-68BA6A9F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E555-FA1C-42BB-8245-EFF2C29A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E14-4F5A-4FA0-BFDA-3DC7275C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A14-1100-48B6-B6A9-ACF448B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A40-A431-4B7E-975C-DD2069C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7C5-17C1-4C1F-9291-677827F6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19BE-986A-4058-8C8A-0E65BFE4E1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У «Возовская средняя обще- образовательная школ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ый проект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Физика и эколог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Татаренкова Л.П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88620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марк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8370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наки соответствия стандарт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143000" y="1276200"/>
            <a:ext cx="708660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исок  канцероге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791320" cy="15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4648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волы по уходу за текстильными издел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0" y="1447920"/>
            <a:ext cx="4724280" cy="3733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3146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читать штриховой код на товар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05320" cy="1928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41036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04920" y="1523880"/>
            <a:ext cx="3886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помощью штрихового кода на товаре зашифрована информация о некоторы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более существенных параметрах продукции. Наиболее распространены Американский Универсальный товарный знак ИРС и Европейская система кодирования ЕАН. Согласно ЕАН каждому виду изделия присваивается свой номер, состоящий из 13 цифр. Первые две цифры 46 обозначают страну изготовителя или продавца продукта, следующие пять-06224- предприятие-изготовитель, ещё пять-00562-0 наименование товара, -0 – его потребительские свойства, -5- размеры, -6- массу, -2- цвет. Последняя цифра-1- контрольная, используемая для проверки правильности считывания штрихов сканер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ценка загрязнённости снега в сельской мест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3505320"/>
            <a:ext cx="8229600" cy="25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дорог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ес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л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оло школ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а из кра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762120" y="2286000"/>
            <a:ext cx="13716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2286000" y="2286000"/>
            <a:ext cx="1219320" cy="13716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733920" y="2286000"/>
            <a:ext cx="1295280" cy="1371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5257800" y="2286000"/>
            <a:ext cx="1295280" cy="1371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6781680" y="22860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457200" y="1600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ы фильтровальной  бумаг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ценка загрязнённости окружающего воздух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 чистой фильтровальной бумаги      фильтровальная бумага из пылесо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752480" y="2590920"/>
            <a:ext cx="205740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181480" y="2514600"/>
            <a:ext cx="2210040" cy="220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езнодорожный транспорт и его воздействие на окружающую сре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бразование территор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ление топливных ресурсов и электроэнер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ление воды предприятиями и подвижным состав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нообразные выбросы твёрдых, жидких и газообразных веществ во все компоненты окружающей сре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ктромагнитное излучение железнодорожного транспор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09480" y="1517760"/>
            <a:ext cx="8001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с экологическим содержа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Можно ли постоянно носить наручные часы со светящимися стрелк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чему атомные и тепловые электростанции нельзя размещать вблизи друг дру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чему солнечные и ветровые электростанции не получили широкого распространения в нашей стр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ект предназначен для изучения физики и экологии в процессе исследовательской деятельности учащих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астники: ученики  8 класс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ная область: 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153640" cy="4419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грязнения атмосфе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Химическое загрязнение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Газообразные и аэрозольные загрязнители промышленно-бытового происх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Накопление углекислого газа в атм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вышение среднегодовой температуры на план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Загрязнение Мирового океана нефтью и нефтепродук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Химическое загрязнение почвы пестицидами и её повышенная кисло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Атомная энергетика: проблемы эколог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ерритории России расположены 9 наиболее крупных атомных электростанций из числа построенных в своё время в СССР. Из них -8 в Европейской части России: Курская, Тверская, Нововоронежская, Ленинградская, Балаковская, Белоярская, Кольская АЭС, Билибинская АСТ. Самая крупная АЭС России- Курская- имеет мощность 4000МВ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ственное природное ядерное топливо- уран; он представляет собой смесь двух изотопов: уран-238(99,3% )и уран-235(0,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ый экологический фактор- небольшой выброс вредных веществ в атмосфе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ых- нескольк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Тепловое загрязнение: тепловые потери АЭС в 1,5 раза больше, чем ТЭС аналогичной мощности; поэтому КПД атомных электростанций невелик (20-25%), и их работа сопровождается «сбросом» огромного количества теплоты в воздух и в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Наличие радиоактивных отходов- на сегодня в России накоплено более 14000 т отработанного ядерного топлива АЭС с радиоактивностью 45млрд. Ки, что в 900 раз больше радиоактивности выброса при взрыве 4 энергоблока Чернобыльской АЭ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Радиоактивные излучения- оказывает пагубное воздействие на все живые органи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Аварийные ситуации- взрыв 4 энергоблока Чернобыльской АЭС, он произошёл 26 апреля 1986г.  В 01ч. 23мин.40с . Погибло 80тыс. Человек, пострадало 3млн. Человек, из которых 1млн.- де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е и охрана почв Курской обла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1379880" y="1752480"/>
            <a:ext cx="57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Аварийные сбросы и разливы суточных в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Утечки нефтепродуктов в процессе приём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Хранение отпуска нефтепроду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Отчистки резервуаров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457200" y="38098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явления и предотвращения техногенного загрязнения почвенного покрова на территории обла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кий филиал ФГУ «Специализированная инсп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тического контроля по ЦР» осуществляет постоянный контроль загрязнения поч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ый человек должен понять и осознать, что так дальше загрязнять окружающую природную среду нельзя- это крайне опасно для здоровья и жизни человека, что в перспективе мы приближаем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ой катастрофе, что,  уничтожая природу, человек уничтожает себя.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229600" cy="4016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532440" y="1909800"/>
            <a:ext cx="67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ждать не мож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ем спасиб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и и задач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исследовательских умений учащихся, развитие их творческих способностей и логического мышления; развитие познавательных интересов, умения ориентироваться в современном информационном пространстве, умения публично выступать, критического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ловые двигатели и охрана прир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сжигания топлива в атмосферу поступ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200млн. Т оксида углерода(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0 млн. т оксида серы(4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оло 50 млн. т оксида азота(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0 млн.т пы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млн.куб. м соединений свинца и других метал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рошенные в атмосферу продукты неполного сгорания вступают в химические реакции с водяными парами, содержащимися в воздухе. На поверхности Земли выпадают кислотные дожди, которые оказывают пагубное влияние на здоровье людей, растительный и животный мир, ускоряют коррозию металлов, разрушают сооружения из мрамора и известняка, закисляют почвы и водоё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 рассчитали, что если каждый ученик средней школы не даст бесполезно светить электрической лампочке мощностью 100 Вт в течение 1 ч ежесуточно, то при 44 млн. учащихся в стране это позволит сэкономить в течение года энергию, рав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1 кВт∙1ч ∙365 ∙44000000≈1,6 ∙10000000000 кВт ∙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ыработку 1 кВт∙ч электроэнергии на лучших электростанциях страны расходуется 650 г бурого угля (Канско-Ачинского месторождения). Следовательно, на 1,6 ∙10000000000 кВт ∙ч электроэнергии надо сжечь угл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=0,65 ∙1,6 ∙1000000000 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сжигании этого угля образовалось бы 600 000 т золы, а в атмосферу было бы выброшено около  1 млн. т углекислого газа, примерно 30 000 т сернистого газа, около 10 000 т оксидов азота и столько же примерно тонн пы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язнение окружающей среды асбестовой и резиновой пы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15 минут-4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1день-96ма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год-35040ма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км-проезжают по посёл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13г-в сутки-1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7,45г-в год-1маш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662,6кг-асбестовой и резиновой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зводственные шу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 уровня громкости 80д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ьные проявления профессиональной тугоухости чаще всего встречаются у лиц со стажем работы в условиях шума около 5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к потери слуха у работающих при 10-летнем воздействии шума составляет 10% при уровне 90дБ, 29%-при 100дБ и 55%-при110д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ум в наушниках пле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%учеников пользуются плеером постоя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% хотя бы иног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часов в день;0,5ч до «пока не сядет аккумулятор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%учеников замечают, что после прослушивания плеера начинает болеть голова, звенеть в уш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шума на здоровье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458200" cy="4768920"/>
        </p:xfrm>
        <a:graphic>
          <a:graphicData uri="http://schemas.openxmlformats.org/drawingml/2006/table">
            <a:tbl>
              <a:tblPr/>
              <a:tblGrid>
                <a:gridCol w="3838680"/>
                <a:gridCol w="2114280"/>
                <a:gridCol w="2505240"/>
              </a:tblGrid>
              <a:tr h="715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ения уровня шу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бочине магистрал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ё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ч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ли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школьном дво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дворе моего до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вартир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Д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2-07T17:07:18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