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12.jpeg" ContentType="image/jpe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A4631-2059-459D-8FE9-222C1A0E3F5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2BEAA-53AB-40CA-BFF5-4249D096277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33E1B-60DF-41B4-8EFC-14D100B25C9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D6A2C-F5A0-48AC-B3C2-5FE4EFE19F3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1F57E-B652-43D3-8A6A-16446E173C2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D2701-A618-46E7-B83C-A52B3B0A695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D45CF-4175-4BC4-9BA7-AF5676283F8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DF39D-0A9D-4616-A024-1FFEFCCA678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863CB-06B3-4A7E-A84B-30E7FEF8F9D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23458-8B36-4B99-A280-F1944672439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4D5F8-EF02-47F7-B0DB-0AC4B26DA59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4DF1A-2DA0-4D77-8995-52056AB2F19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924AF-D738-4345-ACF2-C86D43B2529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66B6F-6EDE-4AC7-880C-0D6B39AF539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CA5A6-0C5A-43DD-B0BD-9E56CCAA7D7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7CD00-DD7D-40DA-8C21-77DD76F66C0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C1CE7-EE4C-4386-A6C6-6FEB22DB0E9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C2C3C-1AED-45E8-B782-ED5C2B8074A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E4EBE-1F0C-454A-9E10-7B0A8112852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0338A-706F-4BB9-A20B-63DD7F366E5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86764-3491-47AC-BB39-DFA5B8E85E8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B0A32-4F74-497D-AD72-04DCF5652C9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2DE70-AFA9-4137-AA9B-00ABE4B55C5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66D4A-19BB-4960-A70F-C259E6B4164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1792A-9F5C-4A9A-B053-BB56F4DAA33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DEE0A-1B20-4D58-A088-042B43ED1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990BF-A7DC-463B-8BAE-7CF1DAD69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1BC0B-D10A-49F0-80B9-769E5A0EE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07EB4-6AA2-4405-97AF-14860F0C5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0EAB7-943D-4977-B21B-749C28B9E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1AFD6-BD12-406C-B106-1803D2532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16DF7-721B-4E94-944D-7D0D22428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1FD02-FD60-4F9C-B8CB-F65AEB52A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3BFCE-B2D2-4498-A755-9C90BE3FE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10284-A2BC-4524-9266-5BAA8FBB3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8D99D-1D81-43CE-8EF5-35E79A3C2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B7777-0947-454C-9FB7-34705E97E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02F14-470F-4298-A0AA-F4F1C988EBA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ОУ «Возовская средняя обще- образовательная школа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чебный проект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Физика и экология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втор: Татаренкова Л.П.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"/>
          <p:cNvPicPr/>
          <p:nvPr/>
        </p:nvPicPr>
        <p:blipFill>
          <a:blip r:embed="rId1"/>
          <a:stretch/>
        </p:blipFill>
        <p:spPr>
          <a:xfrm>
            <a:off x="4800600" y="1905120"/>
            <a:ext cx="3886200" cy="26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Экологическая маркировк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4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6" descr=""/>
          <p:cNvPicPr/>
          <p:nvPr/>
        </p:nvPicPr>
        <p:blipFill>
          <a:blip r:embed="rId1"/>
          <a:stretch/>
        </p:blipFill>
        <p:spPr>
          <a:xfrm>
            <a:off x="1676520" y="1143000"/>
            <a:ext cx="5837040" cy="52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Знаки соответствия стандартам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"/>
          <p:cNvPicPr/>
          <p:nvPr/>
        </p:nvPicPr>
        <p:blipFill>
          <a:blip r:embed="rId1"/>
          <a:stretch/>
        </p:blipFill>
        <p:spPr>
          <a:xfrm>
            <a:off x="1143000" y="1276200"/>
            <a:ext cx="7086600" cy="534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писок  канцероген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"/>
          <p:cNvPicPr/>
          <p:nvPr/>
        </p:nvPicPr>
        <p:blipFill>
          <a:blip r:embed="rId1"/>
          <a:stretch/>
        </p:blipFill>
        <p:spPr>
          <a:xfrm>
            <a:off x="1828800" y="1371600"/>
            <a:ext cx="5791320" cy="15494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5" descr=""/>
          <p:cNvPicPr/>
          <p:nvPr/>
        </p:nvPicPr>
        <p:blipFill>
          <a:blip r:embed="rId2"/>
          <a:stretch/>
        </p:blipFill>
        <p:spPr>
          <a:xfrm>
            <a:off x="2057400" y="2895480"/>
            <a:ext cx="4648320" cy="378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имволы по уходу за текстильными изделиям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4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5" descr=""/>
          <p:cNvPicPr/>
          <p:nvPr/>
        </p:nvPicPr>
        <p:blipFill>
          <a:blip r:embed="rId1"/>
          <a:stretch/>
        </p:blipFill>
        <p:spPr>
          <a:xfrm>
            <a:off x="0" y="1447920"/>
            <a:ext cx="4724280" cy="37335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6" descr=""/>
          <p:cNvPicPr/>
          <p:nvPr/>
        </p:nvPicPr>
        <p:blipFill>
          <a:blip r:embed="rId2"/>
          <a:stretch/>
        </p:blipFill>
        <p:spPr>
          <a:xfrm>
            <a:off x="4648320" y="1447920"/>
            <a:ext cx="4314600" cy="52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ак читать штриховой код на товар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3" descr=""/>
          <p:cNvPicPr/>
          <p:nvPr/>
        </p:nvPicPr>
        <p:blipFill>
          <a:blip r:embed="rId1"/>
          <a:stretch/>
        </p:blipFill>
        <p:spPr>
          <a:xfrm>
            <a:off x="4952880" y="1905120"/>
            <a:ext cx="3505320" cy="19285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4" descr=""/>
          <p:cNvPicPr/>
          <p:nvPr/>
        </p:nvPicPr>
        <p:blipFill>
          <a:blip r:embed="rId2"/>
          <a:stretch/>
        </p:blipFill>
        <p:spPr>
          <a:xfrm>
            <a:off x="4495680" y="1371600"/>
            <a:ext cx="4410360" cy="309564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5"/>
          <p:cNvSpPr/>
          <p:nvPr/>
        </p:nvSpPr>
        <p:spPr>
          <a:xfrm>
            <a:off x="304920" y="1523880"/>
            <a:ext cx="388620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 помощью штрихового кода на товаре зашифрована информация о некоторых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аиболее существенных параметрах продукции. Наиболее распространены Американский Универсальный товарный знак ИРС и Европейская система кодирования ЕАН. Согласно ЕАН каждому виду изделия присваивается свой номер, состоящий из 13 цифр. Первые две цифры 46 обозначают страну изготовителя или продавца продукта, следующие пять-06224- предприятие-изготовитель, ещё пять-00562-0 наименование товара, -0 – его потребительские свойства, -5- размеры, -6- массу, -2- цвет. Последняя цифра-1- контрольная, используемая для проверки правильности считывания штрихов сканером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ценка загрязнённости снега в сельской местност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3505320"/>
            <a:ext cx="8229600" cy="25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 дорог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лесу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пол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коло школы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ода из кран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0"/>
          <p:cNvSpPr/>
          <p:nvPr/>
        </p:nvSpPr>
        <p:spPr>
          <a:xfrm>
            <a:off x="762120" y="2286000"/>
            <a:ext cx="1371600" cy="1371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3"/>
          <p:cNvSpPr/>
          <p:nvPr/>
        </p:nvSpPr>
        <p:spPr>
          <a:xfrm>
            <a:off x="2286000" y="2286000"/>
            <a:ext cx="1219320" cy="13716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14"/>
          <p:cNvSpPr/>
          <p:nvPr/>
        </p:nvSpPr>
        <p:spPr>
          <a:xfrm>
            <a:off x="3733920" y="2286000"/>
            <a:ext cx="1295280" cy="1371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6"/>
          <p:cNvSpPr/>
          <p:nvPr/>
        </p:nvSpPr>
        <p:spPr>
          <a:xfrm>
            <a:off x="5257800" y="2286000"/>
            <a:ext cx="1295280" cy="1371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7"/>
          <p:cNvSpPr/>
          <p:nvPr/>
        </p:nvSpPr>
        <p:spPr>
          <a:xfrm>
            <a:off x="6781680" y="2286000"/>
            <a:ext cx="1371600" cy="137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0"/>
          <p:cNvSpPr/>
          <p:nvPr/>
        </p:nvSpPr>
        <p:spPr>
          <a:xfrm>
            <a:off x="457200" y="160020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исты фильтровальной  бумаги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ценка загрязнённости окружающего воздух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лист чистой фильтровальной бумаги      фильтровальная бумага из пылесос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1752480" y="2590920"/>
            <a:ext cx="2057400" cy="2209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5"/>
          <p:cNvSpPr/>
          <p:nvPr/>
        </p:nvSpPr>
        <p:spPr>
          <a:xfrm>
            <a:off x="5181480" y="2514600"/>
            <a:ext cx="2210040" cy="2209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Железнодорожный транспорт и его воздействие на окружающую сред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еобразование территор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требление топливных ресурсов и электроэнерги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требление воды предприятиями и подвижным состав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знообразные выбросы твёрдых, жидких и газообразных веществ во все компоненты окружающей сред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Электромагнитное излучение железнодорожного транспорт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"/>
          <p:cNvPicPr/>
          <p:nvPr/>
        </p:nvPicPr>
        <p:blipFill>
          <a:blip r:embed="rId1"/>
          <a:stretch/>
        </p:blipFill>
        <p:spPr>
          <a:xfrm>
            <a:off x="609480" y="1517760"/>
            <a:ext cx="8001000" cy="490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Задачи с экологическим содержанием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Можно ли постоянно носить наручные часы со светящимися стрелкам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Почему атомные и тепловые электростанции нельзя размещать вблизи друг друг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Почему солнечные и ветровые электростанции не получили широкого распространения в нашей стран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ект предназначен для изучения физики и экологии в процессе исследовательской деятельности учащихся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4400"/>
            </a:b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Участники: ученики  8 класса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едметная область: физ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4" descr=""/>
          <p:cNvPicPr/>
          <p:nvPr/>
        </p:nvPicPr>
        <p:blipFill>
          <a:blip r:embed="rId1"/>
          <a:stretch/>
        </p:blipFill>
        <p:spPr>
          <a:xfrm>
            <a:off x="380880" y="1676520"/>
            <a:ext cx="8153640" cy="441936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сновные загрязнения атмосферы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Химическое загрязнение сред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Газообразные и аэрозольные загрязнители промышленно-бытового происхожд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Накопление углекислого газа в атмосфер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Повышение среднегодовой температуры на планет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.Загрязнение Мирового океана нефтью и нефтепродукт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6.Химическое загрязнение почвы пестицидами и её повышенная кислотно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«Атомная энергетика: проблемы экологии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 территории России расположены 9 наиболее крупных атомных электростанций из числа построенных в своё время в СССР. Из них -8 в Европейской части России: Курская, Тверская, Нововоронежская, Ленинградская, Балаковская, Белоярская, Кольская АЭС, Билибинская АСТ. Самая крупная АЭС России- Курская- имеет мощность 4000МВ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Единственное природное ядерное топливо- уран; он представляет собой смесь двух изотопов: уран-238(99,3% )и уран-235(0,7%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ложительный экологический фактор- небольшой выброс вредных веществ в атмосфер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трицательных- несколько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)Тепловое загрязнение: тепловые потери АЭС в 1,5 раза больше, чем ТЭС аналогичной мощности; поэтому КПД атомных электростанций невелик (20-25%), и их работа сопровождается «сбросом» огромного количества теплоты в воздух и вод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)Наличие радиоактивных отходов- на сегодня в России накоплено более 14000 т отработанного ядерного топлива АЭС с радиоактивностью 45млрд. Ки, что в 900 раз больше радиоактивности выброса при взрыве 4 энергоблока Чернобыльской АЭС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3)Радиоактивные излучения- оказывает пагубное воздействие на все живые организм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4)Аварийные ситуации- взрыв 4 энергоблока Чернобыльской АЭС, он произошёл 26 апреля 1986г.  В 01ч. 23мин.40с . Погибло 80тыс. Человек, пострадало 3млн. Человек, из которых 1млн.- дет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грязнение и охрана почв Курской област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952880"/>
          </a:xfrm>
          <a:prstGeom prst="rect">
            <a:avLst/>
          </a:prstGeom>
          <a:ln w="0">
            <a:noFill/>
          </a:ln>
        </p:spPr>
      </p:pic>
      <p:sp>
        <p:nvSpPr>
          <p:cNvPr id="107" name="TextBox 4"/>
          <p:cNvSpPr/>
          <p:nvPr/>
        </p:nvSpPr>
        <p:spPr>
          <a:xfrm>
            <a:off x="1379880" y="1752480"/>
            <a:ext cx="57297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Аварийные сбросы и разливы суточных вод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Утечки нефтепродуктов в процессе приёмк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Хранение отпуска нефтепродукт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Отчистки резервуаров и д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5"/>
          <p:cNvSpPr/>
          <p:nvPr/>
        </p:nvSpPr>
        <p:spPr>
          <a:xfrm>
            <a:off x="457200" y="3809880"/>
            <a:ext cx="82296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выявления и предотвращения техногенного загрязнения почвенного покрова на территории област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урский филиал ФГУ «Специализированная инспекц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налитического контроля по ЦР» осуществляет постоянный контроль загрязнения почв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аждый человек должен понять и осознать, что так дальше загрязнять окружающую природную среду нельзя- это крайне опасно для здоровья и жизни человека, что в перспективе мы приближаемс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экологической катастрофе, что,  уничтожая природу, человек уничтожает себя.           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3" descr=""/>
          <p:cNvPicPr/>
          <p:nvPr/>
        </p:nvPicPr>
        <p:blipFill>
          <a:blip r:embed="rId1"/>
          <a:stretch/>
        </p:blipFill>
        <p:spPr>
          <a:xfrm>
            <a:off x="304920" y="1676520"/>
            <a:ext cx="8229600" cy="401616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4"/>
          <p:cNvSpPr/>
          <p:nvPr/>
        </p:nvSpPr>
        <p:spPr>
          <a:xfrm>
            <a:off x="532440" y="1909800"/>
            <a:ext cx="6747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ирода ждать не може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онец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сем спасибо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Цели и задачи проект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здание условий для формирования исследовательских умений учащихся, развитие их творческих способностей и логического мышления; развитие познавательных интересов, умения ориентироваться в современном информационном пространстве, умения публично выступать, критического мышл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Тепловые двигатели и охрана природы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результате сжигания топлива в атмосферу поступае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коло 200млн. Т оксида углерода(2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50 млн. т оксида серы(4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коло 50 млн. т оксида азота(2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50 млн.т пыл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0 млн.куб. м соединений свинца и других металл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брошенные в атмосферу продукты неполного сгорания вступают в химические реакции с водяными парами, содержащимися в воздухе. На поверхности Земли выпадают кислотные дожди, которые оказывают пагубное влияние на здоровье людей, растительный и животный мир, ускоряют коррозию металлов, разрушают сооружения из мрамора и известняка, закисляют почвы и водоём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ы рассчитали, что если каждый ученик средней школы не даст бесполезно светить электрической лампочке мощностью 100 Вт в течение 1 ч ежесуточно, то при 44 млн. учащихся в стране это позволит сэкономить в течение года энергию, равну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0,1 кВт∙1ч ∙365 ∙44000000≈1,6 ∙10000000000 кВт ∙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 выработку 1 кВт∙ч электроэнергии на лучших электростанциях страны расходуется 650 г бурого угля (Канско-Ачинского месторождения). Следовательно, на 1,6 ∙10000000000 кВт ∙ч электроэнергии надо сжечь угля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=0,65 ∙1,6 ∙1000000000 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и сжигании этого угля образовалось бы 600 000 т золы, а в атмосферу было бы выброшено около  1 млн. т углекислого газа, примерно 30 000 т сернистого газа, около 10 000 т оксидов азота и столько же примерно тонн пыл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грязнение окружающей среды асбестовой и резиновой пыль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 15 минут-4маши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 1день-96маши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 год-35040маши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км-проезжают по посёлк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0,13г-в сутки-1маши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7,45г-в год-1маши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662,6кг-асбестовой и резиновой пы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оизводственные шумы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орма уровня громкости 80д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чальные проявления профессиональной тугоухости чаще всего встречаются у лиц со стажем работы в условиях шума около 5 л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иск потери слуха у работающих при 10-летнем воздействии шума составляет 10% при уровне 90дБ, 29%-при 100дБ и 55%-при110д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Шум в наушниках плее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75%учеников пользуются плеером постоянн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00% хотя бы иног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 часов в день;0,5ч до «пока не сядет аккумулятор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0%учеников замечают, что после прослушивания плеера начинает болеть голова, звенеть в уш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лияние шума на здоровье человек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457200" y="1600200"/>
          <a:ext cx="8458200" cy="4768920"/>
        </p:xfrm>
        <a:graphic>
          <a:graphicData uri="http://schemas.openxmlformats.org/drawingml/2006/table">
            <a:tbl>
              <a:tblPr/>
              <a:tblGrid>
                <a:gridCol w="3838680"/>
                <a:gridCol w="2114280"/>
                <a:gridCol w="2505240"/>
              </a:tblGrid>
              <a:tr h="7156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мерения уровня шум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01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 обочине магистрал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нё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очь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1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 Д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Д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 улиц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Д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Д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школьном двор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Д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Д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 дворе моего дом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Д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Д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квартир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Д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Д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ользователь</cp:lastModifiedBy>
  <dcterms:modified xsi:type="dcterms:W3CDTF">2018-12-07T17:07:18Z</dcterms:modified>
  <cp:revision>5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