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37FE-9A61-48FD-BB2D-7ECD9F53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B9FB-C63B-4526-910B-22BABB52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201-B651-41A1-8196-6FDD3C97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A315-1308-4C17-8A46-79025DBB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B45-803E-49F8-947E-D13D7915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0A7D-133E-4C53-9B6E-D6FE4B4A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E073-1FBF-4C76-ACEF-F2097A36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E6B-30BB-4D1A-BCDE-F5329791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45A5-A6CE-40F0-88F1-8CC1A8D9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BD04-1662-4872-9ACC-CBEA1308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667C-A690-4542-877C-EE23AC67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649-3AFE-4751-8EEB-E500E657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6B34-4ED1-4D4D-A9D9-F667BDF66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5120" y="1143000"/>
            <a:ext cx="845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Государственное бюджетное общеобразовательное уч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Самарской области средняя общеобразовательная школа №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городского округа Чапаевск Самарской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структурное подразделение «детский сад «Берез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3880" y="2819520"/>
            <a:ext cx="6248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нтеграция форм работы со сказкой</a:t>
            </a:r>
            <a:endParaRPr b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в различные виды деятельности</a:t>
            </a:r>
            <a:endParaRPr b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детей дошкольного возраста</a:t>
            </a:r>
            <a:endParaRPr b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3760" y="4952880"/>
            <a:ext cx="50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Подготовила: методист Киселева Е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1447920" y="2743200"/>
            <a:ext cx="662940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990720" y="1295280"/>
          <a:ext cx="7315200" cy="373392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ема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Название сказ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Семь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Маша и медведь»; «Сестрица Аленушка и братец Ивануш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Я- человек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Маша и медведь»; «Айог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«Путешествие в осенний ле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«Как коза избушку построил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Дары осен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Репка», «Пых», «Мужик и медведь», «Крошечка-Хаврошечка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Осенняя пора – очей очаровань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В.Сутеев «Под грибом!»; В.Катаев «Дудочка и кувшинчик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371600" y="5181480"/>
            <a:ext cx="1571760" cy="943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200400" y="518148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724280" y="5181480"/>
            <a:ext cx="1676520" cy="920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705720" y="5181480"/>
            <a:ext cx="129528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990720" y="1295280"/>
          <a:ext cx="7315200" cy="335304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ема нед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Название сказ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Посуд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К.Чуковский «Федорино горе»; Братья Гримм «Горшок каш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Домашние животны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Кот, петух и лиса», «Зимовье звере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«Дикие животны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  <a:ea typeface="Times New Roman"/>
                        </a:rPr>
                        <a:t>«Колобок», «Волк и лиса», «Два жадных медвежон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Мебель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Три медвед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Весн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«Заюшкина избушка»; «Снегуроч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3000" y="4876920"/>
            <a:ext cx="159084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971800" y="4876920"/>
            <a:ext cx="1752480" cy="1112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952880" y="4876920"/>
            <a:ext cx="1486080" cy="111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705720" y="4876920"/>
            <a:ext cx="14475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733920" y="2971800"/>
            <a:ext cx="1904760" cy="609480"/>
          </a:xfrm>
          <a:prstGeom prst="rect">
            <a:avLst/>
          </a:prstGeom>
          <a:solidFill>
            <a:srgbClr val="ffffcc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Сказ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«Три медвед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25909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р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274320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5740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9920" y="342900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41911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41911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з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41911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.Х.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429000"/>
            <a:ext cx="106704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.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2057400"/>
            <a:ext cx="106704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-И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457200"/>
            <a:ext cx="1524240" cy="9144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ставление описательного рассказа по игрушке миш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457200"/>
            <a:ext cx="1295280" cy="9144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гра «Научим мишку говорить правильн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457200"/>
            <a:ext cx="1143000" cy="9144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ЭМП (количественный и порядковый сч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7924680" y="1218960"/>
            <a:ext cx="533160" cy="1447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/иг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Подбери пар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7962840" y="1942920"/>
            <a:ext cx="457200" cy="1447920"/>
          </a:xfrm>
          <a:prstGeom prst="rect">
            <a:avLst/>
          </a:prstGeom>
          <a:solidFill>
            <a:srgbClr val="bbe0e3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ис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Ле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7810560" y="2705040"/>
            <a:ext cx="761760" cy="1447920"/>
          </a:xfrm>
          <a:prstGeom prst="rect">
            <a:avLst/>
          </a:prstGeom>
          <a:solidFill>
            <a:srgbClr val="bbe0e3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еп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Мишка косолап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лесу иде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7505280" y="4610160"/>
            <a:ext cx="1143000" cy="1676520"/>
          </a:xfrm>
          <a:prstGeom prst="rect">
            <a:avLst/>
          </a:prstGeom>
          <a:solidFill>
            <a:srgbClr val="bbe0e3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Меб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трех медведей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из строитель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атериал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5334120"/>
            <a:ext cx="990360" cy="11430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узыкальная игра «Угадай, кто идет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5334120"/>
            <a:ext cx="923760" cy="1143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учивание потешки «Медведь топуч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5334120"/>
            <a:ext cx="1289160" cy="1066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ссматрива-ние иллюстрации Ю.Васнецо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723240" y="3543120"/>
            <a:ext cx="53352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гра с шиш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619560" y="1666080"/>
            <a:ext cx="74124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/игра «У медведя во бор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528120" y="614160"/>
            <a:ext cx="92376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изминутка «Три медведя шли дом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7695720" y="3504960"/>
            <a:ext cx="761760" cy="1676520"/>
          </a:xfrm>
          <a:prstGeom prst="rect">
            <a:avLst/>
          </a:prstGeom>
          <a:solidFill>
            <a:srgbClr val="bbe0e3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ппл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Чашки тре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две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457200"/>
            <a:ext cx="1600200" cy="9144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ЭМП (сравнение по размеру медведей, посуды, меб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570960" y="2628720"/>
            <a:ext cx="83808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из.упр. «Доберись до домика трех медве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833720"/>
            <a:ext cx="1471320" cy="1006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гровая ситуация «Помоги Машеньке накрыть стол для медвед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4610160" y="5371920"/>
            <a:ext cx="1143000" cy="10666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онетическая гимнастика «Колыбельная мишк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3733920" y="25146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648320" y="25146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638680" y="28195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32767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200400" y="29714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276720" y="3276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124080" y="3581280"/>
            <a:ext cx="15242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3581280"/>
            <a:ext cx="14475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819520" y="137124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733920" y="137124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477120" y="190476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7086600" y="2666880"/>
            <a:ext cx="380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86600" y="342864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35812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46483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4648320"/>
            <a:ext cx="1904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46483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590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752120" y="3886200"/>
            <a:ext cx="8384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752120" y="320040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752120" y="30481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1752120" y="243828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1752120" y="1371600"/>
            <a:ext cx="3812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257800" y="137124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257800" y="1371240"/>
            <a:ext cx="1981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9880" y="3048120"/>
            <a:ext cx="1905120" cy="609480"/>
          </a:xfrm>
          <a:prstGeom prst="rect">
            <a:avLst/>
          </a:prstGeom>
          <a:solidFill>
            <a:srgbClr val="ffffcc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Сказ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«Гуси-лебед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274320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р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2743200"/>
            <a:ext cx="106704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1337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342900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15000" y="41911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41911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з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41911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.Х.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3429000"/>
            <a:ext cx="106704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.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21337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-И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80880"/>
            <a:ext cx="1523880" cy="12193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гра «Вежливые слов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380880"/>
            <a:ext cx="2057400" cy="12193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гр.упраж. «Выложи серию картинок в правильной последовательности и перескажи сказку по цепоч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380880"/>
            <a:ext cx="1143000" cy="12193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ЭМП (количественный счет ябло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7657920" y="1409400"/>
            <a:ext cx="99036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г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Назови положительных и отрицательных героев сказ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7772040" y="3200400"/>
            <a:ext cx="76212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еп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Гостинцы для Ванечки и Машень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7619760" y="5105520"/>
            <a:ext cx="106668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оительство моста через ре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из строитель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атериал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5257800"/>
            <a:ext cx="923760" cy="1143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ение сказки «Гуси-лебе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5257800"/>
            <a:ext cx="1288800" cy="1143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ссматрива-ние иллюстрации Е.Рачева к сказ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723600" y="2781360"/>
            <a:ext cx="53316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/игра «Карусел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619560" y="1742400"/>
            <a:ext cx="74124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/игра «Лебеди», «Перелет птиц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7810200" y="4076640"/>
            <a:ext cx="68580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исование и апплик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Яблон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380880"/>
            <a:ext cx="1600200" cy="10670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ЭМП Игра «Летел лебед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5257800"/>
            <a:ext cx="1471320" cy="11430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гровая ситуация «Испечем пирож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5600520" y="4914360"/>
            <a:ext cx="1143000" cy="18288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смотр видео музыкальной сказки «Гуси-лебед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3962520" y="259092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800600" y="25909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715000" y="2971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15000" y="3352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365760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123720" y="3657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276360" y="33526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276360" y="29718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7848360" y="2362320"/>
            <a:ext cx="60948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еатрализованная игра «Ярмар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4361400"/>
            <a:ext cx="1471680" cy="4590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монт книг в книжном угол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1828440" y="1600200"/>
            <a:ext cx="2057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88620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334120" y="16002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334120" y="144756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477120" y="213336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86600" y="29718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36576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3886200"/>
            <a:ext cx="8384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46483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46483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46483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676160" y="388620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752480" y="3886200"/>
            <a:ext cx="9144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752480" y="25146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752480" y="29718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76720" y="2743200"/>
            <a:ext cx="2666880" cy="12175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Сказ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«Сестрица Аленушка и братец Ивануш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72200" y="266688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р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81080" y="2590920"/>
            <a:ext cx="106704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182880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35053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44197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44197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з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44197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.Х.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3429000"/>
            <a:ext cx="106704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.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1828800"/>
            <a:ext cx="106704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-И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304920"/>
            <a:ext cx="1523880" cy="9144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ссказывание сказки по мнемотаблиц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304920"/>
            <a:ext cx="1295280" cy="9144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гра с мячом «Скажи ласково»(называние имен дет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304920"/>
            <a:ext cx="1143000" cy="9144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здание наглядной модели сказ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766280" y="1066320"/>
            <a:ext cx="849960" cy="1447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Игра «Аленушка и Иванушка, «Кого из сказки я загадала?», «Чьи следы?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5400000">
            <a:off x="7758720" y="2169000"/>
            <a:ext cx="865080" cy="1447920"/>
          </a:xfrm>
          <a:prstGeom prst="rect">
            <a:avLst/>
          </a:prstGeom>
          <a:solidFill>
            <a:srgbClr val="bbe0e3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Рисование-экспериментирование «Чудесные превращения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5400000">
            <a:off x="7823880" y="3148560"/>
            <a:ext cx="734760" cy="1447920"/>
          </a:xfrm>
          <a:prstGeom prst="rect">
            <a:avLst/>
          </a:prstGeom>
          <a:solidFill>
            <a:srgbClr val="bbe0e3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Лепк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«Козлик» (по мотивам народных игрушек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7657920" y="5371920"/>
            <a:ext cx="1066680" cy="1447920"/>
          </a:xfrm>
          <a:prstGeom prst="rect">
            <a:avLst/>
          </a:prstGeom>
          <a:solidFill>
            <a:srgbClr val="bbe0e3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Хоромы купца» (из строительного материал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5486400"/>
            <a:ext cx="1676520" cy="10666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равнение пьесы С.Прокофьева «Сказочка» и Д.Шостаковича  «Веселая сказ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5486400"/>
            <a:ext cx="923760" cy="1066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ение отрывков из сказ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5486400"/>
            <a:ext cx="1289160" cy="1066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ссматривание иллюстраций Е.Рачева к сказ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619560" y="1666080"/>
            <a:ext cx="74124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пражнение «Пройди по след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5400000">
            <a:off x="528120" y="614160"/>
            <a:ext cx="92376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/игра «Горелки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гра «Где купался Иванушка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7696080" y="4190760"/>
            <a:ext cx="990360" cy="1447920"/>
          </a:xfrm>
          <a:prstGeom prst="rect">
            <a:avLst/>
          </a:prstGeom>
          <a:solidFill>
            <a:srgbClr val="bbe0e3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Аппликац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из шерстяных ниток. по сюжету сказк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53080" y="304920"/>
            <a:ext cx="1600200" cy="838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пыты: «Тонет-не тонет», «Очистим вод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570960" y="2628720"/>
            <a:ext cx="83808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изминутка «К речке быстр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4149720"/>
            <a:ext cx="1471680" cy="10065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гровая ситуация «Помоги Аленушке «Стирка одежды для кукол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2971800" y="5486040"/>
            <a:ext cx="1066680" cy="10666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ушание Р.Шуман «Смелый наездни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5400000">
            <a:off x="6121080" y="5537520"/>
            <a:ext cx="1092960" cy="990720"/>
          </a:xfrm>
          <a:prstGeom prst="rect">
            <a:avLst/>
          </a:prstGeom>
          <a:solidFill>
            <a:srgbClr val="bbe0e3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крашение для Аленушки из липей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2286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648320" y="22860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943600" y="2895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3429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047760" y="281916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047760" y="3352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819520" y="3962520"/>
            <a:ext cx="1676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396252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666880" y="121896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733920" y="12189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486400" y="121896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486400" y="1142640"/>
            <a:ext cx="1752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629400" y="18288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7238880" y="289512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38880" y="37339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38880" y="3733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19920" y="487692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4876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48769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504960" y="487692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286000" y="48769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295280" y="487692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676520" y="38862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752120" y="28195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1752120" y="24379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1752120" y="137160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429000" y="2819520"/>
            <a:ext cx="2362320" cy="988920"/>
          </a:xfrm>
          <a:prstGeom prst="rect">
            <a:avLst/>
          </a:prstGeom>
          <a:solidFill>
            <a:srgbClr val="ffffcc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Сказ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Arial"/>
              </a:rPr>
              <a:t>«Царевна-лягуш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266688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гр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2590920"/>
            <a:ext cx="106704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182880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м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72200" y="35053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62720" y="44197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44197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з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4419720"/>
            <a:ext cx="106668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.Х.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81080" y="3429000"/>
            <a:ext cx="106704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.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1828800"/>
            <a:ext cx="106704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-И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228600"/>
            <a:ext cx="1523880" cy="914400"/>
          </a:xfrm>
          <a:prstGeom prst="rect">
            <a:avLst/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ресказ сказки с опорой на иллю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228600"/>
            <a:ext cx="1905120" cy="990720"/>
          </a:xfrm>
          <a:prstGeom prst="rect">
            <a:avLst/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еседа о пословицах и поговорках. Составление пословиц по определенным словам о труд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91320" y="228600"/>
            <a:ext cx="1295280" cy="990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оздание научно-исследовательского кейса «Превращен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7682760" y="1066320"/>
            <a:ext cx="1017360" cy="1447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Д/игра «Назови больше слов» (названия хлебобулочных изделий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7675200" y="2253240"/>
            <a:ext cx="1032480" cy="1447920"/>
          </a:xfrm>
          <a:prstGeom prst="rect">
            <a:avLst/>
          </a:prstGeom>
          <a:solidFill>
            <a:srgbClr val="bbe0e3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Рисование «Пир на весь мир» (декоративная посуда и сказочные яства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7886520" y="3238200"/>
            <a:ext cx="609480" cy="1447920"/>
          </a:xfrm>
          <a:prstGeom prst="rect">
            <a:avLst/>
          </a:prstGeom>
          <a:solidFill>
            <a:srgbClr val="bbe0e3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Рельефная лепк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«Лягушонка в коробчонке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5400000">
            <a:off x="7696080" y="5333760"/>
            <a:ext cx="990360" cy="1447920"/>
          </a:xfrm>
          <a:prstGeom prst="rect">
            <a:avLst/>
          </a:prstGeom>
          <a:solidFill>
            <a:srgbClr val="bbe0e3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Замок Кощея» (Лего-конструирование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9720" y="5486400"/>
            <a:ext cx="1676160" cy="10666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мпровизированная пляска под мелодию р.н.п. «Светит месяц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5486400"/>
            <a:ext cx="924120" cy="1066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пражнение «В гостях у сказки» (загадки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5486400"/>
            <a:ext cx="1289160" cy="1066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Рассматривание и сравнение иллюстраций Е.Рачева и Ю.Васнецова к сказк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619560" y="1666080"/>
            <a:ext cx="74124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/игра «Ловишки с мячо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528120" y="614160"/>
            <a:ext cx="92376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вест игра «Спаси царевну или новые приключения Царевны-лягуш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7696080" y="4190760"/>
            <a:ext cx="990360" cy="1447920"/>
          </a:xfrm>
          <a:prstGeom prst="rect">
            <a:avLst/>
          </a:prstGeom>
          <a:solidFill>
            <a:srgbClr val="bbe0e3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Картинная мозаика «Ковер» (обрывная аппликаци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238880" y="228600"/>
            <a:ext cx="1600200" cy="9144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Образовательные ситуации «Лебеди на озере» (решение арифметических задач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5400000">
            <a:off x="570960" y="2781360"/>
            <a:ext cx="838440" cy="15238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альчиковая гимнастика «В гостях у сказ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4191120"/>
            <a:ext cx="1471680" cy="99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готовление пирога из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3124080" y="5485680"/>
            <a:ext cx="1066680" cy="10670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лушание р.н.п. «Лебедушк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5400000">
            <a:off x="6210000" y="5524560"/>
            <a:ext cx="1066680" cy="99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Лягушка» (в технике орига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3733920" y="22860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572000" y="22860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791320" y="289512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327672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895120" y="3809880"/>
            <a:ext cx="1600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48320" y="3809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3809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3809880"/>
            <a:ext cx="16002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3048120" y="2743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048120" y="3276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2666880" y="114264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733920" y="12189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781680" y="17524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238880" y="297144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238880" y="3733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487692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19920" y="4876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95680" y="48769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657600" y="487692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1752120" y="144792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1752120" y="25142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752120" y="28195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676520" y="38862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066320" y="4876920"/>
            <a:ext cx="1752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437920" y="48769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3809880"/>
            <a:ext cx="228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486400" y="121896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486400" y="114264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1371600" y="1371600"/>
            <a:ext cx="662940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Методический материал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19120" y="1663560"/>
            <a:ext cx="6272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Times New Roman"/>
              </a:rPr>
              <a:t>К сказке «Три медвед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Times New Roman"/>
              </a:rPr>
              <a:t>Физминутка  «Три медведя шли дом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914400" y="3124080"/>
          <a:ext cx="7238880" cy="2837160"/>
        </p:xfrm>
        <a:graphic>
          <a:graphicData uri="http://schemas.openxmlformats.org/drawingml/2006/table">
            <a:tbl>
              <a:tblPr/>
              <a:tblGrid>
                <a:gridCol w="3276720"/>
                <a:gridCol w="3962160"/>
              </a:tblGrid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Три медведя шли дом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Папа был – большой-больш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Мама чуть поменьше рост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А малыш – малютка прост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Очень маленький он был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С погремушками ходи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Дзынь-дзынь-дзынь 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С погремушками ходил. (2 раз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Дети маршируют на мес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Тянут руки ввер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Наклоняютс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Приседаю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Изображают игру погремушк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1295280" y="1219320"/>
            <a:ext cx="662940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Методический материал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1981080"/>
            <a:ext cx="685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Игра «Научим мишку говорить правильн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Цель: обогащать словарь детей по теме «Дикие животные», стимулировать речевую активность, совершенствовать грамматический строй речи, фразовую ре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В о с п и т а т е л ь: Мишка сказал мне, что он забыл всех животных, которые живут в его лесу и просит ему напомнить. Поможем миш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Воспитатель показывает картинки с изображением диких животных, а дети называют их хором. Это…. (заяц, волк, лиса, медведь, белка, еж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7T10:28:39Z</dcterms:created>
  <dc:creator>Пользователь</dc:creator>
  <dc:description/>
  <dc:language>en-US</dc:language>
  <cp:lastModifiedBy>Пользователь</cp:lastModifiedBy>
  <dcterms:modified xsi:type="dcterms:W3CDTF">2018-11-19T08:57:0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