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329-93E4-4A2F-BF9F-D1CD53EA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8A5-AC4D-47F4-8DCD-D9B8A0FE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CE0-672C-4551-9FC6-BBF206A4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EB4-75BC-4ADA-B544-7D6BC405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D6A-5684-44BA-80B9-F0B58F61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8E4-0E2C-4704-A815-BA52D9B4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129-7745-4F35-8FB2-F3646206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4E1-6029-4ECC-B075-82A7389B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6BF-D541-43D3-9D79-C6960D4A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277-F456-4946-B171-5CC1F753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8C0-F1DA-4733-A631-61FDE36D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14F-B0DE-4B29-A3D0-6EF885A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4FF2-FCC4-4769-BA8C-BC9544D8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120" y="1143000"/>
            <a:ext cx="845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амарской области средняя общеобразовательная школа №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ородского округа Чапаевск Самар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Бере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819520"/>
            <a:ext cx="6248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нтеграция форм работы со сказкой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 различные виды деятельности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тей дошкольного возраста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3760" y="495288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одготовила: методист Киселева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447920" y="2743200"/>
            <a:ext cx="66294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990720" y="1295280"/>
          <a:ext cx="7315200" cy="37339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ма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звание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Маша и медведь»; «Сестрица Аленушка и братец Иван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Я- челове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Маша и медведь»; «Айог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«Путешествие в осенний ле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«Как коза избушку построил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Дары осен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Репка», «Пых», «Мужик и медведь», «Крошечка-Хаврошечка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Осенняя пора – очей очаровань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.Сутеев «Под грибом!»; В.Катаев «Дудочка и кувшинч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71600" y="5181480"/>
            <a:ext cx="1571760" cy="9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51814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24280" y="5181480"/>
            <a:ext cx="1676520" cy="920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705720" y="5181480"/>
            <a:ext cx="12952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990720" y="1295280"/>
          <a:ext cx="7315200" cy="335304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ма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звание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Посу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.Чуковский «Федорино горе»; Братья Гримм «Горшок каш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Домашние животны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Кот, петух и лиса», «Зимовье звере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«Дикие животны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«Колобок», «Волк и лиса», «Два жадных медвежон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Мебел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Три медвед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Вес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Заюшкина избушка»; «Снегуро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159084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71800" y="4876920"/>
            <a:ext cx="1752480" cy="11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52880" y="4876920"/>
            <a:ext cx="1486080" cy="11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05720" y="4876920"/>
            <a:ext cx="14475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33920" y="2971800"/>
            <a:ext cx="1904760" cy="609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«Три медвед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5909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7432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574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34290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Х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4290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20574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-И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57200"/>
            <a:ext cx="152424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ставление описательного рассказа по игрушке ми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57200"/>
            <a:ext cx="129528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«Научим мишку говорить правиль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57200"/>
            <a:ext cx="11430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ЭМП (количественный и порядковый с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924680" y="1218960"/>
            <a:ext cx="5331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/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Подбери пар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7962840" y="1942920"/>
            <a:ext cx="45720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и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Ле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7810560" y="2705040"/>
            <a:ext cx="7617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п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Мишка косолап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лесу иде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7505280" y="4610160"/>
            <a:ext cx="1143000" cy="16765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Меб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трех медвед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из строите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риа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5334120"/>
            <a:ext cx="99036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узыкальная игра «Угадай, кто идет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5334120"/>
            <a:ext cx="92376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учивание потешки «Медведь топуч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5334120"/>
            <a:ext cx="12891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атрива-ние иллюстрации Ю.Васнец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723240" y="3543120"/>
            <a:ext cx="53352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с ши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619560" y="1666080"/>
            <a:ext cx="7412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У медведя во бор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528120" y="614160"/>
            <a:ext cx="9237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зминутка «Три медведя шли дом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695720" y="3504960"/>
            <a:ext cx="761760" cy="16765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ппл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Чашки тре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две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457200"/>
            <a:ext cx="16002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ЭМП (сравнение по размеру медведей, посуды,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570960" y="2628720"/>
            <a:ext cx="83808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з.упр. «Доберись до домика трех медве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33720"/>
            <a:ext cx="1471320" cy="1006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овая ситуация «Помоги Машеньке накрыть стол для медве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610160" y="5371920"/>
            <a:ext cx="114300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нетическая гимнастика «Колыбельная мишк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73392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648320" y="25146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2819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32767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00400" y="29714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7672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1240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5812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819520" y="13712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1371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7120" y="190476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086600" y="26668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86600" y="3428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3581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4648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6483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6483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590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52120" y="38862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752120" y="320040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75212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52120" y="24382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752120" y="13716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257800" y="13712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257800" y="137124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9880" y="3048120"/>
            <a:ext cx="1905120" cy="609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«Гуси-леб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7432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27432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133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34290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Х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34290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2133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-И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0880"/>
            <a:ext cx="152388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«Вежливые сло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380880"/>
            <a:ext cx="205740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.упраж. «Выложи серию картинок в правильной последовательности и перескажи сказку по цеп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380880"/>
            <a:ext cx="114300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ЭМП (количественный счет ябл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657920" y="1409400"/>
            <a:ext cx="9903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Назови положительных и отрицательных героев ска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7772040" y="3200400"/>
            <a:ext cx="76212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п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остинцы для Ванечки и Машень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619760" y="5105520"/>
            <a:ext cx="106668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ительство моста через ре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из строите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риа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5257800"/>
            <a:ext cx="92376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ение сказки «Гуси-лебе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5257800"/>
            <a:ext cx="128880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атрива-ние иллюстрации Е.Рачева к сказ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23600" y="2781360"/>
            <a:ext cx="5331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Карусе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19560" y="1742400"/>
            <a:ext cx="7412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Лебеди», «Перелет пти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810200" y="4076640"/>
            <a:ext cx="68580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исование и аппл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Яблон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80880"/>
            <a:ext cx="1600200" cy="106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ЭМП Игра «Летел лебед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257800"/>
            <a:ext cx="147132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овая ситуация «Испечем пирож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600520" y="4914360"/>
            <a:ext cx="1143000" cy="18288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смотр видео музыкальной сказки «Гуси-лебе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962520" y="25909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00600" y="2590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15000" y="2971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3352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23720" y="3657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3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276360" y="29718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7848360" y="2362320"/>
            <a:ext cx="60948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атрализованная игра «Ярмар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4361400"/>
            <a:ext cx="1471680" cy="4590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монт книг в книжном угол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828440" y="1600200"/>
            <a:ext cx="2057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62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3341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4120" y="144756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77120" y="2133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2971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657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388620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6483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6483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6160" y="38862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752480" y="3886200"/>
            <a:ext cx="914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7524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752480" y="29718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76720" y="2743200"/>
            <a:ext cx="2666880" cy="12175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«Сестрица Аленушка и братец Ивану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266688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259092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8288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5053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Х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4290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18288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-И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04920"/>
            <a:ext cx="152388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казывание сказки по мнемотаблиц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04920"/>
            <a:ext cx="129528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с мячом «Скажи ласково»(называние имен дет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304920"/>
            <a:ext cx="11430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здание наглядной модели ска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766280" y="1066320"/>
            <a:ext cx="8499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Игра «Аленушка и Иванушка, «Кого из сказки я загадала?», «Чьи следы?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7758720" y="2169000"/>
            <a:ext cx="86508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исование-экспериментирование «Чудесные превращения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7823880" y="3148560"/>
            <a:ext cx="7347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Лепк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«Козлик» (по мотивам народных игрушек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7657920" y="5371920"/>
            <a:ext cx="106668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Хоромы купца» (из строительного материал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5486400"/>
            <a:ext cx="167652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авнение пьесы С.Прокофьева «Сказочка» и Д.Шостаковича  «Веселая сказ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5486400"/>
            <a:ext cx="9237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ение отрывков из ска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486400"/>
            <a:ext cx="12891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атривание иллюстраций Е.Рачева к сказ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619560" y="1666080"/>
            <a:ext cx="7412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«Пройди по сле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528120" y="614160"/>
            <a:ext cx="9237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Горелки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«Где купался Иванушк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7696080" y="4190760"/>
            <a:ext cx="9903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Апплика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из шерстяных ниток. по сюжету сказк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04920"/>
            <a:ext cx="160020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ыты: «Тонет-не тонет», «Очистим в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570960" y="2628720"/>
            <a:ext cx="83808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зминутка «К речке быстр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149720"/>
            <a:ext cx="1471680" cy="1006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овая ситуация «Помоги Аленушке «Стирка одежды для куко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971800" y="5486040"/>
            <a:ext cx="106668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ушание Р.Шуман «Смелый наез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6121080" y="5537520"/>
            <a:ext cx="109296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рашение для Аленушки из липей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22860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3600" y="2895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342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047760" y="28191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7760" y="3352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819520" y="39625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9625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666880" y="121896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73392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486400" y="12189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86400" y="114264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629400" y="18288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238880" y="28951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7339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3733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487692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4876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876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4960" y="48769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286000" y="4876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295280" y="487692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676520" y="38862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752120" y="2819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752120" y="24379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752120" y="13716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429000" y="2819520"/>
            <a:ext cx="2362320" cy="9889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«Царевна-лягу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266688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59092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18288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35053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Х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4290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18288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-И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228600"/>
            <a:ext cx="152388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есказ сказки с опорой на иллю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28600"/>
            <a:ext cx="190512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седа о пословицах и поговорках. Составление пословиц по определенным словам о тру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228600"/>
            <a:ext cx="129528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оздание научно-исследовательского кейса «Превраще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7682760" y="1066320"/>
            <a:ext cx="10173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Д/игра «Назови больше слов» (названия хлебобулочных издели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7675200" y="2253240"/>
            <a:ext cx="103248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исование «Пир на весь мир» (декоративная посуда и сказочные яств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7886520" y="3238200"/>
            <a:ext cx="60948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ельефная лепк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«Лягушонка в коробчонк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7696080" y="5333760"/>
            <a:ext cx="9903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Замок Кощея» (Лего-конструировани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5486400"/>
            <a:ext cx="16761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провизированная пляска под мелодию р.н.п. «Светит меся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486400"/>
            <a:ext cx="92412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«В гостях у сказки» (загад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5486400"/>
            <a:ext cx="12891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ассматривание и сравнение иллюстраций Е.Рачева и Ю.Васнецова к сказк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619560" y="1666080"/>
            <a:ext cx="7412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Ловишки с мяч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28120" y="614160"/>
            <a:ext cx="9237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вест игра «Спаси царевну или новые приключения Царевны-лягу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7696080" y="4190760"/>
            <a:ext cx="9903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артинная мозаика «Ковер» (обрывная аппликац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28600"/>
            <a:ext cx="16002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Образовательные ситуации «Лебеди на озере» (решение арифметических задач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570960" y="2781360"/>
            <a:ext cx="8384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льчиковая гимнастика «В гостях у сказ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191120"/>
            <a:ext cx="1471680" cy="99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отовление пирога из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3124080" y="5485680"/>
            <a:ext cx="1066680" cy="106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лушание р.н.п. «Лебедушк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6210000" y="5524560"/>
            <a:ext cx="1066680" cy="99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Лягушка» (в технике орига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733920" y="2286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22860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91320" y="28951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2767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895120" y="38098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832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38098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048120" y="2743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048120" y="3276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666880" y="11426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1218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781680" y="17524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238880" y="297144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3888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48769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4876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876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657600" y="4876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752120" y="14479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1752120" y="2514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752120" y="2819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676520" y="3886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066320" y="4876920"/>
            <a:ext cx="1752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437920" y="48769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486400" y="12189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486400" y="11426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371600" y="1371600"/>
            <a:ext cx="66294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етодический материа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19120" y="1663560"/>
            <a:ext cx="6272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К сказке 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Физминутка  «Три медведя шли дом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14400" y="3124080"/>
          <a:ext cx="7238880" cy="2837160"/>
        </p:xfrm>
        <a:graphic>
          <a:graphicData uri="http://schemas.openxmlformats.org/drawingml/2006/table">
            <a:tbl>
              <a:tblPr/>
              <a:tblGrid>
                <a:gridCol w="3276720"/>
                <a:gridCol w="3962160"/>
              </a:tblGrid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ри медведя шли дом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апа был – большой-больш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Мама чуть поменьше рос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А малыш – малютка прост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чень маленький он бы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 погремушками ход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зынь-дзынь-дзынь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 погремушками ходил. (2 ра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ети маршируют на мес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янут руки ввер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Наклоняю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риседаю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зображают игру погремуш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1295280" y="1219320"/>
            <a:ext cx="66294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етодический материа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98108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Игра «Научим мишку говорить правиль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Цель: обогащать словарь детей по теме «Дикие животные», стимулировать речевую активность, совершенствовать грамматический строй речи, фразовую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 о с п и т а т е л ь: Мишка сказал мне, что он забыл всех животных, которые живут в его лесу и просит ему напомнить. Поможем ми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оспитатель показывает картинки с изображением диких животных, а дети называют их хором. Это…. (заяц, волк, лиса, медведь, белка, еж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0:28:39Z</dcterms:created>
  <dc:creator>Пользователь</dc:creator>
  <dc:description/>
  <dc:language>en-US</dc:language>
  <cp:lastModifiedBy>Пользователь</cp:lastModifiedBy>
  <dcterms:modified xsi:type="dcterms:W3CDTF">2018-11-19T08:57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