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FBF6-5F5D-442B-B672-954D96D2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E42-D1DF-4632-909F-A2EE0656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D10-F9CC-4E78-831A-91DEA0B5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C111-470A-4F22-86FC-0368EA11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5E8-987A-48AB-B559-D4260582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897-D9FA-4FEA-A7F7-DB234557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C05-5CE1-499D-8BC5-358203EC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97DE-C9B9-42BE-899D-FAE7436A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32C-E551-44E6-8B72-40DA7F13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634-3BC8-42A4-B649-9DD8A7D7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FC0-DC87-4E5E-A9D1-7B3E4366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EF9-CC4B-4D95-964A-9742FDF4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daba"/>
            </a:gs>
            <a:gs pos="50000">
              <a:srgbClr val="ffffff"/>
            </a:gs>
            <a:gs pos="100000">
              <a:srgbClr val="f0dab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FF09-2D63-4A64-B0A5-C51E0A2D8D87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b5542d"/>
                </a:solidFill>
                <a:uFillTx/>
                <a:latin typeface="Arial Black"/>
              </a:rPr>
              <a:t>Программа </a:t>
            </a:r>
            <a:br>
              <a:rPr sz="3600"/>
            </a:br>
            <a:r>
              <a:rPr b="0" lang="ru-RU" sz="3600" spc="-1" strike="noStrike" u="sng">
                <a:solidFill>
                  <a:srgbClr val="b5542d"/>
                </a:solidFill>
                <a:uFillTx/>
                <a:latin typeface="Arial Black"/>
              </a:rPr>
              <a:t>«Разговор о правильном питании»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4" descr="Food043"/>
          <p:cNvPicPr/>
          <p:nvPr/>
        </p:nvPicPr>
        <p:blipFill>
          <a:blip r:embed="rId1"/>
          <a:stretch/>
        </p:blipFill>
        <p:spPr>
          <a:xfrm>
            <a:off x="228600" y="4572000"/>
            <a:ext cx="1676520" cy="1114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Food098"/>
          <p:cNvPicPr/>
          <p:nvPr/>
        </p:nvPicPr>
        <p:blipFill>
          <a:blip r:embed="rId2"/>
          <a:stretch/>
        </p:blipFill>
        <p:spPr>
          <a:xfrm>
            <a:off x="914400" y="1600200"/>
            <a:ext cx="1555920" cy="1287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Food050"/>
          <p:cNvPicPr/>
          <p:nvPr/>
        </p:nvPicPr>
        <p:blipFill>
          <a:blip r:embed="rId3"/>
          <a:stretch/>
        </p:blipFill>
        <p:spPr>
          <a:xfrm>
            <a:off x="5105520" y="5257800"/>
            <a:ext cx="117000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Food089"/>
          <p:cNvPicPr/>
          <p:nvPr/>
        </p:nvPicPr>
        <p:blipFill>
          <a:blip r:embed="rId4"/>
          <a:stretch/>
        </p:blipFill>
        <p:spPr>
          <a:xfrm>
            <a:off x="3505320" y="1371600"/>
            <a:ext cx="2057400" cy="116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Food071"/>
          <p:cNvPicPr/>
          <p:nvPr/>
        </p:nvPicPr>
        <p:blipFill>
          <a:blip r:embed="rId5"/>
          <a:stretch/>
        </p:blipFill>
        <p:spPr>
          <a:xfrm>
            <a:off x="6553080" y="1600200"/>
            <a:ext cx="2133720" cy="126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Food065"/>
          <p:cNvPicPr/>
          <p:nvPr/>
        </p:nvPicPr>
        <p:blipFill>
          <a:blip r:embed="rId6"/>
          <a:stretch/>
        </p:blipFill>
        <p:spPr>
          <a:xfrm>
            <a:off x="7543800" y="3581280"/>
            <a:ext cx="1600200" cy="1378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Food099"/>
          <p:cNvPicPr/>
          <p:nvPr/>
        </p:nvPicPr>
        <p:blipFill>
          <a:blip r:embed="rId7"/>
          <a:stretch/>
        </p:blipFill>
        <p:spPr>
          <a:xfrm rot="1434000">
            <a:off x="2109960" y="3908520"/>
            <a:ext cx="1828800" cy="1023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6477120" y="4952880"/>
            <a:ext cx="25146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5542d"/>
                </a:solidFill>
                <a:latin typeface="Arial Black"/>
              </a:rPr>
              <a:t>Буркацкая Н.П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5542d"/>
                </a:solidFill>
                <a:latin typeface="Arial Black"/>
              </a:rPr>
              <a:t>МБОУ СОШ №4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228600" y="0"/>
            <a:ext cx="8686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542d"/>
                </a:solidFill>
                <a:latin typeface="Arial Black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542d"/>
                </a:solidFill>
                <a:latin typeface="Arial Black"/>
              </a:rPr>
              <a:t>средняя общеобразовательная школа №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209680"/>
          <a:ext cx="8229600" cy="2490840"/>
        </p:xfrm>
        <a:graphic>
          <a:graphicData uri="http://schemas.openxmlformats.org/drawingml/2006/table">
            <a:tbl>
              <a:tblPr/>
              <a:tblGrid>
                <a:gridCol w="3481560"/>
                <a:gridCol w="4748040"/>
              </a:tblGrid>
              <a:tr h="2491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Обсуждение проблемных вопрос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1 "Знакомство с героями "Улицы Сезам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чего мы еди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7 "Полдник. Время есть булочки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 нужно правильно питатьс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1295280"/>
          <a:ext cx="8229600" cy="446724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44683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Работа в групп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2 "Самые полезные продукты" составление списка "Любимые продукты 2 А (Б, В, Г) класса" и определение самых полезных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13 "Овощи, ягоды и фрукты -самые витаминные продукты" при проведении конкурса "Споём частушки" в группах нужно познакомиться с частушками, определить их порядок, прорепетировать и группой исполн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1295280"/>
          <a:ext cx="8229600" cy="3541680"/>
        </p:xfrm>
        <a:graphic>
          <a:graphicData uri="http://schemas.openxmlformats.org/drawingml/2006/table">
            <a:tbl>
              <a:tblPr/>
              <a:tblGrid>
                <a:gridCol w="2895480"/>
                <a:gridCol w="5334120"/>
              </a:tblGrid>
              <a:tr h="35434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оставление монологических отве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3 "Как правильно есть" при проверке домашнего задания составляем монологический ответ по фразам-опорам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положил(а) в корзину полезные проду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 больше всего из них я любл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5 "Из чего варят каши и как сделать кашу вкусной" применили фразу-опору: -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завтракаю дома в ...ч. Обычно у меня на завтрак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,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гда 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3520" y="1295280"/>
          <a:ext cx="8229600" cy="2936880"/>
        </p:xfrm>
        <a:graphic>
          <a:graphicData uri="http://schemas.openxmlformats.org/drawingml/2006/table">
            <a:tbl>
              <a:tblPr/>
              <a:tblGrid>
                <a:gridCol w="2895480"/>
                <a:gridCol w="5334120"/>
              </a:tblGrid>
              <a:tr h="29386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Работа с пословиц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4 "Удивительные превращения пирожка" использовала игровой момент "Доскажи пословицу":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не умерен в еде - (враг себе) Хочешь есть калачи - (не сиди на печи) Когда я ем- (я глух и нем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8 "Пора ужинать" работали с пословицей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якому нужен и обед, и уж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3520" y="1295280"/>
          <a:ext cx="8229600" cy="3063960"/>
        </p:xfrm>
        <a:graphic>
          <a:graphicData uri="http://schemas.openxmlformats.org/drawingml/2006/table">
            <a:tbl>
              <a:tblPr/>
              <a:tblGrid>
                <a:gridCol w="2895480"/>
                <a:gridCol w="5334120"/>
              </a:tblGrid>
              <a:tr h="3065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рактические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12 "Где найти витамины весной" выращивали дома и в классе зелёный лук из луковицы-репки, обсуждали, где его можно использова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9 "На вкус и цвет товарищей нет" определяли на вкус лимон, сахар, чеснок, сельд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3520" y="914400"/>
          <a:ext cx="8381880" cy="5364000"/>
        </p:xfrm>
        <a:graphic>
          <a:graphicData uri="http://schemas.openxmlformats.org/drawingml/2006/table">
            <a:tbl>
              <a:tblPr/>
              <a:tblGrid>
                <a:gridCol w="1552320"/>
                <a:gridCol w="6829560"/>
              </a:tblGrid>
              <a:tr h="53640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Иг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7 "Полдник. Время есть булочки" игра-соревнование "Молочные продукты" заключается в том, что нужно называть молочные продукты, кто назовёт последним, тот выигра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12 "Где найти витамины весной" игра-викторина "Отгадай и исполни", где по материалам методического пособия (с. 52) дети получают задания: спеть песню про остров, на котором можно каждый день есть кокосы и бананы; спеть песню про мальчишку, который картошку не копал, а на обед прибежал; спеть песню с грустным концом про милое насекомое, которое сравнивают с огурц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9 "На вкус и цвет товарищей нет игра "Приготовь блюдо", где по карточкам с рисунками продуктов нужно составить русские блюда: щи, уха, окрошка, гречневая каша (эта игра предложена в методическом пособии для учителя, с.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3520" y="1295280"/>
          <a:ext cx="8229600" cy="1886040"/>
        </p:xfrm>
        <a:graphic>
          <a:graphicData uri="http://schemas.openxmlformats.org/drawingml/2006/table">
            <a:tbl>
              <a:tblPr/>
              <a:tblGrid>
                <a:gridCol w="2895480"/>
                <a:gridCol w="5334120"/>
              </a:tblGrid>
              <a:tr h="1886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нкетир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13 "Овощи, ягоды и фрукты - самые витаминные продукты" применила при обобщении изученного материала, на итоговом занятии - для выявления результативности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3520" y="1295280"/>
          <a:ext cx="8229600" cy="2587680"/>
        </p:xfrm>
        <a:graphic>
          <a:graphicData uri="http://schemas.openxmlformats.org/drawingml/2006/table">
            <a:tbl>
              <a:tblPr/>
              <a:tblGrid>
                <a:gridCol w="2895480"/>
                <a:gridCol w="5334120"/>
              </a:tblGrid>
              <a:tr h="29386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Работа с дополнительной литератур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брали дополнительный материал из детских энциклопед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ниге "Злаки в картинках" (Приложение к пособию Т.А. Шорыгиной) знакомились с растениями, из которых получают хлеб, в теме №6 "Плох обед, если хлеба нет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3520" y="1295280"/>
          <a:ext cx="8229600" cy="182880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18288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амостоятельная работа с материалами рабочей тетра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ялась на многих занятиях для подтверждения полученных сведений и выв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Как правильно есть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(гигиена питания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1447920"/>
          <a:ext cx="8534520" cy="1662120"/>
        </p:xfrm>
        <a:graphic>
          <a:graphicData uri="http://schemas.openxmlformats.org/drawingml/2006/table">
            <a:tbl>
              <a:tblPr/>
              <a:tblGrid>
                <a:gridCol w="2845080"/>
                <a:gridCol w="2844720"/>
                <a:gridCol w="2844720"/>
              </a:tblGrid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облю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ыпо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анитар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реж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отребляе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рави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ит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ищ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Picture 5" descr="30298"/>
          <p:cNvPicPr/>
          <p:nvPr/>
        </p:nvPicPr>
        <p:blipFill>
          <a:blip r:embed="rId1"/>
          <a:stretch/>
        </p:blipFill>
        <p:spPr>
          <a:xfrm>
            <a:off x="1600200" y="3352680"/>
            <a:ext cx="2295360" cy="3143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9" name="Picture 6" descr="30299"/>
          <p:cNvPicPr/>
          <p:nvPr/>
        </p:nvPicPr>
        <p:blipFill>
          <a:blip r:embed="rId2"/>
          <a:stretch/>
        </p:blipFill>
        <p:spPr>
          <a:xfrm>
            <a:off x="4648320" y="3352680"/>
            <a:ext cx="2438280" cy="311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0000"/>
                </a:solidFill>
                <a:latin typeface="Arial Black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Содержимое 11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4140000" cy="5587920"/>
          </a:xfrm>
          <a:prstGeom prst="rect">
            <a:avLst/>
          </a:prstGeom>
          <a:ln w="0">
            <a:noFill/>
          </a:ln>
        </p:spPr>
      </p:pic>
      <p:pic>
        <p:nvPicPr>
          <p:cNvPr id="53" name="Содержимое 11" descr=""/>
          <p:cNvPicPr/>
          <p:nvPr/>
        </p:nvPicPr>
        <p:blipFill>
          <a:blip r:embed="rId2"/>
          <a:stretch/>
        </p:blipFill>
        <p:spPr>
          <a:xfrm>
            <a:off x="4673520" y="863640"/>
            <a:ext cx="4140360" cy="55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685800" y="304920"/>
          <a:ext cx="8077320" cy="332424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амые полезные прод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амые вредные прод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. Ябло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. Кока-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. Морковь и брокко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. Сладкие газиров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. Лук и чес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. Картофельные чип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. Каш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. Сосиски и колб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. Молочные прод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. Маргар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Рисунок 10" descr="1209117894_veg_1demo.jpg"/>
          <p:cNvPicPr/>
          <p:nvPr/>
        </p:nvPicPr>
        <p:blipFill>
          <a:blip r:embed="rId1"/>
          <a:stretch/>
        </p:blipFill>
        <p:spPr>
          <a:xfrm>
            <a:off x="2666880" y="3429000"/>
            <a:ext cx="327672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09480" y="914400"/>
          <a:ext cx="8077320" cy="4578480"/>
        </p:xfrm>
        <a:graphic>
          <a:graphicData uri="http://schemas.openxmlformats.org/drawingml/2006/table">
            <a:tbl>
              <a:tblPr/>
              <a:tblGrid>
                <a:gridCol w="8077320"/>
              </a:tblGrid>
              <a:tr h="5335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Человеку нужно ес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1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Чтобы встать и чтобы сес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Чтобы прыгать, кувыркатьс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48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Песни петь, дружить, смеятьс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Чтоб расти и развив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И при этом не боле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Нужно правильно пит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С самых юных лет уме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Рисунок 3" descr="000(1).jpg"/>
          <p:cNvPicPr/>
          <p:nvPr/>
        </p:nvPicPr>
        <p:blipFill>
          <a:blip r:embed="rId1"/>
          <a:stretch/>
        </p:blipFill>
        <p:spPr>
          <a:xfrm>
            <a:off x="5562720" y="2438280"/>
            <a:ext cx="3419280" cy="29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Опрос родителей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13867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вычка ребёнка есть всухомятку -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 детей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желание есть супы -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4 детей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желание завтракать перед школой -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 детей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желание кушать в школьной столовой -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 детей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любят молочные каши -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 детей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рудности в организации питания в связи с заболеваниями -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детей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Результаты анкетирования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685800"/>
          <a:ext cx="8229600" cy="5357880"/>
        </p:xfrm>
        <a:graphic>
          <a:graphicData uri="http://schemas.openxmlformats.org/drawingml/2006/table">
            <a:tbl>
              <a:tblPr/>
              <a:tblGrid>
                <a:gridCol w="3505320"/>
                <a:gridCol w="1600200"/>
                <a:gridCol w="1600200"/>
                <a:gridCol w="1523880"/>
              </a:tblGrid>
              <a:tr h="1219320"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опросы анке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о правильных от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о частично правильных от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о неправильных от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48960" rIns="48960" tIns="48960" bIns="48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. Что полезно есть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48960" rIns="48960" tIns="48960" bIns="48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. Какие продукты можно есть редк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2160">
                <a:tc>
                  <a:txBody>
                    <a:bodyPr lIns="48960" rIns="48960" tIns="48960" bIns="48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. В каком продукте больше всего витаминов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6400">
                <a:tc>
                  <a:txBody>
                    <a:bodyPr lIns="48960" rIns="48960" tIns="48960" bIns="48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. Что полезно есть на завтрак на обед на полдник на уж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48960" rIns="48960" tIns="48960" bIns="48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. Что знаете о хлеб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48960" rIns="48960" tIns="48960" bIns="48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. Как правильно есть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48960" rIns="48960" tIns="48960" bIns="48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7. Что на уроке было интересн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143000"/>
          <a:ext cx="8229600" cy="7512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8000"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8200">
                <a:tc>
                  <a:txBody>
                    <a:bodyPr lIns="48960" rIns="48960" tIns="48960" bIns="48960" anchor="t">
                      <a:noAutofit/>
                    </a:bodyPr>
                    <a:p>
                      <a:pPr marL="341280" indent="-3412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70c0"/>
                        </a:buClr>
                        <a:buFont typeface="Times New Roman"/>
                        <a:buAutoNum type="arabicPeriod"/>
                        <a:tabLst>
                          <a:tab algn="l" pos="45576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Безруких М.М., Филиппова Т.А., Макеева А.Г. Разговор о правильном питании. Методическое пособие. М. ОЛМА Медиа Групп, 200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1280" indent="-3412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70c0"/>
                        </a:buClr>
                        <a:buFont typeface="Times New Roman"/>
                        <a:buAutoNum type="arabicPeriod"/>
                        <a:tabLst>
                          <a:tab algn="l" pos="45576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борник Фестиваль педагогических идей "Открытый урок" ИД "Первое сентября", 2009 го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1280" indent="-3412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70c0"/>
                        </a:buClr>
                        <a:buFont typeface="Times New Roman"/>
                        <a:buAutoNum type="arabicPeriod"/>
                        <a:tabLst>
                          <a:tab algn="l" pos="45576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Интернет: издательство "Фарос Плюс", статьи о правильном питании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1280" indent="-3412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70c0"/>
                        </a:buClr>
                        <a:buFont typeface="Times New Roman"/>
                        <a:buAutoNum type="arabicPeriod"/>
                        <a:tabLst>
                          <a:tab algn="l" pos="45576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Коростелёв Н.В. От А до Я детям о здоровье. М. Медицина , 198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5920">
                <a:tc>
                  <a:txBody>
                    <a:bodyPr lIns="48960" rIns="48960" tIns="48960" bIns="48960" anchor="t">
                      <a:noAutofit/>
                    </a:bodyPr>
                    <a:p>
                      <a:pPr marL="341280" indent="-3412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70c0"/>
                        </a:buClr>
                        <a:buFont typeface="Arial Black"/>
                        <a:buChar char="•"/>
                        <a:tabLst>
                          <a:tab algn="l" pos="45576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Причины неправильного питания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Содержимое 8" descr=""/>
          <p:cNvPicPr/>
          <p:nvPr/>
        </p:nvPicPr>
        <p:blipFill>
          <a:blip r:embed="rId1"/>
          <a:stretch/>
        </p:blipFill>
        <p:spPr>
          <a:xfrm>
            <a:off x="438120" y="1566720"/>
            <a:ext cx="8309160" cy="45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Результат неправильного питания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Содержимое 8" descr=""/>
          <p:cNvPicPr/>
          <p:nvPr/>
        </p:nvPicPr>
        <p:blipFill>
          <a:blip r:embed="rId1"/>
          <a:stretch/>
        </p:blipFill>
        <p:spPr>
          <a:xfrm>
            <a:off x="438120" y="1504800"/>
            <a:ext cx="8272440" cy="464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Программа способствует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Содержимое 8" descr=""/>
          <p:cNvPicPr/>
          <p:nvPr/>
        </p:nvPicPr>
        <p:blipFill>
          <a:blip r:embed="rId1"/>
          <a:stretch/>
        </p:blipFill>
        <p:spPr>
          <a:xfrm>
            <a:off x="433440" y="890640"/>
            <a:ext cx="8277120" cy="560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Учебно-методический комплект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380880" y="1166760"/>
            <a:ext cx="8602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1. Программа "Разговор о правильном питании", разработанная специалистами Институт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озрастной физиологии Российской Академии Образования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2. Методическое пособие "Разговор о правильном питании" авторов М.М. Безруких, Т.А. Филиппов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3. Методическое пособие для учител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4. Рабочая тетрадь для школьник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5. Плакат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6. Информационный материал для родителе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Тематическое планирование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1143000"/>
          <a:ext cx="8153280" cy="4987800"/>
        </p:xfrm>
        <a:graphic>
          <a:graphicData uri="http://schemas.openxmlformats.org/drawingml/2006/table">
            <a:tbl>
              <a:tblPr/>
              <a:tblGrid>
                <a:gridCol w="871560"/>
                <a:gridCol w="2388960"/>
                <a:gridCol w="855720"/>
                <a:gridCol w="1266840"/>
                <a:gridCol w="2770200"/>
              </a:tblGrid>
              <a:tr h="665280"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№  </a:t>
                      </a: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ема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Колич.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ство с героями "Улицы Сезам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ение проблемного вопро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полезные проду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групп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8000"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ьно е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монологических ответов по опорам. Составление сх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ивительные превращения пирож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пословиц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280"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его варят каши и как сделать кашу вкус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монологических ответов по опор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Тематическое планирование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3520" y="1143000"/>
          <a:ext cx="8153280" cy="5210280"/>
        </p:xfrm>
        <a:graphic>
          <a:graphicData uri="http://schemas.openxmlformats.org/drawingml/2006/table">
            <a:tbl>
              <a:tblPr/>
              <a:tblGrid>
                <a:gridCol w="871560"/>
                <a:gridCol w="2388960"/>
                <a:gridCol w="855720"/>
                <a:gridCol w="1266840"/>
                <a:gridCol w="2770200"/>
              </a:tblGrid>
              <a:tr h="665280"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№  </a:t>
                      </a: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ема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Колич.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х обед, если хлеба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пословицами. Игра "Попробуй, угада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дник. Время есть було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ение проблемного вопроса. Игра "Молочные продукты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80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а ужин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пословиц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кус и цвет товарищей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ая  работа. Игра "Приготовь блюдо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24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хочешь п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сведения о напитк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Тематическое планирование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33520" y="1143000"/>
          <a:ext cx="8153280" cy="5018040"/>
        </p:xfrm>
        <a:graphic>
          <a:graphicData uri="http://schemas.openxmlformats.org/drawingml/2006/table">
            <a:tbl>
              <a:tblPr/>
              <a:tblGrid>
                <a:gridCol w="871560"/>
                <a:gridCol w="2388960"/>
                <a:gridCol w="855720"/>
                <a:gridCol w="1266840"/>
                <a:gridCol w="2770200"/>
              </a:tblGrid>
              <a:tr h="665280"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№  </a:t>
                      </a: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ема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Колич.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адо есть, если хочешь стать силь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"Меню спортсмена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 найти витамины вес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ая рабо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80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ощи, ягоды и фрукты -самые витаминные проду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группах. Анкет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ому овощу своё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пословицами и загад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5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ое занятие "День рождения Зелибобы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дежда</dc:creator>
  <dc:description/>
  <dc:language>en-US</dc:language>
  <cp:lastModifiedBy>Пользователь Windows</cp:lastModifiedBy>
  <dcterms:modified xsi:type="dcterms:W3CDTF">2018-12-07T16:42:3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