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4.wmf" ContentType="image/x-wmf"/>
  <Override PartName="/ppt/media/image5.jpeg" ContentType="image/jpeg"/>
  <Override PartName="/ppt/media/image6.gif" ContentType="image/gi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9.jpeg" ContentType="image/jpeg"/>
  <Override PartName="/ppt/media/image10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1649-5399-42B9-8D5B-6EFBDEA4B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C439-65F8-419C-B734-D3594D12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0253-F68C-4A41-881C-E9E9367CC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FE90-2A9C-493F-84C3-B1A819F2B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01ED-5786-4BA4-B3C7-8120C79E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7AEC-3A97-4904-965C-6149645B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D701-74BA-476C-B770-752509EA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60FF-8821-49BD-A895-779DDD80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52AF-6291-4820-BA82-130B081A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110E-4995-498F-BF83-D5E0FE0B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CB79-0678-471A-A5F9-61AC642F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7DA5-6481-4A3F-81EF-2B4A501D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B94F-CCE1-4FA2-9912-AA14228F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E6FC-E7D6-4B3B-9FD5-932EC2CE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C890-A4EA-4D63-BCA8-629613F0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295A-A0D0-431D-A333-7EB7C28A7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7355-E75E-4127-B5C3-C89949DBA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06B9-A06E-4848-B608-231BA812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99C0-D70D-4E67-9560-1BC94DE9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DDA0-0A2D-495E-9073-1C06F83E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4A40-6DF4-4429-BD1C-1C138511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370F-EA5A-4D27-94A8-BAAE0A2B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9A3C-5951-44E4-8838-EC70FDC3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F917-12B1-47F6-AAFB-F3D1AD69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330033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330033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200" spc="-1" strike="noStrike">
                  <a:solidFill>
                    <a:srgbClr val="3300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AF87-B722-4858-AE5D-503A15039A2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200" spc="-1" strike="noStrike">
                <a:solidFill>
                  <a:srgbClr val="330033"/>
                </a:solidFill>
                <a:latin typeface="Times New Roman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330033"/>
                  </a:solidFill>
                  <a:latin typeface="Times New Roman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330033"/>
                  </a:solidFill>
                  <a:latin typeface="Times New Roman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200" spc="-1" strike="noStrike">
                  <a:solidFill>
                    <a:srgbClr val="330033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330033"/>
                  </a:solidFill>
                  <a:latin typeface="Times New Roman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200" spc="-1" strike="noStrike">
                  <a:solidFill>
                    <a:srgbClr val="3300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02BF-FE9B-453C-B95B-FEA13F3905C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резентация «Правильный выбор – залог здоровья!»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ла команда «М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 «В» кла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АЛКОГОЛЬ ЭТО НАРКОТИК, ПОТОМУ ЧТО ЭТО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5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прессан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тупляет способность ясно мысл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нижает самоконтро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ает координацию дви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трудняет реч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довитое химическое веществ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адая в кровь, быстро разносится по всему организ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действует на моз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лючая “контрольные” цент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13_79785"/>
          <p:cNvPicPr/>
          <p:nvPr/>
        </p:nvPicPr>
        <p:blipFill>
          <a:blip r:embed="rId1"/>
          <a:stretch/>
        </p:blipFill>
        <p:spPr>
          <a:xfrm>
            <a:off x="5940360" y="4724280"/>
            <a:ext cx="28083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едупреждаем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5673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c01d"/>
                </a:solidFill>
                <a:latin typeface="Arial"/>
              </a:rPr>
              <a:t>По данным врача Михайловой впервые выпивших спиртные напитки появляются следующие симпто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c01d"/>
                </a:solidFill>
                <a:latin typeface="Arial"/>
              </a:rPr>
              <a:t>головная боль отмечалась у 61,2%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c01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cc01d"/>
                </a:solidFill>
                <a:latin typeface="Arial"/>
              </a:rPr>
              <a:t>тошнота – у 8,4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c01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cc01d"/>
                </a:solidFill>
                <a:latin typeface="Arial"/>
              </a:rPr>
              <a:t>рвота – у 14,8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c01d"/>
                </a:solidFill>
                <a:latin typeface="Arial"/>
              </a:rPr>
              <a:t>подавленное состояние у 3,6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c01d"/>
                </a:solidFill>
                <a:latin typeface="Arial"/>
              </a:rPr>
              <a:t>слабость у 12,4% опрошенн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j0240719"/>
          <p:cNvPicPr/>
          <p:nvPr/>
        </p:nvPicPr>
        <p:blipFill>
          <a:blip r:embed="rId1"/>
          <a:stretch/>
        </p:blipFill>
        <p:spPr>
          <a:xfrm>
            <a:off x="6732720" y="1700280"/>
            <a:ext cx="2160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звенчанные миф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34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лкоголь поднимает настроение и помогает развеселиться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(Под действием алкоголя происходят ссоры, драки, необдуманные поступки, о      которых  в последствии сожалею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Алкоголь помогает снять стресс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После выпивки может появиться еще больший стресс, депрессия и даже мысли о самоубийст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”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лкоголь помогает понравиться противоположному полу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Кому приятно пьяное ухаживание, молодого человека, или виснущая на вас не трезвая девуш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Алкоголь помогает забыть жизненные проблемы, конфликты с      близкими людьми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(Сколько не выпей–проблемы все равно остаются, а из-за пьянства к ним добавляются и новые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 "Алкоголь полезен" (Алкоголь нарушает работу всех систем организма; часто в результате большой дозы наступает отравление и смерть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108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 "Алкоголь менее опасен, чем наркотики«(Нет такого органа, который бы не страдал от разрушительных последствий употребления алкоголя.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book_prof1_repetitor"/>
          <p:cNvPicPr/>
          <p:nvPr/>
        </p:nvPicPr>
        <p:blipFill>
          <a:blip r:embed="rId1"/>
          <a:stretch/>
        </p:blipFill>
        <p:spPr>
          <a:xfrm>
            <a:off x="6443640" y="404640"/>
            <a:ext cx="1200240" cy="7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оследствия алкоголизм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5170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кое ухудшение здоровья: разнообразные заболевания пищеварительного тракта и сердечно-сосудистой системы, расстройства сна, депресс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ы во взаимоотношениях с другими людьми: семейный разлад, конфликты на работе, приводы в милиц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еря положения в обществе: переход на менее квалифицированную работу, позже к случайным заработк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ышенный риск внезапной смерти в результате инфаркта, инсульта, производственной травмы, дорожно-транспортного происшествия, отравления, действий преступников и т. 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0" descr="j0078784"/>
          <p:cNvPicPr/>
          <p:nvPr/>
        </p:nvPicPr>
        <p:blipFill>
          <a:blip r:embed="rId1"/>
          <a:stretch/>
        </p:blipFill>
        <p:spPr>
          <a:xfrm>
            <a:off x="6877080" y="1773360"/>
            <a:ext cx="2016000" cy="331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30033"/>
                </a:solidFill>
                <a:uFillTx/>
                <a:latin typeface="Times New Roman"/>
              </a:rPr>
              <a:t>Каковы социальные последствия алкоголизма?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444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оциальный ущерб от алкоголизма огромен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адаются семь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ет преступн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щается продолжительность жизн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ается интеллектуальный уровень общ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pivo3"/>
          <p:cNvPicPr/>
          <p:nvPr/>
        </p:nvPicPr>
        <p:blipFill>
          <a:blip r:embed="rId1"/>
          <a:stretch/>
        </p:blipFill>
        <p:spPr>
          <a:xfrm>
            <a:off x="5638680" y="1628640"/>
            <a:ext cx="28940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ри стадии наркоман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4881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епенно, но достаточно быстро развивается психическая зависимость от наркотиков, которая заставляет человека постоянно принимать нарко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является физическая зависимость от одурманивающих сред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наркотиков в организме приводит к страшным физическим страданиям, которые нередко приводят к гибели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j0301252"/>
          <p:cNvPicPr/>
          <p:nvPr/>
        </p:nvPicPr>
        <p:blipFill>
          <a:blip r:embed="rId1"/>
          <a:stretch/>
        </p:blipFill>
        <p:spPr>
          <a:xfrm>
            <a:off x="5865840" y="1911240"/>
            <a:ext cx="295416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0000"/>
                </a:solidFill>
                <a:latin typeface="Times New Roman"/>
              </a:rPr>
              <a:t>Наркоман – человек выпавший из общества!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Жизнь наркомана – это добывание и прием наркотически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У подростков – наркоманов пропадает интерес к учебе. Новые знания усваиваются с трудом, а полученные быстро улетучив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азвивается равнодушие к близк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Наркоман живет без рад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У него нет надежд, нет будущ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Но главная беда наркомана – он перестает быть человеческой личностью. Разрушается не только его тело, но и разу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ff0000"/>
                </a:solidFill>
                <a:uFillTx/>
                <a:latin typeface="Times New Roman"/>
              </a:rPr>
              <a:t>Чем опасна наркомания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5745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вовремя не принять дозу начинается лом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-за разрушения клеток головного мозга у наркомана наблюда­ется ослабление памяти, логического мышления, ухудшение математических способност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сходит разрушение всего организма: наркоман часто страдает от колитов, гастритов, язвы желуд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ычна среди наркоманов преждевременная смерть от болезней или несчастного случ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ие наркоманы инфицированы ВИЧ и в течение 10-15 лет после заражения погибаю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j0240719"/>
          <p:cNvPicPr/>
          <p:nvPr/>
        </p:nvPicPr>
        <p:blipFill>
          <a:blip r:embed="rId1"/>
          <a:stretch/>
        </p:blipFill>
        <p:spPr>
          <a:xfrm>
            <a:off x="6804000" y="1557360"/>
            <a:ext cx="208908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ыводы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оровье – одна из величайших человеческих ценностей. Поэтому не надо терять это богатство данное природой по глупости. Ведь физические страдания лишают человека главного – счастья от каждого прожитого дня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не упустить своего счастья из-за различных болезней и недугов, нужно запомнить следующие правила здоровь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с самых ранних лет понять, что здоровье человека находится в его ру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исключить любые вредные привы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помнить, что солнце, воздух и вода – наши верные друз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действовать, так как в движении – сил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Литерату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уберечь ребёнка от наркотиков, алкоголя и других психоактивных веществ: рекомендации для родителей. Шалимова Н.А., Самошкина Л.И., Перекрёстов А.И. /– В.: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дырев О.Ю. Наркомания: мифы и реалии. – Материалы некоммерческого фонда «Здоровая страна». /http://narkohelp.ru.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дицинские работники и борьба против табака”: материалы пресс-конференции с участием академиков РАМН. – 31 мая 2005 г. – Агентство Медицинской информации АМИ-ТАСС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дицинский вестник, 2003, № 32 (267), С. 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тура Ю.В. Курение: Тонкости, хитрости и секреты.– М.: ЗАО «Новый издательский дом», 2004. – 352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колов Я.В. Граждановедение. М.1997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Цель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азать, что употребление наркотиков, алкоголя, табака наносит огромный вред организму человека независимо от возра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зработчики презентации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Алимбаева Лин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Болтачева Екате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Беляев Васил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Филатова А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Чечель Оле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чи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сти отбор информации по теме вредные привы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ить и провести опрос среди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рать доказательства , показывающие вред, наносимый организму человека одурманивающи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ить механизмы возникновения различных м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ведение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55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детства человек подвержен различным соблазнам: сигареты, алкоголь, наркотики, которые наносят огромный вред здоровью. Многие и не подозревают об этом. Поэтому мы считаем своим долгом объяснить учащимся нашей школы. Ведь, как говорится в поговорке: «Предупрежден – значит вооружен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j0178064"/>
          <p:cNvPicPr/>
          <p:nvPr/>
        </p:nvPicPr>
        <p:blipFill>
          <a:blip r:embed="rId1"/>
          <a:stretch/>
        </p:blipFill>
        <p:spPr>
          <a:xfrm>
            <a:off x="684360" y="4941720"/>
            <a:ext cx="3743280" cy="1557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j0240953"/>
          <p:cNvPicPr/>
          <p:nvPr/>
        </p:nvPicPr>
        <p:blipFill>
          <a:blip r:embed="rId2"/>
          <a:stretch/>
        </p:blipFill>
        <p:spPr>
          <a:xfrm flipH="1">
            <a:off x="6803640" y="333360"/>
            <a:ext cx="1081080" cy="1511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HM00163_"/>
          <p:cNvPicPr/>
          <p:nvPr/>
        </p:nvPicPr>
        <p:blipFill>
          <a:blip r:embed="rId3"/>
          <a:stretch/>
        </p:blipFill>
        <p:spPr>
          <a:xfrm>
            <a:off x="7308720" y="4797360"/>
            <a:ext cx="1241640" cy="146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7.40741E-007 L -0.53177 -0.00486 E">
                                      <p:cBhvr>
                                        <p:cTn id="14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рожигатели жизн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777564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е для кого не секрет, что ежедневно на территории нашей школы подростки, съежившись от холода стоят и кур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4"/>
          <p:cNvGraphicFramePr/>
          <p:nvPr/>
        </p:nvGraphicFramePr>
        <p:xfrm>
          <a:off x="250920" y="3645000"/>
          <a:ext cx="8893080" cy="321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645000"/>
                    <a:ext cx="8893080" cy="32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6ede"/>
                </a:solidFill>
                <a:latin typeface="Times New Roman"/>
              </a:rPr>
              <a:t>Почему наши сверстники начинают курить?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5170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рением заполняют паузу между различными видами деятельности или момент ожидания. «Убивают врем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ание испытать неизвестное до этого момента ощущ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упность сигарет и подстрекательство «друзей» нередко берут верх над неокрепшими волей и разум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ание «стать взрослым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ть как все заставляет скрыть отвращение и продолжать насилие над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j0178822"/>
          <p:cNvPicPr/>
          <p:nvPr/>
        </p:nvPicPr>
        <p:blipFill>
          <a:blip r:embed="rId1"/>
          <a:stretch/>
        </p:blipFill>
        <p:spPr>
          <a:xfrm>
            <a:off x="6300720" y="1628640"/>
            <a:ext cx="2438640" cy="401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5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урить - здоровью вредить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89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, кто начал курить, мы обязаны предупредить о грозящих им  последствия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з 100 случаев заболевания туберкулезам 95 приходится на курильщ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у курящих значительно возрастает возможность развития рака легкого и нижней гу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урение вызывает поражение сосудов сердца, мозга и конеч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реди больных язвенной болезнью желудка 70 - 80 % курящ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травление никотином обусловливает снижение половой способности мужч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и любом заболевании привычка к курению способствует развитию болезни и мешает проведению ле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j0205365"/>
          <p:cNvPicPr/>
          <p:nvPr/>
        </p:nvPicPr>
        <p:blipFill>
          <a:blip r:embed="rId1"/>
          <a:stretch/>
        </p:blipFill>
        <p:spPr>
          <a:xfrm>
            <a:off x="250920" y="333360"/>
            <a:ext cx="1095120" cy="1095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SY00110_"/>
          <p:cNvPicPr/>
          <p:nvPr/>
        </p:nvPicPr>
        <p:blipFill>
          <a:blip r:embed="rId2"/>
          <a:stretch/>
        </p:blipFill>
        <p:spPr>
          <a:xfrm>
            <a:off x="7956720" y="4797360"/>
            <a:ext cx="93312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5185E-006 L 1.35451 -0.01342 E">
                                      <p:cBhvr>
                                        <p:cTn id="48" dur="5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Курение и школьники не совместимы!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ечение нескольких лет специалисты Хабаровского центра проводили исследования среди курящих и некурящих детей в результате выясни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268360" y="3068640"/>
          <a:ext cx="5759640" cy="4014720"/>
        </p:xfrm>
        <a:graphic>
          <a:graphicData uri="http://schemas.openxmlformats.org/drawingml/2006/table">
            <a:tbl>
              <a:tblPr/>
              <a:tblGrid>
                <a:gridCol w="1919520"/>
                <a:gridCol w="1920960"/>
                <a:gridCol w="1919160"/>
              </a:tblGrid>
              <a:tr h="683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опросы</a:t>
                      </a:r>
                      <a:endParaRPr b="0" lang="en-US" sz="2000" spc="-1" strike="noStrike">
                        <a:solidFill>
                          <a:srgbClr val="33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учащихся</a:t>
                      </a:r>
                      <a:endParaRPr b="0" lang="en-US" sz="2000" spc="-1" strike="noStrike">
                        <a:solidFill>
                          <a:srgbClr val="33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200" spc="-1" strike="noStrike">
                        <a:solidFill>
                          <a:srgbClr val="33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200" spc="-1" strike="noStrike">
                        <a:solidFill>
                          <a:srgbClr val="33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урящих</a:t>
                      </a:r>
                      <a:endParaRPr b="0" lang="en-US" sz="2000" spc="-1" strike="noStrike">
                        <a:solidFill>
                          <a:srgbClr val="33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Некурящих</a:t>
                      </a:r>
                      <a:endParaRPr b="0" lang="en-US" sz="2000" spc="-1" strike="noStrike">
                        <a:solidFill>
                          <a:srgbClr val="33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едленно соображают</a:t>
                      </a:r>
                      <a:endParaRPr b="0" lang="en-US" sz="2000" spc="-1" strike="noStrike">
                        <a:solidFill>
                          <a:srgbClr val="33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33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33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лохие отметки</a:t>
                      </a:r>
                      <a:endParaRPr b="0" lang="en-US" sz="2000" spc="-1" strike="noStrike">
                        <a:solidFill>
                          <a:srgbClr val="33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33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33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Нервные</a:t>
                      </a:r>
                      <a:endParaRPr b="0" lang="en-US" sz="2000" spc="-1" strike="noStrike">
                        <a:solidFill>
                          <a:srgbClr val="33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33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33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лохая память</a:t>
                      </a:r>
                      <a:endParaRPr b="0" lang="en-US" sz="2000" spc="-1" strike="noStrike">
                        <a:solidFill>
                          <a:srgbClr val="33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33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33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Что такое алкоголизм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5041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коголизм - разновидность наркомании, болезненное пристрастие к употреблению этилового спирта (этилового алкоголя, этанола). Алкоголь - один из самых опасных наркотиков, вполне сравнимый с героином и кокаином. Он опасен, с одной стороны, своей высокой токсичностью (т.е. ядовитостью, способностью повреждать внутренние органы), а с другой стороны тем, что может вызывать тяжелые формы зависимости (собственно алкоголиз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j0160620"/>
          <p:cNvPicPr/>
          <p:nvPr/>
        </p:nvPicPr>
        <p:blipFill>
          <a:blip r:embed="rId1"/>
          <a:stretch/>
        </p:blipFill>
        <p:spPr>
          <a:xfrm>
            <a:off x="6227640" y="1628640"/>
            <a:ext cx="29163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1:38:18Z</dcterms:created>
  <dc:creator>History</dc:creator>
  <dc:description/>
  <dc:language>en-US</dc:language>
  <cp:lastModifiedBy>Пользователь Windows</cp:lastModifiedBy>
  <dcterms:modified xsi:type="dcterms:W3CDTF">2018-12-07T13:25:22Z</dcterms:modified>
  <cp:revision>15</cp:revision>
  <dc:subject/>
  <dc:title>Презентация</dc:title>
</cp:coreProperties>
</file>