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D77-7C15-4AFB-B284-D9EA834CF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B32-3EA7-418A-8A6C-317D3F5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E75-16A9-43C7-8479-1C920A0D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7DF-7C30-499B-975F-4B8C455B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535-A7FC-4190-937C-2857878C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A03-D945-4FE2-AF68-E0CFA3E4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BF0-EF31-44A2-87A3-BE113BB9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7E7-A879-46C1-90D9-812AE3B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A2D-7E5F-4FB1-ABF3-8439BA29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0BCB-BFBA-4079-8CCA-EA0D5AF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C06-76B7-4BBF-BEBE-B712B801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46D8-B3CA-469C-9C34-DB27000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FB5C-818C-4F75-BF45-595EBFBCB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lend.ru/person/2688/" TargetMode="External"/><Relationship Id="rId2" Type="http://schemas.openxmlformats.org/officeDocument/2006/relationships/hyperlink" Target="http://www.calend.ru/person/2688/" TargetMode="External"/><Relationship Id="rId3" Type="http://schemas.openxmlformats.org/officeDocument/2006/relationships/hyperlink" Target="http://www.calend.ru/event/4339/" TargetMode="External"/><Relationship Id="rId4" Type="http://schemas.openxmlformats.org/officeDocument/2006/relationships/hyperlink" Target="http://www.calend.ru/event/4339/" TargetMode="External"/><Relationship Id="rId5" Type="http://schemas.openxmlformats.org/officeDocument/2006/relationships/hyperlink" Target="http://www.calend.ru/event/4339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49672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0" y="189000"/>
            <a:ext cx="928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Героев Отечест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сентября отмечается День воинской славы России — День победы русских полков во главе с великим князем Дмитрием Донским над монголо-татарскими войсками в Куликовской битве в 1380 году. Страшные бедствия принесло татаро-монгольское иго нашей стране. Полтавская битва — решающий эпизод Великой Северной войны, состоялась 8 июля (27 июня по старому стилю) 1709 года. В ней участвовали русская армия Петра I и шведская армия Карла X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Федеральным законом № 32-ФЗ «О днях воинской славы и памятных датах России» от 13 марта 1995 года 9 августа — День воинской славы России — День первой в российской истории морской победы русского флота под командованием Петра I над шведами; День взятия турецкой крепости Измаил русскими войсками под командованием Александра Васильевича Суворова (1790 год); 11 сентября отмечается очередной День воинской славы России — День победы русской эскадры контр-адмирала Федора Ушакова над турецкой эскадрой у мыса Тенд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-219240"/>
            <a:ext cx="8229600" cy="12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ekzcbtl hacnbbbzvqs, 1997, 207a140, krqicszeu rggvaqu, btqmuikowtot rkcgais vh"/>
          <p:cNvPicPr/>
          <p:nvPr/>
        </p:nvPicPr>
        <p:blipFill>
          <a:blip r:embed="rId2"/>
          <a:stretch/>
        </p:blipFill>
        <p:spPr>
          <a:xfrm>
            <a:off x="2749680" y="765000"/>
            <a:ext cx="3809880" cy="57596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66" name="Picture 6" descr="fbb00ed14515"/>
          <p:cNvPicPr/>
          <p:nvPr/>
        </p:nvPicPr>
        <p:blipFill>
          <a:blip r:embed="rId3"/>
          <a:stretch/>
        </p:blipFill>
        <p:spPr>
          <a:xfrm>
            <a:off x="595440" y="765000"/>
            <a:ext cx="188892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654324_120"/>
          <p:cNvPicPr/>
          <p:nvPr/>
        </p:nvPicPr>
        <p:blipFill>
          <a:blip r:embed="rId4"/>
          <a:stretch/>
        </p:blipFill>
        <p:spPr>
          <a:xfrm>
            <a:off x="6948360" y="765000"/>
            <a:ext cx="792360" cy="165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герой РФ"/>
          <p:cNvPicPr/>
          <p:nvPr/>
        </p:nvPicPr>
        <p:blipFill>
          <a:blip r:embed="rId5"/>
          <a:stretch/>
        </p:blipFill>
        <p:spPr>
          <a:xfrm>
            <a:off x="7870680" y="2168640"/>
            <a:ext cx="1094040" cy="189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4_cross"/>
          <p:cNvPicPr/>
          <p:nvPr/>
        </p:nvPicPr>
        <p:blipFill>
          <a:blip r:embed="rId6"/>
          <a:stretch/>
        </p:blipFill>
        <p:spPr>
          <a:xfrm>
            <a:off x="108000" y="4595760"/>
            <a:ext cx="251928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olnie_kavaleri_ordena_slavi"/>
          <p:cNvPicPr/>
          <p:nvPr/>
        </p:nvPicPr>
        <p:blipFill>
          <a:blip r:embed="rId7"/>
          <a:stretch/>
        </p:blipFill>
        <p:spPr>
          <a:xfrm>
            <a:off x="6732720" y="4508640"/>
            <a:ext cx="2303280" cy="19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304920" y="533520"/>
            <a:ext cx="8305560" cy="498312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stretch/>
          </a:blipFill>
          <a:ln w="0">
            <a:noFill/>
          </a:ln>
          <a:effectLst>
            <a:outerShdw dist="38183" dir="2700000" blurRad="0" rotWithShape="0">
              <a:srgbClr val="fdead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, 16 Февраля 2007 Госдума приняла в третьем чтении проект федерального закона «О внесении изменения в статью 11 Федерального закона «О днях воинской славы и памятных датах России» об установлении памятной даты России – День героя Отечества. Новый праздник решено отмечать 9 декабр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кабрьская дата приуроч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выдающемуся собы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похи правления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мператр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Екатерины 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в 1769 году о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чредила 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Победоносц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В те годы э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деном награждались во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явившие в бою добле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агу и смел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Святого Гео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едоносца – высш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ская награда, бы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режден указ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ой II 26 ноябр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69 года. Им награжд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инов, проявивших в бою «неудержимую отва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елость и находчивость» и совершивших «отличный воинский подвиг, венчанный полным успехом и доставивший явную польз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43920"/>
            <a:ext cx="575928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атусе ордена былосказано: «Ни высокий род, ни прежние заслуги, ни полученные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ажениях раны не приемлются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ажение при удосто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ордену Святого Георгия за воинские подви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остаивается же оного единственно тот, кто не только обязанность св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нял во всем по присяге, чести и долгу, но сверх сего ознамен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я на пользу и славу Российского оружия особенным отличи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31681"/>
          <p:cNvPicPr/>
          <p:nvPr/>
        </p:nvPicPr>
        <p:blipFill>
          <a:blip r:embed="rId1"/>
          <a:srcRect l="21848" t="0" r="21163" b="0"/>
          <a:stretch/>
        </p:blipFill>
        <p:spPr>
          <a:xfrm>
            <a:off x="6477120" y="1052640"/>
            <a:ext cx="26668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ден Святого Георгия имел 4 степени отличия, из которых первая была наивысшей. Известно, что кавалерами всех четырех степеней стали 4 человека, среди которых  великие русские полководцы М.И. Кутузов и М.Б. Барклай-де-Толли. Екатерина II удостоила и себя этой награды в честь учреждения орд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здник Георгиевских кавалеров широко отмечался в российском обществе, в этот день чество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х кавалеров Георгиевских отличий – от таких прославленных людей как Александр Суворов, Григорий Потемкин, Михаил Кутузова до простых солдат, матросов и казаков, награжденных Георгиевскими крестами и меда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60280"/>
            <a:ext cx="562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евики отменили этот праздник упраздн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ден, как государственную награ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ус ордена был восстановлен лишь в 2000 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м георгиевским кавалером Российской Федерации в 2008 году стал генерал-полковник Макаров С.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мужество, отвагу и самоотверженность, проявленные при исполнении воинского долга в Северо-Кавказском регионе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нь Героев Отечества"/>
          <p:cNvPicPr/>
          <p:nvPr/>
        </p:nvPicPr>
        <p:blipFill>
          <a:blip r:embed="rId1"/>
          <a:stretch/>
        </p:blipFill>
        <p:spPr>
          <a:xfrm>
            <a:off x="6012000" y="2205000"/>
            <a:ext cx="288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 России праздники, родственные Дню Героев От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63_2605"/>
          <p:cNvPicPr/>
          <p:nvPr/>
        </p:nvPicPr>
        <p:blipFill>
          <a:blip r:embed="rId1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3:10:57Z</dcterms:created>
  <dc:creator>Юрий Ричардович</dc:creator>
  <dc:description/>
  <dc:language>en-US</dc:language>
  <cp:lastModifiedBy>Любовь Анатольевна</cp:lastModifiedBy>
  <dcterms:modified xsi:type="dcterms:W3CDTF">2018-12-07T13:15:16Z</dcterms:modified>
  <cp:revision>14</cp:revision>
  <dc:subject/>
  <dc:title>Слайд 1</dc:title>
</cp:coreProperties>
</file>