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E02E-CA2F-4F0B-9C86-ADA821BE2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3EA7-A861-43BA-A837-B8451BF26E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33FF-EA7B-41AB-B50D-44D0995B78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F3AA-F3BF-45A9-8217-A17A94EC7C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D10D-33C6-4E79-AA5F-24FAB24087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F908-E2C3-46F0-B145-B0276ACA56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8DAE-38EA-43C9-80EE-DFA926A72F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B010-2BB0-43E3-A23E-0DE977E9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CC1-E018-4A55-B9D6-C33558D9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6B4-CC1C-4393-8B31-53484EE8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AED-CB3D-4E23-BCE3-02FB08C6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2AD-FA1D-4F6F-8232-EBE628C0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1E4-10F7-4C7F-92E5-62F6F630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64C-D357-43F8-8E10-783875F2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469-454D-4938-B456-4EFC760F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E0A-4679-4F4E-8CDD-04D917A7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41D-8765-400A-BE77-4282A01F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F38-382F-4EC5-9AD6-B41E3985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C33B-B047-483C-AE57-BE7830F4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7D33-54E2-4CAB-A0ED-1592EC6262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4A6E-CABA-4948-91FC-F964A79D41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9" descr="seawater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19"/>
          <p:cNvSpPr txBox="1"/>
          <p:nvPr/>
        </p:nvSpPr>
        <p:spPr>
          <a:xfrm>
            <a:off x="539640" y="260280"/>
            <a:ext cx="8136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пользование детских работ в развивающе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WordArt 20"/>
          <p:cNvSpPr txBox="1"/>
          <p:nvPr/>
        </p:nvSpPr>
        <p:spPr>
          <a:xfrm>
            <a:off x="539640" y="1700280"/>
            <a:ext cx="8207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но-пространственной среде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WordArt 22"/>
          <p:cNvSpPr txBox="1"/>
          <p:nvPr/>
        </p:nvSpPr>
        <p:spPr>
          <a:xfrm>
            <a:off x="4572000" y="4076640"/>
            <a:ext cx="3029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ршая групп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23"/>
          <p:cNvSpPr txBox="1"/>
          <p:nvPr/>
        </p:nvSpPr>
        <p:spPr>
          <a:xfrm>
            <a:off x="5651640" y="4941720"/>
            <a:ext cx="28112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итатели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24"/>
          <p:cNvSpPr txBox="1"/>
          <p:nvPr/>
        </p:nvSpPr>
        <p:spPr>
          <a:xfrm>
            <a:off x="1547640" y="573408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кульченко А. В. Зданович Т. А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SAM_05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SAM_0509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"/>
              </a:rPr>
              <a:t>D:\Новая папка\SAM_0518.JP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SAM_05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4764-ADBA-4372-ADF9-54D06975F1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seawater"/>
          <p:cNvPicPr/>
          <p:nvPr/>
        </p:nvPicPr>
        <p:blipFill>
          <a:blip r:embed="rId1"/>
          <a:stretch/>
        </p:blipFill>
        <p:spPr>
          <a:xfrm>
            <a:off x="0" y="0"/>
            <a:ext cx="9396360" cy="719136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611280" y="2492280"/>
            <a:ext cx="8064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игами   в   театрализа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2268360" y="4221000"/>
            <a:ext cx="48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азка  "Колобок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6E87-BB1E-4E3E-8B3B-337851DD60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5364000" y="5013360"/>
            <a:ext cx="33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икульченко А. 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7" name="Picture 9" descr="SAM_04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447E-F929-48B0-89E7-83FBA6C0F5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5364000" y="5013360"/>
            <a:ext cx="33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икульченко А. 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2" name="Picture 6" descr="SAM_0501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FC13-90C5-4286-AC47-CBBAAAAED2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1187280" y="1341360"/>
            <a:ext cx="7201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Оригами в художествен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литературе ( сказка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6" name="Picture 7" descr="seawater"/>
          <p:cNvPicPr/>
          <p:nvPr/>
        </p:nvPicPr>
        <p:blipFill>
          <a:blip r:embed="rId1"/>
          <a:stretch/>
        </p:blipFill>
        <p:spPr>
          <a:xfrm>
            <a:off x="0" y="0"/>
            <a:ext cx="9396360" cy="6958080"/>
          </a:xfrm>
          <a:prstGeom prst="rect">
            <a:avLst/>
          </a:prstGeom>
          <a:ln w="0">
            <a:noFill/>
          </a:ln>
        </p:spPr>
      </p:pic>
      <p:sp>
        <p:nvSpPr>
          <p:cNvPr id="77" name="WordArt 8"/>
          <p:cNvSpPr txBox="1"/>
          <p:nvPr/>
        </p:nvSpPr>
        <p:spPr>
          <a:xfrm>
            <a:off x="611280" y="981000"/>
            <a:ext cx="8064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игами в художественн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тературе 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WordArt 10"/>
          <p:cNvSpPr txBox="1"/>
          <p:nvPr/>
        </p:nvSpPr>
        <p:spPr>
          <a:xfrm>
            <a:off x="2340000" y="4149720"/>
            <a:ext cx="48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азка "Рукавичка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A24C-DE46-4618-AA49-40B415B271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1" name="Picture 6" descr="SAM_05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ffff"/>
                </a:solidFill>
                <a:uFillTx/>
                <a:latin typeface="Arial"/>
              </a:rPr>
              <a:t>D:\Новая папка\SAM_0505.JPG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"/>
              </a:rPr>
              <a:t>D:\Новая папка\SAM_0505.JP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SAM_0505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12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6" name="Picture 5" descr="SAM_0506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" descr="SAM_05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7:40:27Z</dcterms:created>
  <dc:creator>Алла</dc:creator>
  <dc:description/>
  <dc:language>en-US</dc:language>
  <cp:lastModifiedBy>Андрей</cp:lastModifiedBy>
  <dcterms:modified xsi:type="dcterms:W3CDTF">2018-12-07T18:16:57Z</dcterms:modified>
  <cp:revision>23</cp:revision>
  <dc:subject/>
  <dc:title>Слайд 1</dc:title>
</cp:coreProperties>
</file>