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707A-F2AD-4970-BE95-DD9987D441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99D7-D409-4FA8-B1D3-18D6262A96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CBD5-CA6C-447C-85F2-5DB1AA6F4A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6ABB-0EE2-409F-8E92-226BE88BF7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ADB1-9827-4D06-A784-89B5E38832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201A-0C19-4E8B-A758-4BD8B4E136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F0D6-EA4A-462D-AF7C-FE7976D127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B148-F959-4FFA-B353-B65FAF74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61C-82CE-4317-B306-52EB2013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7BD-571D-44D5-8E23-C8073453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C78-A339-4B3A-A82B-CF90E894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A07-7E0E-4D40-9F4D-DAFAFFC3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7AF-8970-43F4-935C-26ADB08A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69D-2961-4EF3-B312-D4EFFC45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709-3DC3-4597-BFB1-4CA765E7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C94-DEC8-451C-84C9-5F661AF8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43C-85F7-4254-B181-67E873B1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566-3347-4174-ADF5-759F3BC8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484-0D75-44D1-9C7D-1E8527A9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1AB4-7F63-4296-9C69-917E25481B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FF84-C685-4454-BB62-2319F39A89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9" descr="seawater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19"/>
          <p:cNvSpPr txBox="1"/>
          <p:nvPr/>
        </p:nvSpPr>
        <p:spPr>
          <a:xfrm>
            <a:off x="539640" y="260280"/>
            <a:ext cx="8136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пользование детских работ в развивающе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WordArt 20"/>
          <p:cNvSpPr txBox="1"/>
          <p:nvPr/>
        </p:nvSpPr>
        <p:spPr>
          <a:xfrm>
            <a:off x="539640" y="1700280"/>
            <a:ext cx="8207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но-пространственной среде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WordArt 22"/>
          <p:cNvSpPr txBox="1"/>
          <p:nvPr/>
        </p:nvSpPr>
        <p:spPr>
          <a:xfrm>
            <a:off x="4572000" y="4076640"/>
            <a:ext cx="3029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аршая групп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WordArt 23"/>
          <p:cNvSpPr txBox="1"/>
          <p:nvPr/>
        </p:nvSpPr>
        <p:spPr>
          <a:xfrm>
            <a:off x="5651640" y="4941720"/>
            <a:ext cx="28112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итатели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24"/>
          <p:cNvSpPr txBox="1"/>
          <p:nvPr/>
        </p:nvSpPr>
        <p:spPr>
          <a:xfrm>
            <a:off x="1547640" y="5734080"/>
            <a:ext cx="720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кульченко А. В. Зданович Т. А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SAM_05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SAM_0509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"/>
              </a:rPr>
              <a:t>D:\Новая папка\SAM_0518.JP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SAM_05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A257-9043-4635-BC43-979C5CB6F3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seawater"/>
          <p:cNvPicPr/>
          <p:nvPr/>
        </p:nvPicPr>
        <p:blipFill>
          <a:blip r:embed="rId1"/>
          <a:stretch/>
        </p:blipFill>
        <p:spPr>
          <a:xfrm>
            <a:off x="0" y="0"/>
            <a:ext cx="9396360" cy="719136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611280" y="2492280"/>
            <a:ext cx="8064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игами   в   театрализаци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2268360" y="4221000"/>
            <a:ext cx="48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азка  "Колобок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1480-8778-4D1A-9B46-EB0573098E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5364000" y="5013360"/>
            <a:ext cx="33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икульченко А. 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7" name="Picture 9" descr="SAM_04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FD92-887E-4ABC-B6FF-6BB0FCA428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>
            <a:off x="5364000" y="5013360"/>
            <a:ext cx="33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икульченко А. 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2" name="Picture 6" descr="SAM_0501"/>
          <p:cNvPicPr/>
          <p:nvPr/>
        </p:nvPicPr>
        <p:blipFill>
          <a:blip r:embed="rId1"/>
          <a:stretch/>
        </p:blipFill>
        <p:spPr>
          <a:xfrm>
            <a:off x="-7308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F242-C574-4836-8AE4-68AED6AE8F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WordArt 4"/>
          <p:cNvSpPr txBox="1"/>
          <p:nvPr/>
        </p:nvSpPr>
        <p:spPr>
          <a:xfrm>
            <a:off x="1187280" y="1341360"/>
            <a:ext cx="7201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Оригами в художественн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литературе ( сказка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6" name="Picture 7" descr="seawater"/>
          <p:cNvPicPr/>
          <p:nvPr/>
        </p:nvPicPr>
        <p:blipFill>
          <a:blip r:embed="rId1"/>
          <a:stretch/>
        </p:blipFill>
        <p:spPr>
          <a:xfrm>
            <a:off x="0" y="0"/>
            <a:ext cx="9396360" cy="6958080"/>
          </a:xfrm>
          <a:prstGeom prst="rect">
            <a:avLst/>
          </a:prstGeom>
          <a:ln w="0">
            <a:noFill/>
          </a:ln>
        </p:spPr>
      </p:pic>
      <p:sp>
        <p:nvSpPr>
          <p:cNvPr id="77" name="WordArt 8"/>
          <p:cNvSpPr txBox="1"/>
          <p:nvPr/>
        </p:nvSpPr>
        <p:spPr>
          <a:xfrm>
            <a:off x="611280" y="981000"/>
            <a:ext cx="8064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игами в художественн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тературе  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WordArt 10"/>
          <p:cNvSpPr txBox="1"/>
          <p:nvPr/>
        </p:nvSpPr>
        <p:spPr>
          <a:xfrm>
            <a:off x="2340000" y="4149720"/>
            <a:ext cx="48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азка "Рукавичка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527B-26B2-4F96-9AFE-32E3E96B2C8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1" name="Picture 6" descr="SAM_05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ffff"/>
                </a:solidFill>
                <a:uFillTx/>
                <a:latin typeface="Arial"/>
              </a:rPr>
              <a:t>D:\Новая папка\SAM_0505.JPG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"/>
              </a:rPr>
              <a:t>D:\Новая папка\SAM_0505.JP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SAM_0505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12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6" name="Picture 5" descr="SAM_0506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4" descr="SAM_05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17:40:27Z</dcterms:created>
  <dc:creator>Алла</dc:creator>
  <dc:description/>
  <dc:language>en-US</dc:language>
  <cp:lastModifiedBy>Андрей</cp:lastModifiedBy>
  <dcterms:modified xsi:type="dcterms:W3CDTF">2018-12-07T18:16:57Z</dcterms:modified>
  <cp:revision>23</cp:revision>
  <dc:subject/>
  <dc:title>Слайд 1</dc:title>
</cp:coreProperties>
</file>