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32E-5753-4D24-89E4-7B257A57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386-50D0-4B2C-96DA-564036B2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4954-C517-44A6-8F0C-6061DA8E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AEA3-6501-4E5F-B29C-1C2AC6A7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D83-7354-4411-9F44-72B516BB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41B-D954-4FB9-B36F-A818052E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CBB-A5C8-431A-9EFC-4058F622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E3C-0D4C-4E97-B352-EE836683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5AB-B442-4C6E-983F-3EA68941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2E4-829C-4DB5-A9A8-9B9B0F81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22A-D2A4-41C6-844C-011CE3DC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98E-F2FB-4CDA-863B-5CB93D01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92800" cy="3107160"/>
              <a:chOff x="-1080" y="2601000"/>
              <a:chExt cx="2692800" cy="31071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8560"/>
                <a:ext cx="1838160" cy="1659600"/>
                <a:chOff x="853560" y="4048560"/>
                <a:chExt cx="1838160" cy="1659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17400" y="5553360"/>
                  <a:ext cx="200880" cy="896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CD96-75AE-4B2E-81F8-6318E2A0A4B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myshared.ru/9/906842/slide_5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357200" y="713880"/>
            <a:ext cx="73296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Воспитание трудолюбия у детей средней группы через организацию хозяйственно – бытового труда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ыполнила: Хробостова О 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Verdana"/>
              </a:rPr>
              <a:t>Моем ру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C:\Users\ADMIN\Desktop\100PHOTO\SAM_8646.JPG"/>
          <p:cNvPicPr/>
          <p:nvPr/>
        </p:nvPicPr>
        <p:blipFill>
          <a:blip r:embed="rId1"/>
          <a:stretch/>
        </p:blipFill>
        <p:spPr>
          <a:xfrm>
            <a:off x="428760" y="1643040"/>
            <a:ext cx="3524040" cy="26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ADMIN\Desktop\100PHOTO\SAM_8645.JPG"/>
          <p:cNvPicPr/>
          <p:nvPr/>
        </p:nvPicPr>
        <p:blipFill>
          <a:blip r:embed="rId2"/>
          <a:stretch/>
        </p:blipFill>
        <p:spPr>
          <a:xfrm>
            <a:off x="5357880" y="157176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ADMIN\Desktop\100PHOTO\SAM_8647.JPG"/>
          <p:cNvPicPr/>
          <p:nvPr/>
        </p:nvPicPr>
        <p:blipFill>
          <a:blip r:embed="rId3"/>
          <a:stretch/>
        </p:blipFill>
        <p:spPr>
          <a:xfrm>
            <a:off x="2928960" y="3000240"/>
            <a:ext cx="3643200" cy="2732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642960" y="5929200"/>
            <a:ext cx="82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Arial"/>
                <a:ea typeface="Arial"/>
              </a:rPr>
              <a:t>Чистота залог здоровья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Verdana"/>
              </a:rPr>
              <a:t>Порядок в шкафчика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C:\Users\ADMIN\Desktop\100PHOTO\SAM_8648.JPG"/>
          <p:cNvPicPr/>
          <p:nvPr/>
        </p:nvPicPr>
        <p:blipFill>
          <a:blip r:embed="rId1"/>
          <a:stretch/>
        </p:blipFill>
        <p:spPr>
          <a:xfrm>
            <a:off x="642960" y="1571760"/>
            <a:ext cx="3619440" cy="271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C:\Users\ADMIN\Desktop\100PHOTO\SAM_8649.JPG"/>
          <p:cNvPicPr/>
          <p:nvPr/>
        </p:nvPicPr>
        <p:blipFill>
          <a:blip r:embed="rId2"/>
          <a:stretch/>
        </p:blipFill>
        <p:spPr>
          <a:xfrm>
            <a:off x="5000760" y="1643040"/>
            <a:ext cx="3571920" cy="26798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1143000" y="4572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1f5d"/>
                </a:solidFill>
                <a:latin typeface="Arial"/>
                <a:ea typeface="Arial"/>
              </a:rPr>
              <a:t>Мы должны стараться, с вещами  управляться. И складывать опрятно, красиво, аккуратн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Verdana"/>
              </a:rPr>
              <a:t>Труд в уголке природ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C:\Users\ADMIN\Desktop\100PHOTO\SAM_8650.JPG"/>
          <p:cNvPicPr/>
          <p:nvPr/>
        </p:nvPicPr>
        <p:blipFill>
          <a:blip r:embed="rId1"/>
          <a:stretch/>
        </p:blipFill>
        <p:spPr>
          <a:xfrm>
            <a:off x="214200" y="171468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Users\ADMIN\Desktop\100PHOTO\SAM_8651.JPG"/>
          <p:cNvPicPr/>
          <p:nvPr/>
        </p:nvPicPr>
        <p:blipFill>
          <a:blip r:embed="rId2"/>
          <a:stretch/>
        </p:blipFill>
        <p:spPr>
          <a:xfrm>
            <a:off x="3643200" y="478620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C:\Users\ADMIN\Desktop\100PHOTO\SAM_8652.JPG"/>
          <p:cNvPicPr/>
          <p:nvPr/>
        </p:nvPicPr>
        <p:blipFill>
          <a:blip r:embed="rId3"/>
          <a:stretch/>
        </p:blipFill>
        <p:spPr>
          <a:xfrm>
            <a:off x="214200" y="4660920"/>
            <a:ext cx="2643480" cy="1982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Users\ADMIN\Desktop\100PHOTO\SAM_8571.JPG"/>
          <p:cNvPicPr/>
          <p:nvPr/>
        </p:nvPicPr>
        <p:blipFill>
          <a:blip r:embed="rId4"/>
          <a:stretch/>
        </p:blipFill>
        <p:spPr>
          <a:xfrm>
            <a:off x="6072120" y="1285920"/>
            <a:ext cx="2905200" cy="2179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ADMIN\Desktop\огород\лук\P_20180208_094009.jpg"/>
          <p:cNvPicPr/>
          <p:nvPr/>
        </p:nvPicPr>
        <p:blipFill>
          <a:blip r:embed="rId5"/>
          <a:stretch/>
        </p:blipFill>
        <p:spPr>
          <a:xfrm>
            <a:off x="6786720" y="3500280"/>
            <a:ext cx="2143080" cy="31435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8"/>
          <p:cNvSpPr/>
          <p:nvPr/>
        </p:nvSpPr>
        <p:spPr>
          <a:xfrm>
            <a:off x="2643120" y="1643040"/>
            <a:ext cx="364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ТО НА СВЕТЕ САМЫЙ ГЛАВНЫЙ,САМЫЙ ДОБРЫЙ, САМЫЙ СЛАВНЫЙ? Кто он? Как его зовут? Ну конечно это труд!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Подготовка к занятия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2" descr="C:\Users\ADMIN\Desktop\100PHOTO\SAM_8639.JPG"/>
          <p:cNvPicPr/>
          <p:nvPr/>
        </p:nvPicPr>
        <p:blipFill>
          <a:blip r:embed="rId1"/>
          <a:stretch/>
        </p:blipFill>
        <p:spPr>
          <a:xfrm>
            <a:off x="642960" y="1143000"/>
            <a:ext cx="350028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ADMIN\Desktop\100PHOTO\SAM_8640.JPG"/>
          <p:cNvPicPr/>
          <p:nvPr/>
        </p:nvPicPr>
        <p:blipFill>
          <a:blip r:embed="rId2"/>
          <a:stretch/>
        </p:blipFill>
        <p:spPr>
          <a:xfrm>
            <a:off x="5143680" y="114300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ADMIN\Desktop\100PHOTO\SAM_8641.JPG"/>
          <p:cNvPicPr/>
          <p:nvPr/>
        </p:nvPicPr>
        <p:blipFill>
          <a:blip r:embed="rId3"/>
          <a:stretch/>
        </p:blipFill>
        <p:spPr>
          <a:xfrm>
            <a:off x="5143680" y="4000680"/>
            <a:ext cx="3643200" cy="2732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928800" y="4286160"/>
            <a:ext cx="335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  <a:ea typeface="Arial"/>
              </a:rPr>
              <a:t>Я без дела не сижу, помогаю как мог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Verdana"/>
              </a:rPr>
              <a:t>Моем игрушки протираем пыл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C:\Users\ADMIN\Desktop\100PHOTO\SAM_8630.JPG"/>
          <p:cNvPicPr/>
          <p:nvPr/>
        </p:nvPicPr>
        <p:blipFill>
          <a:blip r:embed="rId1"/>
          <a:stretch/>
        </p:blipFill>
        <p:spPr>
          <a:xfrm>
            <a:off x="214200" y="178596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ADMIN\Desktop\100PHOTO\SAM_8631.JPG"/>
          <p:cNvPicPr/>
          <p:nvPr/>
        </p:nvPicPr>
        <p:blipFill>
          <a:blip r:embed="rId2"/>
          <a:stretch/>
        </p:blipFill>
        <p:spPr>
          <a:xfrm>
            <a:off x="5643720" y="178596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ADMIN\Desktop\100PHOTO\SAM_8654.JPG"/>
          <p:cNvPicPr/>
          <p:nvPr/>
        </p:nvPicPr>
        <p:blipFill>
          <a:blip r:embed="rId3"/>
          <a:stretch/>
        </p:blipFill>
        <p:spPr>
          <a:xfrm>
            <a:off x="3463920" y="1785960"/>
            <a:ext cx="2465280" cy="32860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785880" y="5000760"/>
            <a:ext cx="771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Из  окошка пыль летела и везде она осела, я сегодня пыль  протру и игрушки сполос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Verdana"/>
              </a:rPr>
              <a:t>Порядок в групп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4" descr="C:\Users\ADMIN\Desktop\100PHOTO\SAM_8655.JPG"/>
          <p:cNvPicPr/>
          <p:nvPr/>
        </p:nvPicPr>
        <p:blipFill>
          <a:blip r:embed="rId1"/>
          <a:stretch/>
        </p:blipFill>
        <p:spPr>
          <a:xfrm>
            <a:off x="642960" y="1571760"/>
            <a:ext cx="3341520" cy="4456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ADMIN\Desktop\100PHOTO\SAM_8658.JPG"/>
          <p:cNvPicPr/>
          <p:nvPr/>
        </p:nvPicPr>
        <p:blipFill>
          <a:blip r:embed="rId2"/>
          <a:stretch/>
        </p:blipFill>
        <p:spPr>
          <a:xfrm>
            <a:off x="4286160" y="157176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7"/>
          <p:cNvSpPr/>
          <p:nvPr/>
        </p:nvSpPr>
        <p:spPr>
          <a:xfrm>
            <a:off x="4000680" y="4857840"/>
            <a:ext cx="48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удет в группе чистота, будет в группе крас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357120"/>
            <a:ext cx="8244000" cy="164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роблема трудового воспитания в семь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71760" y="2356920"/>
            <a:ext cx="711504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 только     интеллектуально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Всё делают за своих  дете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428760"/>
            <a:ext cx="8229600" cy="56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  <a:ea typeface="Arial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  <a:ea typeface="Arial"/>
              </a:rPr>
              <a:t>за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  <a:ea typeface="Arial"/>
              </a:rPr>
              <a:t>внимание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4280" y="5071680"/>
            <a:ext cx="35006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. С. Макаренк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14840" y="928800"/>
            <a:ext cx="52149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Труд должен быть одним из самых основных элементов в воспитательной работе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2" descr="C:\Users\ADMIN\Desktop\Makarenko.jpg"/>
          <p:cNvPicPr/>
          <p:nvPr/>
        </p:nvPicPr>
        <p:blipFill>
          <a:blip r:embed="rId1"/>
          <a:stretch/>
        </p:blipFill>
        <p:spPr>
          <a:xfrm>
            <a:off x="1214280" y="1428840"/>
            <a:ext cx="251964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85840"/>
            <a:ext cx="82440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Цель: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Формирование положительного отношения к труду у детей средней групп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ить выполнять индивидуальные и коллективные поручения, доводить начатое дело до конц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Формировать умение договариваться с помощью воспитателя о распределении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  Воспитывать у детей самостоятельность, аккуратность, взаимовыручку, проявление заботы друг о друге ответственность за общее дело и желание трудить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  Поощрять инициативу в оказании помощи товарищам и взрослым, разъяснять детям значимость их труд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1360" y="785520"/>
            <a:ext cx="76150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Виды труда дошкольнико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Самообслуживание.     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Хозяйственно-бытовой труд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Труд в природе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Ручной труд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103320"/>
            <a:ext cx="8043840" cy="11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Формы организации труд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оручения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Дежурств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Коллективный труд (общий, совместный)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Условия организации труда дете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ощрения в процессе и по результатам тру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Создание положительной обстановки в процессе труд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Создание мотивации трудовой деятель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Подбор оборудования для труд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Систематическое включение каждого ребенка в труд на правах партнер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. Демонстрация заинтересованности педаго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214200"/>
            <a:ext cx="824400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Длительность физических нагрузок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001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ти 3-5 лет могут выполнять работу в течение 10—15 ми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ти 6—7 лет выполняют работу в течении 20—30 мин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9999"/>
                </a:solidFill>
                <a:uFillTx/>
                <a:latin typeface="Verdana"/>
                <a:hlinkClick r:id="rId1"/>
              </a:rPr>
              <a:t>5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  <a:ea typeface="Arial"/>
              </a:rPr>
              <a:t>Труд на участке в зимнее и осеннее время год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C:\Users\ADMIN\Desktop\IMG_20180925_111746.jpg"/>
          <p:cNvPicPr/>
          <p:nvPr/>
        </p:nvPicPr>
        <p:blipFill>
          <a:blip r:embed="rId2"/>
          <a:stretch/>
        </p:blipFill>
        <p:spPr>
          <a:xfrm>
            <a:off x="6286680" y="1643040"/>
            <a:ext cx="2714400" cy="482616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3" descr="C:\Users\ADMIN\Desktop\IMG_20180925_111852.jpg"/>
          <p:cNvPicPr/>
          <p:nvPr/>
        </p:nvPicPr>
        <p:blipFill>
          <a:blip r:embed="rId3"/>
          <a:stretch/>
        </p:blipFill>
        <p:spPr>
          <a:xfrm>
            <a:off x="214200" y="1571760"/>
            <a:ext cx="2000520" cy="2857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4468680" y="-108000"/>
            <a:ext cx="20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Рисунок 7" descr="C:\Users\ADMIN\Desktop\новые\IMG_20181031_110727.jpg"/>
          <p:cNvPicPr/>
          <p:nvPr/>
        </p:nvPicPr>
        <p:blipFill>
          <a:blip r:embed="rId4"/>
          <a:stretch/>
        </p:blipFill>
        <p:spPr>
          <a:xfrm>
            <a:off x="2643120" y="1643040"/>
            <a:ext cx="3389400" cy="22147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C:\Users\ADMIN\Desktop\новые\IMG_20181031_110018.jpg"/>
          <p:cNvPicPr/>
          <p:nvPr/>
        </p:nvPicPr>
        <p:blipFill>
          <a:blip r:embed="rId5"/>
          <a:stretch/>
        </p:blipFill>
        <p:spPr>
          <a:xfrm>
            <a:off x="142920" y="4500720"/>
            <a:ext cx="3500280" cy="2079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2928960" y="4071960"/>
            <a:ext cx="3357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А теперь за дело дружно, убирать участок нужно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 </a:t>
            </a:r>
            <a:r>
              <a:rPr b="0" lang="ru-RU" sz="4400" spc="-1" strike="noStrike">
                <a:solidFill>
                  <a:srgbClr val="0000ff"/>
                </a:solidFill>
                <a:latin typeface="Verdana"/>
              </a:rPr>
              <a:t>Дежурим по столово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C:\Users\ADMIN\Desktop\100PHOTO\SAM_8625.JPG"/>
          <p:cNvPicPr/>
          <p:nvPr/>
        </p:nvPicPr>
        <p:blipFill>
          <a:blip r:embed="rId1"/>
          <a:stretch/>
        </p:blipFill>
        <p:spPr>
          <a:xfrm>
            <a:off x="285840" y="1428840"/>
            <a:ext cx="4113000" cy="3084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ADMIN\Desktop\100PHOTO\SAM_8628.JPG"/>
          <p:cNvPicPr/>
          <p:nvPr/>
        </p:nvPicPr>
        <p:blipFill>
          <a:blip r:embed="rId2"/>
          <a:stretch/>
        </p:blipFill>
        <p:spPr>
          <a:xfrm>
            <a:off x="4786200" y="1428840"/>
            <a:ext cx="4143600" cy="3106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714240" y="5000760"/>
            <a:ext cx="785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b050"/>
                </a:solidFill>
                <a:latin typeface="Verdana"/>
                <a:ea typeface="Times New Roman"/>
              </a:rPr>
              <a:t>Нас ждут накрытые столы ,готовимся к обеду м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8-12-07T06:40:07Z</dcterms:modified>
  <cp:revision>171</cp:revision>
  <dc:subject/>
  <dc:title>PowerPoint Presentation</dc:title>
</cp:coreProperties>
</file>