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C21D-D386-4133-ACF7-09E2103BF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C8B6-A348-49D6-9A12-7A97D62C8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A4A7-905D-4F46-9D90-3A76AB6F0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CFA8-5B54-484D-A252-12CBCD43A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9118-BC47-4E94-B8F0-5F24267FD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0267-DF92-4ADB-B9CC-F48B9C5AF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41A6-6F12-41D4-A060-E571A350F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C347-8F76-4765-85EC-35E89C214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E52A-B324-4144-98F7-0BFEF6B6A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2025-BE29-4436-BA63-2691DADD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18A2-2122-4463-BB64-DF05851C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E3A6-6FAE-42DF-B99B-02BFDCCE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8480" cy="6950160"/>
            <a:chOff x="-86760" y="-93600"/>
            <a:chExt cx="27784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92800" cy="3107160"/>
              <a:chOff x="-1080" y="2601000"/>
              <a:chExt cx="2692800" cy="31071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3560" y="4048560"/>
                <a:ext cx="1838160" cy="1659600"/>
                <a:chOff x="853560" y="4048560"/>
                <a:chExt cx="1838160" cy="165960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81240" y="3928320"/>
                  <a:ext cx="477360" cy="12582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82840" y="4978800"/>
                  <a:ext cx="110520" cy="51588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417400" y="5553360"/>
                  <a:ext cx="200880" cy="896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990FE-4687-4B5A-A896-D6A2CFF5708F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myshared.ru/9/906842/slide_5.jp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357200" y="713880"/>
            <a:ext cx="7329600" cy="534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Воспитание трудолюбия у детей средней группы через организацию хозяйственно – бытового труда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Выполнила: Хробостова О 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96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Verdana"/>
              </a:rPr>
              <a:t>Моем рук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4" descr="C:\Users\ADMIN\Desktop\100PHOTO\SAM_8646.JPG"/>
          <p:cNvPicPr/>
          <p:nvPr/>
        </p:nvPicPr>
        <p:blipFill>
          <a:blip r:embed="rId1"/>
          <a:stretch/>
        </p:blipFill>
        <p:spPr>
          <a:xfrm>
            <a:off x="428760" y="1643040"/>
            <a:ext cx="3524040" cy="2643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C:\Users\ADMIN\Desktop\100PHOTO\SAM_8645.JPG"/>
          <p:cNvPicPr/>
          <p:nvPr/>
        </p:nvPicPr>
        <p:blipFill>
          <a:blip r:embed="rId2"/>
          <a:stretch/>
        </p:blipFill>
        <p:spPr>
          <a:xfrm>
            <a:off x="5357880" y="1571760"/>
            <a:ext cx="3571920" cy="2679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C:\Users\ADMIN\Desktop\100PHOTO\SAM_8647.JPG"/>
          <p:cNvPicPr/>
          <p:nvPr/>
        </p:nvPicPr>
        <p:blipFill>
          <a:blip r:embed="rId3"/>
          <a:stretch/>
        </p:blipFill>
        <p:spPr>
          <a:xfrm>
            <a:off x="2928960" y="3000240"/>
            <a:ext cx="3643200" cy="2732400"/>
          </a:xfrm>
          <a:prstGeom prst="rect">
            <a:avLst/>
          </a:prstGeom>
          <a:ln w="0">
            <a:noFill/>
          </a:ln>
        </p:spPr>
      </p:pic>
      <p:sp>
        <p:nvSpPr>
          <p:cNvPr id="113" name="TextBox 6"/>
          <p:cNvSpPr/>
          <p:nvPr/>
        </p:nvSpPr>
        <p:spPr>
          <a:xfrm>
            <a:off x="642960" y="5929200"/>
            <a:ext cx="82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050"/>
                </a:solidFill>
                <a:latin typeface="Arial"/>
                <a:ea typeface="Arial"/>
              </a:rPr>
              <a:t>Чистота залог здоровья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18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Verdana"/>
              </a:rPr>
              <a:t>Порядок в шкафчиках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4" descr="C:\Users\ADMIN\Desktop\100PHOTO\SAM_8648.JPG"/>
          <p:cNvPicPr/>
          <p:nvPr/>
        </p:nvPicPr>
        <p:blipFill>
          <a:blip r:embed="rId1"/>
          <a:stretch/>
        </p:blipFill>
        <p:spPr>
          <a:xfrm>
            <a:off x="642960" y="1571760"/>
            <a:ext cx="3619440" cy="2714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C:\Users\ADMIN\Desktop\100PHOTO\SAM_8649.JPG"/>
          <p:cNvPicPr/>
          <p:nvPr/>
        </p:nvPicPr>
        <p:blipFill>
          <a:blip r:embed="rId2"/>
          <a:stretch/>
        </p:blipFill>
        <p:spPr>
          <a:xfrm>
            <a:off x="5000760" y="1643040"/>
            <a:ext cx="3571920" cy="2679840"/>
          </a:xfrm>
          <a:prstGeom prst="rect">
            <a:avLst/>
          </a:prstGeom>
          <a:ln w="0">
            <a:noFill/>
          </a:ln>
        </p:spPr>
      </p:pic>
      <p:sp>
        <p:nvSpPr>
          <p:cNvPr id="117" name="TextBox 5"/>
          <p:cNvSpPr/>
          <p:nvPr/>
        </p:nvSpPr>
        <p:spPr>
          <a:xfrm>
            <a:off x="1143000" y="457200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1f5d"/>
                </a:solidFill>
                <a:latin typeface="Arial"/>
                <a:ea typeface="Arial"/>
              </a:rPr>
              <a:t>Мы должны стараться, с вещами  управляться. И складывать опрятно, красиво, аккуратно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18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Verdana"/>
              </a:rPr>
              <a:t>Труд в уголке природы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Picture 4" descr="C:\Users\ADMIN\Desktop\100PHOTO\SAM_8650.JPG"/>
          <p:cNvPicPr/>
          <p:nvPr/>
        </p:nvPicPr>
        <p:blipFill>
          <a:blip r:embed="rId1"/>
          <a:stretch/>
        </p:blipFill>
        <p:spPr>
          <a:xfrm>
            <a:off x="214200" y="1714680"/>
            <a:ext cx="2667240" cy="20001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C:\Users\ADMIN\Desktop\100PHOTO\SAM_8651.JPG"/>
          <p:cNvPicPr/>
          <p:nvPr/>
        </p:nvPicPr>
        <p:blipFill>
          <a:blip r:embed="rId2"/>
          <a:stretch/>
        </p:blipFill>
        <p:spPr>
          <a:xfrm>
            <a:off x="3643200" y="4786200"/>
            <a:ext cx="2571840" cy="1928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C:\Users\ADMIN\Desktop\100PHOTO\SAM_8652.JPG"/>
          <p:cNvPicPr/>
          <p:nvPr/>
        </p:nvPicPr>
        <p:blipFill>
          <a:blip r:embed="rId3"/>
          <a:stretch/>
        </p:blipFill>
        <p:spPr>
          <a:xfrm>
            <a:off x="214200" y="4660920"/>
            <a:ext cx="2643480" cy="1982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C:\Users\ADMIN\Desktop\100PHOTO\SAM_8571.JPG"/>
          <p:cNvPicPr/>
          <p:nvPr/>
        </p:nvPicPr>
        <p:blipFill>
          <a:blip r:embed="rId4"/>
          <a:stretch/>
        </p:blipFill>
        <p:spPr>
          <a:xfrm>
            <a:off x="6072120" y="1285920"/>
            <a:ext cx="2905200" cy="2179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C:\Users\ADMIN\Desktop\огород\лук\P_20180208_094009.jpg"/>
          <p:cNvPicPr/>
          <p:nvPr/>
        </p:nvPicPr>
        <p:blipFill>
          <a:blip r:embed="rId5"/>
          <a:stretch/>
        </p:blipFill>
        <p:spPr>
          <a:xfrm>
            <a:off x="6786720" y="3500280"/>
            <a:ext cx="2143080" cy="3143520"/>
          </a:xfrm>
          <a:prstGeom prst="rect">
            <a:avLst/>
          </a:prstGeom>
          <a:ln w="0">
            <a:noFill/>
          </a:ln>
        </p:spPr>
      </p:pic>
      <p:sp>
        <p:nvSpPr>
          <p:cNvPr id="124" name="TextBox 8"/>
          <p:cNvSpPr/>
          <p:nvPr/>
        </p:nvSpPr>
        <p:spPr>
          <a:xfrm>
            <a:off x="2643120" y="1643040"/>
            <a:ext cx="3643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КТО НА СВЕТЕ САМЫЙ ГЛАВНЫЙ,САМЫЙ ДОБРЫЙ, САМЫЙ СЛАВНЫЙ? Кто он? Как его зовут? Ну конечно это труд!!!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96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Подготовка к занятиям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Picture 2" descr="C:\Users\ADMIN\Desktop\100PHOTO\SAM_8639.JPG"/>
          <p:cNvPicPr/>
          <p:nvPr/>
        </p:nvPicPr>
        <p:blipFill>
          <a:blip r:embed="rId1"/>
          <a:stretch/>
        </p:blipFill>
        <p:spPr>
          <a:xfrm>
            <a:off x="642960" y="1143000"/>
            <a:ext cx="3500280" cy="26258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C:\Users\ADMIN\Desktop\100PHOTO\SAM_8640.JPG"/>
          <p:cNvPicPr/>
          <p:nvPr/>
        </p:nvPicPr>
        <p:blipFill>
          <a:blip r:embed="rId2"/>
          <a:stretch/>
        </p:blipFill>
        <p:spPr>
          <a:xfrm>
            <a:off x="5143680" y="1143000"/>
            <a:ext cx="3643200" cy="2732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C:\Users\ADMIN\Desktop\100PHOTO\SAM_8641.JPG"/>
          <p:cNvPicPr/>
          <p:nvPr/>
        </p:nvPicPr>
        <p:blipFill>
          <a:blip r:embed="rId3"/>
          <a:stretch/>
        </p:blipFill>
        <p:spPr>
          <a:xfrm>
            <a:off x="5143680" y="4000680"/>
            <a:ext cx="3643200" cy="2732040"/>
          </a:xfrm>
          <a:prstGeom prst="rect">
            <a:avLst/>
          </a:prstGeom>
          <a:ln w="0">
            <a:noFill/>
          </a:ln>
        </p:spPr>
      </p:pic>
      <p:sp>
        <p:nvSpPr>
          <p:cNvPr id="129" name="TextBox 6"/>
          <p:cNvSpPr/>
          <p:nvPr/>
        </p:nvSpPr>
        <p:spPr>
          <a:xfrm>
            <a:off x="928800" y="4286160"/>
            <a:ext cx="3357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"/>
                <a:ea typeface="Arial"/>
              </a:rPr>
              <a:t>Я без дела не сижу, помогаю как мог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Verdana"/>
              </a:rPr>
              <a:t>Моем игрушки протираем пыль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Picture 4" descr="C:\Users\ADMIN\Desktop\100PHOTO\SAM_8630.JPG"/>
          <p:cNvPicPr/>
          <p:nvPr/>
        </p:nvPicPr>
        <p:blipFill>
          <a:blip r:embed="rId1"/>
          <a:stretch/>
        </p:blipFill>
        <p:spPr>
          <a:xfrm>
            <a:off x="214200" y="1785960"/>
            <a:ext cx="3286080" cy="2465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C:\Users\ADMIN\Desktop\100PHOTO\SAM_8631.JPG"/>
          <p:cNvPicPr/>
          <p:nvPr/>
        </p:nvPicPr>
        <p:blipFill>
          <a:blip r:embed="rId2"/>
          <a:stretch/>
        </p:blipFill>
        <p:spPr>
          <a:xfrm>
            <a:off x="5643720" y="1785960"/>
            <a:ext cx="3333600" cy="2500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C:\Users\ADMIN\Desktop\100PHOTO\SAM_8654.JPG"/>
          <p:cNvPicPr/>
          <p:nvPr/>
        </p:nvPicPr>
        <p:blipFill>
          <a:blip r:embed="rId3"/>
          <a:stretch/>
        </p:blipFill>
        <p:spPr>
          <a:xfrm>
            <a:off x="3463920" y="1785960"/>
            <a:ext cx="2465280" cy="3286080"/>
          </a:xfrm>
          <a:prstGeom prst="rect">
            <a:avLst/>
          </a:prstGeom>
          <a:ln w="0">
            <a:noFill/>
          </a:ln>
        </p:spPr>
      </p:pic>
      <p:sp>
        <p:nvSpPr>
          <p:cNvPr id="134" name="TextBox 6"/>
          <p:cNvSpPr/>
          <p:nvPr/>
        </p:nvSpPr>
        <p:spPr>
          <a:xfrm>
            <a:off x="785880" y="5000760"/>
            <a:ext cx="7715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Из  окошка пыль летела и везде она осела, я сегодня пыль  протру и игрушки сполосн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96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Verdana"/>
              </a:rPr>
              <a:t>Порядок в группе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Picture 4" descr="C:\Users\ADMIN\Desktop\100PHOTO\SAM_8655.JPG"/>
          <p:cNvPicPr/>
          <p:nvPr/>
        </p:nvPicPr>
        <p:blipFill>
          <a:blip r:embed="rId1"/>
          <a:stretch/>
        </p:blipFill>
        <p:spPr>
          <a:xfrm>
            <a:off x="642960" y="1571760"/>
            <a:ext cx="3341520" cy="4456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C:\Users\ADMIN\Desktop\100PHOTO\SAM_8658.JPG"/>
          <p:cNvPicPr/>
          <p:nvPr/>
        </p:nvPicPr>
        <p:blipFill>
          <a:blip r:embed="rId2"/>
          <a:stretch/>
        </p:blipFill>
        <p:spPr>
          <a:xfrm>
            <a:off x="4286160" y="1571760"/>
            <a:ext cx="4500720" cy="3375000"/>
          </a:xfrm>
          <a:prstGeom prst="rect">
            <a:avLst/>
          </a:prstGeom>
          <a:ln w="0">
            <a:noFill/>
          </a:ln>
        </p:spPr>
      </p:pic>
      <p:sp>
        <p:nvSpPr>
          <p:cNvPr id="138" name="TextBox 7"/>
          <p:cNvSpPr/>
          <p:nvPr/>
        </p:nvSpPr>
        <p:spPr>
          <a:xfrm>
            <a:off x="4000680" y="4857840"/>
            <a:ext cx="4857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Будет в группе чистота, будет в группе красот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357120"/>
            <a:ext cx="8244000" cy="164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Проблема трудового воспитания в семье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571760" y="2356920"/>
            <a:ext cx="711504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Развивают только     интеллектуально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Всё делают за своих  детей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57200" y="428760"/>
            <a:ext cx="8229600" cy="56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9600" spc="-1" strike="noStrike">
                <a:solidFill>
                  <a:srgbClr val="ff0000"/>
                </a:solidFill>
                <a:latin typeface="Arial"/>
                <a:ea typeface="Arial"/>
              </a:rPr>
              <a:t>Спасибо 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Arial"/>
                <a:ea typeface="Arial"/>
              </a:rPr>
              <a:t>          </a:t>
            </a:r>
            <a:r>
              <a:rPr b="0" lang="ru-RU" sz="9600" spc="-1" strike="noStrike">
                <a:solidFill>
                  <a:srgbClr val="ff0000"/>
                </a:solidFill>
                <a:latin typeface="Arial"/>
                <a:ea typeface="Arial"/>
              </a:rPr>
              <a:t>за 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Arial"/>
                <a:ea typeface="Arial"/>
              </a:rPr>
              <a:t>внимание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14280" y="5071680"/>
            <a:ext cx="350064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. С. Макаренк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714840" y="928800"/>
            <a:ext cx="52149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Труд должен быть одним из самых основных элементов в воспитательной работе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Picture 2" descr="C:\Users\ADMIN\Desktop\Makarenko.jpg"/>
          <p:cNvPicPr/>
          <p:nvPr/>
        </p:nvPicPr>
        <p:blipFill>
          <a:blip r:embed="rId1"/>
          <a:stretch/>
        </p:blipFill>
        <p:spPr>
          <a:xfrm>
            <a:off x="1214280" y="1428840"/>
            <a:ext cx="2519640" cy="36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42800" y="285840"/>
            <a:ext cx="8244000" cy="107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Цель: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Формирование положительного отношения к труду у детей средней групп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28556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дачи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ить выполнять индивидуальные и коллективные поручения, доводить начатое дело до конц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2. Формировать умение договариваться с помощью воспитателя о распределении рабо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3.  Воспитывать у детей самостоятельность, аккуратность, взаимовыручку, проявление заботы друг о друге ответственность за общее дело и желание трудитьс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4.  Поощрять инициативу в оказании помощи товарищам и взрослым, разъяснять детям значимость их труд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71360" y="785520"/>
            <a:ext cx="761508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Виды труда дошкольников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Самообслуживание.     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Хозяйственно-бытовой труд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Труд в природе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Ручной труд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2960" y="103320"/>
            <a:ext cx="8043840" cy="111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Формы организации труда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1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Поручения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Дежурства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Коллективный труд (общий, совместный)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 </a:t>
            </a:r>
            <a:r>
              <a:rPr b="0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Условия организации труда детей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.Поощрения в процессе и по результатам труд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. Создание положительной обстановки в процессе труд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. Создание мотивации трудовой деятельност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4. Подбор оборудования для труд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5. Систематическое включение каждого ребенка в труд на правах партнер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6. Демонстрация заинтересованности педагог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2800" y="214200"/>
            <a:ext cx="8244000" cy="121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Длительность физических нагрузок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50012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ти 3-5 лет могут выполнять работу в течение 10—15 ми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ти 6—7 лет выполняют работу в течении 20—30 мин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9999"/>
                </a:solidFill>
                <a:uFillTx/>
                <a:latin typeface="Verdana"/>
                <a:hlinkClick r:id="rId1"/>
              </a:rPr>
              <a:t>5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  <a:ea typeface="Arial"/>
              </a:rPr>
              <a:t>Труд на участке в зимнее и осеннее время года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4" descr="C:\Users\ADMIN\Desktop\IMG_20180925_111746.jpg"/>
          <p:cNvPicPr/>
          <p:nvPr/>
        </p:nvPicPr>
        <p:blipFill>
          <a:blip r:embed="rId2"/>
          <a:stretch/>
        </p:blipFill>
        <p:spPr>
          <a:xfrm>
            <a:off x="6286680" y="1643040"/>
            <a:ext cx="2714400" cy="4826160"/>
          </a:xfrm>
          <a:prstGeom prst="rect">
            <a:avLst/>
          </a:prstGeom>
          <a:ln w="0">
            <a:noFill/>
          </a:ln>
        </p:spPr>
      </p:pic>
      <p:pic>
        <p:nvPicPr>
          <p:cNvPr id="100" name="Содержимое 3" descr="C:\Users\ADMIN\Desktop\IMG_20180925_111852.jpg"/>
          <p:cNvPicPr/>
          <p:nvPr/>
        </p:nvPicPr>
        <p:blipFill>
          <a:blip r:embed="rId3"/>
          <a:stretch/>
        </p:blipFill>
        <p:spPr>
          <a:xfrm>
            <a:off x="214200" y="1571760"/>
            <a:ext cx="2000520" cy="28573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7"/>
          <p:cNvSpPr/>
          <p:nvPr/>
        </p:nvSpPr>
        <p:spPr>
          <a:xfrm>
            <a:off x="4468680" y="-108000"/>
            <a:ext cx="206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Рисунок 7" descr="C:\Users\ADMIN\Desktop\новые\IMG_20181031_110727.jpg"/>
          <p:cNvPicPr/>
          <p:nvPr/>
        </p:nvPicPr>
        <p:blipFill>
          <a:blip r:embed="rId4"/>
          <a:stretch/>
        </p:blipFill>
        <p:spPr>
          <a:xfrm>
            <a:off x="2643120" y="1643040"/>
            <a:ext cx="3389400" cy="221472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8" descr="C:\Users\ADMIN\Desktop\новые\IMG_20181031_110018.jpg"/>
          <p:cNvPicPr/>
          <p:nvPr/>
        </p:nvPicPr>
        <p:blipFill>
          <a:blip r:embed="rId5"/>
          <a:stretch/>
        </p:blipFill>
        <p:spPr>
          <a:xfrm>
            <a:off x="142920" y="4500720"/>
            <a:ext cx="3500280" cy="2079360"/>
          </a:xfrm>
          <a:prstGeom prst="rect">
            <a:avLst/>
          </a:prstGeom>
          <a:ln w="0">
            <a:noFill/>
          </a:ln>
        </p:spPr>
      </p:pic>
      <p:sp>
        <p:nvSpPr>
          <p:cNvPr id="104" name="TextBox 9"/>
          <p:cNvSpPr/>
          <p:nvPr/>
        </p:nvSpPr>
        <p:spPr>
          <a:xfrm>
            <a:off x="2928960" y="4071960"/>
            <a:ext cx="3357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А теперь за дело дружно, убирать участок нужно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96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Verdana"/>
              </a:rPr>
              <a:t> </a:t>
            </a:r>
            <a:r>
              <a:rPr b="0" lang="ru-RU" sz="4400" spc="-1" strike="noStrike">
                <a:solidFill>
                  <a:srgbClr val="0000ff"/>
                </a:solidFill>
                <a:latin typeface="Verdana"/>
              </a:rPr>
              <a:t>Дежурим по столовой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Picture 4" descr="C:\Users\ADMIN\Desktop\100PHOTO\SAM_8625.JPG"/>
          <p:cNvPicPr/>
          <p:nvPr/>
        </p:nvPicPr>
        <p:blipFill>
          <a:blip r:embed="rId1"/>
          <a:stretch/>
        </p:blipFill>
        <p:spPr>
          <a:xfrm>
            <a:off x="285840" y="1428840"/>
            <a:ext cx="4113000" cy="3084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C:\Users\ADMIN\Desktop\100PHOTO\SAM_8628.JPG"/>
          <p:cNvPicPr/>
          <p:nvPr/>
        </p:nvPicPr>
        <p:blipFill>
          <a:blip r:embed="rId2"/>
          <a:stretch/>
        </p:blipFill>
        <p:spPr>
          <a:xfrm>
            <a:off x="4786200" y="1428840"/>
            <a:ext cx="4143600" cy="31068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6"/>
          <p:cNvSpPr/>
          <p:nvPr/>
        </p:nvSpPr>
        <p:spPr>
          <a:xfrm>
            <a:off x="714240" y="5000760"/>
            <a:ext cx="785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b050"/>
                </a:solidFill>
                <a:latin typeface="Verdana"/>
                <a:ea typeface="Times New Roman"/>
              </a:rPr>
              <a:t>Нас ждут накрытые столы ,готовимся к обеду м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8-12-07T06:40:07Z</dcterms:modified>
  <cp:revision>171</cp:revision>
  <dc:subject/>
  <dc:title>PowerPoint Presentation</dc:title>
</cp:coreProperties>
</file>