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90F-8860-4937-B104-8AB806CB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6EC-6E20-4E66-B52B-FCAA015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6FF-D715-46F5-BE29-7C279B12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B56-13CB-46DF-B7F2-9201C8A5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F021D-56C5-4489-94FF-CA727BF5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CDF28-E656-42BD-8980-A844721B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D51EE-20C5-44B8-A9C7-F0C4ACA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45D7E-D260-493B-8141-D7E5A17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B5D3A-8941-40B3-8B7F-187FAEAA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CEA33-72A4-4833-8A0E-D7D72E7C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277E2-DF16-42AA-82FC-A2D9BE5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01A-FEE3-4E93-98B0-A2A25567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A0101-ADE1-4E40-A151-87BC371A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8EDFA-D5D4-483D-9A21-DC45844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DF0FA-1894-4E18-9A22-B879A7C0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D4A73-F6C7-4F5B-850C-439FDBF9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1D6E4-6DE5-4604-B9B1-19254E37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9DE1-9DAE-4AD8-9A34-9ADE7C15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78AC-B4E3-4D2D-8ED6-F926A74F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D21ED-73C3-40F6-8B98-EF396948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F0657-1B73-4986-8E85-223B90F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5EB4-679A-475F-A093-48B6B644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123-24D8-4C27-9B9E-9C94FCCE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761F-BBA2-4F40-A2A4-1579AF89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F5087-7D6B-4754-A54F-799D871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3E74-222A-4058-AA87-4320C92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7BC2-FA52-41A8-8C02-B16EAAAC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4B40-7568-4E9A-980A-148B4E6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9F71-B3A6-412C-BF56-C68EB15D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810D8-8DBA-4518-89B6-CB289136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CC18AA-28BA-486F-9F2E-B25094E1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4C094-E51E-4442-A518-9DED1E1D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C5FA86-BCE9-471F-A7A4-D0ACB03C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67E-AFB3-4CFB-B6D7-704800B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EC0EC-D33C-4667-A711-15535B85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AF56E-021C-4CFC-9AAA-80415477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EC67A-EFCE-447C-AFE9-0BC1CED5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722D1E-F5B5-42C3-8030-CD26C529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44F4B-46A4-4AD8-973C-821B509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25D6F-C559-47A2-86FD-DCD943E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CE05B-0019-40E2-BD80-EB9CED1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E422BB-E457-4CAD-A32B-35FC921B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E142E-1224-448B-98A3-23215DC0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062BE-80EE-4BD2-B809-BD916CF0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BED-5A48-409B-AAD9-72E36355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A18CB-1CB0-418A-8FDC-2B420888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C3A4-064B-45A2-92CF-512BB2D7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6E87-9B27-42DE-A3DF-4AEDE2EF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2A074-2E2B-495B-90BA-FE8767E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7D385-E153-46DC-8BA3-84569F2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92C6-1577-4DA3-AFDD-1E8937B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4BBF9-58E3-4617-B8A9-0D60D5B3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575C-78F1-4E87-93AA-96551C3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591BA-97FB-4467-835F-2BD3068C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2CF4-12C5-4967-B907-C7EBD9E3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016-AC49-47DB-BE91-90F21607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42189-B9C3-429E-9DDF-20455AD9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B0A-1ABB-4B3F-91C4-3440A94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614-D109-4544-8658-134653D0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35E-C332-4742-B384-839ED84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9C1A-8DF5-4AAA-8221-88C48D347EDD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3686-5383-43EA-A6EF-2DBC2E61C77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3725-DFDE-4B17-846C-DD16E7DA80F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FD51-D937-4098-8FC4-614C8612E13E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901B-303C-4BA6-95DA-89D9A670BD4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specnaz.ru/img/articles/super/1986.jp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school127\Desktop\151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Заголовок 2" descr=""/>
          <p:cNvPicPr/>
          <p:nvPr/>
        </p:nvPicPr>
        <p:blipFill>
          <a:blip r:embed="rId2"/>
          <a:stretch/>
        </p:blipFill>
        <p:spPr>
          <a:xfrm>
            <a:off x="262080" y="378000"/>
            <a:ext cx="8723160" cy="237168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4"/>
          <p:cNvSpPr/>
          <p:nvPr/>
        </p:nvSpPr>
        <p:spPr>
          <a:xfrm>
            <a:off x="4267080" y="358128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Городнова Поли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ученица 8 а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МБОУ Школа №12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г.о. Сама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Жидкова Л.И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учитель русского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Yu Gothic UI"/>
              </a:rPr>
              <a:t>и литерату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4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ается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идцатилетним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жившим так мало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идавшим так мног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улетают секунды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шлое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 обратной дороги нет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 того, что мы мало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жили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с того, что нам 30 лет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Содержимое 4" descr="«ГУСАР» ИЗ БЕСЛА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760" y="1816200"/>
            <a:ext cx="43038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540640" cy="1360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714640" y="274284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ден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а заслуги перед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ечеством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-й степени 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бражением мечей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5" descr="C:\Users\school127\Desktop\order_zaslugi4rf03.jpg"/>
          <p:cNvPicPr/>
          <p:nvPr/>
        </p:nvPicPr>
        <p:blipFill>
          <a:blip r:embed="rId2"/>
          <a:stretch/>
        </p:blipFill>
        <p:spPr>
          <a:xfrm>
            <a:off x="685800" y="1752480"/>
            <a:ext cx="4191120" cy="4630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19317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Содержимое 5" descr="C:\Users\school127\Desktop\1363459829_rb_1_big.jpg"/>
          <p:cNvPicPr/>
          <p:nvPr/>
        </p:nvPicPr>
        <p:blipFill>
          <a:blip r:embed="rId2"/>
          <a:srcRect l="0" t="0" r="19094" b="-1598"/>
          <a:stretch/>
        </p:blipFill>
        <p:spPr>
          <a:xfrm>
            <a:off x="228600" y="1447920"/>
            <a:ext cx="4038480" cy="3382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school127\Desktop\p119_dsc_0867.jpg"/>
          <p:cNvPicPr/>
          <p:nvPr/>
        </p:nvPicPr>
        <p:blipFill>
          <a:blip r:embed="rId3"/>
          <a:stretch/>
        </p:blipFill>
        <p:spPr>
          <a:xfrm>
            <a:off x="4572000" y="1600200"/>
            <a:ext cx="425772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C:\Users\school127\Desktop\p119_dsc_0892.jpg"/>
          <p:cNvPicPr/>
          <p:nvPr/>
        </p:nvPicPr>
        <p:blipFill>
          <a:blip r:embed="rId4"/>
          <a:stretch/>
        </p:blipFill>
        <p:spPr>
          <a:xfrm>
            <a:off x="2514600" y="3821040"/>
            <a:ext cx="45878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Razumovsky_monument_Beslan"/>
          <p:cNvPicPr/>
          <p:nvPr/>
        </p:nvPicPr>
        <p:blipFill>
          <a:blip r:embed="rId1"/>
          <a:stretch/>
        </p:blipFill>
        <p:spPr>
          <a:xfrm>
            <a:off x="1768320" y="2362320"/>
            <a:ext cx="5318280" cy="405900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pic>
        <p:nvPicPr>
          <p:cNvPr id="226" name="Rectangle 2" descr=""/>
          <p:cNvPicPr/>
          <p:nvPr/>
        </p:nvPicPr>
        <p:blipFill>
          <a:blip r:embed="rId2"/>
          <a:stretch/>
        </p:blipFill>
        <p:spPr>
          <a:xfrm>
            <a:off x="384120" y="603360"/>
            <a:ext cx="852804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09:48Z</dcterms:created>
  <dc:creator>user</dc:creator>
  <dc:description/>
  <dc:language>en-US</dc:language>
  <cp:lastModifiedBy>school127</cp:lastModifiedBy>
  <dcterms:modified xsi:type="dcterms:W3CDTF">2018-12-08T11:21:23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