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C5D-E3E5-4A9F-A4CA-1B83DD06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55F-D34D-4F32-B04E-7A51A3A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CD5-72E0-48F3-AF90-2642927F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3B0-44AC-43A0-BEA6-8127C6C3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EE99-D191-4E26-A127-AA804173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255C3-161A-457E-B0C8-5521DEE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94999-C199-445D-AFFA-53444BC8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8F66C-2B49-4E77-8B6D-1AA1B2B3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C1EB4-F7C9-4150-B2BC-64D2C07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8472E-FCA9-468F-A2C8-0D3CED3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6A6A6-D18E-404F-BB5E-4EEA37F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BB3-97F6-44F7-AA09-B81872E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9E972-31A1-4B2D-8A28-AC1BB35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56EE6-5DC9-422E-BA7C-084E842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EFB17-B863-4196-89F6-A6BB4D0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D4C52-09B2-4F20-8235-5871897D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F7FED-1985-42EC-BDCD-879895DC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0D90-31FA-467A-81D8-46E86BF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D701-D292-46F2-9D18-A47B81FD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E43D-6A35-498E-AC44-0095AE3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D5A2-B946-4311-8BA6-995D9DA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E7EF-99F2-4E9E-92A4-474015A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724-4BE2-4500-8D26-5ACD8F58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13BE-25D1-4CB1-8203-B3AC2E6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B41E-CFD2-4683-A533-372258A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9C61-A9FD-4E29-8FB6-E592834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DF58-5B69-473F-AD9C-D972C18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D988-8C75-4FE9-B3A6-4BE5D3C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3F6A-D0B9-4495-97C8-C26C683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1D4D-9F56-4F58-B4CB-9B74BE4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D3922-971D-48BE-97F1-92075821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DC815-1EE9-484A-AE61-49255888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ADAF2-E6A2-4DD7-9193-5093927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3E3-2F00-45AB-AACD-81F93F7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7B2B6-626A-475B-B2A5-DF8D461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E8741-40C4-4837-BDC8-A2FC09D5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DB4AD-6B46-44DF-B2E6-B7F56B3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EDFA7-2A36-43DE-AD75-B5DCB95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8C328-8819-49E7-B68A-85920CA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A8C1C-AAAF-49EA-81EB-F09CB95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E7FCF-B4B8-4A90-9667-E6AF7FA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EBCFB-AC66-4765-98BE-141568A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8F9D7-4293-4F81-A0A4-FF2263F1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42B4-FEEA-4762-96C6-A42FA618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172-71D5-4470-92B2-A28A41D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E6DC-E119-45E1-88BD-21B3864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F085-0D59-452A-89FB-551A18A1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9962-441B-4B25-8A0C-7911343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7306-2CD6-4EBA-9B49-361FF870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A875-7B25-406F-BE02-11774492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D25E-EB81-4CC6-92E9-DC3DEE8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E9D5-7DCA-4727-B7E2-15B3474A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27BF-5877-4DBB-B9DB-57C47F2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9324-E481-4703-8593-B708531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B57CF-1E2B-4189-A9AF-09C94197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3BD-472B-4BAB-8BDF-3B63C90E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0B84-3DF4-458C-B3E6-30F5BD78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A2F-0417-4890-AFBD-D92BAA1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CC7-5261-485B-9B6C-79D546D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855-2001-469F-9892-3663C0A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EC3-C639-4D40-920A-5A6F4E9F951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008-C65F-4B46-801D-579A0778365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3C4-5C2E-4076-A509-C5025AA789F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6735-BAB4-4014-A78C-2CCFB16A5D1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2BF-1342-4089-B9B0-4D757036C97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pecnaz.ru/img/articles/super/1986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school127\Desktop\15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Заголовок 2" descr=""/>
          <p:cNvPicPr/>
          <p:nvPr/>
        </p:nvPicPr>
        <p:blipFill>
          <a:blip r:embed="rId2"/>
          <a:stretch/>
        </p:blipFill>
        <p:spPr>
          <a:xfrm>
            <a:off x="262080" y="378000"/>
            <a:ext cx="8723160" cy="23716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4267080" y="358128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Городнова Поли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ученица 8 а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МБОУ Школа №12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г.о. Сам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Жидкова Л.И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учитель русского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и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4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аетс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дцатилетним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жившим так мало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идавшим так мног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улетают секунды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шлое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 обратной дороги н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 того, что мы мал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жил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 того, что нам 30 лет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Содержимое 4" descr="«ГУСАР» ИЗ БЕСЛА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760" y="1816200"/>
            <a:ext cx="4303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540640" cy="1360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714640" y="27428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ден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 заслуги пере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ом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-й степени 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бражением мече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5" descr="C:\Users\school127\Desktop\order_zaslugi4rf03.jpg"/>
          <p:cNvPicPr/>
          <p:nvPr/>
        </p:nvPicPr>
        <p:blipFill>
          <a:blip r:embed="rId2"/>
          <a:stretch/>
        </p:blipFill>
        <p:spPr>
          <a:xfrm>
            <a:off x="685800" y="1752480"/>
            <a:ext cx="4191120" cy="4630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931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Содержимое 5" descr="C:\Users\school127\Desktop\1363459829_rb_1_big.jpg"/>
          <p:cNvPicPr/>
          <p:nvPr/>
        </p:nvPicPr>
        <p:blipFill>
          <a:blip r:embed="rId2"/>
          <a:srcRect l="0" t="0" r="19094" b="-1598"/>
          <a:stretch/>
        </p:blipFill>
        <p:spPr>
          <a:xfrm>
            <a:off x="228600" y="1447920"/>
            <a:ext cx="4038480" cy="338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school127\Desktop\p119_dsc_0867.jpg"/>
          <p:cNvPicPr/>
          <p:nvPr/>
        </p:nvPicPr>
        <p:blipFill>
          <a:blip r:embed="rId3"/>
          <a:stretch/>
        </p:blipFill>
        <p:spPr>
          <a:xfrm>
            <a:off x="4572000" y="1600200"/>
            <a:ext cx="42577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Users\school127\Desktop\p119_dsc_0892.jpg"/>
          <p:cNvPicPr/>
          <p:nvPr/>
        </p:nvPicPr>
        <p:blipFill>
          <a:blip r:embed="rId4"/>
          <a:stretch/>
        </p:blipFill>
        <p:spPr>
          <a:xfrm>
            <a:off x="2514600" y="3821040"/>
            <a:ext cx="45878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Razumovsky_monument_Beslan"/>
          <p:cNvPicPr/>
          <p:nvPr/>
        </p:nvPicPr>
        <p:blipFill>
          <a:blip r:embed="rId1"/>
          <a:stretch/>
        </p:blipFill>
        <p:spPr>
          <a:xfrm>
            <a:off x="1768320" y="2362320"/>
            <a:ext cx="5318280" cy="4059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26" name="Rectangle 2" descr=""/>
          <p:cNvPicPr/>
          <p:nvPr/>
        </p:nvPicPr>
        <p:blipFill>
          <a:blip r:embed="rId2"/>
          <a:stretch/>
        </p:blipFill>
        <p:spPr>
          <a:xfrm>
            <a:off x="384120" y="603360"/>
            <a:ext cx="852804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09:48Z</dcterms:created>
  <dc:creator>user</dc:creator>
  <dc:description/>
  <dc:language>en-US</dc:language>
  <cp:lastModifiedBy>school127</cp:lastModifiedBy>
  <dcterms:modified xsi:type="dcterms:W3CDTF">2018-12-08T11:21:23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