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39A-891E-4738-A2FF-56A5A804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7DEB-64CA-4E44-9435-2A8D5499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964-D67F-4A0B-8F25-076144DA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C53-F8B2-4854-B95A-748492F9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2236-1C7F-496C-91CC-3E29D99B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71B-0856-41CA-8587-16C9399F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128-6941-40B0-A13B-305A96E1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7E4-0291-4D58-BCAC-BB1FF499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4508-956F-4E6D-BC9B-AF2C40C5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0060-9BBC-43FD-9C2A-32E71914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8C35-C477-4198-A5AE-D5C1A138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BA8-E470-478B-9111-75E6B75E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724C-3650-4C55-8B49-72B58A1B02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1844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NOTETHIS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4" name="Rectangle 11"/>
          <p:cNvSpPr/>
          <p:nvPr/>
        </p:nvSpPr>
        <p:spPr>
          <a:xfrm>
            <a:off x="3564000" y="1125360"/>
            <a:ext cx="576108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Классный час на тем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Моя личная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 её пределами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езопасное поведение на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орогах и на транспо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90400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выходе на улицу посмотри сначала налево, потом направ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тобы не помешать прохож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Маршрут в школу выбирай самый безопасный, тот, где надо реже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ходить дорогу. Меньше переходов – меньше опасно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гда идешь по улицам города, будь осторожен. Не торопись. Иди только по правой сторо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отуара  или по обочине подальше от края дорог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4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ходя мимо ворот, будь осторожен: из ворот может выехать автомобиль. Осторож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ходи мимо стоящего автомобиля: пассажиры могут резко открыть дверь и ударить теб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выходи на проезжую часть улицы или дороги. Переходи улицу только по пешеходны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ходам. Прежде чем переходить улицу,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осмотри  налев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Если проезжая часть свободна,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и. Дойдя до середины дороги, останови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движение транспорта началось, подожди на «остановке безопасности. Теперь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осмотр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направ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Если проезжая часть свободна, закончи перех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6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лицу, где нет пешеходного перехода, надо переходить от одного угла тротуара к другому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к безопасн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7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на улице большое движение, попроси взрослого или сотрудника милиции помочь 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й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перебегай улицу или дорогу перед близко идущим транспорт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EEK!"/>
          <p:cNvPicPr/>
          <p:nvPr/>
        </p:nvPicPr>
        <p:blipFill>
          <a:blip r:embed="rId1"/>
          <a:stretch/>
        </p:blipFill>
        <p:spPr>
          <a:xfrm>
            <a:off x="1332000" y="0"/>
            <a:ext cx="1368360" cy="2060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OLDCAR1"/>
          <p:cNvPicPr/>
          <p:nvPr/>
        </p:nvPicPr>
        <p:blipFill>
          <a:blip r:embed="rId2"/>
          <a:stretch/>
        </p:blipFill>
        <p:spPr>
          <a:xfrm>
            <a:off x="0" y="0"/>
            <a:ext cx="15476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езопасное поведение на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орогах и на транспо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90400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9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жидай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анспорт на посадочной площадке или на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отуаре  у указателя останов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0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ри посадке в автобус, троллейбус, трамвай соблюдай порядок. Входи в задние двери.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шай другим пассажир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ранее готовься к выходу из транспорта, пройдя вперед. Выходи только через перед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ер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2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ходя и выходя из транспорта, не спеши и не толкайся. Уступай место старши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3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ходясь в транспорте, не ходи по салону, держись за поручень, не выглядывай и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совывай из окон руки, не нажимай без надобности на аварийные кноп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4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йдя из транспорта – осмотрись. Трамвай обходи спереди. Автобус и троллейбус – сзад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йдя из транспорта, нужно по тротуару дойти до пешеходного перехода и только по не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ходить на другую сторо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5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гда переходишь улицу, следи за сигналом светофор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красны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СТОП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все должны остановитьс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желты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ВНИМАНИ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жди следующего сигнал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Arial"/>
              </a:rPr>
              <a:t>                 </a:t>
            </a:r>
            <a:r>
              <a:rPr b="1" lang="ru-RU" sz="1400" spc="-1" strike="noStrike">
                <a:solidFill>
                  <a:srgbClr val="009900"/>
                </a:solidFill>
                <a:latin typeface="Arial"/>
              </a:rPr>
              <a:t>зеленый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009900"/>
                </a:solidFill>
                <a:latin typeface="Arial"/>
              </a:rPr>
              <a:t>ИДИТ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– можно переходить улиц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6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устраивай игр на проезжей части или вблизи доро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катайся на велосипеде, роликовых коньках и т.п.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езжей части. Не цепляйся за проходящий мим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анспор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COACH"/>
          <p:cNvPicPr/>
          <p:nvPr/>
        </p:nvPicPr>
        <p:blipFill>
          <a:blip r:embed="rId1"/>
          <a:stretch/>
        </p:blipFill>
        <p:spPr>
          <a:xfrm>
            <a:off x="0" y="0"/>
            <a:ext cx="3268800" cy="1365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OLDCAR3"/>
          <p:cNvPicPr/>
          <p:nvPr/>
        </p:nvPicPr>
        <p:blipFill>
          <a:blip r:embed="rId2"/>
          <a:stretch/>
        </p:blipFill>
        <p:spPr>
          <a:xfrm>
            <a:off x="5796000" y="4508640"/>
            <a:ext cx="31478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А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оведения в общественном   транспор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832720"/>
          </a:xfrm>
          <a:prstGeom prst="rect">
            <a:avLst/>
          </a:prstGeom>
          <a:solidFill>
            <a:srgbClr val="e3dbc3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Необходимо помнить, что общественный транспорт – средств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передвижения повышенного риска,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 О Э Т О М 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.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бегайте в темное время суток пустынных остановок, а ожидая автобу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амвай или троллейбус, стойте на хорошо освещенном месте рядом с друг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д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гда подходит автобус, не старайтесь стоять в первом ряду – могу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кнуть под коле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льзя спать во время движения, так как при резком торможении мож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чить трав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прислоняйтесь к дверям, по возможности избегайте езды на ступенях и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х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збегайте пустых автобусов, троллейбусов и трамваев, а также ваго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ктропоез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Если вам приходится ехать поздно, то садитесь около водителя и ближе 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ходу, в электричке – в первый вагон и вагон, где есть пассажи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вушкам рекомендуется садиться рядом с женщи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Если в салон вошел пассажир, ведущий себя развязно, отвернитесь от нег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встречайтесь с ним глаз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ержите на виду свои вещ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0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ыходя из транспорта, будьте внимательны, так как можно попасть п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еса проезжающего мимо транспор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З А П Р Е Щ А Е Т С 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- Ходить без необходимости по салону автобуса, троллейбуса, трамва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- Открывать двери на ходу, выглядывать из открытых окон и высовывать ру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- Нажимать без надобности на аварийную кнопку и отвлекать водите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- Включать и выключать какие-либо приборы (дергать стоп-кр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MINIBUS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езопасность при  проведении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портивных мероприятий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83236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портивном зале, на спортплощадке  обучающиеся,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итанники должны заниматься только в спортивной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рме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занятиях физкультурой и спортом обучающиеся не должны занимать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ах, перстнях и брасле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пражнения на спортивных снарядах выполняются только с разрешения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страховкой учителя физкуль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еред выполнением упражнений провести разминку и разогрев мыш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еред прыжками проверить прыжковую яму на отсутствие камней, стекл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угих опасных предм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толкать друг друга, не ставить поднож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бувь должна быть на нескользящей подошве (кроссовки, кеды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Если при  беге или другой физической нагрузке плохо себя почувствова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йдите на шаг, а потом сядьте. Сообщить о плохом самочувств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 игре в футбол и хоккей применяйте спецодежду (защит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щитки, наплечники, налокотники и другие защитные средств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0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 беге по пересеченной местности будьте внимательн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тобы не оступиться или не попасть в я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SOCCER3"/>
          <p:cNvPicPr/>
          <p:nvPr/>
        </p:nvPicPr>
        <p:blipFill>
          <a:blip r:embed="rId1"/>
          <a:stretch/>
        </p:blipFill>
        <p:spPr>
          <a:xfrm>
            <a:off x="6877080" y="4869000"/>
            <a:ext cx="2050920" cy="1776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HURDLER"/>
          <p:cNvPicPr/>
          <p:nvPr/>
        </p:nvPicPr>
        <p:blipFill>
          <a:blip r:embed="rId2"/>
          <a:stretch/>
        </p:blipFill>
        <p:spPr>
          <a:xfrm>
            <a:off x="0" y="0"/>
            <a:ext cx="2340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4963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авила поведения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при нахождении взрывоопасных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предметов и неизвестных пакетов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34160" cy="539928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                               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ЗАПРЕЩ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двигать с места, бросать, поднимать взрывоопас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ирать и хранить боеприпасы;  пытаться их разбир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гревать и удар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готавливать из снарядов предметы б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ть снаряды для разведения костров, принос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 в поме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ирать и сдавать в металлолом боеприпасы,  оружи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аряжение времен вой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BOMB2"/>
          <p:cNvPicPr/>
          <p:nvPr/>
        </p:nvPicPr>
        <p:blipFill>
          <a:blip r:embed="rId1"/>
          <a:stretch/>
        </p:blipFill>
        <p:spPr>
          <a:xfrm>
            <a:off x="3708360" y="5157720"/>
            <a:ext cx="1974960" cy="1341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BOMB1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КАЗАНИЕ              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первой медицинской помощи пострадавшему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761080"/>
          </a:xfrm>
          <a:prstGeom prst="rect">
            <a:avLst/>
          </a:prstGeom>
          <a:solidFill>
            <a:srgbClr val="e4d9ba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 fontScale="80000"/>
          </a:bodyPr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1. В случаях поражения электрическим током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ызвать скорую помощь по телефону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0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казать первую медицинскую помощ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ложить пострадавшего на подстил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распустить пояс, расстегнуть одежду, создать прит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ежего воздух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ать нюхать нашатырный спир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ызгать лицо и шею холодной вод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тереть грудь и конечности спирт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необходимости  сделать искусственное дыхание и массаж сердц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2. При отравлении угарным газом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ынести пострадавшего на свежий возду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днести к носу ватку, смоченную нашатырным спирт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необходимости  сделать искусственное дых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сле восстановления дыхания дать валериановых кап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j0240719"/>
          <p:cNvPicPr/>
          <p:nvPr/>
        </p:nvPicPr>
        <p:blipFill>
          <a:blip r:embed="rId1"/>
          <a:stretch/>
        </p:blipFill>
        <p:spPr>
          <a:xfrm>
            <a:off x="7596360" y="4365720"/>
            <a:ext cx="1307880" cy="223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j0211949"/>
          <p:cNvPicPr/>
          <p:nvPr/>
        </p:nvPicPr>
        <p:blipFill>
          <a:blip r:embed="rId2"/>
          <a:stretch/>
        </p:blipFill>
        <p:spPr>
          <a:xfrm>
            <a:off x="7020000" y="1197000"/>
            <a:ext cx="1900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КАЗАНИЕ              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первой медицинской помощи пострадавшему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761080"/>
          </a:xfrm>
          <a:prstGeom prst="rect">
            <a:avLst/>
          </a:prstGeom>
          <a:solidFill>
            <a:srgbClr val="e4d9ba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 fontScale="73000"/>
          </a:bodyPr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3. При порезах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тщательно осмотреть рану, очистить е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омыть рану дезинфицирующим раствором (например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урацилином или перекисью водород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бработать края раны йод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ожить повязку;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сильном кровотечении перевязать жгутом выш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ста пореза, на рану положить давящую повязк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4. При ушибах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ложить на место ушиба холодный компрес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абинтовать ушибленное мест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5. При термическом ожоге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мочить обожженное место спиртом или раствором со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аложить марлевую салфетку, смоченную в раствор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рганцовокислого кал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6. При ожоге едкими щелочами 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обильно смочить обожженное место нейтрализующим раствор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яной или лимонной кисл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мазать место ожога борным вазелин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ожить марлю или вату и забинто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PROF"/>
          <p:cNvPicPr/>
          <p:nvPr/>
        </p:nvPicPr>
        <p:blipFill>
          <a:blip r:embed="rId1"/>
          <a:stretch/>
        </p:blipFill>
        <p:spPr>
          <a:xfrm>
            <a:off x="6948360" y="836640"/>
            <a:ext cx="1944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75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404280"/>
            <a:ext cx="8713800" cy="597708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Благодар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ALOOF_M"/>
          <p:cNvPicPr/>
          <p:nvPr/>
        </p:nvPicPr>
        <p:blipFill>
          <a:blip r:embed="rId1"/>
          <a:stretch/>
        </p:blipFill>
        <p:spPr>
          <a:xfrm>
            <a:off x="6732720" y="549360"/>
            <a:ext cx="1800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 Р А В И Л А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  поведения для обучающихс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90544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 fontScale="99000"/>
          </a:bodyPr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1. Общие правила п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1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Регулярно посещать уроки и обязательные внеурочные мероприятия (классные час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ые экскурсии и др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2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риходить в школу заблаговременно; до звонка на урок пройти к кабинету, в котор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удет проходить очередное занят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3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 обязательном порядке иметь при себе все необходимые на данный день учебник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тради, дневник, ручку и другие принадлеж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4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Регулярно готовить домашние зад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5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Соблюдать в школе чистоту и поряд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6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 осенне-весенний период, а также в ненастную погоду иметь при себе сменную обув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обуваться перед началом первого урока на 1 этаже школ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7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курить в помещениях школ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8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Беречь школьное имущество. Не рисовать на стенах и классных стол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9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засорять туалеты посторонними предметами, а пос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ьзования питьевой водой закрывать водопроводные кран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10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Быть аккуратным, носить опрятную одеж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11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Иметь спортивную форму для уроков физической культуры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ецодежду для уроков тру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SUCCESS"/>
          <p:cNvPicPr/>
          <p:nvPr/>
        </p:nvPicPr>
        <p:blipFill>
          <a:blip r:embed="rId1"/>
          <a:stretch/>
        </p:blipFill>
        <p:spPr>
          <a:xfrm>
            <a:off x="7596360" y="4292640"/>
            <a:ext cx="1334880" cy="2278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EXAM"/>
          <p:cNvPicPr/>
          <p:nvPr/>
        </p:nvPicPr>
        <p:blipFill>
          <a:blip r:embed="rId2"/>
          <a:stretch/>
        </p:blipFill>
        <p:spPr>
          <a:xfrm>
            <a:off x="0" y="0"/>
            <a:ext cx="23749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 Р А В И Л А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      поведения для обучающихс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2. Правила поведения на уроке и переме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облюдать дисциплину как на уроках, так и на перемен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 окончании уроков выходить из класса с цель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ветривания помещ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ыть вежливым и предупредительным с другим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щимися и учителями, уважительно относиться к товарища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допускать в помещении школы брань и выражения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нижающие достоинство челове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допускать случаев психического и физиче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илия над учащимися, все споры разрешать только мирным пут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6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ыполнять требования дежурных учителей и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7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облюдать инструкции по охране труда на уроках хим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зики, информатики, биологии, физкультуры, трудового обуче6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также во время проведения внеклассных и внешко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роприя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8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о время перемен не бегать, не толкаться, не созда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авмоопасных ситу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9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ыть предельно внимательным на лестницах: не бегать по ни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прыгать через ступеньки, не кататься на перилах, не перешагивать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перегибаться опасно через них. Останавливать нарушителей прави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зопас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10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любых происшествий или травм немедленно сообщ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 этом ближайшему учителю, классному руководителю, завучу, директору шк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CHOOL"/>
          <p:cNvPicPr/>
          <p:nvPr/>
        </p:nvPicPr>
        <p:blipFill>
          <a:blip r:embed="rId1"/>
          <a:stretch/>
        </p:blipFill>
        <p:spPr>
          <a:xfrm>
            <a:off x="0" y="0"/>
            <a:ext cx="2771640" cy="1052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KIDS1"/>
          <p:cNvPicPr/>
          <p:nvPr/>
        </p:nvPicPr>
        <p:blipFill>
          <a:blip r:embed="rId2"/>
          <a:stretch/>
        </p:blipFill>
        <p:spPr>
          <a:xfrm>
            <a:off x="7380360" y="907920"/>
            <a:ext cx="176364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 Р А В И Л А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      поведения для обучающихс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</a:t>
            </a: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2. Правила поведения в столов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аходясь в школьной столовой (буфете), проявлять аккуратность,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лять продуктов питания и посуды на столах, не сорить на п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2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облюдать дисциплину и терпение, завтраки и обеды получать только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ке очеред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о время еды вести себя спокойно, на размахивать столовыми приборам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кричать, не толк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еред приемом пищи вымыть руки с мы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5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Не следует находиться в столовой (буфете) в верхней одежде и голов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бо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6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аходить в производственные помещения столов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даточную не разреш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DINNER1"/>
          <p:cNvPicPr/>
          <p:nvPr/>
        </p:nvPicPr>
        <p:blipFill>
          <a:blip r:embed="rId1"/>
          <a:stretch/>
        </p:blipFill>
        <p:spPr>
          <a:xfrm>
            <a:off x="6443640" y="4437000"/>
            <a:ext cx="2473200" cy="201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KIDS2"/>
          <p:cNvPicPr/>
          <p:nvPr/>
        </p:nvPicPr>
        <p:blipFill>
          <a:blip r:embed="rId2"/>
          <a:stretch/>
        </p:blipFill>
        <p:spPr>
          <a:xfrm>
            <a:off x="0" y="0"/>
            <a:ext cx="24112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НСТРУКЦИЯ         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по охране труда обучающихся ОУ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(вводный инструкта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60033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дороге в школу и обратно необходим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реходить дорогу только в установленных мест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осуществлять движение через перекресток только на зеленый св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предварительно убедиться, что движущегося транспорта в опасной близости н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осуществлять переход через железнодорожный путь в установленном для эт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есте, при переходе убедиться в отсутствии близко идущего поез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школе имеются учебные кабинеты повышенной степени опасности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химическ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физический, биологический, информатики и ВТ, мастерские технического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обслуживающего труда, спортивный зал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 время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нятий в этих кабинет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обходимо строго  соблюдать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струкции по охране труда и требования учите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 избежание травмоопасных ситуаций в школе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ЗАПРЕЩАЕТС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бегать и толкаться во время переме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прыгать через ступеньки лестницы, кататься на перилах, перешагивать или опас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регибаться через ни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оставлять в коридорах разлитую на полу вод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 качаться на трубах парового (водяного) отоп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НСТРУКЦИЯ         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по охране труда обучающихся ОУ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(вводный инструкта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68800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 случае любых происшествий и травм необходимо сообщить об э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ю. Медицинский кабинет находится на ___ этаже. Медицинские аптеч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ходятся в кабинетах </a:t>
            </a: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химии, физики, биологии, информатики, трудов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обучения, начальных классов и в спортивном зале, в кабинетах директор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заместителей директора школ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5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возникновения пожара, короткого замыкания в электросе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сорения канализации или подозрений на них необходимо немедленно сообщ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 этом ближайшему учителю или администратору. При пожаре звонить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лефону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0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 вызов милиции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0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ызов скорой помощи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0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Телефон находи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с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6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возникновения чрезвычайной ситуации все сотрудники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щиеся школы должны быть немедленно эвакуированы. Сигнал тревог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ается продолжительной серией коротких звонков. Учащиеся покида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мещение класса и организованно выходят из школы вместе с учителем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ответствии с планом эвакуации.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 время эвакуации класс должен иметь пр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бе комплект ватно-марлевых повязок, бутыль с водой и два сигналь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лажка для перехода улицы. Переход перекрестка осуществляется только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он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НСТРУКЦИЯ         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по охране труда обучающихся ОУ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(вводный инструкта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713800" cy="5759640"/>
          </a:xfrm>
          <a:prstGeom prst="rect">
            <a:avLst/>
          </a:prstGeom>
          <a:solidFill>
            <a:srgbClr val="e4d9ba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7 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появлении в школе посторонних лиц, ведущих себя подозрительно и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грессивно, необходимо немедленно сообщить об этом охране или ближайше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ю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допускается нахождение в школе бродячих собак и кош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ЗАПРЕЩАЕТС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урить в помещениях школы, бросать зажженные спички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сорные урны, засорять канализацию посторонними предметами, оставл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ми водопроводные кра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0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Находясь в школьной столовой (буфете), необходимо соблюдать 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гиены, не оставлять продуктов питания на столах, не сорить на пол. Во врем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ды вести себя спокойно, не размахивать столовыми приборами, не кричать, 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к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1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аствуя в проведении санитарных часов, необходимо соблюдать ме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зопасности; при мытье окон запрещается высовываться их 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2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коле не допускается применение психического и физического насили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ношении учащихся, все споры должны разрешаться только мирным пут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13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ченики школы должны выполнять требования дежурных учителей и 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ожарная 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90400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ля старших 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ледите, чтобы со спичками не играли маленькие дети, убирайте их в недоступные для малышей ме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 нагревайте незнакомые предметы, упаковки из-под порошков и красок, особенно аэрозольные упаковк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 оставляйте электронагревательные приборы без присмотра. Запрещайте малышам самостоятельно включать в сеть электроприбо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мните, что опасна не только бочка с бензином, но и пустая емкость из-под него или другой легковоспламеняющейся  жидкости, и зажженная спичка может привести к ожогам и травм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0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 разжигайте огонь  с помощью легковоспламеняющихся жидк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 поджигайте сами и позволяйте младшим поджигать тополиный пух или сухую траву. Не оставляйте незатушенных кос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и обнаружении пожара сообщите взрослым и вызовите пожарную команду по телефону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01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XPLODE"/>
          <p:cNvPicPr/>
          <p:nvPr/>
        </p:nvPicPr>
        <p:blipFill>
          <a:blip r:embed="rId1"/>
          <a:stretch/>
        </p:blipFill>
        <p:spPr>
          <a:xfrm>
            <a:off x="0" y="0"/>
            <a:ext cx="3635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1844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Электро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264360"/>
          </a:xfrm>
          <a:prstGeom prst="rect">
            <a:avLst/>
          </a:prstGeom>
          <a:solidFill>
            <a:srgbClr val="e3dbc3"/>
          </a:solidFill>
          <a:ln w="9360">
            <a:solidFill>
              <a:srgbClr val="993300"/>
            </a:solidFill>
            <a:miter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ля обучающихся  (воспитанников) О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укоснительно соблюдайте порядок включения  электроприборов в сеть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нур сначала подключайте к прибору, а затем к сети. Отключение – в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тном порядке.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Уходя из помещения обязательно выключайте электроприбор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вставляйте вилку в штепсельную розетку мокрыми рук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ри выключении электроприборов не тяните электропровод рукам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жет случиться короткое замыка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подходите к оголенному или провисшему (лежащем на земле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воду и не дотрагивайтесь до него – может ударить то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6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пользуйтесь утюгом, чайником, плиткой без специальной подстав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прикасайтесь к нагреваемой воде и сосуду (если он металлический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включенном в сеть нагревател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8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 протирайте включенные электроприборы влажной ткан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льзя гасить загоревшиеся электроприборы водой. В случа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згорания электроприбора немедленно отключить его от сети и накры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отной тканью. Если вы не можете погасить вспышку пожара, вызывайте по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лефону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0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ожарную служб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10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пытайтесь проникнуть в распределительные устройст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рансформаторные подстанции, силовые щитки – это грозит смертью!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IDEA"/>
          <p:cNvPicPr/>
          <p:nvPr/>
        </p:nvPicPr>
        <p:blipFill>
          <a:blip r:embed="rId1"/>
          <a:stretch/>
        </p:blipFill>
        <p:spPr>
          <a:xfrm>
            <a:off x="0" y="0"/>
            <a:ext cx="1619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6:25:48Z</dcterms:created>
  <dc:creator>Name</dc:creator>
  <dc:description/>
  <dc:language>en-US</dc:language>
  <cp:lastModifiedBy>дмитрий</cp:lastModifiedBy>
  <dcterms:modified xsi:type="dcterms:W3CDTF">2018-12-06T19:24:55Z</dcterms:modified>
  <cp:revision>35</cp:revision>
  <dc:subject/>
  <dc:title>Методические рекомендации по проведению инструктажа по охране труда для учащихся образовательного учреждения оздоровительного лагеря при проведении внеклассных, внешкольных мероприятий</dc:title>
</cp:coreProperties>
</file>