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39A-F3BC-437C-AE5B-60CBD423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0EA-4FD1-45BF-A35B-8B2E5DFC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A9A-032C-4C76-B4F4-EC8174AF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F15-905E-4C64-8654-519C1901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E78-25B2-4F6F-A358-4E446544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EE3-8A13-4A0E-AD74-AB84654D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BB8-C141-4529-BDC6-45997ABE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44A-03CE-43D3-904E-8A0BA70D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3F6-1D6A-48B5-9C22-6815942E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461-24FF-4D14-B0A4-3E58D630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C43-B0F5-4151-94EF-9601A1E2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CAC-EE93-4C9B-969F-F9223531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201A-984C-4A09-9ACB-59040188A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NOTETHIS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4" name="Rectangle 11"/>
          <p:cNvSpPr/>
          <p:nvPr/>
        </p:nvSpPr>
        <p:spPr>
          <a:xfrm>
            <a:off x="3564000" y="1125360"/>
            <a:ext cx="576108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Классный час 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Моя личная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 её пределам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е поведение на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орогах и на тран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ыходе на улицу посмотри сначала налево, потом направ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не помешать прохож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аршрут в школу выбирай самый безопасный, тот, где надо реже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ить дорогу. Меньше переходов – меньше опас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идешь по улицам города, будь осторожен. Не торопись. Иди только по правой сторо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отуара  или по обочине подальше от края дорог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одя мимо ворот, будь осторожен: из ворот может выехать автомобиль. Осторож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оди мимо стоящего автомобиля: пассажиры могут резко открыть дверь и ударить т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выходи на проезжую часть улицы или дороги. Переходи улицу только по пешех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ам. Прежде чем переходить улицу,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мотри  нале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Если проезжая часть свободна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и. Дойдя до середины дороги, останови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движение транспорта началось, подожди на «остановке безопасности. Теперь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мо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напра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Если проезжая часть свободна, закончи перех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у, где нет пешеходного перехода, надо переходить от одного угла тротуара к другому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к безопасн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7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на улице большое движение, попроси взрослого или сотрудника милиции помочь 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й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еребегай улицу или дорогу перед близко идущим транспор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EEK!"/>
          <p:cNvPicPr/>
          <p:nvPr/>
        </p:nvPicPr>
        <p:blipFill>
          <a:blip r:embed="rId1"/>
          <a:stretch/>
        </p:blipFill>
        <p:spPr>
          <a:xfrm>
            <a:off x="1332000" y="0"/>
            <a:ext cx="1368360" cy="206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OLDCAR1"/>
          <p:cNvPicPr/>
          <p:nvPr/>
        </p:nvPicPr>
        <p:blipFill>
          <a:blip r:embed="rId2"/>
          <a:stretch/>
        </p:blipFill>
        <p:spPr>
          <a:xfrm>
            <a:off x="0" y="0"/>
            <a:ext cx="1547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е поведение на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орогах и на тран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9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й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порт на посадочной площадке или на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отуаре  у указателя остан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 посадке в автобус, троллейбус, трамвай соблюдай порядок. Входи в задние двери.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шай другим пассажир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ранее готовься к выходу из транспорта, пройдя вперед. Выходи только через перед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е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ходя и выходя из транспорта, не спеши и не толкайся. Уступай место старши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ясь в транспорте, не ходи по салону, держись за поручень, не выглядывай и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совывай из окон руки, не нажимай без надобности на аварийные кноп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4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йдя из транспорта – осмотрись. Трамвай обходи спереди. Автобус и троллейбус – сзад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йдя из транспорта, нужно по тротуару дойти до пешеходного перехода и только по не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ить на другую сторо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5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переходишь улицу, следи за сигналом светофор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красны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СТОП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все должны остановить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желт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ВНИМАН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жди следующего сигнал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зелены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ИДИТ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можно переходить у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устраивай игр на проезжей части или вблизи доро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катайся на велосипеде, роликовых коньках и т.п.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езжей части. Не цепляйся за проходящий ми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COACH"/>
          <p:cNvPicPr/>
          <p:nvPr/>
        </p:nvPicPr>
        <p:blipFill>
          <a:blip r:embed="rId1"/>
          <a:stretch/>
        </p:blipFill>
        <p:spPr>
          <a:xfrm>
            <a:off x="0" y="0"/>
            <a:ext cx="326880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OLDCAR3"/>
          <p:cNvPicPr/>
          <p:nvPr/>
        </p:nvPicPr>
        <p:blipFill>
          <a:blip r:embed="rId2"/>
          <a:stretch/>
        </p:blipFill>
        <p:spPr>
          <a:xfrm>
            <a:off x="5796000" y="4508640"/>
            <a:ext cx="3147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ведения в общественном   транспо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solidFill>
            <a:srgbClr val="e3dbc3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еобходимо помнить, что общественный транспорт – средств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ередвижения повышенного риска,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 О Э Т О М 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бегайте в темное время суток пустынных остановок, а ожидая автобу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мвай или троллейбус, стойте на хорошо освещенном месте рядом с друг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гда подходит автобус, не старайтесь стоять в первом ряду – могу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нуть под коле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льзя спать во время движения, так как при резком торможении мож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ить трав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прислоняйтесь к дверям, по возможности избегайте езды на ступенях 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х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збегайте пустых автобусов, троллейбусов и трамваев, а также ваго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ктропоез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вам приходится ехать поздно, то садитесь около водителя и ближе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ходу, в электричке – в первый вагон и вагон, где есть пассажи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вушкам рекомендуется садиться рядом с женщ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в салон вошел пассажир, ведущий себя развязно, отвернитесь от не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встречайтесь с ним глаз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ржите на виду свои ве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ходя из транспорта, будьте внимательны, так как можно попасть п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еса проезжающего мимо трансп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З А П Р Е Щ А Е Т С 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Ходить без необходимости по салону автобуса, троллейбуса, трамв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Открывать двери на ходу, выглядывать из открытых окон и высовывать ру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Нажимать без надобности на аварийную кнопку и отвлекать водите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Включать и выключать какие-либо приборы (дергать стоп-кр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INIBUS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сть при  проведении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портивных мероприят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портивном зале, на спортплощадке  обучающиеся,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нники должны заниматься только в спортивной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занятиях физкультурой и спортом обучающиеся не должны занимать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ах, перстнях и брасл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на спортивных снарядах выполняются только с разреш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страховкой учителя физкуль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выполнением упражнений провести разминку и разогрев мыш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прыжками проверить прыжковую яму на отсутствие камней, стекл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угих опасных предм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толкать друг друга, не ставить поднож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увь должна быть на нескользящей подошве (кроссовки, кеды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при  беге или другой физической нагрузке плохо себя почувствова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ите на шаг, а потом сядьте. Сообщить о плохом самочувств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игре в футбол и хоккей применяйте спецодежду (защи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щитки, наплечники, налокотники и другие защитные средст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беге по пересеченной местности будьте вниматель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бы не оступиться или не попасть в я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SOCCER3"/>
          <p:cNvPicPr/>
          <p:nvPr/>
        </p:nvPicPr>
        <p:blipFill>
          <a:blip r:embed="rId1"/>
          <a:stretch/>
        </p:blipFill>
        <p:spPr>
          <a:xfrm>
            <a:off x="6877080" y="4869000"/>
            <a:ext cx="2050920" cy="177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URDLER"/>
          <p:cNvPicPr/>
          <p:nvPr/>
        </p:nvPicPr>
        <p:blipFill>
          <a:blip r:embed="rId2"/>
          <a:stretch/>
        </p:blipFill>
        <p:spPr>
          <a:xfrm>
            <a:off x="0" y="0"/>
            <a:ext cx="2340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496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а поведения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при нахождении взрывоопасных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предметов и неизвестных пакетов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34160" cy="539928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ЗАПРЕЩ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двигать с места, бросать, поднимать взрывоопас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ирать и хранить боеприпасы;  пытаться их разбир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гревать и удар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готавливать из снарядов предметы б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ть снаряды для разведения костров, принос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в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ирать и сдавать в металлолом боеприпасы,  оружи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аряжение времен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OMB2"/>
          <p:cNvPicPr/>
          <p:nvPr/>
        </p:nvPicPr>
        <p:blipFill>
          <a:blip r:embed="rId1"/>
          <a:stretch/>
        </p:blipFill>
        <p:spPr>
          <a:xfrm>
            <a:off x="3708360" y="5157720"/>
            <a:ext cx="1974960" cy="1341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BOMB1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КАЗАНИЕ              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первой медицинской помощи пострадавшему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80000"/>
          </a:bodyPr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. В случаях поражения электрическим током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звать скорую помощь по телефону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казать первую медицинскую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ложить пострадавшего на подстил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распустить пояс, расстегнуть одежду, создать прит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жего воздух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ать нюхать нашатырный спир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ызгать лицо и шею холодной вод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ереть грудь и конечности спир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еобходимости  сделать искусственное дыхание и массаж серд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. При отравлении угарным газом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нести пострадавшего на свежий возду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нести к носу ватку, смоченную нашатырным спир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еобходимости  сделать искусственное дых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сле восстановления дыхания дать валериановых кап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j0240719"/>
          <p:cNvPicPr/>
          <p:nvPr/>
        </p:nvPicPr>
        <p:blipFill>
          <a:blip r:embed="rId1"/>
          <a:stretch/>
        </p:blipFill>
        <p:spPr>
          <a:xfrm>
            <a:off x="7596360" y="4365720"/>
            <a:ext cx="130788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j0211949"/>
          <p:cNvPicPr/>
          <p:nvPr/>
        </p:nvPicPr>
        <p:blipFill>
          <a:blip r:embed="rId2"/>
          <a:stretch/>
        </p:blipFill>
        <p:spPr>
          <a:xfrm>
            <a:off x="7020000" y="1197000"/>
            <a:ext cx="1900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КАЗАНИЕ              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первой медицинской помощи пострадавшему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73000"/>
          </a:bodyPr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3. При порезах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щательно осмотреть рану, очистить е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омыть рану дезинфицирующим раствором (например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рацилином или перекисью водород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работать края раны йод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ожить повязку;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сильном кровотечении перевязать жгутом выш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ста пореза, на рану положить давящую повяз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4. При ушибах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ложить на место ушиба холодный компрес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бинтовать ушибленное мест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5. При термическом ожоге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очить обожженное место спиртом или раствором с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ложить марлевую салфетку, смоченную в раство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ганцовокислого кал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6. При ожоге едкими щелочами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ильно смочить обожженное место нейтрализующим раство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яной или лимонной кисл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мазать место ожога борным вазелин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ожить марлю или вату и забинт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ROF"/>
          <p:cNvPicPr/>
          <p:nvPr/>
        </p:nvPicPr>
        <p:blipFill>
          <a:blip r:embed="rId1"/>
          <a:stretch/>
        </p:blipFill>
        <p:spPr>
          <a:xfrm>
            <a:off x="6948360" y="836640"/>
            <a:ext cx="194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75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8713800" cy="597708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лагодар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ALOOF_M"/>
          <p:cNvPicPr/>
          <p:nvPr/>
        </p:nvPicPr>
        <p:blipFill>
          <a:blip r:embed="rId1"/>
          <a:stretch/>
        </p:blipFill>
        <p:spPr>
          <a:xfrm>
            <a:off x="6732720" y="549360"/>
            <a:ext cx="180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0544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1. Общие правила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егулярно посещать уроки и обязательные внеурочные мероприятия (классные час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ые экскурсии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ходить в школу заблаговременно; до звонка на урок пройти к кабинету, в кото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дет проходить очередное занят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3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обязательном порядке иметь при себе все необходимые на данный день учебни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тради, дневник, ручку и другие принадлеж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4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егулярно готовить домашние зад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облюдать в школе чистоту и поряд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6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осенне-весенний период, а также в ненастную погоду иметь при себе сменную обув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обуваться перед началом первого урока на 1 этаже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7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курить в помещениях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речь школьное имущество. Не рисовать на стенах и классных стол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9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засорять туалеты посторонними предметами, а пос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ьзования питьевой водой закрывать водопроводные кра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0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ыть аккуратным, носить опрятную одеж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1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меть спортивную форму для уроков физической культуры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цодежду для уроков тру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UCCESS"/>
          <p:cNvPicPr/>
          <p:nvPr/>
        </p:nvPicPr>
        <p:blipFill>
          <a:blip r:embed="rId1"/>
          <a:stretch/>
        </p:blipFill>
        <p:spPr>
          <a:xfrm>
            <a:off x="7596360" y="4292640"/>
            <a:ext cx="1334880" cy="227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EXAM"/>
          <p:cNvPicPr/>
          <p:nvPr/>
        </p:nvPicPr>
        <p:blipFill>
          <a:blip r:embed="rId2"/>
          <a:stretch/>
        </p:blipFill>
        <p:spPr>
          <a:xfrm>
            <a:off x="0" y="0"/>
            <a:ext cx="23749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2. Правила поведения на уроке и пере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дисциплину как на уроках, так и на переме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окончании уроков выходить из класса с цел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тривания поме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ыть вежливым и предупредительным с другим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щимися и учителями, уважительно относиться к товарищ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допускать в помещении школы брань и выражения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жающие достоинство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допускать случаев психического и физ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илия над учащимися, все споры разрешать только мирным пут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полнять требования дежурных учителей 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инструкции по охране труда на уроках хим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ики, информатики, биологии, физкультуры, трудового обуче6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во время проведения внеклассных и внешко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ропри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 время перемен не бегать, не толкаться, не созда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вмоопасных ситу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ыть предельно внимательным на лестницах: не бегать по ни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рыгать через ступеньки, не кататься на перилах, не перешагивать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ерегибаться опасно через них. Останавливать нарушителей прав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10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любых происшествий или травм немедленно сообщ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 этом ближайшему учителю, классному руководителю, завучу, директору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"/>
          <p:cNvPicPr/>
          <p:nvPr/>
        </p:nvPicPr>
        <p:blipFill>
          <a:blip r:embed="rId1"/>
          <a:stretch/>
        </p:blipFill>
        <p:spPr>
          <a:xfrm>
            <a:off x="0" y="0"/>
            <a:ext cx="2771640" cy="105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KIDS1"/>
          <p:cNvPicPr/>
          <p:nvPr/>
        </p:nvPicPr>
        <p:blipFill>
          <a:blip r:embed="rId2"/>
          <a:stretch/>
        </p:blipFill>
        <p:spPr>
          <a:xfrm>
            <a:off x="7380360" y="907920"/>
            <a:ext cx="17636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2. Правила поведения в столов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ходясь в школьной столовой (буфете), проявлять аккуратность,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лять продуктов питания и посуды на столах, не сорить на п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дисциплину и терпение, завтраки и обеды получать только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ке очеред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 время еды вести себя спокойно, на размахивать столовыми прибора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кричать, не толк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приемом пищи вымыть руки с мы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следует находиться в столовой (буфете) в верхней одежде и голов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б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ходить в производственные помещения столов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даточную не разреш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DINNER1"/>
          <p:cNvPicPr/>
          <p:nvPr/>
        </p:nvPicPr>
        <p:blipFill>
          <a:blip r:embed="rId1"/>
          <a:stretch/>
        </p:blipFill>
        <p:spPr>
          <a:xfrm>
            <a:off x="6443640" y="4437000"/>
            <a:ext cx="2473200" cy="20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KIDS2"/>
          <p:cNvPicPr/>
          <p:nvPr/>
        </p:nvPicPr>
        <p:blipFill>
          <a:blip r:embed="rId2"/>
          <a:stretch/>
        </p:blipFill>
        <p:spPr>
          <a:xfrm>
            <a:off x="0" y="0"/>
            <a:ext cx="2411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33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дороге в школу и обратно необходи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ходить дорогу только в установленных мес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уществлять движение через перекресток только на зеленый св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предварительно убедиться, что движущегося транспорта в опасной близости н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уществлять переход через железнодорожный путь в установленном для эт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сте, при переходе убедиться в отсутствии близко идущего поез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школе имеются учебные кабинеты повышенной степени опасност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химическ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физический, биологический, информатики и ВТ, мастерские техническ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обслуживающего труда, спортивный зал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врем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нятий в этих кабинет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бходимо строго  соблюдать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струкции по охране труда и требования учи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избежание травмоопасных ситуаций в школе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ЗАПРЕЩАЕ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бегать и толкаться во время переме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прыгать через ступеньки лестницы, кататься на перилах, перешагивать или опас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гибаться через н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тавлять в коридорах разлитую на полу вод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качаться на трубах парового (водяного) отоп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случае любых происшествий и травм необходимо сообщить об э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 Медицинский кабинет находится на ___ этаже. Медицинские аптеч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дятся в кабинетах 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химии, физики, биологии, информатики, труд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обучения, начальных классов и в спортивном зале, в кабинетах директор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заместителей директора шко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возникновения пожара, короткого замыкания в электросе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сорения канализации или подозрений на них необходимо немедленно сообщ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 этом ближайшему учителю или администратору. При пожаре звонить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ефону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 вызов милици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ызов скорой помощ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Телефон находи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с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возникновения чрезвычайной ситуации все сотрудник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щиеся школы должны быть немедленно эвакуированы. Сигнал тревог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ается продолжительной серией коротких звонков. Учащиеся покид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ещение класса и организованно выходят из школы вместе с учителем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ответствии с планом эвакуации.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время эвакуации класс должен иметь п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бе комплект ватно-марлевых повязок, бутыль с водой и два сигн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лажка для перехода улицы. Переход перекрестка осуществляется только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75964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 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явлении в школе посторонних лиц, ведущих себя подозрительно 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грессивно, необходимо немедленно сообщить об этом охране или ближайше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допускается нахождение в школе бродячих собак и ко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ЗАПРЕЩАЕ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урить в помещениях школы, бросать зажженные спичк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сорные урны, засорять канализацию посторонними предметами, остав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ми водопроводные кр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Находясь в школьной столовой (буфете), необходимо соблюдать 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гиены, не оставлять продуктов питания на столах, не сорить на пол. Во врем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ды вести себя спокойно, не размахивать столовыми приборами, не кричать,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вуя в проведении санитарных часов, необходимо соблюдать м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зопасности; при мытье окон запрещается высовываться их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коле не допускается применение психического и физического насили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шении учащихся, все споры должны разрешаться только мирным пут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ченики школы должны выполнять требования дежурных учителей 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жарная 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старших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ледите, чтобы со спичками не играли маленькие дети, убирайте их в недоступные для малышей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нагревайте незнакомые предметы, упаковки из-под порошков и красок, особенно аэрозольные упаков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оставляйте электронагревательные приборы без присмотра. Запрещайте малышам самостоятельно включать в сеть электроприб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мните, что опасна не только бочка с бензином, но и пустая емкость из-под него или другой легковоспламеняющейся  жидкости, и зажженная спичка может привести к ожогам и травм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разжигайте огонь  с помощью легковоспламеняющихся жид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поджигайте сами и позволяйте младшим поджигать тополиный пух или сухую траву. Не оставляйте незатушенных кос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 обнаружении пожара сообщите взрослым и вызовите пожарную команду по телефону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PLODE"/>
          <p:cNvPicPr/>
          <p:nvPr/>
        </p:nvPicPr>
        <p:blipFill>
          <a:blip r:embed="rId1"/>
          <a:stretch/>
        </p:blipFill>
        <p:spPr>
          <a:xfrm>
            <a:off x="0" y="0"/>
            <a:ext cx="363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Электро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ля обучающихся  (воспитанников) 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укоснительно соблюдайте порядок включения  электроприборов в сет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нур сначала подключайте к прибору, а затем к сети. Отключение – в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Уходя из помещения обязательно выключайте электроприбо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вставляйте вилку в штепсельную розетку мокрыми ру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 выключении электроприборов не тяните электропровод рукам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жет случиться короткое замык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одходите к оголенному или провисшему (лежащем на земл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воду и не дотрагивайтесь до него – может ударить то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пользуйтесь утюгом, чайником, плиткой без специальной подста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рикасайтесь к нагреваемой воде и сосуду (если он металлически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ключенном в сеть нагревате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ротирайте включенные электроприборы влажной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льзя гасить загоревшиеся электроприборы водой. В случа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горания электроприбора немедленно отключить его от сети и накры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тной тканью. Если вы не можете погасить вспышку пожара, вызывайте по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фону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0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ожарную служб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0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пытайтесь проникнуть в распределительные устрой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форматорные подстанции, силовые щитки – это грозит смертью!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DEA"/>
          <p:cNvPicPr/>
          <p:nvPr/>
        </p:nvPicPr>
        <p:blipFill>
          <a:blip r:embed="rId1"/>
          <a:stretch/>
        </p:blipFill>
        <p:spPr>
          <a:xfrm>
            <a:off x="0" y="0"/>
            <a:ext cx="1619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6:25:48Z</dcterms:created>
  <dc:creator>Name</dc:creator>
  <dc:description/>
  <dc:language>en-US</dc:language>
  <cp:lastModifiedBy>дмитрий</cp:lastModifiedBy>
  <dcterms:modified xsi:type="dcterms:W3CDTF">2018-12-06T19:24:55Z</dcterms:modified>
  <cp:revision>35</cp:revision>
  <dc:subject/>
  <dc:title>Методические рекомендации по проведению инструктажа по охране труда для учащихся образовательного учреждения оздоровительного лагеря при проведении внеклассных, внешкольных мероприятий</dc:title>
</cp:coreProperties>
</file>