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4E1-1D11-418F-BD9C-C53BA454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E37-D956-4D22-89DE-D07EA937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EE7-26B7-4F8D-92AB-0CCAD214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7EB2-8813-4874-AD29-81A661AA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F12-76FC-438A-8A15-4554CECD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17A-636B-4103-9296-E0F368DF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008-ED4A-421A-82B3-50D9DAA4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739-8128-493E-96D5-98312D96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BA5-8A6B-4C14-A053-4A483683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4A9-D235-40BB-9237-4258BC8E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B04-1145-49DB-884F-F57718BE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592-412D-44AB-A4FE-9FE9623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CF29-BEC7-4F70-BED6-75997E6441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NOTETHI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4" name="Rectangle 11"/>
          <p:cNvSpPr/>
          <p:nvPr/>
        </p:nvSpPr>
        <p:spPr>
          <a:xfrm>
            <a:off x="3564000" y="1125360"/>
            <a:ext cx="576108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лассный час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Моя личная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её пределам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ыходе на улицу посмотри сначала налево, потом направ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не помешать прохож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аршрут в школу выбирай самый безопасный, тот, где надо реже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дорогу. Меньше переходов – меньше опас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идешь по улицам города, будь осторожен. Не торопись. Иди только по правой сторо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а  или по обочине подальше от края доро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я мимо ворот, будь осторожен: из ворот может выехать автомобиль. Осторож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и мимо стоящего автомобиля: пассажиры могут резко открыть дверь и ударить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выходи на проезжую часть улицы или дороги. Переходи улицу только по пешех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ам. Прежде чем переходить улицу,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 нале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и. Дойдя до середины дороги, останов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движение транспорта началось, подожди на «остановке безопасности. Теперь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апра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закончи перех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у, где нет пешеходного перехода, надо переходить от одного угла тротуара к другом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 безопасн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на улице большое движение, попроси взрослого или сотрудника милиции помочь 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й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еребегай улицу или дорогу перед близко идущим транспор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EK!"/>
          <p:cNvPicPr/>
          <p:nvPr/>
        </p:nvPicPr>
        <p:blipFill>
          <a:blip r:embed="rId1"/>
          <a:stretch/>
        </p:blipFill>
        <p:spPr>
          <a:xfrm>
            <a:off x="1332000" y="0"/>
            <a:ext cx="136836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OLDCAR1"/>
          <p:cNvPicPr/>
          <p:nvPr/>
        </p:nvPicPr>
        <p:blipFill>
          <a:blip r:embed="rId2"/>
          <a:stretch/>
        </p:blipFill>
        <p:spPr>
          <a:xfrm>
            <a:off x="0" y="0"/>
            <a:ext cx="1547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й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 на посадочной площадке или 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е  у указателя остан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посадке в автобус, троллейбус, трамвай соблюдай порядок. Входи в задние двери.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шай другим пассажир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ранее готовься к выходу из транспорта, пройдя вперед. Выходи только через перед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е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я и выходя из транспорта, не спеши и не толкайся. Уступай место старши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ясь в транспорте, не ходи по салону, держись за поручень, не выглядывай и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совывай из окон руки, не нажимай без надобности на аварийные кноп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 – осмотрись. Трамвай обходи спереди. Автобус и троллейбус – сза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, нужно по тротуару дойти до пешеходного перехода и только по не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на другую сторо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5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переходишь улицу, следи за сигналом светофор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СТОП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все должны остановить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желт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НИМА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жди следующего сигнал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зеле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ИДИТ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можно переходить у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устраивай игр на проезжей части или вблизи дор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катайся на велосипеде, роликовых коньках и т.п.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зжей части. Не цепляйся за проходящий ми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OACH"/>
          <p:cNvPicPr/>
          <p:nvPr/>
        </p:nvPicPr>
        <p:blipFill>
          <a:blip r:embed="rId1"/>
          <a:stretch/>
        </p:blipFill>
        <p:spPr>
          <a:xfrm>
            <a:off x="0" y="0"/>
            <a:ext cx="326880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OLDCAR3"/>
          <p:cNvPicPr/>
          <p:nvPr/>
        </p:nvPicPr>
        <p:blipFill>
          <a:blip r:embed="rId2"/>
          <a:stretch/>
        </p:blipFill>
        <p:spPr>
          <a:xfrm>
            <a:off x="5796000" y="4508640"/>
            <a:ext cx="3147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ведения в общественном   тран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solidFill>
            <a:srgbClr val="e3dbc3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еобходимо помнить, что общественный транспорт – средств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ередвижения повышенного риска,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 О Э Т О М 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бегайте в темное время суток пустынных остановок, а ожидая автобу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мвай или троллейбус, стойте на хорошо освещенном месте рядом с друг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гда подходит автобус, не старайтесь стоять в первом ряду – мог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нуть под коле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льзя спать во время движения, так как при резком торможении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ить трав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прислоняйтесь к дверям, по возможности избегайте езды на ступенях 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х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бегайте пустых автобусов, троллейбусов и трамваев, а также ваг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ктропоез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ам приходится ехать поздно, то садитесь около водителя и ближе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ходу, в электричке – в первый вагон и вагон, где есть пассажи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вушкам рекомендуется садиться рядом с женщ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 салон вошел пассажир, ведущий себя развязно, отвернитесь от не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стречайтесь с ним глаз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ржите на виду свои ве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ходя из транспорта, будьте внимательны, так как можно попасть п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еса проезжающего мимо 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З А П Р Е Щ А Е Т С 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Ходить без необходимости по салону автобуса, троллейбуса, трамв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Открывать двери на ходу, выглядывать из открытых окон и высовывать ру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Нажимать без надобности на аварийную кнопку и отвлекать вод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Включать и выключать какие-либо приборы (дергать стоп-кр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INIBUS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сть при  проведении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портивных мероприят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портивном зале, на спортплощадке  обучающиеся,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нники должны заниматься только в спортивной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занятиях физкультурой и спортом обучающиеся не должны занимать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ах, перстнях и брас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на спортивных снарядах выполняются только с разреш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страховкой учителя физ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выполнением упражнений провести разминку и разогрев мыш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ыжками проверить прыжковую яму на отсутствие камней, стекл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их опасных предм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толкать друг друга, не ставить поднож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увь должна быть на нескользящей подошве (кроссовки, кед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при  беге или другой физической нагрузке плохо себя почувствова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ите на шаг, а потом сядьте. Сообщить о плохом самочувств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игре в футбол и хоккей применяйте спецодежду (защи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щитки, наплечники, налокотники и другие защитные средст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беге по пересеченной местности будьте вниматель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не оступиться или не попасть в я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SOCCER3"/>
          <p:cNvPicPr/>
          <p:nvPr/>
        </p:nvPicPr>
        <p:blipFill>
          <a:blip r:embed="rId1"/>
          <a:stretch/>
        </p:blipFill>
        <p:spPr>
          <a:xfrm>
            <a:off x="6877080" y="4869000"/>
            <a:ext cx="2050920" cy="177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URDLER"/>
          <p:cNvPicPr/>
          <p:nvPr/>
        </p:nvPicPr>
        <p:blipFill>
          <a:blip r:embed="rId2"/>
          <a:stretch/>
        </p:blipFill>
        <p:spPr>
          <a:xfrm>
            <a:off x="0" y="0"/>
            <a:ext cx="2340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поведения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и нахождении взрывоопасных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едметов и неизвестных пакетов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34160" cy="53992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ЗАПРЕЩ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двигать с места, бросать, поднимать взрывоопас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хранить боеприпасы;  пытаться их разбир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ревать и уда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авливать из снарядов предметы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ть снаряды для разведения костров, принос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в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сдавать в металлолом боеприпасы,  оруж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аряжение времен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OMB2"/>
          <p:cNvPicPr/>
          <p:nvPr/>
        </p:nvPicPr>
        <p:blipFill>
          <a:blip r:embed="rId1"/>
          <a:stretch/>
        </p:blipFill>
        <p:spPr>
          <a:xfrm>
            <a:off x="3708360" y="5157720"/>
            <a:ext cx="1974960" cy="134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MB1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. В случаях поражения электрическим ток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звать скорую помощь по 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казать первую медицинскую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ложить пострадавшего на подстил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распустить пояс, расстегнуть одежду, создать при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жего воздух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ть нюхать нашатырный спир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ызгать лицо и шею холодной вод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ереть грудь и конечности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 и массаж серд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. При отравлении угарным газ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нести пострадавшего на свежий возду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нести к носу ватку, смоченную нашатырным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сле восстановления дыхания дать валериановых кап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j0240719"/>
          <p:cNvPicPr/>
          <p:nvPr/>
        </p:nvPicPr>
        <p:blipFill>
          <a:blip r:embed="rId1"/>
          <a:stretch/>
        </p:blipFill>
        <p:spPr>
          <a:xfrm>
            <a:off x="7596360" y="4365720"/>
            <a:ext cx="130788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11949"/>
          <p:cNvPicPr/>
          <p:nvPr/>
        </p:nvPicPr>
        <p:blipFill>
          <a:blip r:embed="rId2"/>
          <a:stretch/>
        </p:blipFill>
        <p:spPr>
          <a:xfrm>
            <a:off x="7020000" y="1197000"/>
            <a:ext cx="1900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73000"/>
          </a:bodyPr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. При порез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щательно осмотреть рану, очистить е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мыть рану дезинфицирующим раствором (например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рацилином или перекисью водород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работать края раны йод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повязку;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сильном кровотечении перевязать жгутом вы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а пореза, на рану положить давящую повяз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4. При ушиб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ожить на место ушиба холодный компре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бинтовать ушибленное мес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5. При термическом ожоге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очить обожженное место спиртом или раствором с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ложить марлевую салфетку, смоченную в раств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ганцовокислого кал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6. При ожоге едкими щелочами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ильно смочить обожженное место нейтрализующим раств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яной или лимонной кисл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азать место ожога борным вазелин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марлю или вату и забинт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ROF"/>
          <p:cNvPicPr/>
          <p:nvPr/>
        </p:nvPicPr>
        <p:blipFill>
          <a:blip r:embed="rId1"/>
          <a:stretch/>
        </p:blipFill>
        <p:spPr>
          <a:xfrm>
            <a:off x="6948360" y="836640"/>
            <a:ext cx="19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75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713800" cy="597708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агодар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LOOF_M"/>
          <p:cNvPicPr/>
          <p:nvPr/>
        </p:nvPicPr>
        <p:blipFill>
          <a:blip r:embed="rId1"/>
          <a:stretch/>
        </p:blipFill>
        <p:spPr>
          <a:xfrm>
            <a:off x="6732720" y="549360"/>
            <a:ext cx="180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1. Общие правила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посещать уроки и обязательные внеурочные мероприятия (классные час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ые экскурсии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ходить в школу заблаговременно; до звонка на урок пройти к кабинету, в кот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дет проходить очередное занят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бязательном порядке иметь при себе все необходимые на данный день учебн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тради, дневник, ручку и другие принадлеж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готовить домашние за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блюдать в школе чистоту и поряд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6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сенне-весенний период, а также в ненастную погоду иметь при себе сменную обув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обуваться перед началом первого урока на 1 этаже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курить в помещения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речь школьное имущество. Не рисовать на стенах и классных стол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засорять туалеты посторонними предметами, а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ьзования питьевой водой закрывать водопроводные кр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ыть аккуратным, носить опрятную одеж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меть спортивную форму для уроков физической культур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одежду для уроков тр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UCCESS"/>
          <p:cNvPicPr/>
          <p:nvPr/>
        </p:nvPicPr>
        <p:blipFill>
          <a:blip r:embed="rId1"/>
          <a:stretch/>
        </p:blipFill>
        <p:spPr>
          <a:xfrm>
            <a:off x="7596360" y="4292640"/>
            <a:ext cx="1334880" cy="22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EXAM"/>
          <p:cNvPicPr/>
          <p:nvPr/>
        </p:nvPicPr>
        <p:blipFill>
          <a:blip r:embed="rId2"/>
          <a:stretch/>
        </p:blipFill>
        <p:spPr>
          <a:xfrm>
            <a:off x="0" y="0"/>
            <a:ext cx="2374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на уроке и пере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как на уроках, так и на переме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окончании уроков выходить из класса с цел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тривания пом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вежливым и предупредительным с други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мися и учителями, уважительно относиться к товарищ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в помещении школы брань и выражения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жающие достоинство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случаев психического и физ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илия над учащимися, все споры разрешать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инструкции по охране труда на уроках хим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ики, информатики, биологии, физкультуры, трудового обуче6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во время проведения внеклассных и внешко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опри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перемен не бегать, не толкаться, не созда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вмоопасны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предельно внимательным на лестницах: не бегать по н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ыгать через ступеньки, не кататься на перилах, не перешагивать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гибаться опасно через них. Останавливать нарушителей прав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0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любых происшествий или травм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, классному руководителю, завучу, директору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"/>
          <p:cNvPicPr/>
          <p:nvPr/>
        </p:nvPicPr>
        <p:blipFill>
          <a:blip r:embed="rId1"/>
          <a:stretch/>
        </p:blipFill>
        <p:spPr>
          <a:xfrm>
            <a:off x="0" y="0"/>
            <a:ext cx="2771640" cy="105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KIDS1"/>
          <p:cNvPicPr/>
          <p:nvPr/>
        </p:nvPicPr>
        <p:blipFill>
          <a:blip r:embed="rId2"/>
          <a:stretch/>
        </p:blipFill>
        <p:spPr>
          <a:xfrm>
            <a:off x="7380360" y="907920"/>
            <a:ext cx="17636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в столов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ходясь в школьной столовой (буфете), проявлять аккуратнос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лять продуктов питания и посуды на столах, не сорить на п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и терпение, завтраки и обеды получать только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е очеред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еды вести себя спокойно, на размахивать столовыми прибора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кричать, не 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иемом пищи вымыть руки с мы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следует находиться в столовой (буфете) в верхней одежде и голов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б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ходить в производственные помещения столов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аточную не разреш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INNER1"/>
          <p:cNvPicPr/>
          <p:nvPr/>
        </p:nvPicPr>
        <p:blipFill>
          <a:blip r:embed="rId1"/>
          <a:stretch/>
        </p:blipFill>
        <p:spPr>
          <a:xfrm>
            <a:off x="6443640" y="4437000"/>
            <a:ext cx="2473200" cy="20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KIDS2"/>
          <p:cNvPicPr/>
          <p:nvPr/>
        </p:nvPicPr>
        <p:blipFill>
          <a:blip r:embed="rId2"/>
          <a:stretch/>
        </p:blipFill>
        <p:spPr>
          <a:xfrm>
            <a:off x="0" y="0"/>
            <a:ext cx="2411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дороге в школу и обратно необходи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ходить дорогу только в установленных мес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движение через перекресток только на зеленый с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едварительно убедиться, что движущегося транспорта в опасной близости н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переход через железнодорожный путь в установленном для э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сте, при переходе убедиться в отсутствии близко идущего поез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школе имеются учебные кабинеты повышенной степени опасност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чес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физический, биологический, информатики и ВТ, мастерские техническ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служивающего труда, спортивный зал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нятий в этих кабинет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о строго  соблюдать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кции по охране труда и требования учи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травмоопасных ситуаций в школе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бегать и толкаться во время перем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ыгать через ступеньки лестницы, кататься на перилах, перешагивать или опас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гибаться через н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тавлять в коридорах разлитую на полу во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качаться на трубах парового (водяного) отоп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случае любых происшествий и травм необходимо сообщить об э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Медицинский кабинет находится на ___ этаже. Медицинские апте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дятся в кабинетах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и, физики, биологии, информатики, труд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учения, начальных классов и в спортивном зале, в кабинетах директор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заместителей директора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пожара, короткого замыкания в электросе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сорения канализации или подозрений на них необходимо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 или администратору. При пожаре звонить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 вызов милици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ызов скорой помощ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Телефон находи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чрезвычайной ситуации все сотрудник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еся школы должны быть немедленно эвакуированы. Сигнал трев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ается продолжительной серией коротких звонков. Учащиеся поки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ещение класса и организованно выходят из школы вместе с учителем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ответствии с планом эвакуации.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 эвакуации класс должен иметь 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бе комплект ватно-марлевых повязок, бутыль с водой и два сигн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лажка для перехода улицы. Переход перекрестка осуществляется только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7596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 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явлении в школе посторонних лиц, ведущих себя подозрительно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грессивно, необходимо немедленно сообщить об этом охране или ближайш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допускается нахождение в школе бродячих собак и ко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урить в помещениях школы, бросать зажженные спичк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сорные урны, засорять канализацию посторонними предметами, 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ми водопроводные к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Находясь в школьной столовой (буфете), необходимо соблюдать 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гиены, не оставлять продуктов питания на столах, не сорить на пол. Во врем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ды вести себя спокойно, не размахивать столовыми приборами, не крича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вуя в проведении санитарных часов, необходимо соблюдать 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; при мытье окон запрещается высовываться их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е не допускается применение психического и физического насил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и учащихся, все споры должны разрешаться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ченики школы должны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жарная 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стар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едите, чтобы со спичками не играли маленькие дети, убирайте их в недоступные для малышей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нагревайте незнакомые предметы, упаковки из-под порошков и красок, особенно аэрозольные упак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оставляйте электронагревательные приборы без присмотра. Запрещайте малышам самостоятельно включать в сеть электроприб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мните, что опасна не только бочка с бензином, но и пустая емкость из-под него или другой легковоспламеняющейся  жидкости, и зажженная спичка может привести к ожогам и травм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разжигайте огонь  с помощью легковоспламеняющихся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поджигайте сами и позволяйте младшим поджигать тополиный пух или сухую траву. Не оставляйте незатушенных кос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 обнаружении пожара сообщите взрослым и вызовите пожарную команду по телефону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PLODE"/>
          <p:cNvPicPr/>
          <p:nvPr/>
        </p:nvPicPr>
        <p:blipFill>
          <a:blip r:embed="rId1"/>
          <a:stretch/>
        </p:blipFill>
        <p:spPr>
          <a:xfrm>
            <a:off x="0" y="0"/>
            <a:ext cx="363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Электро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ля обучающихся  (воспитанников) 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укоснительно соблюдайте порядок включения  электроприборов в сет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нур сначала подключайте к прибору, а затем к сети. Отключение – в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ходя из помещения обязательно выключайте электроприбо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вставляйте вилку в штепсельную розетку мокрыми ру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выключении электроприборов не тяните электропровод рукам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жет случиться короткое замык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одходите к оголенному или провисшему (лежащем на земл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оду и не дотрагивайтесь до него – может ударить то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ользуйтесь утюгом, чайником, плиткой без специальной подста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икасайтесь к нагреваемой воде и сосуду (если он металлически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ключенном в сеть нагреват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отирайте включенные электроприборы влажной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льзя гасить загоревшиеся электроприборы водой. В случа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горания электроприбора немедленно отключить его от сети и накры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тной тканью. Если вы не можете погасить вспышку пожара, вызывайте по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жарную служ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ытайтесь проникнуть в распределительные устрой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форматорные подстанции, силовые щитки – это грозит смертью!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DEA"/>
          <p:cNvPicPr/>
          <p:nvPr/>
        </p:nvPicPr>
        <p:blipFill>
          <a:blip r:embed="rId1"/>
          <a:stretch/>
        </p:blipFill>
        <p:spPr>
          <a:xfrm>
            <a:off x="0" y="0"/>
            <a:ext cx="1619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6:25:48Z</dcterms:created>
  <dc:creator>Name</dc:creator>
  <dc:description/>
  <dc:language>en-US</dc:language>
  <cp:lastModifiedBy>дмитрий</cp:lastModifiedBy>
  <dcterms:modified xsi:type="dcterms:W3CDTF">2018-12-06T19:24:55Z</dcterms:modified>
  <cp:revision>35</cp:revision>
  <dc:subject/>
  <dc:title>Методические рекомендации по проведению инструктажа по охране труда для учащихся образовательного учреждения оздоровительного лагеря при проведении внеклассных, внешкольных мероприятий</dc:title>
</cp:coreProperties>
</file>