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106-C061-4816-B5C3-1CC5FCA9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161-C146-4F03-A39D-E260D947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7AA-2DDE-42B0-81A7-ECA9E35E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2BF-3819-4E51-8294-EBB5D119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CB1B-3344-4950-8C98-0F791AB1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5A52-CE4A-4655-9852-3B1E3956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71A7-3840-4857-AB62-81F00688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2E61-3091-4C9E-95F3-F210690C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9B5B-2E41-42E4-9869-20D47CD4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AFB7-7B06-4B2D-AE12-E776EBCC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859-301F-4DE7-884F-A32C017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4DF-5E62-4E9F-8ED4-1959CDC6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8DB5-F0A4-40F8-9357-A0F3D121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2F57-C561-4124-B6F7-6A31C27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0612-3428-4CBA-A44E-286FC66C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827E-5FE2-41A6-9B2B-70FC8C6C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2BF0-9E0F-475B-BFCF-B75D003F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812-8579-4722-8670-6735C8C9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F2E-34B0-462C-9FF2-A848FDA3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8B2-4137-4440-A393-B8FBF7D9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96E-ACDC-4FEB-82FB-6419A54F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8C9-8488-419A-8939-6E10C433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B7E-C547-452D-83CF-EB6816A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737-5CB4-47A3-BD0A-83E437F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6ff"/>
            </a:gs>
            <a:gs pos="100000">
              <a:srgbClr val="c5d9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A3DC-46FA-49AE-927D-527A58AE14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6ff"/>
            </a:gs>
            <a:gs pos="100000">
              <a:srgbClr val="c5d9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1E7-4FC6-4E7B-B1D5-445DE147E7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5d9ed"/>
            </a:gs>
            <a:gs pos="100000">
              <a:srgbClr val="535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2d2dff"/>
                </a:solidFill>
                <a:uFillTx/>
                <a:latin typeface="Times New Roman"/>
              </a:rPr>
              <a:t>Почв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жимы поч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д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всех явлений и процессов, определяющих поступление, передвижение, расход и использование растениями почвенной влаги; важный фактор почвенного плодород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плов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теплового состояния почвы в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здуш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 и состав воздуха почвы за определённое время (сутки, сезон, год); важный фактор почвенного плодород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6" descr="j0201746"/>
          <p:cNvPicPr/>
          <p:nvPr/>
        </p:nvPicPr>
        <p:blipFill>
          <a:blip r:embed="rId1"/>
          <a:stretch/>
        </p:blipFill>
        <p:spPr>
          <a:xfrm>
            <a:off x="533520" y="3657600"/>
            <a:ext cx="358128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j0316898"/>
          <p:cNvPicPr/>
          <p:nvPr/>
        </p:nvPicPr>
        <p:blipFill>
          <a:blip r:embed="rId2"/>
          <a:stretch/>
        </p:blipFill>
        <p:spPr>
          <a:xfrm>
            <a:off x="5486400" y="4267080"/>
            <a:ext cx="3200400" cy="230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j0293826"/>
          <p:cNvPicPr/>
          <p:nvPr/>
        </p:nvPicPr>
        <p:blipFill>
          <a:blip r:embed="rId3"/>
          <a:stretch/>
        </p:blipFill>
        <p:spPr>
          <a:xfrm>
            <a:off x="3962520" y="3581280"/>
            <a:ext cx="183996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Значение почвы для жизни и деятельности челов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d2dff"/>
                </a:solidFill>
                <a:uFillTx/>
                <a:latin typeface="Times New Roman"/>
              </a:rPr>
              <a:t>Поч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лавный источник сельскохозяйственных продуктов – 88%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ищи человечество получает в виде урожаев с обработанной зем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чва играет большую экологическую роль в жизн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2d2dff"/>
                </a:solidFill>
                <a:uFillTx/>
                <a:latin typeface="Times New Roman"/>
              </a:rPr>
              <a:t>Биосфе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ерез почвенный покров суши идут сложнейшие процесс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бмена веществом и энергией между земной кор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тмосферой, гидросферой и живущими в почве организмами.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85800" y="3886200"/>
            <a:ext cx="7772400" cy="1295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т чего нужно охранять поч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 относится к легкоразрушаемым и практически невосполнимым видам природны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стественный враг почвы – это водная и ветровая эро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2438280"/>
            <a:ext cx="7848720" cy="838440"/>
          </a:xfrm>
          <a:prstGeom prst="rect">
            <a:avLst/>
          </a:prstGeom>
          <a:solidFill>
            <a:srgbClr val="c5d9ed"/>
          </a:solidFill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ы развития эрозии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62120" y="3657600"/>
            <a:ext cx="3352680" cy="838080"/>
          </a:xfrm>
          <a:prstGeom prst="rect">
            <a:avLst/>
          </a:prstGeom>
          <a:solidFill>
            <a:srgbClr val="c5d9ed"/>
          </a:solidFill>
          <a:ln cap="rnd" w="34920">
            <a:solidFill>
              <a:srgbClr val="0000b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чтожение древе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62120" y="5867280"/>
            <a:ext cx="3352680" cy="76212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су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ивоэрози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гротех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5410080" y="3657600"/>
            <a:ext cx="2971800" cy="76212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ашка площа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91320" y="4952880"/>
            <a:ext cx="2590560" cy="53352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шиб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мещении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5181480" y="5943600"/>
            <a:ext cx="3353040" cy="68580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остатки в хозяй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и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62120" y="4952880"/>
            <a:ext cx="2590560" cy="53352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гулируе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ас ск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21337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6781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373392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556272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2209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68580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b8"/>
                </a:solidFill>
                <a:uFillTx/>
                <a:latin typeface="Times New Roman"/>
              </a:rPr>
              <a:t>Мелио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b8"/>
                </a:solidFill>
                <a:uFillTx/>
                <a:latin typeface="Times New Roman"/>
              </a:rPr>
              <a:t>Основные виды сельскохозяйственных мелио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09480" y="11430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352680" y="11430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рьба с эроз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10666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у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819520" y="1981080"/>
            <a:ext cx="3581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имическая мелио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981080" y="1219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2285640" y="762120"/>
            <a:ext cx="152388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486400" y="762120"/>
            <a:ext cx="190512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4495680" y="7621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4495680" y="1600200"/>
            <a:ext cx="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 rot="9662400">
            <a:off x="6780960" y="1980720"/>
            <a:ext cx="1143000" cy="144792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 rot="11389800">
            <a:off x="1143000" y="1980720"/>
            <a:ext cx="1371600" cy="16002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5d9ed"/>
            </a:gs>
            <a:gs pos="100000">
              <a:srgbClr val="292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ченица 8 класса «Б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арламова Анаста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b8"/>
                </a:solidFill>
                <a:uFillTx/>
                <a:latin typeface="Times New Roman"/>
              </a:rPr>
              <a:t>Поч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слой вещества, лежащий поверх горных п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ной коры, особое природное образование, игр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важную роль в наземных экосистемах. Почва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ующим звеном между биотическим и абиотиче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кторами биогеоценоза. Изучением почв заним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8"/>
                </a:solidFill>
                <a:latin typeface="Times New Roman"/>
              </a:rPr>
              <a:t>почвоведение</a:t>
            </a:r>
            <a:r>
              <a:rPr b="0" lang="ru-RU" sz="2400" spc="-1" strike="noStrike">
                <a:solidFill>
                  <a:srgbClr val="0000b8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нователем которого является </a:t>
            </a:r>
            <a:r>
              <a:rPr b="1" i="1" lang="ru-RU" sz="2400" spc="-1" strike="noStrike" u="sng">
                <a:solidFill>
                  <a:srgbClr val="0000b8"/>
                </a:solidFill>
                <a:uFillTx/>
                <a:latin typeface="Times New Roman"/>
              </a:rPr>
              <a:t>Васи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b8"/>
                </a:solidFill>
                <a:uFillTx/>
                <a:latin typeface="Times New Roman"/>
              </a:rPr>
              <a:t>Докуч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состав почвы входят четыре важнейших компонен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инеральная основа (50–60 % от общего объёма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ганическое вещество (до 10 %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здух (15–25 %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да (25–35 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72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5"/>
          <p:cNvSpPr/>
          <p:nvPr/>
        </p:nvSpPr>
        <p:spPr>
          <a:xfrm>
            <a:off x="68580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того, на какой горной породе образовались почв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ни могу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85800" y="1447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линист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666880" y="1600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глинист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191120" y="1600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сча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6095880" y="1371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песча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4114800" y="12952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5029200" y="12952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H="1">
            <a:off x="2057400" y="1219320"/>
            <a:ext cx="182880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5410080" y="1219320"/>
            <a:ext cx="167652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4800600" y="2209680"/>
            <a:ext cx="3657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разуются лёгкие, т.е. ле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мываемые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990720" y="220968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разуются тяжёл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лохо промываем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болачиваем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соляемые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1676520" y="1905120"/>
            <a:ext cx="60948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 flipH="1">
            <a:off x="2743200" y="2057400"/>
            <a:ext cx="53352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5334120" y="1981080"/>
            <a:ext cx="60948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6629400" y="1905120"/>
            <a:ext cx="83808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1" descr="12010301"/>
          <p:cNvPicPr/>
          <p:nvPr/>
        </p:nvPicPr>
        <p:blipFill>
          <a:blip r:embed="rId1"/>
          <a:stretch/>
        </p:blipFill>
        <p:spPr>
          <a:xfrm>
            <a:off x="2590920" y="3505320"/>
            <a:ext cx="4190760" cy="30844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2"/>
          <p:cNvSpPr/>
          <p:nvPr/>
        </p:nvSpPr>
        <p:spPr>
          <a:xfrm>
            <a:off x="457200" y="3048120"/>
            <a:ext cx="1066680" cy="190476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3"/>
          <p:cNvSpPr/>
          <p:nvPr/>
        </p:nvSpPr>
        <p:spPr>
          <a:xfrm>
            <a:off x="7848720" y="2895480"/>
            <a:ext cx="990360" cy="2057400"/>
          </a:xfrm>
          <a:custGeom>
            <a:avLst/>
            <a:gdLst>
              <a:gd name="textAreaLeft" fmla="*/ 132480 w 990360"/>
              <a:gd name="textAreaRight" fmla="*/ 857880 w 9903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В своей классической работе о почвах России в </a:t>
            </a:r>
            <a:r>
              <a:rPr b="0" i="1" lang="ru-RU" sz="2200" spc="-1" strike="noStrike">
                <a:solidFill>
                  <a:srgbClr val="0000b8"/>
                </a:solidFill>
                <a:latin typeface="Times New Roman"/>
              </a:rPr>
              <a:t>1870 г. В. 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b8"/>
                </a:solidFill>
                <a:latin typeface="Times New Roman"/>
              </a:rPr>
              <a:t>Докучаев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определил главные почвообразующие факторы, 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именн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има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еологические условия (материнскую породу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опографию (рельеф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живые организм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ремя.</a:t>
            </a:r>
            <a:br>
              <a:rPr sz="2100"/>
            </a:b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4" descr="j0232735"/>
          <p:cNvPicPr/>
          <p:nvPr/>
        </p:nvPicPr>
        <p:blipFill>
          <a:blip r:embed="rId1"/>
          <a:stretch/>
        </p:blipFill>
        <p:spPr>
          <a:xfrm>
            <a:off x="6705720" y="1828800"/>
            <a:ext cx="1554120" cy="186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j0293828"/>
          <p:cNvPicPr/>
          <p:nvPr/>
        </p:nvPicPr>
        <p:blipFill>
          <a:blip r:embed="rId2"/>
          <a:stretch/>
        </p:blipFill>
        <p:spPr>
          <a:xfrm>
            <a:off x="4343400" y="266688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j0215215"/>
          <p:cNvPicPr/>
          <p:nvPr/>
        </p:nvPicPr>
        <p:blipFill>
          <a:blip r:embed="rId3"/>
          <a:stretch/>
        </p:blipFill>
        <p:spPr>
          <a:xfrm>
            <a:off x="6477120" y="4191120"/>
            <a:ext cx="1869840" cy="209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0" descr="12010303"/>
          <p:cNvPicPr/>
          <p:nvPr/>
        </p:nvPicPr>
        <p:blipFill>
          <a:blip r:embed="rId4"/>
          <a:stretch/>
        </p:blipFill>
        <p:spPr>
          <a:xfrm>
            <a:off x="457200" y="3581280"/>
            <a:ext cx="342900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b8"/>
                </a:solidFill>
                <a:latin typeface="Times New Roman"/>
              </a:rPr>
              <a:t>Свойства 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ородие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особность обеспечить растения необходимым набором и количеством питательных веществ, водой, воздухом, является одним из основных свойств почв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ханический состав почв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уктура: рыхлая, зернистая и комковат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очвенная толща неоднородна. В процессе образования почв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формируются почвенные горизонты, которые в свою очеред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бразуют почвенный профиль – вертикальный разрез почвы о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амой поверхности до материнской пор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http://www.college.ru/biology/course/content/chapter12/section1/paragraph3/images/12010302.png"/>
          <p:cNvPicPr/>
          <p:nvPr/>
        </p:nvPicPr>
        <p:blipFill>
          <a:blip r:embed="rId1"/>
          <a:stretch/>
        </p:blipFill>
        <p:spPr>
          <a:xfrm>
            <a:off x="3733920" y="4724280"/>
            <a:ext cx="1981080" cy="19051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533520" y="4267080"/>
            <a:ext cx="1143000" cy="152424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7391520" y="4343400"/>
            <a:ext cx="1371600" cy="152388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69640 h 1523880"/>
              <a:gd name="textAreaBottom" fmla="*/ 10900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44" stAng="-5400000" swAng="5400000"/>
                <a:lnTo>
                  <a:pt x="21600" y="11628"/>
                </a:lnTo>
                <a:arcTo wR="21600" hR="7644" stAng="0" swAng="2701630"/>
                <a:lnTo>
                  <a:pt x="7200" y="21163"/>
                </a:lnTo>
                <a:lnTo>
                  <a:pt x="0" y="17280"/>
                </a:lnTo>
                <a:lnTo>
                  <a:pt x="7200" y="12523"/>
                </a:lnTo>
                <a:lnTo>
                  <a:pt x="7200" y="14851"/>
                </a:lnTo>
                <a:arcTo wR="21600" hR="7644" stAng="2701630" swAng="-2374241"/>
                <a:lnTo>
                  <a:pt x="20854" y="9636"/>
                </a:lnTo>
                <a:arcTo wR="21600" hR="7644" stAng="-327390" swAng="-5072610"/>
                <a:close/>
              </a:path>
              <a:path fill="darkenLess" w="21600" h="21600">
                <a:moveTo>
                  <a:pt x="0" y="0"/>
                </a:moveTo>
                <a:arcTo wR="21600" hR="7644" stAng="-5400000" swAng="5400000"/>
                <a:lnTo>
                  <a:pt x="21600" y="11628"/>
                </a:lnTo>
                <a:arcTo wR="21600" hR="7644" stAng="0" swAng="-327390"/>
                <a:lnTo>
                  <a:pt x="20854" y="9636"/>
                </a:lnTo>
                <a:arcTo wR="21600" hR="7644" stAng="-327390" swAng="-5072610"/>
                <a:close/>
              </a:path>
            </a:pathLst>
          </a:custGeom>
          <a:solidFill>
            <a:srgbClr val="2d2d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0" y="0"/>
            <a:ext cx="9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http://www.college.ru/biology/course/content/chapter12/section1/paragraph3/images/12010302.png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9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447984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16"/>
          <p:cNvSpPr/>
          <p:nvPr/>
        </p:nvSpPr>
        <p:spPr>
          <a:xfrm>
            <a:off x="1447920" y="594252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ипичный почвенный профи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b8"/>
                </a:solidFill>
                <a:latin typeface="Times New Roman"/>
              </a:rPr>
              <a:t>Главные типы поч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временный почвенный покров – результат длительного и сложного развития природы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условий почвообразования в нашей стране различают следующие типы поч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рктическ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ундрово-глеев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золист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рново-подзолист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ерые лесн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ернозём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ёмно каштанов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штанов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ветло-каштанов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217965063"/>
          <p:cNvPicPr/>
          <p:nvPr/>
        </p:nvPicPr>
        <p:blipFill>
          <a:blip r:embed="rId1"/>
          <a:stretch/>
        </p:blipFill>
        <p:spPr>
          <a:xfrm>
            <a:off x="4419720" y="2514600"/>
            <a:ext cx="4267080" cy="29718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3200400" y="5943600"/>
            <a:ext cx="2819520" cy="6858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583895"/>
                <a:lnTo>
                  <a:pt x="21120" y="7575"/>
                </a:lnTo>
                <a:lnTo>
                  <a:pt x="17280" y="0"/>
                </a:lnTo>
                <a:lnTo>
                  <a:pt x="12480" y="7575"/>
                </a:lnTo>
                <a:lnTo>
                  <a:pt x="14640" y="7575"/>
                </a:lnTo>
                <a:arcTo wR="7560" hR="21600" stAng="2816105" swAng="222646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240" y="5562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Тундрово-глеев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Торфяно-болотн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Подзолист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Дерново-подзолистая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Болотно-подзолист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Серая лесн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Чернозём типичный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Лугово чернозёмн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Каштанов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Бурая пустынно-степн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Солонец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Солончак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Серозё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Желтозём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Краснозём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Аллювиально-дерно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217965063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51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5d9ed"/>
            </a:gs>
            <a:gs pos="100000">
              <a:srgbClr val="535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886200" y="4572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горья Западного Кавказ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альневосточное при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762120" y="5867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ёжно-мерзлотные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572000" y="13716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ро-жёлтые и красноземные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22096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64008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j0149038"/>
          <p:cNvPicPr/>
          <p:nvPr/>
        </p:nvPicPr>
        <p:blipFill>
          <a:blip r:embed="rId1"/>
          <a:stretch/>
        </p:blipFill>
        <p:spPr>
          <a:xfrm>
            <a:off x="533520" y="457200"/>
            <a:ext cx="2971800" cy="19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j0282924"/>
          <p:cNvPicPr/>
          <p:nvPr/>
        </p:nvPicPr>
        <p:blipFill>
          <a:blip r:embed="rId2"/>
          <a:stretch/>
        </p:blipFill>
        <p:spPr>
          <a:xfrm>
            <a:off x="3962520" y="2133720"/>
            <a:ext cx="44193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j0262526"/>
          <p:cNvPicPr/>
          <p:nvPr/>
        </p:nvPicPr>
        <p:blipFill>
          <a:blip r:embed="rId3"/>
          <a:stretch/>
        </p:blipFill>
        <p:spPr>
          <a:xfrm>
            <a:off x="380880" y="2666880"/>
            <a:ext cx="3124440" cy="2082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j0178527"/>
          <p:cNvPicPr/>
          <p:nvPr/>
        </p:nvPicPr>
        <p:blipFill>
          <a:blip r:embed="rId4"/>
          <a:stretch/>
        </p:blipFill>
        <p:spPr>
          <a:xfrm>
            <a:off x="4572000" y="40384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4"/>
          <p:cNvSpPr/>
          <p:nvPr/>
        </p:nvSpPr>
        <p:spPr>
          <a:xfrm>
            <a:off x="304920" y="4572000"/>
            <a:ext cx="3962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айг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сточная Сиби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18-12-06T17:58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