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F24-F9B0-4943-AB3A-959D5E74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488-6F3A-4F60-98B5-5B88878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561-3F2C-4A68-A8BB-95947172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6F5-B9FD-45F3-B26D-BC320251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216-3470-402C-B9C8-223E58B2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A09C-C3DD-458C-9EE6-DE59F3F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AECE-6E86-4316-9321-6668243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0909-4EF8-497D-94E0-98B8759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8B32-7092-4102-B084-9F56462D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C19-CA74-45A0-BB5B-61436DA4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F73-94C6-45D7-AAE6-947D835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4E6-786E-4553-A3AD-B277B35F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F132-F2DA-49F1-91CB-05F5801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F6B1-4AF7-4582-9963-C06FF7F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0ED-CF33-4BAC-9511-F0DBD9E5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3132-AE30-44EC-B047-CBFA84D1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548-F21C-488E-9AA5-A80CECA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12EB0-75B4-44BF-B796-674E7ED4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4CEA6-FF40-49EC-B594-BC10AA4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BA79F-D005-47DB-ACE7-30BE78A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A6A14-6C10-4AE0-A50D-D1F1B0D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E11DE-9254-4948-A95C-E05CF1F0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5FA-1754-486C-8F61-30F759F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FEB20-1809-4672-8AA9-B752066C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51EF5-517A-4B81-9888-4BDC52B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641BC-D4DC-42EF-A060-8428ACF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AEC0A-4EA0-4D1A-ADA1-CCB82EB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ED2E7-C557-426D-8111-BF59271D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2FEA8-C0CE-4ACF-B785-86C38028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EF819-42B7-4242-9C32-EEE4B139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67B5-E589-4285-90C7-A177ECF9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1006-1F0F-4722-856C-4618004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746D-7DE5-4BAC-A0B2-5AC9723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1C9-4519-4725-815B-4BC19BF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20AC-F4DD-450C-95C7-F683A3F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8DEC-596A-4E09-AD0F-0DCA68D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63D7-3C74-4EED-84D3-FF77E4FC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2967-174D-46FF-94A9-2BE8ED3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CB34-1EC3-4653-81D1-AF4BA10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C8C3-B065-4BE2-B599-83F3985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13E7-3EBF-42D9-B218-3F160A0A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899B-5697-4CCE-8874-AEBA809C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8E4B-09F6-4A52-8021-2EB1B42C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269A1-C50D-4D89-A0CB-2D8DC649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9B4-CD68-4A7C-9B2D-B8C339D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75A06-0F5F-4897-BB35-7C3685C8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8ED72-B20C-45B1-B100-88A97E5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3645F-0F91-4A34-BA4A-5097BE8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1432D-7DEB-46D0-BDB0-A9CD0706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DFD86-8232-44EF-AD3A-1692FE4A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6816A-52B0-4917-83B7-DB5B553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F480F-3365-494B-AADD-C56949E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D6E28-DD9E-4B72-894A-4C4086E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41E1D-7B7C-4217-87D6-3BC2FC2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B8DFF-B61E-4EA5-9205-54FD9517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B33-CD9A-4076-AD62-5865DB65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540D8-8DAF-448D-957E-BC8D85BD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EED85-AC3E-4E3C-B3E4-3FD135B3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4F424-1CBE-449A-8A5B-2F41F947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DD0F2-B0CA-4181-BB4B-9338590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588CE-341B-409E-9CDC-D63FE1C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14ED7-103F-4124-A1ED-34095C8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85E43-1BEE-4610-9E05-BC68057C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7AC5C-9628-4EDF-9B91-7EC58D2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1F950-7648-4D75-BB81-5257886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51EE6-C271-46D3-ABA0-E9F5798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5FE-F031-41FB-9942-A1D5752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C56D5-708C-4BAF-8AF0-ED79842F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08CE3-4187-4E85-837E-CA40AE9E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9EC26-6824-44A0-9302-9011429E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F990B-FE04-4A91-B859-4528115E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4220F-AA96-473E-9410-336DD4A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539BC-7736-4189-ACCF-ADF34B42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A5B03-DD4F-4D2C-B318-53EC0CCB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CA2CE-608C-4004-ACF7-8BF4700A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B0515-53C6-4A71-BB89-8F52023A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16B0A-A2A1-4E7A-AA7E-7F789A7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B9A-A380-46CD-9EB7-25B1021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DB02A-5B84-4713-9516-B76293FE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047C3-5A45-4774-B9CD-6A99902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8FDCE-147C-4D0E-B0A5-91D36AD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161F1-4592-4AFB-9444-136C618B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84A21-B6F0-4B2E-A240-C5853127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E34-7AC7-46A8-A9C2-1ED0EB3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B3A-D3D4-4BCE-AB3E-F246DF9C4D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D7B7-24DC-4ED1-9440-2882E602EC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801E-F798-425D-AF28-D55FE265FF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C071-884E-45E6-BE29-099417A6EF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C50-1723-4498-BF90-E29F966659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0EC-CB67-4CCE-8C1E-6EC4BCAF83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6BF8-ACA4-44AC-9B6A-E74925BDA1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rodalit.ru/images/435000/43117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rodalit.ru/images/435000/43117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7120" y="2285640"/>
            <a:ext cx="6786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214200"/>
            <a:ext cx="1155600" cy="1784520"/>
          </a:xfrm>
          <a:prstGeom prst="rect">
            <a:avLst/>
          </a:prstGeom>
          <a:ln w="0">
            <a:noFill/>
          </a:ln>
        </p:spPr>
      </p:pic>
      <p:sp>
        <p:nvSpPr>
          <p:cNvPr id="354" name="Содержимое 2"/>
          <p:cNvSpPr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й подход в обучении технолог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1247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</a:t>
            </a:r>
            <a:r>
              <a:rPr b="1" lang="ru-RU" sz="3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Х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ВЕРСАЛЬНЫХ УЧЕБНЫХ ДЕЙСТВИ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олагать, какая информация нуж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бирать необходимые словари, энциклопедии, справочники, электронные ресурсы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лять и отбирать информацию, полученную из различных источников (словари, энциклопедии, справочники, интернет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09800" y="691920"/>
            <a:ext cx="7124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формирует метапредметные 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ммуникативны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мен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643880" y="35712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ФОРМИРОВАНИЕ МЕТАПРЕДМЕТНЫХ </a:t>
            </a:r>
            <a:r>
              <a:rPr b="1" lang="ru-RU" sz="3000" spc="-1" strike="noStrike" u="sng">
                <a:solidFill>
                  <a:srgbClr val="002060"/>
                </a:solidFill>
                <a:uFillTx/>
                <a:latin typeface="Century Schoolbook"/>
              </a:rPr>
              <a:t>КОММУНИКАТИВНЫХ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 УМЕНИ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71280" y="17730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ести дискуссию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шать и слышать собеседника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таивать свою точку зрения;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ПРОЕКТ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8760" y="1856880"/>
            <a:ext cx="7634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Выбор темы, определение типа проек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Подготовка учащихся к работе над проект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Выполнение проек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Презентация проект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Подведение итогов проектной работы. 6.Итоговая рефлекс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86800" y="0"/>
            <a:ext cx="115704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71320" y="691920"/>
            <a:ext cx="756252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ая деятельность позволяет школьникам перейти от усвоения готовых знаний к их осознанному приобретению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4"/>
          <p:cNvSpPr/>
          <p:nvPr/>
        </p:nvSpPr>
        <p:spPr>
          <a:xfrm>
            <a:off x="1071720" y="1643040"/>
            <a:ext cx="5786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760" y="285480"/>
            <a:ext cx="69292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Сегодня понятие «метапредмет» и «метапредметное обучение» приобретают особую популярность. Это вполне объяснимо, ведь метапредметный подход заложен в основу новых стандартов. В примерной программе по предмету цели и образовательные результаты представлены на нескольких уровнях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личностном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-метапредметном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-предметном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При таком подходе у учащихся формируется подход к изучаемому предмету как к системе знаний о мире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0"/>
            <a:ext cx="14432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ЦЕЛИ МЕТАПРЕДМЕТНОГО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56760" y="1571400"/>
            <a:ext cx="7286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Обучение переносу теоретических знаний по предметам в практическую жизнедеятельность учащегос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Активное применение знаний и умений в познавательной и предметно-практической деятельности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Подготовка учащихся к реальной жизни и формирование способности решать личностно – значимые проблем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285840"/>
            <a:ext cx="135756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 А. Г. АСМОЛОВ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85480" y="2357280"/>
            <a:ext cx="7072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е результаты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ют </a:t>
            </a:r>
            <a:r>
              <a:rPr b="1" i="1" lang="ru-RU" sz="30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освоенные обучающимися универсальные учебные действия (УУД)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знавательные, регулятивные и коммуникативные), обеспечивающие овладение ключевыми компетенциями, составляющими основу умения учитьс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85840"/>
            <a:ext cx="1681200" cy="259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ОСТНЫЕ УУД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тивные УУД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йствия, с помощью, которых обучающиеся организуют учебную деятельнос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УУД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йствия, с помощью, которых обучающиеся осуществляют процесс позна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ые УУ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действия, с помощью, которых обучающиеся налаживают для решения учебных задач общение с разными людь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Картинка 1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28584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32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ая деятельность как средство формирования метапредметных умений и навыков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1143000" y="135720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 дополняет в образовательном процессе классно-урочную деятельность и позволяет работать над получением личностных и метапредметных результатов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Картинка 1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28584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Е РЕГУЛЯТИВНЫХ МЕТАПРЕДМЕТНЫХ РЕЗУЛЬТАТОВ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целей деятельности, составление плана действий по достижению результата творческого характер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составленному плану с сопоставлением получающегося результата с исходным замысло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причин, возникающих затруднений и поиск способов выхода из ситу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009800" y="1857240"/>
            <a:ext cx="7124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позволяет осваивать </a:t>
            </a:r>
            <a:r>
              <a:rPr b="1" lang="ru-RU" sz="3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е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64388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мой</cp:lastModifiedBy>
  <dcterms:modified xsi:type="dcterms:W3CDTF">2018-10-30T02:31:03Z</dcterms:modified>
  <cp:revision>98</cp:revision>
  <dc:subject/>
  <dc:title>Метапредметный подход в образовании</dc:title>
</cp:coreProperties>
</file>