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BDD-30B2-4B52-9C32-AE31FB2C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5F8-BF42-45E8-AB5E-0B6617F7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0C8-2C87-4C11-9565-BD970D2F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745-53E3-4ACE-933D-A0E50674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459F-D03D-4FEF-B972-6B1B978C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BD7E-B31D-4DBC-8C76-BE231170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7A0F-52D3-445C-AA45-7ECEA0D2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AE33-4E67-432E-ABFC-A5168FEA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D0D5-27AC-4DAF-8F59-F00FB93B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EF85-3457-4EE9-8C13-9D76B2EA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2A72-9EF7-4BAD-9E97-61B9A5C4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A43-837A-4D05-910B-1C1729F8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7CF4-7F08-47E5-A2EA-FD5DDF09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E147-244D-4099-95BB-7AD60A3A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56E8-16D5-4704-B05A-F47B21DD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27BC-D7E8-417A-8A76-3DE66778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9E2B-0FEE-4C26-A9D8-607E3061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135D16-3875-4A9D-8478-B9BB8E2E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F62C0-3A5C-4BCC-B345-89C09A0F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8CACF-DECD-4398-A437-420CA1EA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BC393-0708-48E4-9F6F-EC164D7B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72E80-19FB-4359-B904-6172EF11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976-14D0-42E1-825F-46ACC83D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5B7A0-D47E-4494-A932-3AED1B1D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672A8-F204-4BDA-858D-147E5A6C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CC98F-7354-4312-A4B6-74097E0A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9BA7F-F235-4AAE-A708-A0EA6CBC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9B84C-9CE7-4600-8345-FAF78655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923BD-04CE-4C2E-BC4E-02C576B1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43444B-C963-4290-BCD6-E03285C7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DB942-8D6F-463B-BB58-5F34447A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04B9B-8606-4184-A35D-AFBC60A3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20B63-66C4-4299-BA1A-21D7B34E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D31-495E-4568-B034-23E54F54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B5B20-70E2-4B06-8928-77E2BEA2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9C94D-CF29-4369-9693-922BAB0C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F92AC-4160-45EA-BD63-2C21B4BE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0B659-CA7D-49A5-8E6C-0F6179FE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DFF0B-7197-46A9-A71D-E63C80BD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FAA41-E8C7-485E-A09E-FA169ECE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1B2CC-6926-4AD2-9DF1-69CAE471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17CB0-5FE1-46DF-B229-ADBC3D0F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605F4-2E59-4B9E-B1C1-EBFBF447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6AA20-F853-4F62-83B7-D7D47A69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23BA-E556-49BC-9471-8E3B729A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F06A0-4AED-4D63-A04C-2B60EC01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B9291-2EB4-417A-BC1C-7E4D05F4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CBD4F-39E7-49CF-903A-D95CD521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CA208-3D82-4038-8908-23DCE7AC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4E8346-12F5-4586-94A4-C5F19409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02292-5160-4910-894F-B6857507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B0714-304E-4AF9-8088-D53C9A3D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1B916-FCD8-40CA-9BF2-55EB48B0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37079-9538-4F4C-9009-5F193629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35EBE7-1673-4275-B510-DC34D294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663-00BB-4F4A-9B57-369E0093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F39B7-80FD-4AA3-A7BF-0BEAD4EB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53FBB2-5316-4653-A3CD-74CEE2FB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C5A9B-F07E-47DC-B03C-8E45962C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34EC01-CF40-47EF-A376-CFCEB051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D326D-B9BF-433A-8441-401E4677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213246-CCE9-45BB-B8BC-89D5D313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08B8D-29D7-4C41-824D-ECAEEBA2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945820-1640-455B-81C5-C1C06A21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5815A-EC99-4F77-93C7-21BE27E5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556D79-4BF0-4FD2-AD5E-259ED454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EBEE-707B-4E61-B594-273A87E0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C3B13D-9664-4E71-87A2-AF9D77B5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2B2CEF-521C-49CF-A2CC-9731DDA6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96EEC-1313-4981-AF18-D466804D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B8E6DA-A640-40DB-9DA3-080D7343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8BF6EC-BEA3-4871-BDBB-6351517F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4AEB9-A1EC-45A7-9405-D2C7EF6F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A46D81-C175-41BF-8DB8-561F5B9E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2FCD74-BB39-424C-8C51-4A0DB786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5DBD4F-8F64-487A-ACAA-B3CB288D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22A162-8029-480B-A94B-572FEBB7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FF0-F9B4-412B-916B-B42A8AA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D6B88C-79C9-4867-83C6-DF3F1C19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44D76A-1B88-46BA-8049-56C32ABD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999A86-E993-4C55-81F6-4BAFDDC6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C5396-B060-49E4-960D-DFE8E0B7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47F49A-2858-4201-A585-40736B6B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2D7B-DC19-428D-9CF7-17E90C67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0197-94B2-477B-A91B-0E9DF1B48FD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0566-D669-4107-AB14-364E7FF0C79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0B93-1194-4A57-BF6D-06AAEC2D99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844C-E97E-44FA-B57B-96608BE8857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AED5-C9F6-4AEF-8C85-518FE30D604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81C7-E754-4FFB-A315-59F17AC873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ED56-8660-4C1A-8058-5312DB39B2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rodalit.ru/images/435000/43117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rodalit.ru/images/435000/431176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rodalit.ru/images/435000/431176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dalit.ru/images/435000/431176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prodalit.ru/images/435000/431176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rodalit.ru/images/435000/431176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prodalit.ru/images/435000/431176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57120" y="2285640"/>
            <a:ext cx="6786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Картинка 1 из 1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43880" y="214200"/>
            <a:ext cx="1155600" cy="1784520"/>
          </a:xfrm>
          <a:prstGeom prst="rect">
            <a:avLst/>
          </a:prstGeom>
          <a:ln w="0">
            <a:noFill/>
          </a:ln>
        </p:spPr>
      </p:pic>
      <p:sp>
        <p:nvSpPr>
          <p:cNvPr id="354" name="Содержимое 2"/>
          <p:cNvSpPr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предметный подход в обучении технолог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712476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ВОЕНИЕ </a:t>
            </a:r>
            <a:r>
              <a:rPr b="1" lang="ru-RU" sz="3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ЗНАВАТЕЛЬНЫХ 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НИВЕРСАЛЬНЫХ УЧЕБНЫХ ДЕЙСТВИЙ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полагать, какая информация нужна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бирать необходимые словари, энциклопедии, справочники, электронные ресурсы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поставлять и отбирать информацию, полученную из различных источников (словари, энциклопедии, справочники, интернет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Картинка 1 из 196"/>
          <p:cNvPicPr/>
          <p:nvPr/>
        </p:nvPicPr>
        <p:blipFill>
          <a:blip r:embed="rId1"/>
          <a:stretch/>
        </p:blipFill>
        <p:spPr>
          <a:xfrm>
            <a:off x="7986600" y="0"/>
            <a:ext cx="1157400" cy="178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1009800" y="691920"/>
            <a:ext cx="712440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проектами формирует метапредметные 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оммуникативные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мени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Картинка 1 из 196"/>
          <p:cNvPicPr/>
          <p:nvPr/>
        </p:nvPicPr>
        <p:blipFill>
          <a:blip r:embed="rId1"/>
          <a:stretch/>
        </p:blipFill>
        <p:spPr>
          <a:xfrm>
            <a:off x="7643880" y="357120"/>
            <a:ext cx="1157400" cy="178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ФОРМИРОВАНИЕ МЕТАПРЕДМЕТНЫХ </a:t>
            </a:r>
            <a:r>
              <a:rPr b="1" lang="ru-RU" sz="3000" spc="-1" strike="noStrike" u="sng">
                <a:solidFill>
                  <a:srgbClr val="002060"/>
                </a:solidFill>
                <a:uFillTx/>
                <a:latin typeface="Century Schoolbook"/>
              </a:rPr>
              <a:t>КОММУНИКАТИВНЫХ</a:t>
            </a: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 УМЕНИЙ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71280" y="1773000"/>
            <a:ext cx="7124760" cy="40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ние вести дискуссию;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ушать и слышать собеседника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стаивать свою точку зрения;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Картинка 1 из 196"/>
          <p:cNvPicPr/>
          <p:nvPr/>
        </p:nvPicPr>
        <p:blipFill>
          <a:blip r:embed="rId1"/>
          <a:stretch/>
        </p:blipFill>
        <p:spPr>
          <a:xfrm>
            <a:off x="7986600" y="0"/>
            <a:ext cx="1157400" cy="178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ЭТАПЫ ПРОЕКТНОЙ ДЕЯТЕЛЬНОСТ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28760" y="1856880"/>
            <a:ext cx="76341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Выбор темы, определение типа проект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Подготовка учащихся к работе над проекто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Выполнение проект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Презентация проекто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Подведение итогов проектной работы. 6.Итоговая рефлекс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2" descr="Картинка 1 из 196"/>
          <p:cNvPicPr/>
          <p:nvPr/>
        </p:nvPicPr>
        <p:blipFill>
          <a:blip r:embed="rId1"/>
          <a:stretch/>
        </p:blipFill>
        <p:spPr>
          <a:xfrm>
            <a:off x="7786800" y="0"/>
            <a:ext cx="1157040" cy="178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Schoolbook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71320" y="691920"/>
            <a:ext cx="756252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ная деятельность позволяет школьникам перейти от усвоения готовых знаний к их осознанному приобретению.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2" descr="Картинка 1 из 196"/>
          <p:cNvPicPr/>
          <p:nvPr/>
        </p:nvPicPr>
        <p:blipFill>
          <a:blip r:embed="rId1"/>
          <a:stretch/>
        </p:blipFill>
        <p:spPr>
          <a:xfrm>
            <a:off x="7715160" y="214200"/>
            <a:ext cx="1157400" cy="178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5084640" y="4479840"/>
            <a:ext cx="287676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мание!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Прямоугольник 4"/>
          <p:cNvSpPr/>
          <p:nvPr/>
        </p:nvSpPr>
        <p:spPr>
          <a:xfrm>
            <a:off x="1071720" y="1643040"/>
            <a:ext cx="5786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8760" y="285480"/>
            <a:ext cx="69292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Сегодня понятие «метапредмет» и «метапредметное обучение» приобретают особую популярность. Это вполне объяснимо, ведь метапредметный подход заложен в основу новых стандартов. В примерной программе по предмету цели и образовательные результаты представлены на нескольких уровнях: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-</a:t>
            </a:r>
            <a:r>
              <a:rPr b="0" i="1" lang="ru-RU" sz="2600" spc="-1" strike="noStrike">
                <a:solidFill>
                  <a:srgbClr val="002060"/>
                </a:solidFill>
                <a:latin typeface="Century Schoolbook"/>
              </a:rPr>
              <a:t>личностном;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0" i="1" lang="ru-RU" sz="2600" spc="-1" strike="noStrike">
                <a:solidFill>
                  <a:srgbClr val="002060"/>
                </a:solidFill>
                <a:latin typeface="Century Schoolbook"/>
              </a:rPr>
              <a:t>-метапредметном;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0" i="1" lang="ru-RU" sz="2600" spc="-1" strike="noStrike">
                <a:solidFill>
                  <a:srgbClr val="002060"/>
                </a:solidFill>
                <a:latin typeface="Century Schoolbook"/>
              </a:rPr>
              <a:t>-предметном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0" lang="ru-RU" sz="2600" spc="-1" strike="noStrike">
                <a:solidFill>
                  <a:srgbClr val="002060"/>
                </a:solidFill>
                <a:latin typeface="Century Schoolbook"/>
              </a:rPr>
              <a:t>При таком подходе у учащихся формируется подход к изучаемому предмету как к системе знаний о мире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2" descr="Картинка 1 из 1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58040" y="0"/>
            <a:ext cx="1443240" cy="222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entury Schoolbook"/>
              </a:rPr>
              <a:t>ЦЕЛИ МЕТАПРЕДМЕТНОГО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56760" y="1571400"/>
            <a:ext cx="72867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- Обучение переносу теоретических знаний по предметам в практическую жизнедеятельность учащегося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- Активное применение знаний и умений в познавательной и предметно-практической деятельности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entury Schoolbook"/>
              </a:rPr>
              <a:t>- Подготовка учащихся к реальной жизни и формирование способности решать личностно – значимые проблемы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2" descr="Картинка 1 из 1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72240" y="285840"/>
            <a:ext cx="1357560" cy="2095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ПРЕДМЕТНЫЕ РЕЗУЛЬТАТЫ </a:t>
            </a:r>
            <a:br>
              <a:rPr sz="3000"/>
            </a:b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О А. Г. АСМОЛОВУ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85480" y="2357280"/>
            <a:ext cx="70722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апредметные результаты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ают </a:t>
            </a:r>
            <a:r>
              <a:rPr b="1" i="1" lang="ru-RU" sz="3000" spc="-1" strike="noStrike">
                <a:solidFill>
                  <a:srgbClr val="8a7007"/>
                </a:solidFill>
                <a:latin typeface="Times New Roman"/>
                <a:ea typeface="Times New Roman"/>
              </a:rPr>
              <a:t>освоенные обучающимися универсальные учебные действия (УУД)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ознавательные, регулятивные и коммуникативные), обеспечивающие овладение ключевыми компетенциями, составляющими основу умения учиться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2" descr="Картинка 1 из 1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72200" y="285840"/>
            <a:ext cx="1681200" cy="2595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5084640" y="4479840"/>
            <a:ext cx="2876760" cy="2000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ЧНОСТНЫЕ УУД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гулятивные УУД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действия, с помощью, которых обучающиеся организуют учебную деятельность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вательные УУД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действия, с помощью, которых обучающиеся осуществляют процесс познания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муникативные УУД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действия, с помощью, которых обучающиеся налаживают для решения учебных задач общение с разными людь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Картинка 1 из 1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2240" y="285840"/>
            <a:ext cx="1157400" cy="178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71320" y="12859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ная деятельность как средство формирования метапредметных умений и навыков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Картинка 1 из 1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5160" y="214200"/>
            <a:ext cx="1157400" cy="178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5084640" y="4479840"/>
            <a:ext cx="2876760" cy="200016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1143000" y="1357200"/>
            <a:ext cx="642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проектами  дополняет в образовательном процессе классно-урочную деятельность и позволяет работать над получением личностных и метапредметных результатов</a:t>
            </a: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Картинка 1 из 19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72240" y="285840"/>
            <a:ext cx="1157400" cy="178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Е РЕГУЛЯТИВНЫХ МЕТАПРЕДМЕТНЫХ РЕЗУЛЬТАТОВ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целей деятельности, составление плана действий по достижению результата творческого характера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по составленному плану с сопоставлением получающегося результата с исходным замыслом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нимание причин, возникающих затруднений и поиск способов выхода из ситуаци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Картинка 1 из 196"/>
          <p:cNvPicPr/>
          <p:nvPr/>
        </p:nvPicPr>
        <p:blipFill>
          <a:blip r:embed="rId1"/>
          <a:stretch/>
        </p:blipFill>
        <p:spPr>
          <a:xfrm>
            <a:off x="7715160" y="214200"/>
            <a:ext cx="1157400" cy="178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009800" y="1857240"/>
            <a:ext cx="71244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проектами позволяет осваивать </a:t>
            </a:r>
            <a:r>
              <a:rPr b="1" lang="ru-RU" sz="3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знавательные </a:t>
            </a:r>
            <a:r>
              <a:rPr b="1" lang="ru-RU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ниверсальные учебные действия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Картинка 1 из 196"/>
          <p:cNvPicPr/>
          <p:nvPr/>
        </p:nvPicPr>
        <p:blipFill>
          <a:blip r:embed="rId1"/>
          <a:stretch/>
        </p:blipFill>
        <p:spPr>
          <a:xfrm>
            <a:off x="7643880" y="0"/>
            <a:ext cx="1157400" cy="1787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3:07:41Z</dcterms:created>
  <dc:creator>Лилия</dc:creator>
  <dc:description/>
  <dc:language>en-US</dc:language>
  <cp:lastModifiedBy>мой</cp:lastModifiedBy>
  <dcterms:modified xsi:type="dcterms:W3CDTF">2018-10-30T02:31:03Z</dcterms:modified>
  <cp:revision>98</cp:revision>
  <dc:subject/>
  <dc:title>Метапредметный подход в образовании</dc:title>
</cp:coreProperties>
</file>