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3.gif" ContentType="image/gif"/>
  <Override PartName="/ppt/media/image4.wmf" ContentType="image/x-wmf"/>
  <Override PartName="/ppt/media/image14.jpeg" ContentType="image/jpeg"/>
  <Override PartName="/ppt/media/image16.wmf" ContentType="image/x-wmf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208-01" initials="2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5-12-19T15:55:06.79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AABC-7237-4AE8-AD1E-355414D2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12B5-962B-40E9-94E6-2D1090C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812F-02CC-45C5-82CF-661479EB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28B9-E4B4-441C-9B45-63DBD1F2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68D-EED1-403F-B1BA-240CAA5F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B120-5882-4532-A0A7-56713CE0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733-0682-4E16-B1B0-73D0D134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2CD5-6338-4374-811C-C61227F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5F3B-AE74-4CF1-B9EC-6CAAFEB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9DF4-7EDB-424F-B97D-E0AD3754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F8B-2889-4495-B878-FB2BE8B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D846-AD83-4504-92C8-BF7444A4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2888-9984-4A59-9F98-4450050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53D-F3CA-43EC-A8A2-3023D83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003-F7C1-4ED4-99B3-420FCE9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FF36-4E6B-448B-9D2A-C3779B14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890F-1736-4930-9E81-2CC23BF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4C83-712F-4183-870D-7346C25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6B80-8A6C-4791-8451-99913CDE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1F2F-FE1D-4BC9-BBBA-C101AF8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119E-A209-45A4-AB6F-173A69F6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A720-46CC-4FFD-852F-0E7677D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420A-38FF-4E72-8C2B-4A45788A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54E5-3C94-4D5E-BD11-ABFBC47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D0F-A207-4924-9459-AB7DC66B15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5D5-3B6C-478B-AA8F-DDAABAE62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11280" y="2349360"/>
            <a:ext cx="345780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755640" y="3357720"/>
            <a:ext cx="6553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встралия - страна наобор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140360" y="486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14" descr="avstralia"/>
          <p:cNvPicPr/>
          <p:nvPr/>
        </p:nvPicPr>
        <p:blipFill>
          <a:blip r:embed="rId1"/>
          <a:stretch/>
        </p:blipFill>
        <p:spPr>
          <a:xfrm>
            <a:off x="755640" y="4869000"/>
            <a:ext cx="2665440" cy="1657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836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3: « Гидр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otaustralia_header_pic"/>
          <p:cNvPicPr/>
          <p:nvPr/>
        </p:nvPicPr>
        <p:blipFill>
          <a:blip r:embed="rId1"/>
          <a:stretch/>
        </p:blipFill>
        <p:spPr>
          <a:xfrm>
            <a:off x="835200" y="2637000"/>
            <a:ext cx="6192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476360" y="9079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4: « Зоогеографы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6" descr="kangaroo_2"/>
          <p:cNvPicPr/>
          <p:nvPr/>
        </p:nvPicPr>
        <p:blipFill>
          <a:blip r:embed="rId1"/>
          <a:stretch/>
        </p:blipFill>
        <p:spPr>
          <a:xfrm>
            <a:off x="2865600" y="1828800"/>
            <a:ext cx="1850760" cy="138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emu"/>
          <p:cNvPicPr/>
          <p:nvPr/>
        </p:nvPicPr>
        <p:blipFill>
          <a:blip r:embed="rId2"/>
          <a:stretch/>
        </p:blipFill>
        <p:spPr>
          <a:xfrm>
            <a:off x="5783400" y="5364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koala_asleep"/>
          <p:cNvPicPr/>
          <p:nvPr/>
        </p:nvPicPr>
        <p:blipFill>
          <a:blip r:embed="rId3"/>
          <a:stretch/>
        </p:blipFill>
        <p:spPr>
          <a:xfrm>
            <a:off x="971640" y="5357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possum_1"/>
          <p:cNvPicPr/>
          <p:nvPr/>
        </p:nvPicPr>
        <p:blipFill>
          <a:blip r:embed="rId4"/>
          <a:stretch/>
        </p:blipFill>
        <p:spPr>
          <a:xfrm>
            <a:off x="5364000" y="1816200"/>
            <a:ext cx="133380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P1010022"/>
          <p:cNvPicPr/>
          <p:nvPr/>
        </p:nvPicPr>
        <p:blipFill>
          <a:blip r:embed="rId5"/>
          <a:stretch/>
        </p:blipFill>
        <p:spPr>
          <a:xfrm>
            <a:off x="32400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P1010029"/>
          <p:cNvPicPr/>
          <p:nvPr/>
        </p:nvPicPr>
        <p:blipFill>
          <a:blip r:embed="rId6"/>
          <a:stretch/>
        </p:blipFill>
        <p:spPr>
          <a:xfrm>
            <a:off x="6516720" y="3645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8a"/>
          <p:cNvPicPr/>
          <p:nvPr/>
        </p:nvPicPr>
        <p:blipFill>
          <a:blip r:embed="rId7"/>
          <a:stretch/>
        </p:blipFill>
        <p:spPr>
          <a:xfrm>
            <a:off x="3203640" y="4330800"/>
            <a:ext cx="1743120" cy="10951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295280" y="2664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5: « Эк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8" descr="j0215294"/>
          <p:cNvPicPr/>
          <p:nvPr/>
        </p:nvPicPr>
        <p:blipFill>
          <a:blip r:embed="rId1"/>
          <a:stretch/>
        </p:blipFill>
        <p:spPr>
          <a:xfrm>
            <a:off x="6559560" y="858960"/>
            <a:ext cx="1360440" cy="1865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304933"/>
          <p:cNvPicPr/>
          <p:nvPr/>
        </p:nvPicPr>
        <p:blipFill>
          <a:blip r:embed="rId2"/>
          <a:stretch/>
        </p:blipFill>
        <p:spPr>
          <a:xfrm>
            <a:off x="385920" y="99540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j0090032"/>
          <p:cNvPicPr/>
          <p:nvPr/>
        </p:nvPicPr>
        <p:blipFill>
          <a:blip r:embed="rId3"/>
          <a:stretch/>
        </p:blipFill>
        <p:spPr>
          <a:xfrm>
            <a:off x="2843280" y="4581360"/>
            <a:ext cx="2604960" cy="20671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835280" y="62064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формление результатов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39640" y="2133720"/>
            <a:ext cx="7345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группа: Создание « Визитной карточ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 группа:  Создание букл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 группа: Создание презент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 группа: Создание катало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 группа: Создание бюллетен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8" descr="j0250078"/>
          <p:cNvPicPr/>
          <p:nvPr/>
        </p:nvPicPr>
        <p:blipFill>
          <a:blip r:embed="rId1"/>
          <a:stretch/>
        </p:blipFill>
        <p:spPr>
          <a:xfrm>
            <a:off x="5148360" y="3213000"/>
            <a:ext cx="3031920" cy="3013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7"/>
          <p:cNvSpPr/>
          <p:nvPr/>
        </p:nvSpPr>
        <p:spPr>
          <a:xfrm>
            <a:off x="468360" y="2133720"/>
            <a:ext cx="7704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географической грамотности проек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активности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а поискового эта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а компьютерной грамо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навыков коллективной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556000" y="692280"/>
            <a:ext cx="43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WordArt 10"/>
          <p:cNvSpPr txBox="1"/>
          <p:nvPr/>
        </p:nvSpPr>
        <p:spPr>
          <a:xfrm>
            <a:off x="2411280" y="333360"/>
            <a:ext cx="426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проекта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9000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1097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Дидактические материал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тест № 1,  тест №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географический диктан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ловарь термин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писок номенкла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россвор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писок информационны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териа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280" y="1557000"/>
            <a:ext cx="4038480" cy="805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Описание проек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Примеры работ учащихс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« визитная карточ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ук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зентац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тало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юллет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Методические материал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 план проведения проек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зентация проек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рейтинг успеваем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грамоты группа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2556000" y="765000"/>
            <a:ext cx="403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ы проекта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12"/>
          <p:cNvSpPr/>
          <p:nvPr/>
        </p:nvSpPr>
        <p:spPr>
          <a:xfrm rot="9934200">
            <a:off x="1258560" y="7245360"/>
            <a:ext cx="480960" cy="333360"/>
          </a:xfrm>
          <a:prstGeom prst="smileyFace">
            <a:avLst>
              <a:gd name="adj" fmla="val 449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3276720" y="476280"/>
            <a:ext cx="309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пиграф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900000" y="1844640"/>
            <a:ext cx="7704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а   располагается   под   нам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м,   очевидно,   ходят   вверх   ногами . . . 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12" descr="j0283649"/>
          <p:cNvPicPr/>
          <p:nvPr/>
        </p:nvPicPr>
        <p:blipFill>
          <a:blip r:embed="rId5"/>
          <a:stretch/>
        </p:blipFill>
        <p:spPr>
          <a:xfrm>
            <a:off x="3398760" y="5229360"/>
            <a:ext cx="1182600" cy="16286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ннот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11280" y="1557360"/>
            <a:ext cx="73080" cy="71280"/>
          </a:xfrm>
          <a:custGeom>
            <a:avLst/>
            <a:gdLst>
              <a:gd name="textAreaLeft" fmla="*/ 30240 w 73080"/>
              <a:gd name="textAreaRight" fmla="*/ 42840 w 730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74760" y="1546200"/>
            <a:ext cx="58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900000" y="148428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анный проект охватывает тему « Географическое положение и рельеф Австралии», из раздела географии « Материки и океан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11280" y="278136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2637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исковая работа по группам создаёт ситуацию успеш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684360" y="3645000"/>
            <a:ext cx="72720" cy="71280"/>
          </a:xfrm>
          <a:custGeom>
            <a:avLst/>
            <a:gdLst>
              <a:gd name="textAreaLeft" fmla="*/ 29880 w 72720"/>
              <a:gd name="textAreaRight" fmla="*/ 42840 w 7272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71640" y="342900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ктическая работа позволяет учащимся глубоко усвоить особен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терика Австрал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684360" y="458136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042920" y="4437000"/>
            <a:ext cx="73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блемные вопросы развивают научно познавательный интерес к предмет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19324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Участники проекта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* ученики 7 класса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* учителя географи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Время проведения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. 2 урока географи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Место проведения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. кабинет географии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. компьютерный клас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j0198761"/>
          <p:cNvPicPr/>
          <p:nvPr/>
        </p:nvPicPr>
        <p:blipFill>
          <a:blip r:embed="rId1"/>
          <a:stretch/>
        </p:blipFill>
        <p:spPr>
          <a:xfrm>
            <a:off x="1042920" y="3357720"/>
            <a:ext cx="2600280" cy="260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j0318091"/>
          <p:cNvPicPr/>
          <p:nvPr/>
        </p:nvPicPr>
        <p:blipFill>
          <a:blip r:embed="rId2"/>
          <a:stretch/>
        </p:blipFill>
        <p:spPr>
          <a:xfrm>
            <a:off x="5651640" y="69228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и и задачи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* Дидактические  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ть представление о физико – географическом положении Австрал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тории формирования материка, особенностях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* Методические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олжить развивать умение работать с картой, в группах и устанавливать причинно – следственные связ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ма проект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 Особенности природы Австрал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685880" y="2819520"/>
            <a:ext cx="5543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новополагающий вопро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1258920" y="3789360"/>
            <a:ext cx="7526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очему Австралию называют  страной наоборо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блемные вопросы учебной те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Где находится « Неведомая Южная Земля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Что может рассказать геоморфология 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льеф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Почему в Австралии говорят о крик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Почему органический мир Австрал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НДЕМИЧЕ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Почему в Австралии кролики страшне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наводнен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Группы учащихся, реализующих поисковый этап проект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: « Картограф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a_2"/>
          <p:cNvPicPr/>
          <p:nvPr/>
        </p:nvPicPr>
        <p:blipFill>
          <a:blip r:embed="rId1"/>
          <a:stretch/>
        </p:blipFill>
        <p:spPr>
          <a:xfrm>
            <a:off x="1908000" y="2708280"/>
            <a:ext cx="5112000" cy="3457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411120" y="825480"/>
            <a:ext cx="72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6760" y="898560"/>
            <a:ext cx="73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3120" y="725400"/>
            <a:ext cx="75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2: « Геоморф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9" descr="ADL_12_apostles_100x80"/>
          <p:cNvPicPr/>
          <p:nvPr/>
        </p:nvPicPr>
        <p:blipFill>
          <a:blip r:embed="rId1"/>
          <a:stretch/>
        </p:blipFill>
        <p:spPr>
          <a:xfrm>
            <a:off x="2325600" y="2349360"/>
            <a:ext cx="3429000" cy="2556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0:02:36Z</dcterms:created>
  <dc:creator>208-01</dc:creator>
  <dc:description/>
  <dc:language>en-US</dc:language>
  <cp:lastModifiedBy>дмитрий</cp:lastModifiedBy>
  <dcterms:modified xsi:type="dcterms:W3CDTF">2018-12-08T11:52:22Z</dcterms:modified>
  <cp:revision>61</cp:revision>
  <dc:subject/>
  <dc:title>Слайд 1</dc:title>
</cp:coreProperties>
</file>