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1.jpeg" ContentType="image/jpeg"/>
  <Override PartName="/ppt/media/image9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3.gif" ContentType="image/gif"/>
  <Override PartName="/ppt/media/image4.wmf" ContentType="image/x-wmf"/>
  <Override PartName="/ppt/media/image14.jpeg" ContentType="image/jpeg"/>
  <Override PartName="/ppt/media/image16.wmf" ContentType="image/x-wmf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208-01" initials="2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5-12-19T15:55:06.79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7340-26BB-45B3-B909-43676ACF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49A1-6C4B-4CBD-8729-4E98FE46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3C6E-DED6-4C11-8C56-74448890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E6D3-1346-42B1-B4F5-E3BA2D33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329A-CEA4-49CD-A9C3-D6C86FF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74A9-C16B-4886-8B71-26B2F7E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A504-5ED0-4F91-B7B9-96D103BE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F564-D935-4C89-AF2F-D4A822E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377-F541-4FB7-BFF8-C2B382F2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BF65-3D5E-4C4F-BFBF-5C36094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69E4-5537-4F1D-8104-0438954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46A7-403C-4A81-8F54-AC974F25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3F63-63B5-4217-8C95-C1A0178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6687-3AB4-4981-82FC-484CE08A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B2EB-1405-411B-82D0-769EB1BB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C34-C164-4AED-9B66-CA440DE6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F9CD-B8FA-4892-8FFB-50831D58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EF55-F437-4253-941A-D656C908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32AB-53B5-4E89-AEF1-7149EEE0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AC4B-7D92-4E20-8870-DDABBC59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C801A-630B-4D1B-A4CE-7730CB75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4807C-8DCF-433A-9587-CD2E932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A6636-BC33-4F40-A6E8-82277214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C5A4-FD8D-4387-9887-0EB7314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BFB-B7F5-4680-BDE3-BA4EB04D71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8408-1A5D-4031-ABA0-1529494833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2411280" y="2349360"/>
            <a:ext cx="345780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755640" y="3357720"/>
            <a:ext cx="655308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Австралия - страна наоборо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140360" y="4869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14" descr="avstralia"/>
          <p:cNvPicPr/>
          <p:nvPr/>
        </p:nvPicPr>
        <p:blipFill>
          <a:blip r:embed="rId1"/>
          <a:stretch/>
        </p:blipFill>
        <p:spPr>
          <a:xfrm>
            <a:off x="755640" y="4869000"/>
            <a:ext cx="2665440" cy="165708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836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3: « Гидр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otaustralia_header_pic"/>
          <p:cNvPicPr/>
          <p:nvPr/>
        </p:nvPicPr>
        <p:blipFill>
          <a:blip r:embed="rId1"/>
          <a:stretch/>
        </p:blipFill>
        <p:spPr>
          <a:xfrm>
            <a:off x="835200" y="2637000"/>
            <a:ext cx="6192720" cy="20872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476360" y="90792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4: « Зоогеографы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6" descr="kangaroo_2"/>
          <p:cNvPicPr/>
          <p:nvPr/>
        </p:nvPicPr>
        <p:blipFill>
          <a:blip r:embed="rId1"/>
          <a:stretch/>
        </p:blipFill>
        <p:spPr>
          <a:xfrm>
            <a:off x="2865600" y="1828800"/>
            <a:ext cx="1850760" cy="1389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emu"/>
          <p:cNvPicPr/>
          <p:nvPr/>
        </p:nvPicPr>
        <p:blipFill>
          <a:blip r:embed="rId2"/>
          <a:stretch/>
        </p:blipFill>
        <p:spPr>
          <a:xfrm>
            <a:off x="5783400" y="5364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koala_asleep"/>
          <p:cNvPicPr/>
          <p:nvPr/>
        </p:nvPicPr>
        <p:blipFill>
          <a:blip r:embed="rId3"/>
          <a:stretch/>
        </p:blipFill>
        <p:spPr>
          <a:xfrm>
            <a:off x="971640" y="5357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possum_1"/>
          <p:cNvPicPr/>
          <p:nvPr/>
        </p:nvPicPr>
        <p:blipFill>
          <a:blip r:embed="rId4"/>
          <a:stretch/>
        </p:blipFill>
        <p:spPr>
          <a:xfrm>
            <a:off x="5364000" y="1816200"/>
            <a:ext cx="133380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P1010022"/>
          <p:cNvPicPr/>
          <p:nvPr/>
        </p:nvPicPr>
        <p:blipFill>
          <a:blip r:embed="rId5"/>
          <a:stretch/>
        </p:blipFill>
        <p:spPr>
          <a:xfrm>
            <a:off x="324000" y="33577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P1010029"/>
          <p:cNvPicPr/>
          <p:nvPr/>
        </p:nvPicPr>
        <p:blipFill>
          <a:blip r:embed="rId6"/>
          <a:stretch/>
        </p:blipFill>
        <p:spPr>
          <a:xfrm>
            <a:off x="6516720" y="3645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8a"/>
          <p:cNvPicPr/>
          <p:nvPr/>
        </p:nvPicPr>
        <p:blipFill>
          <a:blip r:embed="rId7"/>
          <a:stretch/>
        </p:blipFill>
        <p:spPr>
          <a:xfrm>
            <a:off x="3203640" y="4330800"/>
            <a:ext cx="1743120" cy="10951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295280" y="2664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5: « Эк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8" descr="j0215294"/>
          <p:cNvPicPr/>
          <p:nvPr/>
        </p:nvPicPr>
        <p:blipFill>
          <a:blip r:embed="rId1"/>
          <a:stretch/>
        </p:blipFill>
        <p:spPr>
          <a:xfrm>
            <a:off x="6559560" y="858960"/>
            <a:ext cx="1360440" cy="1865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j0304933"/>
          <p:cNvPicPr/>
          <p:nvPr/>
        </p:nvPicPr>
        <p:blipFill>
          <a:blip r:embed="rId2"/>
          <a:stretch/>
        </p:blipFill>
        <p:spPr>
          <a:xfrm>
            <a:off x="385920" y="99540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j0090032"/>
          <p:cNvPicPr/>
          <p:nvPr/>
        </p:nvPicPr>
        <p:blipFill>
          <a:blip r:embed="rId3"/>
          <a:stretch/>
        </p:blipFill>
        <p:spPr>
          <a:xfrm>
            <a:off x="2843280" y="4581360"/>
            <a:ext cx="2604960" cy="20671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1835280" y="620640"/>
            <a:ext cx="5610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формление результатов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39640" y="2133720"/>
            <a:ext cx="7345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группа: Создание « Визитной карточ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 группа:  Создание букле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 группа: Создание презент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 группа: Создание катало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 группа: Создание бюллетен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8" descr="j0250078"/>
          <p:cNvPicPr/>
          <p:nvPr/>
        </p:nvPicPr>
        <p:blipFill>
          <a:blip r:embed="rId1"/>
          <a:stretch/>
        </p:blipFill>
        <p:spPr>
          <a:xfrm>
            <a:off x="5148360" y="3213000"/>
            <a:ext cx="3031920" cy="30132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7"/>
          <p:cNvSpPr/>
          <p:nvPr/>
        </p:nvSpPr>
        <p:spPr>
          <a:xfrm>
            <a:off x="468360" y="2133720"/>
            <a:ext cx="7704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географической грамотности проек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активности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а поискового этап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ценка компьютерной грамот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нализ навыков коллективной работ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556000" y="692280"/>
            <a:ext cx="43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WordArt 10"/>
          <p:cNvSpPr txBox="1"/>
          <p:nvPr/>
        </p:nvSpPr>
        <p:spPr>
          <a:xfrm>
            <a:off x="2411280" y="333360"/>
            <a:ext cx="426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зультаты проекта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9000"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8000" y="1699920"/>
            <a:ext cx="41097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 Дидактические материал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тест № 1,  тест №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географический диктан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ловарь термин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писок номенкла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россвор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список информационных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атериал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280" y="1557000"/>
            <a:ext cx="4038480" cy="805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Описание проек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Примеры работ учащихс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« визитная карточк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ук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зентаци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каталог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бюллетен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Методические материал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 план проведения проект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презентация проекта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рейтинг успеваем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 грамоты группа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WordArt 9"/>
          <p:cNvSpPr txBox="1"/>
          <p:nvPr/>
        </p:nvSpPr>
        <p:spPr>
          <a:xfrm>
            <a:off x="2556000" y="765000"/>
            <a:ext cx="403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териалы проекта</a:t>
            </a:r>
            <a:endParaRPr b="0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AutoShape 12"/>
          <p:cNvSpPr/>
          <p:nvPr/>
        </p:nvSpPr>
        <p:spPr>
          <a:xfrm rot="9934200">
            <a:off x="1258560" y="7245360"/>
            <a:ext cx="480960" cy="333360"/>
          </a:xfrm>
          <a:prstGeom prst="smileyFace">
            <a:avLst>
              <a:gd name="adj" fmla="val 449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3276720" y="476280"/>
            <a:ext cx="3095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Эпиграф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900000" y="1844640"/>
            <a:ext cx="7704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на   располагается   под   нами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м,   очевидно,   ходят   вверх   ногами . . . 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12" descr="j0283649"/>
          <p:cNvPicPr/>
          <p:nvPr/>
        </p:nvPicPr>
        <p:blipFill>
          <a:blip r:embed="rId5"/>
          <a:stretch/>
        </p:blipFill>
        <p:spPr>
          <a:xfrm>
            <a:off x="3398760" y="5229360"/>
            <a:ext cx="1182600" cy="16286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ннот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611280" y="1557360"/>
            <a:ext cx="73080" cy="71280"/>
          </a:xfrm>
          <a:custGeom>
            <a:avLst/>
            <a:gdLst>
              <a:gd name="textAreaLeft" fmla="*/ 30240 w 73080"/>
              <a:gd name="textAreaRight" fmla="*/ 42840 w 730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74760" y="1546200"/>
            <a:ext cx="581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900000" y="148428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анный проект охватывает тему « Географическое положение и рельеф Австралии», из раздела географии « Материки и океан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611280" y="278136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971640" y="26370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исковая работа по группам создаёт ситуацию успеш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2"/>
          <p:cNvSpPr/>
          <p:nvPr/>
        </p:nvSpPr>
        <p:spPr>
          <a:xfrm>
            <a:off x="684360" y="3645000"/>
            <a:ext cx="72720" cy="71280"/>
          </a:xfrm>
          <a:custGeom>
            <a:avLst/>
            <a:gdLst>
              <a:gd name="textAreaLeft" fmla="*/ 29880 w 72720"/>
              <a:gd name="textAreaRight" fmla="*/ 42840 w 7272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971640" y="342900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актическая работа позволяет учащимся глубоко усвоить особен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терика Австрал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14"/>
          <p:cNvSpPr/>
          <p:nvPr/>
        </p:nvSpPr>
        <p:spPr>
          <a:xfrm>
            <a:off x="684360" y="4581360"/>
            <a:ext cx="71280" cy="71640"/>
          </a:xfrm>
          <a:custGeom>
            <a:avLst/>
            <a:gdLst>
              <a:gd name="textAreaLeft" fmla="*/ 29160 w 71280"/>
              <a:gd name="textAreaRight" fmla="*/ 42120 w 71280"/>
              <a:gd name="textAreaTop" fmla="*/ 29520 h 71640"/>
              <a:gd name="textAreaBottom" fmla="*/ 4212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042920" y="4437000"/>
            <a:ext cx="73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блемные вопросы развивают научно познавательный интерес к предмет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76280"/>
            <a:ext cx="819324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Участники проекта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* ученики 7 класса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* учителя географи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Время проведения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. 2 урока географи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Место проведения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. кабинет географии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. компьютерный класс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j0198761"/>
          <p:cNvPicPr/>
          <p:nvPr/>
        </p:nvPicPr>
        <p:blipFill>
          <a:blip r:embed="rId1"/>
          <a:stretch/>
        </p:blipFill>
        <p:spPr>
          <a:xfrm>
            <a:off x="1042920" y="3357720"/>
            <a:ext cx="2600280" cy="260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j0318091"/>
          <p:cNvPicPr/>
          <p:nvPr/>
        </p:nvPicPr>
        <p:blipFill>
          <a:blip r:embed="rId2"/>
          <a:stretch/>
        </p:blipFill>
        <p:spPr>
          <a:xfrm>
            <a:off x="5651640" y="692280"/>
            <a:ext cx="1728720" cy="1008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ли и задачи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* Дидактические  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ормировать представление о физико – географическом положении Австрали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тории формирования материка, особенностях природ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* Методические ц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должить развивать умение работать с картой, в группах и устанавливать причинно – следственные связ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просы проек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ма проект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 Особенности природы Австралии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685880" y="2819520"/>
            <a:ext cx="55436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новополагающий вопро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1258920" y="3789360"/>
            <a:ext cx="7526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Почему Австралию называют  страной наоборо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блемные вопросы учебной те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 Где находится « Неведомая Южная Земля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. Что может рассказать геоморфология 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льеф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 Почему в Австралии говорят о крик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. Почему органический мир Австрал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НДЕМИЧЕН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5. Почему в Австралии кролики страшней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ем наводнения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Группы учащихся, реализующих поисковый этап проект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: « Картографы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a_2"/>
          <p:cNvPicPr/>
          <p:nvPr/>
        </p:nvPicPr>
        <p:blipFill>
          <a:blip r:embed="rId1"/>
          <a:stretch/>
        </p:blipFill>
        <p:spPr>
          <a:xfrm>
            <a:off x="1908000" y="2708280"/>
            <a:ext cx="5112000" cy="3457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411120" y="825480"/>
            <a:ext cx="72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6760" y="898560"/>
            <a:ext cx="73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303120" y="725400"/>
            <a:ext cx="75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Группа 2: « Геоморфологи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9" descr="ADL_12_apostles_100x80"/>
          <p:cNvPicPr/>
          <p:nvPr/>
        </p:nvPicPr>
        <p:blipFill>
          <a:blip r:embed="rId1"/>
          <a:stretch/>
        </p:blipFill>
        <p:spPr>
          <a:xfrm>
            <a:off x="2325600" y="2349360"/>
            <a:ext cx="3429000" cy="2556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0:02:36Z</dcterms:created>
  <dc:creator>208-01</dc:creator>
  <dc:description/>
  <dc:language>en-US</dc:language>
  <cp:lastModifiedBy>дмитрий</cp:lastModifiedBy>
  <dcterms:modified xsi:type="dcterms:W3CDTF">2018-12-08T11:52:22Z</dcterms:modified>
  <cp:revision>61</cp:revision>
  <dc:subject/>
  <dc:title>Слайд 1</dc:title>
</cp:coreProperties>
</file>