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1.gif" ContentType="image/gif"/>
  <Override PartName="/ppt/media/glass.wav" ContentType="audio/x-wav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gif" ContentType="image/gif"/>
  <Override PartName="/ppt/media/image28.gif" ContentType="image/gif"/>
  <Override PartName="/ppt/media/image8.png" ContentType="image/png"/>
  <Override PartName="/ppt/media/image13.png" ContentType="image/png"/>
  <Override PartName="/ppt/media/image9.png" ContentType="image/png"/>
  <Override PartName="/ppt/media/image29.gif" ContentType="image/gif"/>
  <Override PartName="/ppt/media/image1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6.gif" ContentType="image/gif"/>
  <Override PartName="/ppt/media/image19.png" ContentType="image/png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DE27-42CD-477C-B824-98C70A923C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0298-BA16-4B42-AA8F-3F07ED7A45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C5EB-7128-4129-AFAB-86E0B5B185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840C-8B95-4B7C-B1D9-04F9401B59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C640-F2F9-4030-93C8-4262370694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31AD-1F85-4A07-BEDA-5ED5CA70C2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9254-50A3-490C-B305-381D9EBC42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6968-29DC-48B6-951D-9862714D64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AC09-106E-471D-8CD3-0703AD87F0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B470-3D01-4AEC-825E-F592A93EF4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B5B1-8D14-4E45-8773-25DC36956F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8AF6-FDCA-4C85-82A2-7BA003E5AC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98C-BEBF-4C9B-824E-5D3A3231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EDAC-E1CE-42D7-AC4F-1EA5C22B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5B3-33A4-4E02-87B3-99883AE3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A0D-4A57-4364-BD41-49FB978A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CBF-A236-434C-BC34-63260BE5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5DD-7297-44FB-A840-C184F146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91C-43CE-4436-8317-290ED0B9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71F-2ED8-400F-A336-11C9882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B58-F976-4F43-B6B6-BB590D2A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19F-7C02-420A-8519-F6DE67F4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78F-45F9-43B5-8272-8CD1C27E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881-5567-4A9D-BA5D-68CF9255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нировочный  тес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11C0-3904-46AC-B373-56D0492D12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" Target="slide12.xml"/><Relationship Id="rId4" Type="http://schemas.openxmlformats.org/officeDocument/2006/relationships/image" Target="../media/image5.png"/><Relationship Id="rId5" Type="http://schemas.openxmlformats.org/officeDocument/2006/relationships/slide" Target="slide12.xml"/><Relationship Id="rId6" Type="http://schemas.openxmlformats.org/officeDocument/2006/relationships/image" Target="../media/image8.png"/><Relationship Id="rId7" Type="http://schemas.openxmlformats.org/officeDocument/2006/relationships/image" Target="../media/image7.gi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" Target="slide16.xml"/><Relationship Id="rId5" Type="http://schemas.openxmlformats.org/officeDocument/2006/relationships/image" Target="../media/image11.png"/><Relationship Id="rId6" Type="http://schemas.openxmlformats.org/officeDocument/2006/relationships/slide" Target="slide15.xml"/><Relationship Id="rId7" Type="http://schemas.openxmlformats.org/officeDocument/2006/relationships/image" Target="../media/image12.png"/><Relationship Id="rId8" Type="http://schemas.openxmlformats.org/officeDocument/2006/relationships/image" Target="../media/image7.gif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image" Target="../media/image15.png"/><Relationship Id="rId5" Type="http://schemas.openxmlformats.org/officeDocument/2006/relationships/slide" Target="slide10.xml"/><Relationship Id="rId6" Type="http://schemas.openxmlformats.org/officeDocument/2006/relationships/image" Target="../media/image16.png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slide" Target="slide14.xml"/><Relationship Id="rId5" Type="http://schemas.openxmlformats.org/officeDocument/2006/relationships/image" Target="../media/image18.png"/><Relationship Id="rId6" Type="http://schemas.openxmlformats.org/officeDocument/2006/relationships/slide" Target="slide15.xml"/><Relationship Id="rId7" Type="http://schemas.openxmlformats.org/officeDocument/2006/relationships/image" Target="../media/image19.png"/><Relationship Id="rId8" Type="http://schemas.openxmlformats.org/officeDocument/2006/relationships/image" Target="../media/image7.gif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1.png"/><Relationship Id="rId3" Type="http://schemas.openxmlformats.org/officeDocument/2006/relationships/image" Target="../media/image4.png"/><Relationship Id="rId4" Type="http://schemas.openxmlformats.org/officeDocument/2006/relationships/slide" Target="slide13.xml"/><Relationship Id="rId5" Type="http://schemas.openxmlformats.org/officeDocument/2006/relationships/image" Target="../media/image22.png"/><Relationship Id="rId6" Type="http://schemas.openxmlformats.org/officeDocument/2006/relationships/slide" Target="slide13.xml"/><Relationship Id="rId7" Type="http://schemas.openxmlformats.org/officeDocument/2006/relationships/image" Target="../media/image23.png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image" Target="../media/image4.png"/><Relationship Id="rId4" Type="http://schemas.openxmlformats.org/officeDocument/2006/relationships/image" Target="../media/image25.png"/><Relationship Id="rId5" Type="http://schemas.openxmlformats.org/officeDocument/2006/relationships/image" Target="../media/image18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1"/>
          <p:cNvSpPr txBox="1"/>
          <p:nvPr/>
        </p:nvSpPr>
        <p:spPr>
          <a:xfrm>
            <a:off x="289080" y="901800"/>
            <a:ext cx="865008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33cc"/>
                </a:solidFill>
                <a:latin typeface="+mj-lt"/>
              </a:rPr>
              <a:t>Прямоугольный треугольник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0033cc"/>
              </a:solidFill>
              <a:latin typeface="+mj-lt"/>
              <a:ea typeface="+mj-lt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1" descr="0451"/>
          <p:cNvPicPr/>
          <p:nvPr/>
        </p:nvPicPr>
        <p:blipFill>
          <a:blip r:embed="rId1"/>
          <a:stretch/>
        </p:blipFill>
        <p:spPr>
          <a:xfrm>
            <a:off x="1049400" y="4178160"/>
            <a:ext cx="3058920" cy="1838520"/>
          </a:xfrm>
          <a:prstGeom prst="rect">
            <a:avLst/>
          </a:prstGeom>
          <a:ln w="0">
            <a:noFill/>
          </a:ln>
        </p:spPr>
      </p:pic>
      <p:grpSp>
        <p:nvGrpSpPr>
          <p:cNvPr id="183" name="Облако 3"/>
          <p:cNvGrpSpPr/>
          <p:nvPr/>
        </p:nvGrpSpPr>
        <p:grpSpPr>
          <a:xfrm>
            <a:off x="585720" y="701640"/>
            <a:ext cx="8491680" cy="2711520"/>
            <a:chOff x="585720" y="701640"/>
            <a:chExt cx="8491680" cy="2711520"/>
          </a:xfrm>
        </p:grpSpPr>
        <p:pic>
          <p:nvPicPr>
            <p:cNvPr id="184" name="Облако 3" descr=""/>
            <p:cNvPicPr/>
            <p:nvPr/>
          </p:nvPicPr>
          <p:blipFill>
            <a:blip r:embed="rId2"/>
            <a:stretch/>
          </p:blipFill>
          <p:spPr>
            <a:xfrm>
              <a:off x="585720" y="701640"/>
              <a:ext cx="849168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 rot="21123000">
              <a:off x="1742760" y="1420920"/>
              <a:ext cx="5578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Ответ не верный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Продолжим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Управляющая кнопка: далее 1"/>
          <p:cNvSpPr/>
          <p:nvPr/>
        </p:nvSpPr>
        <p:spPr>
          <a:xfrm>
            <a:off x="7829640" y="5810400"/>
            <a:ext cx="804600" cy="625320"/>
          </a:xfrm>
          <a:custGeom>
            <a:avLst/>
            <a:gdLst>
              <a:gd name="textAreaLeft" fmla="*/ 40320 w 804600"/>
              <a:gd name="textAreaRight" fmla="*/ 764280 w 804600"/>
              <a:gd name="textAreaTop" fmla="*/ 40320 h 625320"/>
              <a:gd name="textAreaBottom" fmla="*/ 585000 h 625320"/>
            </a:gdLst>
            <a:ahLst/>
            <a:rect l="textAreaLeft" t="textAreaTop" r="textAreaRight" b="textAreaBottom"/>
            <a:pathLst>
              <a:path w="27789" h="21600">
                <a:moveTo>
                  <a:pt x="0" y="0"/>
                </a:moveTo>
                <a:lnTo>
                  <a:pt x="27789" y="0"/>
                </a:lnTo>
                <a:lnTo>
                  <a:pt x="27789" y="21600"/>
                </a:lnTo>
                <a:lnTo>
                  <a:pt x="0" y="21600"/>
                </a:lnTo>
                <a:close/>
              </a:path>
              <a:path fill="lightenLess" w="27789" h="21600">
                <a:moveTo>
                  <a:pt x="0" y="0"/>
                </a:moveTo>
                <a:lnTo>
                  <a:pt x="27789" y="0"/>
                </a:lnTo>
                <a:lnTo>
                  <a:pt x="26389" y="1400"/>
                </a:lnTo>
                <a:lnTo>
                  <a:pt x="1400" y="1400"/>
                </a:lnTo>
                <a:close/>
              </a:path>
              <a:path fill="darken" w="27789" h="21600">
                <a:moveTo>
                  <a:pt x="27789" y="0"/>
                </a:moveTo>
                <a:lnTo>
                  <a:pt x="27789" y="21600"/>
                </a:lnTo>
                <a:lnTo>
                  <a:pt x="26389" y="20200"/>
                </a:lnTo>
                <a:lnTo>
                  <a:pt x="26389" y="1400"/>
                </a:lnTo>
                <a:close/>
              </a:path>
              <a:path fill="darkenLess" w="27789" h="21600">
                <a:moveTo>
                  <a:pt x="27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9" y="20200"/>
                </a:lnTo>
                <a:close/>
              </a:path>
              <a:path fill="lighten" w="27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9" h="21600">
                <a:moveTo>
                  <a:pt x="6888" y="3794"/>
                </a:moveTo>
                <a:lnTo>
                  <a:pt x="20901" y="10800"/>
                </a:lnTo>
                <a:lnTo>
                  <a:pt x="688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1" descr="0451"/>
          <p:cNvPicPr/>
          <p:nvPr/>
        </p:nvPicPr>
        <p:blipFill>
          <a:blip r:embed="rId1"/>
          <a:stretch/>
        </p:blipFill>
        <p:spPr>
          <a:xfrm>
            <a:off x="1049400" y="4178160"/>
            <a:ext cx="3058920" cy="1838520"/>
          </a:xfrm>
          <a:prstGeom prst="rect">
            <a:avLst/>
          </a:prstGeom>
          <a:ln w="0">
            <a:noFill/>
          </a:ln>
        </p:spPr>
      </p:pic>
      <p:grpSp>
        <p:nvGrpSpPr>
          <p:cNvPr id="188" name="Облако 3"/>
          <p:cNvGrpSpPr/>
          <p:nvPr/>
        </p:nvGrpSpPr>
        <p:grpSpPr>
          <a:xfrm>
            <a:off x="585720" y="701640"/>
            <a:ext cx="8491680" cy="2711520"/>
            <a:chOff x="585720" y="701640"/>
            <a:chExt cx="8491680" cy="2711520"/>
          </a:xfrm>
        </p:grpSpPr>
        <p:pic>
          <p:nvPicPr>
            <p:cNvPr id="189" name="Облако 3" descr=""/>
            <p:cNvPicPr/>
            <p:nvPr/>
          </p:nvPicPr>
          <p:blipFill>
            <a:blip r:embed="rId2"/>
            <a:stretch/>
          </p:blipFill>
          <p:spPr>
            <a:xfrm>
              <a:off x="585720" y="701640"/>
              <a:ext cx="849168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 rot="21123000">
              <a:off x="1742760" y="1420920"/>
              <a:ext cx="5578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Ответ не верный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Продолжим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Управляющая кнопка: далее 1"/>
          <p:cNvSpPr/>
          <p:nvPr/>
        </p:nvSpPr>
        <p:spPr>
          <a:xfrm>
            <a:off x="7829640" y="5810400"/>
            <a:ext cx="804600" cy="625320"/>
          </a:xfrm>
          <a:custGeom>
            <a:avLst/>
            <a:gdLst>
              <a:gd name="textAreaLeft" fmla="*/ 40320 w 804600"/>
              <a:gd name="textAreaRight" fmla="*/ 764280 w 804600"/>
              <a:gd name="textAreaTop" fmla="*/ 40320 h 625320"/>
              <a:gd name="textAreaBottom" fmla="*/ 585000 h 625320"/>
            </a:gdLst>
            <a:ahLst/>
            <a:rect l="textAreaLeft" t="textAreaTop" r="textAreaRight" b="textAreaBottom"/>
            <a:pathLst>
              <a:path w="27789" h="21600">
                <a:moveTo>
                  <a:pt x="0" y="0"/>
                </a:moveTo>
                <a:lnTo>
                  <a:pt x="27789" y="0"/>
                </a:lnTo>
                <a:lnTo>
                  <a:pt x="27789" y="21600"/>
                </a:lnTo>
                <a:lnTo>
                  <a:pt x="0" y="21600"/>
                </a:lnTo>
                <a:close/>
              </a:path>
              <a:path fill="lightenLess" w="27789" h="21600">
                <a:moveTo>
                  <a:pt x="0" y="0"/>
                </a:moveTo>
                <a:lnTo>
                  <a:pt x="27789" y="0"/>
                </a:lnTo>
                <a:lnTo>
                  <a:pt x="26389" y="1400"/>
                </a:lnTo>
                <a:lnTo>
                  <a:pt x="1400" y="1400"/>
                </a:lnTo>
                <a:close/>
              </a:path>
              <a:path fill="darken" w="27789" h="21600">
                <a:moveTo>
                  <a:pt x="27789" y="0"/>
                </a:moveTo>
                <a:lnTo>
                  <a:pt x="27789" y="21600"/>
                </a:lnTo>
                <a:lnTo>
                  <a:pt x="26389" y="20200"/>
                </a:lnTo>
                <a:lnTo>
                  <a:pt x="26389" y="1400"/>
                </a:lnTo>
                <a:close/>
              </a:path>
              <a:path fill="darkenLess" w="27789" h="21600">
                <a:moveTo>
                  <a:pt x="27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9" y="20200"/>
                </a:lnTo>
                <a:close/>
              </a:path>
              <a:path fill="lighten" w="27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9" h="21600">
                <a:moveTo>
                  <a:pt x="6888" y="3794"/>
                </a:moveTo>
                <a:lnTo>
                  <a:pt x="20901" y="10800"/>
                </a:lnTo>
                <a:lnTo>
                  <a:pt x="688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1" descr="0451"/>
          <p:cNvPicPr/>
          <p:nvPr/>
        </p:nvPicPr>
        <p:blipFill>
          <a:blip r:embed="rId1"/>
          <a:stretch/>
        </p:blipFill>
        <p:spPr>
          <a:xfrm>
            <a:off x="1049400" y="4178160"/>
            <a:ext cx="3058920" cy="1838520"/>
          </a:xfrm>
          <a:prstGeom prst="rect">
            <a:avLst/>
          </a:prstGeom>
          <a:ln w="0">
            <a:noFill/>
          </a:ln>
        </p:spPr>
      </p:pic>
      <p:grpSp>
        <p:nvGrpSpPr>
          <p:cNvPr id="193" name="Облако 3"/>
          <p:cNvGrpSpPr/>
          <p:nvPr/>
        </p:nvGrpSpPr>
        <p:grpSpPr>
          <a:xfrm>
            <a:off x="585720" y="701640"/>
            <a:ext cx="8491680" cy="2711520"/>
            <a:chOff x="585720" y="701640"/>
            <a:chExt cx="8491680" cy="2711520"/>
          </a:xfrm>
        </p:grpSpPr>
        <p:pic>
          <p:nvPicPr>
            <p:cNvPr id="194" name="Облако 3" descr=""/>
            <p:cNvPicPr/>
            <p:nvPr/>
          </p:nvPicPr>
          <p:blipFill>
            <a:blip r:embed="rId2"/>
            <a:stretch/>
          </p:blipFill>
          <p:spPr>
            <a:xfrm>
              <a:off x="585720" y="701640"/>
              <a:ext cx="849168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1123000">
              <a:off x="1742760" y="1420920"/>
              <a:ext cx="5578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Ответ не верный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Продолжим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Управляющая кнопка: далее 1"/>
          <p:cNvSpPr/>
          <p:nvPr/>
        </p:nvSpPr>
        <p:spPr>
          <a:xfrm>
            <a:off x="7026120" y="5810400"/>
            <a:ext cx="1608120" cy="625320"/>
          </a:xfrm>
          <a:custGeom>
            <a:avLst/>
            <a:gdLst>
              <a:gd name="textAreaLeft" fmla="*/ 40320 w 1608120"/>
              <a:gd name="textAreaRight" fmla="*/ 1567800 w 1608120"/>
              <a:gd name="textAreaTop" fmla="*/ 40320 h 625320"/>
              <a:gd name="textAreaBottom" fmla="*/ 585000 h 625320"/>
            </a:gdLst>
            <a:ahLst/>
            <a:rect l="textAreaLeft" t="textAreaTop" r="textAreaRight" b="textAreaBottom"/>
            <a:pathLst>
              <a:path w="55529" h="21600">
                <a:moveTo>
                  <a:pt x="0" y="0"/>
                </a:moveTo>
                <a:lnTo>
                  <a:pt x="55529" y="0"/>
                </a:lnTo>
                <a:lnTo>
                  <a:pt x="55529" y="21600"/>
                </a:lnTo>
                <a:lnTo>
                  <a:pt x="0" y="21600"/>
                </a:lnTo>
                <a:close/>
              </a:path>
              <a:path fill="lightenLess" w="55529" h="21600">
                <a:moveTo>
                  <a:pt x="0" y="0"/>
                </a:moveTo>
                <a:lnTo>
                  <a:pt x="55529" y="0"/>
                </a:lnTo>
                <a:lnTo>
                  <a:pt x="54129" y="1400"/>
                </a:lnTo>
                <a:lnTo>
                  <a:pt x="1400" y="1400"/>
                </a:lnTo>
                <a:close/>
              </a:path>
              <a:path fill="darken" w="55529" h="21600">
                <a:moveTo>
                  <a:pt x="55529" y="0"/>
                </a:moveTo>
                <a:lnTo>
                  <a:pt x="55529" y="21600"/>
                </a:lnTo>
                <a:lnTo>
                  <a:pt x="54129" y="20200"/>
                </a:lnTo>
                <a:lnTo>
                  <a:pt x="54129" y="1400"/>
                </a:lnTo>
                <a:close/>
              </a:path>
              <a:path fill="darkenLess" w="55529" h="21600">
                <a:moveTo>
                  <a:pt x="555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9" y="20200"/>
                </a:lnTo>
                <a:close/>
              </a:path>
              <a:path fill="lighten" w="555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9" h="21600">
                <a:moveTo>
                  <a:pt x="20758" y="3794"/>
                </a:moveTo>
                <a:lnTo>
                  <a:pt x="34771" y="10800"/>
                </a:lnTo>
                <a:lnTo>
                  <a:pt x="2075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8"/>
          <p:cNvSpPr/>
          <p:nvPr/>
        </p:nvSpPr>
        <p:spPr>
          <a:xfrm>
            <a:off x="7848720" y="1620720"/>
            <a:ext cx="563400" cy="739800"/>
          </a:xfrm>
          <a:prstGeom prst="ellipse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7848720" y="3429000"/>
            <a:ext cx="563400" cy="73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7848720" y="2523960"/>
            <a:ext cx="563400" cy="7398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7848720" y="3657600"/>
            <a:ext cx="990360" cy="1414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7" descr="0002"/>
          <p:cNvPicPr/>
          <p:nvPr/>
        </p:nvPicPr>
        <p:blipFill>
          <a:blip r:embed="rId1"/>
          <a:stretch/>
        </p:blipFill>
        <p:spPr>
          <a:xfrm>
            <a:off x="749160" y="4834080"/>
            <a:ext cx="1731960" cy="1479240"/>
          </a:xfrm>
          <a:prstGeom prst="rect">
            <a:avLst/>
          </a:prstGeom>
          <a:ln w="0">
            <a:noFill/>
          </a:ln>
        </p:spPr>
      </p:pic>
      <p:sp>
        <p:nvSpPr>
          <p:cNvPr id="202" name="Управляющая кнопка: далее 1"/>
          <p:cNvSpPr/>
          <p:nvPr/>
        </p:nvSpPr>
        <p:spPr>
          <a:xfrm>
            <a:off x="7848720" y="6053040"/>
            <a:ext cx="1042920" cy="52092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43230" h="21600">
                <a:moveTo>
                  <a:pt x="0" y="0"/>
                </a:moveTo>
                <a:lnTo>
                  <a:pt x="43230" y="0"/>
                </a:lnTo>
                <a:lnTo>
                  <a:pt x="43230" y="21600"/>
                </a:lnTo>
                <a:lnTo>
                  <a:pt x="0" y="21600"/>
                </a:lnTo>
                <a:close/>
              </a:path>
              <a:path fill="lightenLess" w="43230" h="21600">
                <a:moveTo>
                  <a:pt x="0" y="0"/>
                </a:moveTo>
                <a:lnTo>
                  <a:pt x="43230" y="0"/>
                </a:lnTo>
                <a:lnTo>
                  <a:pt x="41830" y="1400"/>
                </a:lnTo>
                <a:lnTo>
                  <a:pt x="1400" y="1400"/>
                </a:lnTo>
                <a:close/>
              </a:path>
              <a:path fill="darken" w="43230" h="21600">
                <a:moveTo>
                  <a:pt x="43230" y="0"/>
                </a:moveTo>
                <a:lnTo>
                  <a:pt x="43230" y="21600"/>
                </a:lnTo>
                <a:lnTo>
                  <a:pt x="41830" y="20200"/>
                </a:lnTo>
                <a:lnTo>
                  <a:pt x="41830" y="1400"/>
                </a:lnTo>
                <a:close/>
              </a:path>
              <a:path fill="darkenLess" w="43230" h="21600">
                <a:moveTo>
                  <a:pt x="43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0" y="20200"/>
                </a:lnTo>
                <a:close/>
              </a:path>
              <a:path fill="lighten" w="43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0" h="21600">
                <a:moveTo>
                  <a:pt x="14608" y="3794"/>
                </a:moveTo>
                <a:lnTo>
                  <a:pt x="28621" y="10800"/>
                </a:lnTo>
                <a:lnTo>
                  <a:pt x="1460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Облако 1"/>
          <p:cNvSpPr/>
          <p:nvPr/>
        </p:nvSpPr>
        <p:spPr>
          <a:xfrm rot="20263800">
            <a:off x="2233440" y="1122480"/>
            <a:ext cx="5058000" cy="1771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Плохо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Oval 8"/>
          <p:cNvSpPr/>
          <p:nvPr/>
        </p:nvSpPr>
        <p:spPr>
          <a:xfrm>
            <a:off x="7848720" y="1620720"/>
            <a:ext cx="563400" cy="739800"/>
          </a:xfrm>
          <a:prstGeom prst="ellipse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7848720" y="4332240"/>
            <a:ext cx="563400" cy="73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11"/>
          <p:cNvSpPr/>
          <p:nvPr/>
        </p:nvSpPr>
        <p:spPr>
          <a:xfrm>
            <a:off x="7848720" y="2523960"/>
            <a:ext cx="563400" cy="7398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7500960" y="2077920"/>
            <a:ext cx="347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0"/>
          <p:cNvSpPr/>
          <p:nvPr/>
        </p:nvSpPr>
        <p:spPr>
          <a:xfrm>
            <a:off x="7500960" y="2077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51"/>
          <p:cNvSpPr/>
          <p:nvPr/>
        </p:nvSpPr>
        <p:spPr>
          <a:xfrm>
            <a:off x="7848720" y="3200400"/>
            <a:ext cx="914400" cy="12952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Управляющая кнопка: назад 1"/>
          <p:cNvSpPr/>
          <p:nvPr/>
        </p:nvSpPr>
        <p:spPr>
          <a:xfrm>
            <a:off x="7772400" y="6026040"/>
            <a:ext cx="1041480" cy="520920"/>
          </a:xfrm>
          <a:custGeom>
            <a:avLst/>
            <a:gdLst>
              <a:gd name="textAreaLeft" fmla="*/ 33480 w 1041480"/>
              <a:gd name="textAreaRight" fmla="*/ 1008000 w 104148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43170" h="21600">
                <a:moveTo>
                  <a:pt x="0" y="0"/>
                </a:moveTo>
                <a:lnTo>
                  <a:pt x="43170" y="0"/>
                </a:lnTo>
                <a:lnTo>
                  <a:pt x="43170" y="21600"/>
                </a:lnTo>
                <a:lnTo>
                  <a:pt x="0" y="21600"/>
                </a:lnTo>
                <a:close/>
              </a:path>
              <a:path fill="lightenLess" w="43170" h="21600">
                <a:moveTo>
                  <a:pt x="0" y="0"/>
                </a:moveTo>
                <a:lnTo>
                  <a:pt x="43170" y="0"/>
                </a:lnTo>
                <a:lnTo>
                  <a:pt x="41770" y="1400"/>
                </a:lnTo>
                <a:lnTo>
                  <a:pt x="1400" y="1400"/>
                </a:lnTo>
                <a:close/>
              </a:path>
              <a:path fill="darken" w="43170" h="21600">
                <a:moveTo>
                  <a:pt x="43170" y="0"/>
                </a:moveTo>
                <a:lnTo>
                  <a:pt x="43170" y="21600"/>
                </a:lnTo>
                <a:lnTo>
                  <a:pt x="41770" y="20200"/>
                </a:lnTo>
                <a:lnTo>
                  <a:pt x="41770" y="1400"/>
                </a:lnTo>
                <a:close/>
              </a:path>
              <a:path fill="darkenLess" w="43170" h="21600">
                <a:moveTo>
                  <a:pt x="43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0" y="20200"/>
                </a:lnTo>
                <a:close/>
              </a:path>
              <a:path fill="lighten" w="43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0" h="21600">
                <a:moveTo>
                  <a:pt x="14579" y="10800"/>
                </a:moveTo>
                <a:lnTo>
                  <a:pt x="28592" y="3794"/>
                </a:lnTo>
                <a:lnTo>
                  <a:pt x="2859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6" descr="0342"/>
          <p:cNvPicPr/>
          <p:nvPr/>
        </p:nvPicPr>
        <p:blipFill>
          <a:blip r:embed="rId1"/>
          <a:stretch/>
        </p:blipFill>
        <p:spPr>
          <a:xfrm>
            <a:off x="1123920" y="4116240"/>
            <a:ext cx="2378160" cy="1911600"/>
          </a:xfrm>
          <a:prstGeom prst="rect">
            <a:avLst/>
          </a:prstGeom>
          <a:ln w="0">
            <a:noFill/>
          </a:ln>
        </p:spPr>
      </p:pic>
      <p:sp>
        <p:nvSpPr>
          <p:cNvPr id="212" name="Облако 2"/>
          <p:cNvSpPr/>
          <p:nvPr/>
        </p:nvSpPr>
        <p:spPr>
          <a:xfrm rot="20467200">
            <a:off x="1966680" y="1316160"/>
            <a:ext cx="519084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</a:rPr>
              <a:t>Не важно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2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8"/>
          <p:cNvSpPr/>
          <p:nvPr/>
        </p:nvSpPr>
        <p:spPr>
          <a:xfrm>
            <a:off x="7848720" y="1620720"/>
            <a:ext cx="563400" cy="739800"/>
          </a:xfrm>
          <a:prstGeom prst="ellipse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7848720" y="4332240"/>
            <a:ext cx="563400" cy="73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7848720" y="3429000"/>
            <a:ext cx="563400" cy="73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7500960" y="4592520"/>
            <a:ext cx="347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7500960" y="2077920"/>
            <a:ext cx="347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7500960" y="2077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7500960" y="3906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6"/>
          <p:cNvSpPr/>
          <p:nvPr/>
        </p:nvSpPr>
        <p:spPr>
          <a:xfrm>
            <a:off x="7040520" y="4135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9"/>
          <p:cNvSpPr/>
          <p:nvPr/>
        </p:nvSpPr>
        <p:spPr>
          <a:xfrm>
            <a:off x="7040520" y="245916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0"/>
          <p:cNvSpPr/>
          <p:nvPr/>
        </p:nvSpPr>
        <p:spPr>
          <a:xfrm>
            <a:off x="7040520" y="2459160"/>
            <a:ext cx="180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51"/>
          <p:cNvSpPr/>
          <p:nvPr/>
        </p:nvSpPr>
        <p:spPr>
          <a:xfrm>
            <a:off x="7848720" y="2286000"/>
            <a:ext cx="914400" cy="12193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54"/>
          <p:cNvSpPr/>
          <p:nvPr/>
        </p:nvSpPr>
        <p:spPr>
          <a:xfrm>
            <a:off x="7029360" y="379404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Управляющая кнопка: назад 42"/>
          <p:cNvSpPr/>
          <p:nvPr/>
        </p:nvSpPr>
        <p:spPr>
          <a:xfrm>
            <a:off x="7840800" y="6026040"/>
            <a:ext cx="1041120" cy="520920"/>
          </a:xfrm>
          <a:custGeom>
            <a:avLst/>
            <a:gdLst>
              <a:gd name="textAreaLeft" fmla="*/ 33480 w 1041120"/>
              <a:gd name="textAreaRight" fmla="*/ 1007640 w 1041120"/>
              <a:gd name="textAreaTop" fmla="*/ 33480 h 520920"/>
              <a:gd name="textAreaBottom" fmla="*/ 487440 h 520920"/>
            </a:gdLst>
            <a:ahLst/>
            <a:rect l="textAreaLeft" t="textAreaTop" r="textAreaRight" b="textAreaBottom"/>
            <a:pathLst>
              <a:path w="43155" h="21600">
                <a:moveTo>
                  <a:pt x="0" y="0"/>
                </a:moveTo>
                <a:lnTo>
                  <a:pt x="43155" y="0"/>
                </a:lnTo>
                <a:lnTo>
                  <a:pt x="43155" y="21600"/>
                </a:lnTo>
                <a:lnTo>
                  <a:pt x="0" y="21600"/>
                </a:lnTo>
                <a:close/>
              </a:path>
              <a:path fill="lightenLess" w="43155" h="21600">
                <a:moveTo>
                  <a:pt x="0" y="0"/>
                </a:moveTo>
                <a:lnTo>
                  <a:pt x="43155" y="0"/>
                </a:lnTo>
                <a:lnTo>
                  <a:pt x="41755" y="1400"/>
                </a:lnTo>
                <a:lnTo>
                  <a:pt x="1400" y="1400"/>
                </a:lnTo>
                <a:close/>
              </a:path>
              <a:path fill="darken" w="43155" h="21600">
                <a:moveTo>
                  <a:pt x="43155" y="0"/>
                </a:moveTo>
                <a:lnTo>
                  <a:pt x="43155" y="21600"/>
                </a:lnTo>
                <a:lnTo>
                  <a:pt x="41755" y="20200"/>
                </a:lnTo>
                <a:lnTo>
                  <a:pt x="41755" y="1400"/>
                </a:lnTo>
                <a:close/>
              </a:path>
              <a:path fill="darkenLess" w="43155" h="21600">
                <a:moveTo>
                  <a:pt x="43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5" y="20200"/>
                </a:lnTo>
                <a:close/>
              </a:path>
              <a:path fill="lighten" w="43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5" h="21600">
                <a:moveTo>
                  <a:pt x="14571" y="10800"/>
                </a:moveTo>
                <a:lnTo>
                  <a:pt x="28584" y="3794"/>
                </a:lnTo>
                <a:lnTo>
                  <a:pt x="2858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9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Облако 3"/>
          <p:cNvSpPr/>
          <p:nvPr/>
        </p:nvSpPr>
        <p:spPr>
          <a:xfrm rot="20726400">
            <a:off x="374760" y="1008000"/>
            <a:ext cx="5422680" cy="135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cc"/>
                </a:solidFill>
                <a:latin typeface="Times New Roman"/>
              </a:rPr>
              <a:t>Хорошо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Рисунок 2" descr="3dac96de6803d637fcc72bc4d0603195.gif"/>
          <p:cNvPicPr/>
          <p:nvPr/>
        </p:nvPicPr>
        <p:blipFill>
          <a:blip r:embed="rId1"/>
          <a:stretch/>
        </p:blipFill>
        <p:spPr>
          <a:xfrm>
            <a:off x="770040" y="4888080"/>
            <a:ext cx="1601640" cy="11379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" descr="3dac96de6803d637fcc72bc4d0603195.gif"/>
          <p:cNvPicPr/>
          <p:nvPr/>
        </p:nvPicPr>
        <p:blipFill>
          <a:blip r:embed="rId2"/>
          <a:stretch/>
        </p:blipFill>
        <p:spPr>
          <a:xfrm>
            <a:off x="3441600" y="2935440"/>
            <a:ext cx="1602000" cy="1139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Oval 9"/>
          <p:cNvSpPr/>
          <p:nvPr/>
        </p:nvSpPr>
        <p:spPr>
          <a:xfrm>
            <a:off x="7848720" y="4332240"/>
            <a:ext cx="563400" cy="7398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7848720" y="3429000"/>
            <a:ext cx="563400" cy="73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1"/>
          <p:cNvSpPr/>
          <p:nvPr/>
        </p:nvSpPr>
        <p:spPr>
          <a:xfrm>
            <a:off x="7848720" y="2523960"/>
            <a:ext cx="563400" cy="7398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5"/>
          <p:cNvSpPr/>
          <p:nvPr/>
        </p:nvSpPr>
        <p:spPr>
          <a:xfrm>
            <a:off x="7500960" y="4592520"/>
            <a:ext cx="347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1"/>
          <p:cNvSpPr/>
          <p:nvPr/>
        </p:nvSpPr>
        <p:spPr>
          <a:xfrm>
            <a:off x="7500960" y="39067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8"/>
          <p:cNvSpPr/>
          <p:nvPr/>
        </p:nvSpPr>
        <p:spPr>
          <a:xfrm>
            <a:off x="7848720" y="1600200"/>
            <a:ext cx="990360" cy="1371600"/>
          </a:xfrm>
          <a:prstGeom prst="ellipse">
            <a:avLst/>
          </a:prstGeom>
          <a:solidFill>
            <a:srgbClr val="ffd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Облако 1"/>
          <p:cNvSpPr/>
          <p:nvPr/>
        </p:nvSpPr>
        <p:spPr>
          <a:xfrm rot="20025000">
            <a:off x="296640" y="1368000"/>
            <a:ext cx="7203960" cy="1835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</a:rPr>
              <a:t>Молодец !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Рисунок 3" descr="44.gif"/>
          <p:cNvPicPr/>
          <p:nvPr/>
        </p:nvPicPr>
        <p:blipFill>
          <a:blip r:embed="rId1"/>
          <a:stretch/>
        </p:blipFill>
        <p:spPr>
          <a:xfrm>
            <a:off x="920880" y="4960800"/>
            <a:ext cx="1504800" cy="14702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44.gif"/>
          <p:cNvPicPr/>
          <p:nvPr/>
        </p:nvPicPr>
        <p:blipFill>
          <a:blip r:embed="rId2"/>
          <a:stretch/>
        </p:blipFill>
        <p:spPr>
          <a:xfrm>
            <a:off x="2849400" y="3719520"/>
            <a:ext cx="1246320" cy="135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2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  <a:ea typeface="Cambria Math"/>
              </a:rPr>
              <a:t>Шаблон  оформления  презен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Автор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Ермолаева Ирина Алексе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Название сай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Cambria Math"/>
                <a:ea typeface="Cambria Math"/>
              </a:rPr>
              <a:t>http://www.uchportal.ru/load/305-1-0-183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Анимации смайл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 Math"/>
                <a:ea typeface="Cambria Math"/>
              </a:rPr>
              <a:t>http://tapisarevskaya.rusedu.net/post/1415/153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AutoShape 121"/>
          <p:cNvGrpSpPr/>
          <p:nvPr/>
        </p:nvGrpSpPr>
        <p:grpSpPr>
          <a:xfrm>
            <a:off x="536400" y="4352760"/>
            <a:ext cx="2719080" cy="987480"/>
            <a:chOff x="536400" y="4352760"/>
            <a:chExt cx="2719080" cy="987480"/>
          </a:xfrm>
        </p:grpSpPr>
        <p:pic>
          <p:nvPicPr>
            <p:cNvPr id="54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38920" y="4353840"/>
              <a:ext cx="271656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36400" y="4352760"/>
              <a:ext cx="2716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се углы прямы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Облако 1"/>
          <p:cNvSpPr/>
          <p:nvPr/>
        </p:nvSpPr>
        <p:spPr>
          <a:xfrm>
            <a:off x="320760" y="1166760"/>
            <a:ext cx="8539200" cy="24415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Прямоугольным треугольником называется треугольник  у которого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AutoShape 121"/>
          <p:cNvGrpSpPr/>
          <p:nvPr/>
        </p:nvGrpSpPr>
        <p:grpSpPr>
          <a:xfrm>
            <a:off x="2487600" y="5589720"/>
            <a:ext cx="2517840" cy="993600"/>
            <a:chOff x="2487600" y="5589720"/>
            <a:chExt cx="2517840" cy="993600"/>
          </a:xfrm>
        </p:grpSpPr>
        <p:pic>
          <p:nvPicPr>
            <p:cNvPr id="58" name="AutoShape 121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487600" y="5589720"/>
              <a:ext cx="25178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489040" y="5589720"/>
              <a:ext cx="25146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ва угла прямы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AutoShape 121"/>
          <p:cNvGrpSpPr/>
          <p:nvPr/>
        </p:nvGrpSpPr>
        <p:grpSpPr>
          <a:xfrm>
            <a:off x="3938760" y="4359240"/>
            <a:ext cx="2517480" cy="987480"/>
            <a:chOff x="3938760" y="4359240"/>
            <a:chExt cx="2517480" cy="987480"/>
          </a:xfrm>
        </p:grpSpPr>
        <p:pic>
          <p:nvPicPr>
            <p:cNvPr id="61" name="AutoShape 121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3938760" y="4360320"/>
              <a:ext cx="2517480" cy="9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938760" y="4359240"/>
              <a:ext cx="25146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ин из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лов прямо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7"/>
          <a:stretch/>
        </p:blipFill>
        <p:spPr>
          <a:xfrm>
            <a:off x="7574040" y="4816440"/>
            <a:ext cx="1285920" cy="160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AutoShape 121"/>
          <p:cNvGrpSpPr/>
          <p:nvPr/>
        </p:nvGrpSpPr>
        <p:grpSpPr>
          <a:xfrm>
            <a:off x="476280" y="4170240"/>
            <a:ext cx="2511360" cy="987480"/>
            <a:chOff x="476280" y="4170240"/>
            <a:chExt cx="2511360" cy="987480"/>
          </a:xfrm>
        </p:grpSpPr>
        <p:pic>
          <p:nvPicPr>
            <p:cNvPr id="71" name="AutoShape 121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479160" y="4171320"/>
              <a:ext cx="250812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76280" y="4170240"/>
              <a:ext cx="25113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9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Облако 1"/>
          <p:cNvSpPr/>
          <p:nvPr/>
        </p:nvSpPr>
        <p:spPr>
          <a:xfrm>
            <a:off x="320760" y="1082520"/>
            <a:ext cx="8823240" cy="251964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Сумма острых углов прямоугольного треугольника. рав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AutoShape 121"/>
          <p:cNvGrpSpPr/>
          <p:nvPr/>
        </p:nvGrpSpPr>
        <p:grpSpPr>
          <a:xfrm>
            <a:off x="2639880" y="5346720"/>
            <a:ext cx="2517840" cy="993600"/>
            <a:chOff x="2639880" y="5346720"/>
            <a:chExt cx="2517840" cy="993600"/>
          </a:xfrm>
        </p:grpSpPr>
        <p:pic>
          <p:nvPicPr>
            <p:cNvPr id="75" name="AutoShape 121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639880" y="5346720"/>
              <a:ext cx="251784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639880" y="5346720"/>
              <a:ext cx="25146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6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AutoShape 121"/>
          <p:cNvGrpSpPr/>
          <p:nvPr/>
        </p:nvGrpSpPr>
        <p:grpSpPr>
          <a:xfrm>
            <a:off x="4413240" y="4170240"/>
            <a:ext cx="2511360" cy="987480"/>
            <a:chOff x="4413240" y="4170240"/>
            <a:chExt cx="2511360" cy="987480"/>
          </a:xfrm>
        </p:grpSpPr>
        <p:pic>
          <p:nvPicPr>
            <p:cNvPr id="78" name="AutoShape 12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414320" y="4171320"/>
              <a:ext cx="250812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413240" y="4170240"/>
              <a:ext cx="25113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18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7"/>
          <a:stretch/>
        </p:blipFill>
        <p:spPr>
          <a:xfrm>
            <a:off x="7574040" y="4816440"/>
            <a:ext cx="1285920" cy="1606680"/>
          </a:xfrm>
          <a:prstGeom prst="rect">
            <a:avLst/>
          </a:prstGeom>
          <a:ln w="0">
            <a:noFill/>
          </a:ln>
        </p:spPr>
      </p:pic>
      <p:grpSp>
        <p:nvGrpSpPr>
          <p:cNvPr id="83" name="Облако 14"/>
          <p:cNvGrpSpPr/>
          <p:nvPr/>
        </p:nvGrpSpPr>
        <p:grpSpPr>
          <a:xfrm>
            <a:off x="1305000" y="1231920"/>
            <a:ext cx="6553080" cy="2498760"/>
            <a:chOff x="1305000" y="1231920"/>
            <a:chExt cx="6553080" cy="2498760"/>
          </a:xfrm>
        </p:grpSpPr>
        <p:pic>
          <p:nvPicPr>
            <p:cNvPr id="84" name="Облако 14" descr=""/>
            <p:cNvPicPr/>
            <p:nvPr/>
          </p:nvPicPr>
          <p:blipFill>
            <a:blip r:embed="rId8"/>
            <a:stretch/>
          </p:blipFill>
          <p:spPr>
            <a:xfrm>
              <a:off x="1305000" y="1231920"/>
              <a:ext cx="6553080" cy="24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 rot="20854200">
              <a:off x="2166840" y="1978200"/>
              <a:ext cx="4359240" cy="11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Верно ! Продолжае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 repeatCount="1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AutoShape 121"/>
          <p:cNvGrpSpPr/>
          <p:nvPr/>
        </p:nvGrpSpPr>
        <p:grpSpPr>
          <a:xfrm>
            <a:off x="628560" y="4065480"/>
            <a:ext cx="3632400" cy="987480"/>
            <a:chOff x="628560" y="4065480"/>
            <a:chExt cx="3632400" cy="987480"/>
          </a:xfrm>
        </p:grpSpPr>
        <p:pic>
          <p:nvPicPr>
            <p:cNvPr id="91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31440" y="4065480"/>
              <a:ext cx="362592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8560" y="4065480"/>
              <a:ext cx="3632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Облако 1"/>
          <p:cNvSpPr/>
          <p:nvPr/>
        </p:nvSpPr>
        <p:spPr>
          <a:xfrm>
            <a:off x="320760" y="1082520"/>
            <a:ext cx="8539200" cy="28749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В прямоугольном треугольнике отношение противолежащего катета к гипотенузе. назыв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AutoShape 121"/>
          <p:cNvGrpSpPr/>
          <p:nvPr/>
        </p:nvGrpSpPr>
        <p:grpSpPr>
          <a:xfrm>
            <a:off x="2487600" y="5211720"/>
            <a:ext cx="3552840" cy="987480"/>
            <a:chOff x="2487600" y="5211720"/>
            <a:chExt cx="3552840" cy="987480"/>
          </a:xfrm>
        </p:grpSpPr>
        <p:pic>
          <p:nvPicPr>
            <p:cNvPr id="95" name="AutoShape 121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487600" y="5212800"/>
              <a:ext cx="3552840" cy="9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489040" y="5211720"/>
              <a:ext cx="3551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анген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AutoShape 121"/>
          <p:cNvGrpSpPr/>
          <p:nvPr/>
        </p:nvGrpSpPr>
        <p:grpSpPr>
          <a:xfrm>
            <a:off x="4791240" y="4059360"/>
            <a:ext cx="3267000" cy="988920"/>
            <a:chOff x="4791240" y="4059360"/>
            <a:chExt cx="3267000" cy="988920"/>
          </a:xfrm>
        </p:grpSpPr>
        <p:pic>
          <p:nvPicPr>
            <p:cNvPr id="98" name="AutoShape 1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794120" y="4059360"/>
              <a:ext cx="3260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91240" y="4059360"/>
              <a:ext cx="326700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8"/>
          <a:stretch/>
        </p:blipFill>
        <p:spPr>
          <a:xfrm>
            <a:off x="7574040" y="4816440"/>
            <a:ext cx="1285920" cy="1606680"/>
          </a:xfrm>
          <a:prstGeom prst="rect">
            <a:avLst/>
          </a:prstGeom>
          <a:ln w="0">
            <a:noFill/>
          </a:ln>
        </p:spPr>
      </p:pic>
      <p:grpSp>
        <p:nvGrpSpPr>
          <p:cNvPr id="103" name="Облако 14"/>
          <p:cNvGrpSpPr/>
          <p:nvPr/>
        </p:nvGrpSpPr>
        <p:grpSpPr>
          <a:xfrm>
            <a:off x="1322280" y="1238400"/>
            <a:ext cx="6553440" cy="2498400"/>
            <a:chOff x="1322280" y="1238400"/>
            <a:chExt cx="6553440" cy="2498400"/>
          </a:xfrm>
        </p:grpSpPr>
        <p:pic>
          <p:nvPicPr>
            <p:cNvPr id="104" name="Облако 14" descr=""/>
            <p:cNvPicPr/>
            <p:nvPr/>
          </p:nvPicPr>
          <p:blipFill>
            <a:blip r:embed="rId9"/>
            <a:stretch/>
          </p:blipFill>
          <p:spPr>
            <a:xfrm>
              <a:off x="1322280" y="1238400"/>
              <a:ext cx="6553440" cy="24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20854200">
              <a:off x="2185560" y="1986120"/>
              <a:ext cx="43592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Верно ! Продолжае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xit" presetID="10" repeatCount="1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AutoShape 121"/>
          <p:cNvGrpSpPr/>
          <p:nvPr/>
        </p:nvGrpSpPr>
        <p:grpSpPr>
          <a:xfrm>
            <a:off x="324000" y="3809880"/>
            <a:ext cx="4076640" cy="987480"/>
            <a:chOff x="324000" y="3809880"/>
            <a:chExt cx="4076640" cy="987480"/>
          </a:xfrm>
        </p:grpSpPr>
        <p:pic>
          <p:nvPicPr>
            <p:cNvPr id="111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26880" y="3809880"/>
              <a:ext cx="407016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24000" y="3809880"/>
              <a:ext cx="407664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два раза больше гипотенуз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Облако 1"/>
          <p:cNvSpPr/>
          <p:nvPr/>
        </p:nvSpPr>
        <p:spPr>
          <a:xfrm>
            <a:off x="246240" y="1036800"/>
            <a:ext cx="8613720" cy="277308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В прямоугольном треугольнике, катет лежащий против угла в 30°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AutoShape 121"/>
          <p:cNvGrpSpPr/>
          <p:nvPr/>
        </p:nvGrpSpPr>
        <p:grpSpPr>
          <a:xfrm>
            <a:off x="2030400" y="5327640"/>
            <a:ext cx="4370400" cy="993960"/>
            <a:chOff x="2030400" y="5327640"/>
            <a:chExt cx="4370400" cy="993960"/>
          </a:xfrm>
        </p:grpSpPr>
        <p:pic>
          <p:nvPicPr>
            <p:cNvPr id="115" name="AutoShape 121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2030400" y="5327640"/>
              <a:ext cx="43704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2031840" y="5327640"/>
              <a:ext cx="43689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половине гипотенуз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AutoShape 121"/>
          <p:cNvGrpSpPr/>
          <p:nvPr/>
        </p:nvGrpSpPr>
        <p:grpSpPr>
          <a:xfrm>
            <a:off x="4950000" y="3809880"/>
            <a:ext cx="2901600" cy="987480"/>
            <a:chOff x="4950000" y="3809880"/>
            <a:chExt cx="2901600" cy="987480"/>
          </a:xfrm>
        </p:grpSpPr>
        <p:pic>
          <p:nvPicPr>
            <p:cNvPr id="118" name="AutoShape 121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951440" y="3809880"/>
              <a:ext cx="28980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950000" y="3809880"/>
              <a:ext cx="290160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еньше гипотенуз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7"/>
          <a:stretch/>
        </p:blipFill>
        <p:spPr>
          <a:xfrm>
            <a:off x="7574040" y="4816440"/>
            <a:ext cx="1285920" cy="1606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AutoShape 121"/>
          <p:cNvGrpSpPr/>
          <p:nvPr/>
        </p:nvGrpSpPr>
        <p:grpSpPr>
          <a:xfrm>
            <a:off x="244440" y="4419720"/>
            <a:ext cx="3041640" cy="987480"/>
            <a:chOff x="244440" y="4419720"/>
            <a:chExt cx="3041640" cy="987480"/>
          </a:xfrm>
        </p:grpSpPr>
        <p:pic>
          <p:nvPicPr>
            <p:cNvPr id="128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4440" y="4419720"/>
              <a:ext cx="3041640" cy="9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46240" y="4419720"/>
              <a:ext cx="303984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Облако 1"/>
          <p:cNvSpPr/>
          <p:nvPr/>
        </p:nvSpPr>
        <p:spPr>
          <a:xfrm>
            <a:off x="320760" y="1082520"/>
            <a:ext cx="8823240" cy="29847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В прямоугольном треугольнике, отношение прилежащего катета к гипотенузе называется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AutoShape 121"/>
          <p:cNvGrpSpPr/>
          <p:nvPr/>
        </p:nvGrpSpPr>
        <p:grpSpPr>
          <a:xfrm>
            <a:off x="2487600" y="5619600"/>
            <a:ext cx="3284640" cy="989280"/>
            <a:chOff x="2487600" y="5619600"/>
            <a:chExt cx="3284640" cy="989280"/>
          </a:xfrm>
        </p:grpSpPr>
        <p:pic>
          <p:nvPicPr>
            <p:cNvPr id="132" name="AutoShape 121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487600" y="5619600"/>
              <a:ext cx="3281400" cy="98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487600" y="5619600"/>
              <a:ext cx="3284640" cy="9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анген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AutoShape 121"/>
          <p:cNvGrpSpPr/>
          <p:nvPr/>
        </p:nvGrpSpPr>
        <p:grpSpPr>
          <a:xfrm>
            <a:off x="3627360" y="4462560"/>
            <a:ext cx="4052880" cy="987480"/>
            <a:chOff x="3627360" y="4462560"/>
            <a:chExt cx="4052880" cy="987480"/>
          </a:xfrm>
        </p:grpSpPr>
        <p:pic>
          <p:nvPicPr>
            <p:cNvPr id="135" name="AutoShape 1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628440" y="4465440"/>
              <a:ext cx="404964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627360" y="4462560"/>
              <a:ext cx="405288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8"/>
          <a:stretch/>
        </p:blipFill>
        <p:spPr>
          <a:xfrm>
            <a:off x="7574040" y="4816440"/>
            <a:ext cx="1285920" cy="1606680"/>
          </a:xfrm>
          <a:prstGeom prst="rect">
            <a:avLst/>
          </a:prstGeom>
          <a:ln w="0">
            <a:noFill/>
          </a:ln>
        </p:spPr>
      </p:pic>
      <p:grpSp>
        <p:nvGrpSpPr>
          <p:cNvPr id="140" name="Облако 14"/>
          <p:cNvGrpSpPr/>
          <p:nvPr/>
        </p:nvGrpSpPr>
        <p:grpSpPr>
          <a:xfrm>
            <a:off x="1579680" y="1311120"/>
            <a:ext cx="6553080" cy="2505240"/>
            <a:chOff x="1579680" y="1311120"/>
            <a:chExt cx="6553080" cy="2505240"/>
          </a:xfrm>
        </p:grpSpPr>
        <p:pic>
          <p:nvPicPr>
            <p:cNvPr id="141" name="Облако 14" descr=""/>
            <p:cNvPicPr/>
            <p:nvPr/>
          </p:nvPicPr>
          <p:blipFill>
            <a:blip r:embed="rId9"/>
            <a:stretch/>
          </p:blipFill>
          <p:spPr>
            <a:xfrm>
              <a:off x="1579680" y="1311120"/>
              <a:ext cx="6553080" cy="25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20854200">
              <a:off x="2445840" y="2060640"/>
              <a:ext cx="43592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Верно ! Продолжаем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 repeatCount="1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AutoShape 121"/>
          <p:cNvGrpSpPr/>
          <p:nvPr/>
        </p:nvGrpSpPr>
        <p:grpSpPr>
          <a:xfrm>
            <a:off x="4992840" y="3602160"/>
            <a:ext cx="3730320" cy="1298520"/>
            <a:chOff x="4992840" y="3602160"/>
            <a:chExt cx="3730320" cy="1298520"/>
          </a:xfrm>
        </p:grpSpPr>
        <p:pic>
          <p:nvPicPr>
            <p:cNvPr id="148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995720" y="3602160"/>
              <a:ext cx="37238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992840" y="3602160"/>
              <a:ext cx="3730320" cy="12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вадрат гипотенузы раве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умме квадратов катет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Облако 1"/>
          <p:cNvSpPr/>
          <p:nvPr/>
        </p:nvSpPr>
        <p:spPr>
          <a:xfrm>
            <a:off x="320760" y="1082520"/>
            <a:ext cx="8539200" cy="251964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Теорема Пифагора, для прямоугольного треуголь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AutoShape 121"/>
          <p:cNvGrpSpPr/>
          <p:nvPr/>
        </p:nvGrpSpPr>
        <p:grpSpPr>
          <a:xfrm>
            <a:off x="2487600" y="5327640"/>
            <a:ext cx="3913200" cy="993960"/>
            <a:chOff x="2487600" y="5327640"/>
            <a:chExt cx="3913200" cy="993960"/>
          </a:xfrm>
        </p:grpSpPr>
        <p:pic>
          <p:nvPicPr>
            <p:cNvPr id="152" name="AutoShape 121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2487600" y="5327640"/>
              <a:ext cx="39132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487600" y="5327640"/>
              <a:ext cx="3913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гипотенуза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умме квадратов катет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AutoShape 121"/>
          <p:cNvGrpSpPr/>
          <p:nvPr/>
        </p:nvGrpSpPr>
        <p:grpSpPr>
          <a:xfrm>
            <a:off x="371520" y="3797280"/>
            <a:ext cx="4028760" cy="1218960"/>
            <a:chOff x="371520" y="3797280"/>
            <a:chExt cx="4028760" cy="1218960"/>
          </a:xfrm>
        </p:grpSpPr>
        <p:pic>
          <p:nvPicPr>
            <p:cNvPr id="155" name="AutoShape 121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371520" y="3797280"/>
              <a:ext cx="4025880" cy="12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74400" y="3800160"/>
              <a:ext cx="402588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вадрат гипотенузы раве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умме катето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8"/>
          <a:stretch/>
        </p:blipFill>
        <p:spPr>
          <a:xfrm>
            <a:off x="7515360" y="5019840"/>
            <a:ext cx="1285920" cy="160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246240" y="236520"/>
            <a:ext cx="601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Прямоугольный треугольн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640080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1"/>
          <p:cNvSpPr/>
          <p:nvPr/>
        </p:nvSpPr>
        <p:spPr>
          <a:xfrm>
            <a:off x="68882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ddd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2"/>
          <p:cNvSpPr/>
          <p:nvPr/>
        </p:nvSpPr>
        <p:spPr>
          <a:xfrm>
            <a:off x="7345440" y="5032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AutoShape 121"/>
          <p:cNvGrpSpPr/>
          <p:nvPr/>
        </p:nvGrpSpPr>
        <p:grpSpPr>
          <a:xfrm>
            <a:off x="3833640" y="4602240"/>
            <a:ext cx="3969000" cy="1012680"/>
            <a:chOff x="3833640" y="4602240"/>
            <a:chExt cx="3969000" cy="1012680"/>
          </a:xfrm>
        </p:grpSpPr>
        <p:pic>
          <p:nvPicPr>
            <p:cNvPr id="165" name="AutoShape 12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833640" y="4602240"/>
              <a:ext cx="3969000" cy="101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3835440" y="4602240"/>
              <a:ext cx="396720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анген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Облако 1"/>
          <p:cNvSpPr/>
          <p:nvPr/>
        </p:nvSpPr>
        <p:spPr>
          <a:xfrm>
            <a:off x="320760" y="1082520"/>
            <a:ext cx="8539200" cy="333216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В прямоугольном треугольнике отношение противолежащего катета к прилежащему катету, называет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AutoShape 121"/>
          <p:cNvGrpSpPr/>
          <p:nvPr/>
        </p:nvGrpSpPr>
        <p:grpSpPr>
          <a:xfrm>
            <a:off x="2567160" y="5632560"/>
            <a:ext cx="3382560" cy="993600"/>
            <a:chOff x="2567160" y="5632560"/>
            <a:chExt cx="3382560" cy="993600"/>
          </a:xfrm>
        </p:grpSpPr>
        <p:pic>
          <p:nvPicPr>
            <p:cNvPr id="169" name="AutoShape 121" descr=""/>
            <p:cNvPicPr/>
            <p:nvPr/>
          </p:nvPicPr>
          <p:blipFill>
            <a:blip r:embed="rId4"/>
            <a:stretch/>
          </p:blipFill>
          <p:spPr>
            <a:xfrm>
              <a:off x="2568600" y="5632560"/>
              <a:ext cx="338112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567160" y="5635800"/>
              <a:ext cx="3381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ко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AutoShape 121"/>
          <p:cNvGrpSpPr/>
          <p:nvPr/>
        </p:nvGrpSpPr>
        <p:grpSpPr>
          <a:xfrm>
            <a:off x="450720" y="4627440"/>
            <a:ext cx="3286080" cy="987480"/>
            <a:chOff x="450720" y="4627440"/>
            <a:chExt cx="3286080" cy="987480"/>
          </a:xfrm>
        </p:grpSpPr>
        <p:pic>
          <p:nvPicPr>
            <p:cNvPr id="172" name="AutoShape 121" descr=""/>
            <p:cNvPicPr/>
            <p:nvPr/>
          </p:nvPicPr>
          <p:blipFill>
            <a:blip r:embed="rId5"/>
            <a:stretch/>
          </p:blipFill>
          <p:spPr>
            <a:xfrm>
              <a:off x="450720" y="4628520"/>
              <a:ext cx="328608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52520" y="4627440"/>
              <a:ext cx="328428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инусом острого уг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AutoShape 6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66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6"/>
          <a:stretch/>
        </p:blipFill>
        <p:spPr>
          <a:xfrm>
            <a:off x="7515360" y="5019840"/>
            <a:ext cx="1285920" cy="160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1" descr="0451"/>
          <p:cNvPicPr/>
          <p:nvPr/>
        </p:nvPicPr>
        <p:blipFill>
          <a:blip r:embed="rId1"/>
          <a:stretch/>
        </p:blipFill>
        <p:spPr>
          <a:xfrm>
            <a:off x="1049400" y="4178160"/>
            <a:ext cx="3058920" cy="1838520"/>
          </a:xfrm>
          <a:prstGeom prst="rect">
            <a:avLst/>
          </a:prstGeom>
          <a:ln w="0">
            <a:noFill/>
          </a:ln>
        </p:spPr>
      </p:pic>
      <p:grpSp>
        <p:nvGrpSpPr>
          <p:cNvPr id="178" name="Облако 3"/>
          <p:cNvGrpSpPr/>
          <p:nvPr/>
        </p:nvGrpSpPr>
        <p:grpSpPr>
          <a:xfrm>
            <a:off x="585720" y="701640"/>
            <a:ext cx="8491680" cy="2711520"/>
            <a:chOff x="585720" y="701640"/>
            <a:chExt cx="8491680" cy="2711520"/>
          </a:xfrm>
        </p:grpSpPr>
        <p:pic>
          <p:nvPicPr>
            <p:cNvPr id="179" name="Облако 3" descr=""/>
            <p:cNvPicPr/>
            <p:nvPr/>
          </p:nvPicPr>
          <p:blipFill>
            <a:blip r:embed="rId2"/>
            <a:stretch/>
          </p:blipFill>
          <p:spPr>
            <a:xfrm>
              <a:off x="585720" y="701640"/>
              <a:ext cx="849168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rot="21123000">
              <a:off x="1742760" y="1420920"/>
              <a:ext cx="5578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Ответ не верный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ff0000"/>
                  </a:solidFill>
                  <a:latin typeface="Times New Roman"/>
                </a:rPr>
                <a:t>Продолжим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Управляющая кнопка: далее 4"/>
          <p:cNvSpPr/>
          <p:nvPr/>
        </p:nvSpPr>
        <p:spPr>
          <a:xfrm>
            <a:off x="7905600" y="6016680"/>
            <a:ext cx="809640" cy="520560"/>
          </a:xfrm>
          <a:custGeom>
            <a:avLst/>
            <a:gdLst>
              <a:gd name="textAreaLeft" fmla="*/ 33480 w 809640"/>
              <a:gd name="textAreaRight" fmla="*/ 776160 w 809640"/>
              <a:gd name="textAreaTop" fmla="*/ 33480 h 520560"/>
              <a:gd name="textAreaBottom" fmla="*/ 487080 h 520560"/>
            </a:gdLst>
            <a:ahLst/>
            <a:rect l="textAreaLeft" t="textAreaTop" r="textAreaRight" b="textAreaBottom"/>
            <a:pathLst>
              <a:path w="33587" h="21600">
                <a:moveTo>
                  <a:pt x="0" y="0"/>
                </a:moveTo>
                <a:lnTo>
                  <a:pt x="33587" y="0"/>
                </a:lnTo>
                <a:lnTo>
                  <a:pt x="33587" y="21600"/>
                </a:lnTo>
                <a:lnTo>
                  <a:pt x="0" y="21600"/>
                </a:lnTo>
                <a:close/>
              </a:path>
              <a:path fill="lightenLess" w="33587" h="21600">
                <a:moveTo>
                  <a:pt x="0" y="0"/>
                </a:moveTo>
                <a:lnTo>
                  <a:pt x="33587" y="0"/>
                </a:lnTo>
                <a:lnTo>
                  <a:pt x="32187" y="1400"/>
                </a:lnTo>
                <a:lnTo>
                  <a:pt x="1400" y="1400"/>
                </a:lnTo>
                <a:close/>
              </a:path>
              <a:path fill="darken" w="33587" h="21600">
                <a:moveTo>
                  <a:pt x="33587" y="0"/>
                </a:moveTo>
                <a:lnTo>
                  <a:pt x="33587" y="21600"/>
                </a:lnTo>
                <a:lnTo>
                  <a:pt x="32187" y="20200"/>
                </a:lnTo>
                <a:lnTo>
                  <a:pt x="32187" y="1400"/>
                </a:lnTo>
                <a:close/>
              </a:path>
              <a:path fill="darkenLess" w="33587" h="21600">
                <a:moveTo>
                  <a:pt x="33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87" y="20200"/>
                </a:lnTo>
                <a:close/>
              </a:path>
              <a:path fill="lighten" w="33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87" h="21600">
                <a:moveTo>
                  <a:pt x="9787" y="3794"/>
                </a:moveTo>
                <a:lnTo>
                  <a:pt x="23800" y="10800"/>
                </a:lnTo>
                <a:lnTo>
                  <a:pt x="978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5T18:04:36Z</dcterms:created>
  <dc:creator>WWW</dc:creator>
  <dc:description/>
  <dc:language>en-US</dc:language>
  <cp:lastModifiedBy>Светлана</cp:lastModifiedBy>
  <dcterms:modified xsi:type="dcterms:W3CDTF">2018-12-08T09:13:11Z</dcterms:modified>
  <cp:revision>207</cp:revision>
  <dc:subject/>
  <dc:title>Заголовок слайда отсутствует</dc:title>
</cp:coreProperties>
</file>