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7B43-CC72-46EA-97D5-B251588D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FBFF-9FD6-48B5-8CAE-18924366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F877-F1E9-4EB7-A9D4-010F9A44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6ED3-9DA9-4918-B90D-A7E7486E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BF47-A9E9-4AA6-94DC-C2D7E6C2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3B8D-1645-4252-93A0-CAE9D0A6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97EE-134D-4CE8-B2C3-B19D9E32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C00C-E48D-492B-8BC6-7466B259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654D-7B37-4A7B-BA59-494CFB1D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087D-57D4-4211-B4F8-5CF5AEA2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0233-168F-4BBC-B44C-CCCA7216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8524-FEAC-45FB-BA2E-04750390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A383-C8E8-491F-8C34-731FA432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7D3A-451E-4983-8D35-2208B251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0217-2E03-45ED-B08C-FFC55703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3076-5CA4-4BAC-A60A-74FCCB95E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8D94-1F0C-483C-9B25-0C9EE643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AAB1-F10D-4CA2-A6F7-75F92D49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4054-0A92-43D5-8708-756E6ACB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036F-0A59-4230-B5A6-967761E0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BC38-1F06-41D6-A357-4668527D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A6BF-7AA0-41BD-B32D-F697B60F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BBC8-34BF-497B-AF99-FCC24130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7B70-8E36-4F7D-ACED-EBFDF89E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6902-33E2-4FFC-9FE6-70874270C0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E2AE-94A4-44A6-BC7E-D8D7170380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170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ecff"/>
                </a:solidFill>
                <a:latin typeface="Arial"/>
              </a:rPr>
              <a:t>Активные методы обучения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Выполнила Воспитатель ГБОУ «ШКОЛА 851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Самохина А.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Семинар-дискусс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3816360" cy="4237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3995280" y="549000"/>
            <a:ext cx="496908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Семинар-дискуссия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групповая дискуссия) характеризуется как процесс диалогического общения участников, в ходе которого происходит формирование практического опыта совместного участия в обсуждении и разрешении пробле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Участники учатся точно выражать свои мысли   отстаивать свою точку зрения. Особая роль в семинаре-дискуссии принадлежит педагогу. Он определяет проблему, которая будет рассматриваться на семинаре, подбирает  дополнительный материал, во время дискуссии  задает вопросы, делает отдельные замеча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ема дискуссии «Что такое набросок рисунка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3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едагог рисует на магнитной доске черным маркером всё то, что предлагают дети на тему «Весенняя картинка». Затем в процессе коллективного обсуждения участники дискуссии делают вывод, что не используя цвет, а только  рисуя контур предметов, получаем набросок рисунка. Таким образом практическим путём можно подвести детей к понятию «Карандашный набросок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«Круглый стол»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.«Круглый стол»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дна из организационных форм познавательной деятельности учащихся, позволяющая закрепить полученные ранее знания, восполнить недостающую информацию,  научить культуре ведения дискуссии.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ряду с активным обменом знаниями, у учащихся вырабатываются умения излагать мысли,  отстаивать свои убежд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сновную часть «круглого стола» по любой тематике составляет дискуссия, т.е. всестороннее обсуждение спорного вопроса в коллективе, в частной бесед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ема игрового Круглого стола: «Что важнее всего на столе портного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едагог представляет детям различные рабочие предметы портного (ткань, игла, нитки, напёрсток, ножницы и др.). Дети выбирая себе конкретный предмет пытаются отстоять его главенство в работе портного. Экспериментируя только с одним предметом дети постепенно приходят к выводу, что важны все предметы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788000" y="3357720"/>
            <a:ext cx="3822480" cy="3166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788000" y="620640"/>
            <a:ext cx="3744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Мозговой штурм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643280" y="765000"/>
            <a:ext cx="4038840" cy="266076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озговой штурм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- широко применяемый способ продуцирования новых идей для решения практических проблем. Его цель — организация коллективной мыслительной деятельности по поиску нетрадиционных путей решения пробле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блема, формулируемая на занятии по методике мозгового штурма, должна иметь теоретическую или практическую актуальность и вызывать активный интерес участников. Общим требованием, которое необходимо учитывать при выборе проблемы для мозгового штурма — возможность многих неоднозначных вариантов решения проблемы, которая выдвигается перед детьми как учебная задач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125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«Дорожная азбука» Перед детьми ставиться задача аппликативно изобразить дорожный знак. Предварительно проводится работа по поиску путей решения практической деятельности: какой формы знак, какого размера , цвета, какое изображение на знаке. Дети подбирают в окружающем пространстве предметы, которые можно использовать как шаблоны для получения  плоского изображения. С помощью наводящих вопросов решают как более рационально сделать конкретное изображени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68360" y="765000"/>
            <a:ext cx="375444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Деловая игр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335736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Деловая игра —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 имитации ситуаций, моделирующих профессиональную или иную деятельность путем игры, по заданным правил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авила деловой игры определяются выбранной деятельностью. Одним из ее вариантов являются ролевые игры, в которых участники точно имитируют все ролевые действия и не могут от них отступать. Организационно-деловые игры требуют  серьезной  подготовки (игровое пространство, предметы атрибуты, костюмы). Драматизация и театрализация стали одним из вариантов деловой игры и широко используются.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Драматизация —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нсценирование, разыгрывание по ролям содержания учебного материала на занятиях. Ролями могут наделяться не только живые персонажи, но и любые неживые предмет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3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еловая игра «Играем с малышами» . В данной работе дети могли представить себя артистами, аниматорами, воспитателями. Старшие дошкольники театрализовано знакомили младших со сказкой Сутеева «Петух и краски», а затем учили их правильно раскрашивать иллюстрацию к данной сказк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3182760" cy="25923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4932360" y="620640"/>
            <a:ext cx="31161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Активные методы позволяют эффективно решать конкретные задачи образовательного и воспитательного процесс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именение Активных методов обучения в образовательном процессе стимулируют мыслительную, познавательную деятельность обучаемых, дают возможность использовать различные формы организации работы с детьми. Данные методы позволяют обеспечить активность и разнообразие практической деятельности обучаемых в процессе освоения знания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Активные методы дают возможность эффективно осуществлять воспитательный процесс. Как то формирование нравственных установок и ценностных ориентир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араллельно с обучением и воспитанием, применение активных методов способствуют становлению и развитию у обучаемых интегративных навыков, таких как: способность принимать решения, умение четко формулировать и отстаивать свои убеждения, умение работать в команде, толерантное отношение к чужому мнению, формирование лидерских качест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современных условиях «…объединения обучения и воспитания в целостный образовательный процесс на основе духовно-нравственных и социокультурных ценностей и принятых в обществе правил и норм поведения в интересах человека, семьи, общества…» основной целью образования является развитие личности ребёнка, выявление и развитие индивидуального творческого потенциала, формирование эмоциональной сферы, укрепление физического и психического здоровья дет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Успех образовательного процесса во многом зависит от применяемых методов обучения. Стремление педагогов добиться высокой результативности образовательного процесса и активизировать познавательную деятельность детей сопровождается всё большим использованием в педагогической работе методов активного обучения (в дальнейшем АМО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Активный метод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– это форма взаимодействия педагога и детей, при которой обе стороны взаимодействуют друг с другом в ходе образовательной деятельности и ребёнок становится активным участником всего процесс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ктивизация обучения может идти как посредством совершенствования форм и методов обучения, так и посредством совершенствования организации и управления учебным процессом в целом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спользование активных методов в работе с дошкольникам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3500280"/>
            <a:ext cx="3168720" cy="26193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3132000" y="836280"/>
            <a:ext cx="583272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недрение ФГОС в современную образовательную систему  вносит коррективы в содержание дошкольного образова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овая образовательная ситуация требует использования методов, отвечающих новым подходам организации обучен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ктивные методы обучения являются одним из наиболее эффективных средств вовлечения детей в учебно-познавательную деятельнос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ктивные методы обеспечивают решение многих образовательных задач 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повышение познавательной активности дете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активное вовлечение детей в образовательный процесс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стимулирование самостоятельной деятельн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развитие психических процессов - речи, памяти, мышл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эффективное усвоение информаци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развитие творческих способносте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формирование мыслительной деятельн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развитие эмоциональной сферы ребенк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раскрытие индивидуальных способностей каждого ребенк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дошкольном возрасте привычной формой деятельности является игра, логично использовать эту форму деятельности для обучения, объединив игру и учебно-воспитательный процесс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08000" y="836640"/>
            <a:ext cx="302400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Проблемное обучени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186920" y="4365720"/>
            <a:ext cx="2737080" cy="2303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076360" y="4292640"/>
            <a:ext cx="2592360" cy="21146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24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Проблемное обучение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— такая форма, в которой познавательная деятельность тесно связана с поисковой, исследовательско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лавная задача педагога — не столько передать информацию, сколько ввести детей в противоречивую ситуацию и подвести к способам её разреш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 помощью методических приемов (постановка проблемных вопросов, выдвижение гипотез, их подтверждение или опровержение, анализ ситуации и др.) педагог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побуждает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етей к размышлению, поиску неизвестного зна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ажнейшая роль в проблемном обучении принадлежит общению диалогического типа, а также эмоциональности педагог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Dotum"/>
              </a:rPr>
              <a:t>Проблемная ситуация: Дорожный знак «Пешеходный переход». Почему один и тот же знак выглядит по разному?   (Дети путём рассуждений, диалога с педагогом, проблемных вопросов, приходят к выводу, что один знак, информационный (синий) ставится на переходе для пешеходов, а красный, предупреждающий, стоит на расстоянии от перехода для водителей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&amp;Pcy;&amp;rcy;&amp;iecy;&amp;dcy;&amp;ucy;&amp;pcy;&amp;rcy;&amp;iecy;&amp;zhcy;&amp;dcy;&amp;acy;&amp;yucy;&amp;shchcy;&amp;icy;&amp;iecy; &amp;dcy;&amp;ocy;&amp;rcy;&amp;ocy;&amp;zhcy;&amp;ncy;&amp;ycy;&amp;iecy; &amp;zcy;&amp;ncy;&amp;acy;&amp;kcy;&amp;icy; &quot; &amp;Acy;&amp;vcy;&amp;tcy;&amp;ocy;&amp;shcy;&amp;kcy;&amp;ocy;&amp;lcy;&amp;acy; &amp;Fcy;&amp;ocy;&amp;rcy;&amp;scy;&amp;acy;&amp;zhcy; &amp;gcy;. &amp;Acy;&amp;lcy;&amp;acy;&amp;pcy;&amp;acy;&amp;iecy;&amp;vcy;…"/>
          <p:cNvPicPr/>
          <p:nvPr/>
        </p:nvPicPr>
        <p:blipFill>
          <a:blip r:embed="rId3"/>
          <a:stretch/>
        </p:blipFill>
        <p:spPr>
          <a:xfrm>
            <a:off x="1116000" y="4365720"/>
            <a:ext cx="2724120" cy="2293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076720" y="4292640"/>
            <a:ext cx="259236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5003640" y="4292640"/>
            <a:ext cx="288144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Разыгрывание ролей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550872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3.Разыгрывание ролей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— игровой метод характеризующийся:  наличием  проблемы и распределением ролей между участниками, которые будут  её решать.  Взаимодействие участников обычно происходит посредством проведения дискуссии. Каждый из участников может в процессе обсуждения соглашаться или не соглашаться с противоположным мнением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едагог в процессе занятия может  корректировать условия и направлять обсуждение в определённую сторону. •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3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итуация «Друзья поссорились». Используя пальчиковых героев, сделанных своими руками, можно интересно и весело  обыграть сложную конфликтную ситуацию и найти решение проблемы. Игрушки для разыгрывания ролей легко сделать самим. Из бумаги с помощью шаблонов вырезать костюм мальчика или девочки, одеть на пальчик, на подушечке пальца нарисовать личико и кукла готова. Игрушки не требуют сложности в управлении, достаточно надеть игрушку на пальчик и поворачивать ею в разные стороны, главное, чтобы она смотрела в нужном направлении. Получая положительные эмоции от игры дети незаметно для себя выходят из конфликтной ситуации, а ведя между собой диалог от лица героев учатся находить решение межличностных пробле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508720" y="1628640"/>
            <a:ext cx="34560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гровое производственное проектировани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11280" y="1600200"/>
            <a:ext cx="3600360" cy="4525920"/>
            <a:chOff x="611280" y="1600200"/>
            <a:chExt cx="3600360" cy="452592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611280" y="1600200"/>
              <a:ext cx="360036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 txBox="1"/>
            <p:nvPr/>
          </p:nvSpPr>
          <p:spPr>
            <a:xfrm>
              <a:off x="611280" y="1600200"/>
              <a:ext cx="360036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125"/>
                </a:spcBef>
                <a:buClr>
                  <a:srgbClr val="99ff99"/>
                </a:buClr>
                <a:buSzPct val="8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Игровое производственное проектирование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характеризуетс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личием исследовательской, методической  задачи, которую сообщает обучаемым преподаватель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елением участников на небольшие соревнующиеся группы, в которых дети разрабатывают варианты решения поставленной задач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 игрового производственного проектирования значительно активизирует процесс изучения учебных дисциплин, делает его более результативным вследствие развития навыков проектно-конструкторской деятельности обучаемого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Тема : «Её величество королева Линия». Игровое производственное проектирование с использованием математической сказ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ecff"/>
                </a:solidFill>
                <a:latin typeface="Arial"/>
              </a:rPr>
              <a:t>- Закрепление понятий прямой, ломанной, кривой, замкнутой линий.</a:t>
            </a:r>
            <a:br>
              <a:rPr sz="1400"/>
            </a:br>
            <a:r>
              <a:rPr b="1" i="1" lang="en-US" sz="1400" spc="-1" strike="noStrike">
                <a:solidFill>
                  <a:srgbClr val="ccecff"/>
                </a:solidFill>
                <a:latin typeface="Arial"/>
              </a:rPr>
              <a:t>- В процессе деятельности участники учатся различать , называть, изображать различные виды линий.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627280" y="3645000"/>
            <a:ext cx="2303640" cy="2879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084720" y="3716280"/>
            <a:ext cx="2448000" cy="2808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826920" y="1052640"/>
            <a:ext cx="2232360" cy="23731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3851280" y="1125360"/>
            <a:ext cx="26654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ecff"/>
                </a:solidFill>
                <a:latin typeface="Arial"/>
              </a:rPr>
              <a:t>-Используя предоставленные педагогом материалы участники изображают различные виды линии. </a:t>
            </a:r>
            <a:br>
              <a:rPr sz="1400"/>
            </a:br>
            <a:r>
              <a:rPr b="1" i="1" lang="en-US" sz="1400" spc="-1" strike="noStrike">
                <a:solidFill>
                  <a:srgbClr val="ccecff"/>
                </a:solidFill>
                <a:latin typeface="Arial"/>
              </a:rPr>
              <a:t>-Проявляя исследовательскую активность, самостоятельно экспериментируя, дети делают выводы на заданную тему.</a:t>
            </a:r>
            <a:br>
              <a:rPr sz="1400"/>
            </a:br>
            <a:r>
              <a:rPr b="1" i="1" lang="en-US" sz="1400" spc="-1" strike="noStrike">
                <a:solidFill>
                  <a:srgbClr val="ccecff"/>
                </a:solidFill>
                <a:latin typeface="Arial"/>
              </a:rPr>
              <a:t>-Работая в подгруппах дети самостоятельно находят решение поставленной задачи, а затем публично защищают разработанный ими вариант.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3106800" cy="2185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5580000" y="1773360"/>
            <a:ext cx="3035520" cy="2185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539640" y="4292640"/>
            <a:ext cx="3251160" cy="2187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4427640" y="4292640"/>
            <a:ext cx="3241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ecff"/>
                </a:solidFill>
                <a:latin typeface="Arial"/>
              </a:rPr>
              <a:t>На  следующем этапе участники определяют, что линия зрительно помогает увидеть контур любого предмета.</a:t>
            </a:r>
            <a:br>
              <a:rPr sz="1400"/>
            </a:br>
            <a:r>
              <a:rPr b="1" i="1" lang="en-US" sz="1400" spc="-1" strike="noStrike">
                <a:solidFill>
                  <a:srgbClr val="ccecff"/>
                </a:solidFill>
                <a:latin typeface="Arial"/>
              </a:rPr>
              <a:t>Самостоятельно моделируя, используя имеющиеся материалы дети делают вывод, что изменив линию, меняется и контур предмета.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ccecff"/>
                </a:solidFill>
                <a:latin typeface="Arial"/>
              </a:rPr>
              <a:t>Данный вид работы активно способствовал проявлению конструктивно-исследовательской деятельности, развитию творческого воображения, внимания, памяти, коммуникативных навыков.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7200" y="2565360"/>
            <a:ext cx="4038480" cy="35607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648320" y="2565360"/>
            <a:ext cx="403848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2T10:57:34Z</dcterms:created>
  <dc:creator>Max</dc:creator>
  <dc:description/>
  <dc:language>en-US</dc:language>
  <cp:lastModifiedBy>Home</cp:lastModifiedBy>
  <dcterms:modified xsi:type="dcterms:W3CDTF">2018-12-09T12:17:33Z</dcterms:modified>
  <cp:revision>9</cp:revision>
  <dc:subject/>
  <dc:title>Активные методы обучения</dc:title>
</cp:coreProperties>
</file>