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738-6C44-4B48-B50D-849389EB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04D-CADC-4911-9A11-B9387F3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B95-0B69-4CF7-B8A9-D5906CC8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B4B-322E-43D4-A05A-0C395819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BB6-31EB-410E-998D-37E03E31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0F3-DEA9-4C05-A6D1-B0528679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D55-1D62-4085-ACA4-47774F9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71C-24FC-4B3D-95B5-04840849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DE2-BADA-4F20-A1E5-BDE4A1D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4EE-E65F-40F3-BC67-1AC6FFB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B04-4886-46A5-B195-EDFF3EB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381-F18D-465C-B86F-9388921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42DD-CF62-4D0E-9E61-6088DC7ACD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biografii.ru/index.php?name=Meeting&amp;file=anketa&amp;login=Chehov_A_P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714680" y="928800"/>
            <a:ext cx="5760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иография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аксима Горького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4643280"/>
            <a:ext cx="7940520" cy="17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и: Янкина Ян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Солдатова Татьяна, учащиеся 11 класса                  МБОУ СОШ №1 р.п. Хор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Преподаватель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Литвиненко  С. Ю.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64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Tahoma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мерть Горького была окружена атмосферой таинственности, как и смерть его сына — Максима Пешкова. Однако версии о насильственной смерти обоих до сих пор не нашли документального подтверждения. Урна с прахом Горького помещена в Кремлевской стене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fedor2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0w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03280" y="549360"/>
            <a:ext cx="604836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389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ец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ксим Савватиевич Пешк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840-1871) — сын солдата, разжалованного из офицеров, столяр-краснодеревщик. В последние годы работал управляющим пароходной конторой, умер от холеры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арвара Васильевна Кашир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842-79) — из мещанской семьи; рано овдовев, вторично вышла замуж, умерла от чахотки. Детство писателя прошло в доме деда Василия Васильевича Каширина, который в молодости бурлачил, затем разбогател, стал владельцем красильного заведения, в старости разорился. Дед обучал мальчика по церковным книгам, бабушка Акулина Ивановна приобщила внука к народным песням и сказкам, но главное — заменила мать, «насытив», по словам самого Горького, «крепкой силой для трудной жизни» («Детство»)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2"/>
          <p:cNvPicPr/>
          <p:nvPr/>
        </p:nvPicPr>
        <p:blipFill>
          <a:blip r:embed="rId1"/>
          <a:stretch/>
        </p:blipFill>
        <p:spPr>
          <a:xfrm>
            <a:off x="468360" y="404640"/>
            <a:ext cx="4174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248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1" i="1" lang="ru-RU" sz="1400" spc="-1" strike="noStrike">
                <a:solidFill>
                  <a:srgbClr val="080808"/>
                </a:solidFill>
                <a:latin typeface="Tahoma"/>
              </a:rPr>
              <a:t>Настоящего образования Горький не получил, закончив лишь ремесленное училище. Жажда знаний утолялась самостоятельно, он рос «самоучкой». Тяжелая работа (посудник на пароходе, «мальчик» в магазине, ученик в иконописной мастерской, десятник на ярмарочных постройках и др.) и ранние лишения преподали хорошее знание жизни и внушили мечты о переустройстве мира. «Мы в мир пришли, чтобы не соглашаться...» — сохранившийся фрагмент уничтоженной поэмы молодого Пешкова «Песнь старого дуба».</a:t>
            </a:r>
            <a:br>
              <a:rPr sz="1400"/>
            </a:br>
            <a:r>
              <a:rPr b="1" i="1" lang="ru-RU" sz="1400" spc="-1" strike="noStrike">
                <a:solidFill>
                  <a:srgbClr val="080808"/>
                </a:solidFill>
                <a:latin typeface="Tahoma"/>
              </a:rPr>
              <a:t>Ненависть к злу и этический максимализм были источником нравственных терзаний. В 1887 году пытался покончить с собой. Принимал участие в революционной пропаганде, «ходил в народ», странствовал по Руси, общался с босяками. Испытал сложные философские влияния: от идей французского Просвещения и материализма И. В. Гете до позитивизма Ж. М. Гюйо, романтизма Дж. Рескина и пессимизма А. Шопенгауэра. В его нижегородской библиотеке рядом с «Капиталом» К. Маркса и «Историческими письмами» П. Л. Лаврова стояли книги Э. Гартмана, М. Штирнера и Ф. Ницше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33"/>
          <p:cNvPicPr/>
          <p:nvPr/>
        </p:nvPicPr>
        <p:blipFill>
          <a:blip r:embed="rId1"/>
          <a:stretch/>
        </p:blipFill>
        <p:spPr>
          <a:xfrm>
            <a:off x="468360" y="476280"/>
            <a:ext cx="35989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56000" y="333000"/>
            <a:ext cx="47880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5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нние произведения Горьк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рький начинал как провинциальный газетчик (печатался под именем Иегудиил Хламида). Псевдоним М. Горький (письма и документы подписывал настоящей фамилией — А. Пешков; обозначения «А. М. Горький» и «Алексей Максимович Горький» контаминируют псевдоним с настоящим именем) появился в 1892 в тифлисской газете «Кавказ», где был напечатан первый рассказ «Макар Чудра». В 1895, благодаря помощи В. Г. Короленко, опубликовался в популярнейшем журнале «Русское богатство» (рассказ «Челкаш»). В 1898 в Петербурге вышла книга «Очерки и рассказы», имевшая сенсационный успех. В 1899 появились поэма в прозе «Двадцать шесть и одна» и первая большая повесть «Фома Гордеев». Слава Горького росла с невероятной быстротой и вскоре сравнялась с популярностью 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. П. Чехова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и Л. Н. Толстого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С самого начала обозначилось расхождение между тем, что писала о Горьком критика, и тем, что желал видеть в нем рядовой читатель. Традиционный принцип толкования произведений с точки зрения заключенного в них социального смысла применительно к раннему Горькому не срабатывал. Читателя меньше всего интересовали социальные аспекты его прозы, он искал и находил в них настроение, созвучное времени. По словам критика М. Протопопова, Горький подменил проблему художественной типизации проблемой «идейного лиризма». Его герои совмещали в себе типические черты, за которыми стояло хорошее знание жизни и литературной традиции, и особого рода «философию», которой автор наделял героев по собственному желанию, не всегда согласуясь с «правдой жизни». Критики в связи с его текстами решали не социальные вопросы и проблемы их литературного отражения, а непосредственно «вопрос о Горьком» и созданном им собирательном лирическом образе, который стал восприниматься как типический для России конца 19 — начала 20 вв. и который критика сравнивала со «сверхчеловеком» Ницше. Все это позволяет, вопреки традиционному взгляду, считать его скорее модернистом, чем реалисто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8"/>
          <p:cNvPicPr/>
          <p:nvPr/>
        </p:nvPicPr>
        <p:blipFill>
          <a:blip r:embed="rId3"/>
          <a:stretch/>
        </p:blipFill>
        <p:spPr>
          <a:xfrm>
            <a:off x="179280" y="549360"/>
            <a:ext cx="381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11640" y="404640"/>
            <a:ext cx="4681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щественная позиция Горького была радикальной. Он не раз подвергался арестам, в 1902 Николай II распорядился аннулировать его избрание почетным академиком по разряду изящной словесности (в знак протеста Чехов и Короленко вышли из Академии). В 1905 вступил в ряды РСДРП (большевистское крыло) и познакомился с В.И.Лениным. Им оказывалась серьезная финансовая поддержка революции 1905-07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Быстро проявил себя Горький и как талантливый организатор литературного процесса. В 1901 встал во главе издательства товарищества «Знание» и вскоре стал выпускать «Сборники товарищества «Знание», где печатались И. А.Бунин, Л.Н.Андреев, А.И.Куприн, В.В.Вересаев, Е.Н.Чириков, Н.Д.Телешов, А.С.Серафимович и др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Вершина раннего творчества, пьеса «На дне», в огромной степени обязана своей славой постановке К. С. Станиславского в Московском художественном театре(1902; играли Станиславский, В.И.Качалов, И.М.Москвин, О.Л.Книппер-Чехова и др.) В 1903 в берлинском Kleines Theater состоялось представление «На дне» с Рихардом Валлентином в роли Сатина. Другие пьесы Горького — «Мещане» (1901), «Дачники» (1904), «Дети солнца», «Варвары» (обе 1905), «Враги» (1906) — не имели такого сенсационного успеха в России и Европ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66"/>
          <p:cNvPicPr/>
          <p:nvPr/>
        </p:nvPicPr>
        <p:blipFill>
          <a:blip r:embed="rId1"/>
          <a:stretch/>
        </p:blipFill>
        <p:spPr>
          <a:xfrm>
            <a:off x="250920" y="404640"/>
            <a:ext cx="374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77151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Горький между двух революций    (1905-191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e5ffff"/>
                </a:solidFill>
                <a:latin typeface="Times New Roman"/>
              </a:rPr>
              <a:t>После поражения революции 1905-07 Горький эмигрировал на остров Капри (Италия). «Каприйский» период творчества заставил пересмотреть сложившееся в критике представление о «конце Горького» (Д. В. Философов), которое было вызвано его увлечениями политической борьбой и идеями социализма, нашедшими отражение в повести «Мать» (1906; вторая редакция 1907). Он создает повести «Городок Окуров» (1909), «Детство» (1913-14), «В людях» (1915-16), цикл рассказов «По Руси» (1912-17). Споры в критике вызвала повесть «Исповедь» (1908),,высоко оцененная А. А. Блоком. В ней впервые прозвучала тема богостроительства, которое Горький с А. В. Луначарским и А. А. Богдановым проповедовал в каприйской партийной школе для рабочих, что вызвало его расхождения с Лениным, ненавидевшим «заигрывание с боженькой».</a:t>
            </a:r>
            <a:br>
              <a:rPr sz="1600"/>
            </a:br>
            <a:r>
              <a:rPr b="1" lang="ru-RU" sz="1600" spc="-1" strike="noStrike">
                <a:solidFill>
                  <a:srgbClr val="e5ffff"/>
                </a:solidFill>
                <a:latin typeface="Times New Roman"/>
              </a:rPr>
              <a:t>Первая мировая война тяжело отразилась на душевном состоянии Горького. Она символизировала начало исторического краха его идеи «коллективного разума», к которой он пришел после разочарования ницшевским индивидуализмом (по мнению Т. Манна, Горький протянул мост от Ницше к социализму). Безграничная вера в человеческий разум, принятая как единственный догмат, не подтверждалась жизнью. Война стала вопиющим примером коллективного безумия, когда Человек был низведен до «окопной вши», «пушечного мяса», когда люди зверели на глазах и разум человеческий был бессилен перед логикой исторических событ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27280" y="333000"/>
            <a:ext cx="4716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Годы эмиграции Максима Горького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ктябрьская революция подтвердила опасения Горького. В «Несвоевременных мыслях» (цикл статей в газете «Новая жизнь»; 1917-18; в 1918 вышли отдельным изданием) он обвинил Ленина в захвате власти и развязывании террора в стране. Но там же назвал русский народ органически жестоким, «звериным» и тем самым если не оправдывал, то объяснял свирепое обращение большевиков с этим народом. Непоследовательность позиции отразилась и в его книге «О русском крестьянстве» (1922)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омненной заслугой Горького была энергичная работа по спасению научной и художественной интеллигенции от голодной смерти и расстрелов, благодарно оцененная современниками (Е. И. Замятин, А. М. Ремизов, В. Ф. Ходасевич, В. Б. Шкловский и др.) Едва ли не ради этого задумывались такие культурные акции, как организация издательства «Всемирная литература», открытие «Дома ученых» и «Дома искусств» (коммун для творческой интеллигенции, описанных в романе О. Д. Форш «Сумасшедший корабль» и книге К. А. Федина «Горький среди нас»). Однако многих писателей (в т. ч. Блока, Н. С. Гумилева) спасти не удалось, что стало одной из основных причин окончательного разрыва Горького с большевик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21 по 1928 Горький жил в эмиграции, куда отправился после слишком настойчивых советов Ленина. Поселился в Сорренто (Италия), не прерывая связей с молодой советской литературой. Написал цикл «Рассказы 1922-24 годов», «Заметки из дневника» (1924), роман «Дело Артамоновых» (1925), начал работать над романом-эпопеей «Жизнь Клима Самгина» (1925-36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13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00"/>
          <p:cNvPicPr/>
          <p:nvPr/>
        </p:nvPicPr>
        <p:blipFill>
          <a:blip r:embed="rId1"/>
          <a:stretch/>
        </p:blipFill>
        <p:spPr>
          <a:xfrm>
            <a:off x="250920" y="476280"/>
            <a:ext cx="4105080" cy="5832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40000" y="404640"/>
            <a:ext cx="4824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80808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080808"/>
                </a:solidFill>
                <a:latin typeface="Tahoma"/>
              </a:rPr>
              <a:t>Возвращение Горького в Советский Сою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        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В 1928 Горький совершил «пробную» поездку в Советский Союз (в связи с чествованием, устроенным по поводу его 60-летия), до этого вступив в осторожные переговоры со сталинским руководством. Апофеоз встречи на Белорусском вокзале решил дело; Горький возвратился на родину. Как художник он целиком погрузился в создание «Жизни Клима Самгина», панорамной картины России за сорок лет. Как политик фактически обеспечивал </a:t>
            </a:r>
            <a:r>
              <a:rPr b="0" lang="ru-RU" sz="1400" spc="-1" strike="noStrike">
                <a:solidFill>
                  <a:srgbClr val="8000c0"/>
                </a:solidFill>
                <a:latin typeface="Tahoma"/>
              </a:rPr>
              <a:t>Сталину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 моральное прикрытие перед лицом мирового сообщества. Его многочисленные статьи создавали апологетический образ вождя и молчали о подавлении в стране свободы мысли и искусства — фактах, о которых Горький не мог не знать. Он встал во главе создания коллективной писательской книги, воспевшей строительство заключенными Беломорско-Балтийского канала им. Сталина. Организовал и поддерживал множество предприятий: издательство «Аcademia», книжные серии «История фабрик и заводов», «История гражданской войны», журнал «Литературная учеба», а также Литературный институт, затем названный его именем. В 1934 возглавил Союз писателей СССР, созданный по его инициативе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43:11Z</dcterms:created>
  <dc:creator>Aдминистратор</dc:creator>
  <dc:description/>
  <dc:language>en-US</dc:language>
  <cp:lastModifiedBy>Litvinenko</cp:lastModifiedBy>
  <dcterms:modified xsi:type="dcterms:W3CDTF">2018-06-27T07:26:01Z</dcterms:modified>
  <cp:revision>11</cp:revision>
  <dc:subject/>
  <dc:title>Слайд 1</dc:title>
</cp:coreProperties>
</file>