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B1C-5203-436D-9E61-6BDEBD7E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F68D-24D0-4216-A6C4-48C620D4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6C2-427D-48D8-88F0-A3F4244D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07F-8F6C-41E1-8914-A078366A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2C37-5EF4-453F-A56C-478C9991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77D3-8763-42BB-A796-8BC11E3C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528B-B6FF-4AF2-B279-820444EA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2D82-B604-4DBF-8319-FFD69202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ED71-53B2-4894-82AB-F159027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451A-207A-4C62-BE14-E19D6E95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FA7-3548-444A-8CB6-52C31F41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28A-801A-4285-8AE7-DFF7DF6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0CFA-C10B-49D6-8934-9B8EC1AF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1714-CA93-4DBC-B685-3D933F8F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580-EE52-4390-BB88-4F8F285D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539-9556-4A3E-BAB5-47EA5FCC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750-5EF4-40DE-84AA-3B88AFB2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906-21DD-4599-89FC-A539EAD0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6DB-88DD-4CB1-836E-1565494C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36A-2281-438F-942C-0931DB4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3D9-0DA0-49D6-8B13-B2E8252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551-BC34-4132-9946-1C479B5E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DC5-5A09-41B2-AA2C-12D86E1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791-29D9-43FE-8C65-F9AF397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3C00-C9B4-4423-8819-02ECFABE3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84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5A61-5324-4D27-AB8B-72B767943C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Инклюзивное образование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Киселевой Людмилы Михайл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я МАОУ СОШ №38 ( корпус 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инклюзивное образование- рисунки и фото"/>
          <p:cNvPicPr/>
          <p:nvPr/>
        </p:nvPicPr>
        <p:blipFill>
          <a:blip r:embed="rId1"/>
          <a:stretch/>
        </p:blipFill>
        <p:spPr>
          <a:xfrm>
            <a:off x="3657600" y="76212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image126418450"/>
          <p:cNvPicPr/>
          <p:nvPr/>
        </p:nvPicPr>
        <p:blipFill>
          <a:blip r:embed="rId1"/>
          <a:stretch/>
        </p:blipFill>
        <p:spPr>
          <a:xfrm>
            <a:off x="2209680" y="1676520"/>
            <a:ext cx="4762800" cy="4743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Международный и отечественный  опыт инклюзивного образования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ыт СШ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одательство США об образовании инвалидов-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DEA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е употребляя впрямую термин « инклюзия», предусматривает необходимое финансирование специального образования в системе местных школ, использование индивидуальных учебных планов и предоставление по мере необходимости учащимися с особыми образовательными потребностями специальной дополнительной помощи в общеобразовательной школе. Вместе с тем родители могут выбрать специальную государственную или частную школу, обучение в которой в большей степени оплачивается за государственный счет. Такие школы предназначались в основном детям с тяжелыми и множественными проблемами развития и поведенческими нарушениями. Современная политика США, проводимая в области специального образования, заключается в предложении слияния массового и специального образования. Предлагается три основных подхода этого слияния: «основное направление», «инициатива массового образования», «ВКЛЮЧ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4638240" y="324576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дательство США о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image65707948"/>
          <p:cNvPicPr/>
          <p:nvPr/>
        </p:nvPicPr>
        <p:blipFill>
          <a:blip r:embed="rId1"/>
          <a:stretch/>
        </p:blipFill>
        <p:spPr>
          <a:xfrm>
            <a:off x="2666880" y="2590920"/>
            <a:ext cx="4334040" cy="2886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Опыт Италии</a:t>
            </a:r>
            <a:endParaRPr b="1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Италии количество детей с особыми образовательными потребностями, обучающихся в массовых школах, превышает 90%. По мнению исследователей, Италия стала апробационной площадкой инклюзивной модели образования для остального мира. Ранний период  итальянцы называют «дикой интеграцией». Однако слова «интеграция» и «включение» для той ситуации весьма условны. По существу, то, что происходило там с самого начала, было ближе к включению, потому что главной целью была социализация и адаптация детей в школьное сообщество таким образом, чтобы у всех было чувство принадлеж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71.г. появился первый «Закон о праве детей с особыми потребностями на обучение в массовых школах»№118. Он постановляет , что « образование учащихся в ситуации инвалидности должно происходить в обычных классах государственной школы, за исключением случаев, в которых ученики страдают от серьезных недостатков, умственных или физических»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77г. Были внесены изменения в «Закон о праве детей с особыми потребностями на обучение в массовых школах»(№517) с целью направленности действий образования на «продвижение полного формирования личности учащихся» и в части установления определенных нормативов( максимальное количество детей в классе, социальные мероприятия по поддержке детей с особыми потребностями должны быть «встроены» в занятия в классе и.т.д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Опыт Великобритании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Великобритании после принятия Акта об образовании(1981г) число учащихся специальных школ составило 1,7%( данные на 1985г). Кроме этого, в специальном образовании страны были упразднены все нозологические категории «особенности».С этого момента специальное образование в Великобритании продолжает развиваться в условиях интегрированного обучения. Эффективность интеграции выразилась в общем снижении числа специальных школ; наличия оптимистичных данных о результатах интегрированного обучения отдельных представителей «особенных детей». По имеющимся данным наиболее успешно включены в процесс интеграции учащиеся с физическими отклонениями и с нарушениями зр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 Black"/>
              </a:rPr>
              <a:t>Опыт МАОУ СОШ №38( корпус 2) в области инклюзивного образования</a:t>
            </a:r>
            <a:endParaRPr b="1" lang="en-US" sz="2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АОУ СОШ №38( корпус 2) первые коррекционные классы появились в 1992 году. В классах обучались 8-12 человек по специальной программе после прохождения ПМПК. Многие дети, к концу 9 класса «выравнивались», заканчивали основную школу на «4» и «5. Ребенок инвалид с ДЦП, с сохранным интеллектом закончил среднюю школу на «отлично» и получил золотую мед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В настоящее время в нашей школе обучаются 20 детей по програм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ида.. Эти дети обучаются в классе общего типа. Учитель поочередно выстраивает работу с детьми, обучающимися по общеобразовательной и коррекционной программе. С этими учащимися работает психолог.  У него есть программа психологического сопровождения учащихся, занимаюжщихся по по програм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Цель психологического сопровождения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оптимальных  условий  для детей с трудностямив обучении в соответствии с их возрастными и индивидуально- типологическими особенностями,состоянием соматического  и нервно – психического здоровья, способствующих их интеллектуальному, личностному и эмоционально- волевому развитию; содействие  социально- культурной адаптации в современном социу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 направления психологического сопровождения учащихся обусло влены особыми образовательными потребностями детейЗП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Диагностическое направление- заключается в проведении первичного обследования школьников. Организованного в рамках комплексного изучения развития учащихся специалистами школьного ПМПк. И дальнейшего динамического наблюдения за развитием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коррекционно- развивающее направление- предполагает разработку и реализацию коррекционных программ, планирование содержания занятий, комплектованеие групп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налитическое направление- определяет взаимодействие специалистов в работе, а также позволяет корригировать программы сзанятий в соответствии с достижениями учащих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консультативно- просветительское пи профилактическое направление- обеспечивает оказание помощи педагогам и родителям в вопросах обучения ребенка и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Организационно- методическое направление- включает подготовку и участие психолога в консилиумах, методобъединениях, педсоветах, оформлении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Инклюзивное и специальное образование- проблемы и перспективы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сегодняшний момент можно выделить несколько основных проблем в инклюзивном образован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гибких образовательных стандар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соответствие учебных планов и содержания обучения массовой школы особым образовательным потребностям ребе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специальной подготовки педагогического коллектива образовательного учреждения общего типа, незнание основ коррекционной педагогики и специальной психолог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у педагогов массовых школ представлений об особенностях психофизического развития детей с ОВЗ, методиках и технологии организации образовательного и коррекционного процесса для таких дете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достаточное материально-техническое оснащение общеобразовательного учреждения под нужды детей с ОВЗ (отсутствие пандусов, лифтов, специального учебного, реабилитационного, медицинского оборудования, специально оборудованных учебных мест и т.д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сутствие в штатном расписании образовательных учреждений общего типа дополнительных ставок педагогических (сурдопедагоги, логопеды, педагоги-психологи, тифлопедагоги) и медицинских работ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юди — их отношение, недостаток знаний, страх, предубеждения, чрезмерная специализация, отсутствие опыта, стереотипность мышлен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хватка материальных средств и оборудования, низкая заработная плата, неравномерное распределение ресурс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Проблемы и перспективы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грамотность, отсутствие доступа к зданиям, слабая политика или ее отсутствие, отсутствие коллективного опыта в обсуждении и решении проб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сложности связаны с материальными затратами по созданию в общеобразовательной школе условий для обучения детей с ограниченными возможностями. Требуются значительные средства на обеспечение школы специальными программами, учебниками, подготовку специальных учебных помещений (классы для социально-бытовой ориентировки (СБО), учебно-производственные мастерские). Однако финансовые трудности окупаются созданием благоприятной образовательной среды для детей с отклонениями в развитии, тем самым реализуется право этих учащихся на равные возможности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654080" y="49078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ебя дискомфорт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организации специального обучения в общеобразовательной школе психологи и педагоги сталкиваются с трудностями образовательной интеграции, обусловленными и социальными факторами. Наше общество еще не вполне готово к принятию интеграции, в общественном сознании существуют определенные стереотипы и предрассудки в восприятии детей с психофизическими нарушениями. Некоторые учителя, прежде всего учителя-дефектологи, считают, что общеобразовательная школа не готова принять таких детей: обычные ученики станут их унижать, и дети с особенностями психофизического развития будут чувствовать себя дискомфорт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нужно помнить, что интеграция особых детей в массовые образовательные учреждения не снимает проблемы их коррекционной поддержки, без нее неординарные ученики вряд ли смогут учиться наравне со своими обычными одноклассниками и реализовать свое право на образование. Ввиду нестандартности ситуации, интегрированный ребенок будет также нуждаться в услугах службы психологической поддержки, и ей предстоит осуществлять контроль за успешностью его обучения, помогать ему справляться с эмоциональными трудност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Спасибо за внимание!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48" name="Picture 7" descr="Mx_fwN0brfY"/>
          <p:cNvPicPr/>
          <p:nvPr/>
        </p:nvPicPr>
        <p:blipFill>
          <a:blip r:embed="rId1"/>
          <a:stretch/>
        </p:blipFill>
        <p:spPr>
          <a:xfrm>
            <a:off x="2746440" y="19051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92584959"/>
          <p:cNvPicPr/>
          <p:nvPr/>
        </p:nvPicPr>
        <p:blipFill>
          <a:blip r:embed="rId1"/>
          <a:stretch/>
        </p:blipFill>
        <p:spPr>
          <a:xfrm>
            <a:off x="762120" y="-2590920"/>
            <a:ext cx="14344560" cy="1006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Цель инклюзивного образования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словий для получения образования детьми с ограниченными возможностями здоровья, необходимого для их максимальной адаптации и полноценной интеграции в 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Задачи инклюзивного образования: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условий для освоения обучающимися общеобразовательных программ в соответствии с государственным образовательным стандартом и эффективной системы психолого- педагогического  и медико- социального сопровождения обучающихся в общеобразовательном учреждении с целью максимальной коррекции недостатков их психофизического разви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 у всех участников образовательного процесса  толерантного отношения к проблемам детей с ограниченными возможностями здоров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Многообразие подходов к интерпретации понятия « Инклюзивное образование»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«Понятие одно, интерпретаций много…»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следователи Эйнскоу, Бут и Дюсон предлагают объединить все множество определений понятия «инклюзия»в две большие группы:дескриптивные и прескриптив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скриптивные- отражает использование понятия «инклюзия» на практике, центральным объектом являются отдельные индивиды или группы таков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скриптивные отсылают нас к более широкому кругу вопросов обучения и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Внутри основных групп определений выделяются шесть подгрупп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 Инклюзия как процесс, направленный на обучение лиц с ограниченными возможностями здоровья(ОВЗ) и иных лиц в категории « имеющие особые образовательные потреб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Инклюзия как реакция  на дисциплинарное исключение.( акцентирует внимание на учащихся, подвергающихся исключению из класса/школы за нарушение правил школьного распорядк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Инклюзия, как процесс, направленный на все группы лиц, подвергаемых эксклюзии. (исчпользуется для для описания процессов преодоления дискриминации и факторов, неблагоприятных для жизни групп людей, подвергаемых риску маргинализации и эксклюзии- экономической, социальной, культурной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Инклюзия как механизм создания «Школы для всех».( Удовлетворение самых различных потребностей учащихс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Инклюзия   как «образование для всех» ( широкий доступ к образованию для всех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Инклюзия как  принципиальный подход к развитию образования и общества. ( В соответствии с данной точки зрения, разработка мероприятий, методик и политик, направленных на внедрение конкретных приоритетов и ценностей, возможна только при условии четкой формулировки и заявления последних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9" descr="1357815629_obrazov"/>
          <p:cNvPicPr/>
          <p:nvPr/>
        </p:nvPicPr>
        <p:blipFill>
          <a:blip r:embed="rId1"/>
          <a:stretch/>
        </p:blipFill>
        <p:spPr>
          <a:xfrm>
            <a:off x="320040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Международные правовые</a:t>
            </a:r>
            <a:r>
              <a:rPr b="1" lang="ru-RU" sz="40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 Black"/>
              </a:rPr>
              <a:t>документы, составляющие нормативно- правовые основы инклюзивного образования.</a:t>
            </a:r>
            <a:endParaRPr b="1" lang="en-US" sz="2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7" descr="Inclusion2"/>
          <p:cNvPicPr/>
          <p:nvPr/>
        </p:nvPicPr>
        <p:blipFill>
          <a:blip r:embed="rId1"/>
          <a:stretch/>
        </p:blipFill>
        <p:spPr>
          <a:xfrm>
            <a:off x="1905120" y="2057400"/>
            <a:ext cx="552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Arial Black"/>
              </a:rPr>
              <a:t>Документы, регулирующие инклюзивное образование на территории РФ</a:t>
            </a:r>
            <a:endParaRPr b="1" lang="en-US" sz="2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е доку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Закон Российской федерации от 29 декабря 2012 года № 273 «Об образовании в Российской Федерации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Закон Российской федерации от 24 ноября 1995 г. N 181-ФЗ (с дополнениями и изменениями) «О социальной защите инвалидов в Российской Федерации»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Закон Российской Федерации 3 июля 1998 года (с изменениями от 20 июля 2000 г., 22 августа, 21 декабря 2004 г., 26, 30 июня 2007 г.) «Об основных гарантиях прав ребенка в Российской Федерации»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Национальная образовательная инициатива «Наша новая школа» (Утверждена Президент Российской Д.Медведевым 04 февраля 2010 года, Пр-27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Федеральный закон Российской Федерации от 3 мая 2012 г. N 46-ФЗ «О ратификации Конвенции о правах инвалидов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Указ Президента Российской Федерации от 7 мая 2012 года № 599 «О мерах по реализации государственной политики в области образования и наук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Указ Президента Российской Федерации от 1 июня 2012 года № 761"О Национальной стратегии действий в интересах детей на 2012 - 2017 год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енные доку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Распоряжение Правительства РФ от 17 ноября 2008 года № 1662-р «Концепция долгосрочного социально-экономического развития РФ на период до 2020 год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Постановление Правительства РФ от от 1 декабря 2015 г. N 129 «О государственной программе Российской Федерации «Доступная среда» на 2011 - 2020 годы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 Black"/>
              </a:rPr>
              <a:t>Ведомственные документы</a:t>
            </a:r>
            <a:endParaRPr b="1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     Приказ Министерства образования и науки Российской Федерации от 20 сентября 2013 г. N 1082 г «Положение о психолого-медико-педагогической комиссии»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 Приказ Министерства образования и науки РФ от 30 августа 2013 г. N 1015 "Об утверждении Порядка организации и осуществления образовательной деятельности по основным общеобразовательным программам - образовательным программам начального общего, основного общего  и среднего общего образования» 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    Письмо Министерства образования Российской Федерации    от 27.03.2000 № 27/901-6) «О психолого-медико-педагогическом консилиуме (ПМПк) образовательного учреждения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     Письмо Министерства образования и науки РФ  от 18.04.2008 № АФ-150/06 «О создании условий для получения образования детьми с ограниченными возможностями здоровья и детьми-инвалидами –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     Приказ Министерства образования инауки РФ от 6 октября 2009 года № 373 «Об утверждении и введении в действие федерального  государственного  образовательного стандарта начального общего образовани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Приказ Министерства образования и науки Российской Федерации от 19 декабря 2014 г. № 1598 «Об утверждении Федерального государственного образовательного стандарта начального общего образования обучающихся с ограниченными возможностями здоровь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Приказ Министерства образования и науки Российской Федерации от 19 декабря 2014 г. № 1599 «Об утверждении федерального государственного образовательного стандарта образования обучающихся с умственной отсталостью (интеллектуальными нарушениям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иональные докумен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Т от 22 июля 2013 года N 68-ЗРТ «Об образовании» (в редакции Законов Республики Татарстан от 23.07.2014 N 61-ЗРТ, от 16.03.2015 N 14-ЗРТ, от 08.10.2015 N 76-ЗРТ), принят Государственным Советом Республики Татарстан 28 июня 2013 г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09T10:34:5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