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6D5-0DB3-4D23-96A4-956DF54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A0-97BF-46E2-BBDE-2841BD9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659-5468-4BA4-89E4-CA12961A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567-B7E6-432F-8124-F0D545B8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26F-C24E-4190-B1E6-0532047C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D21-C1AF-4AC6-9246-5B3532FD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6DFB-59AD-4BF4-BAB5-2DCAC06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095-EE19-4CA0-A0F9-AB5DBA7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8FC-B6CB-420C-8EB4-ECE4513E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33E2-9137-4C07-91DE-753472C9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876-642F-40AA-A863-540355A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505-A8A2-4388-A469-C83F444C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64E-4140-4A90-85F3-A70BA40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30AE-FD39-4417-8CF7-0C0859B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165F-BF59-4500-8B5F-2C1226B7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7126-480E-4051-B00D-A5D9D25B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DA5-B35A-4222-88DA-BD1A3E9B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F5E-E6C4-41F5-9B96-5945662C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DAF-DBA4-4E49-A099-3A6A1FE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5C9-DA7F-443B-98A0-3421B56D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CAE-E244-4AF6-945C-1908116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260-F3A8-4698-A9B6-9672FB8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283-1318-491D-A259-08DCB8F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F90-802A-48DF-9004-FF3448C6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A713-940F-4241-9A23-A50D74CA20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4BA5-94B7-4D16-8E9B-E33E60634E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Инклюзивное образование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Киселевой Людмилы Михайл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я МАОУ СОШ №38 ( корпус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инклюзивное образование- рисунки и фото"/>
          <p:cNvPicPr/>
          <p:nvPr/>
        </p:nvPicPr>
        <p:blipFill>
          <a:blip r:embed="rId1"/>
          <a:stretch/>
        </p:blipFill>
        <p:spPr>
          <a:xfrm>
            <a:off x="3657600" y="76212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mage126418450"/>
          <p:cNvPicPr/>
          <p:nvPr/>
        </p:nvPicPr>
        <p:blipFill>
          <a:blip r:embed="rId1"/>
          <a:stretch/>
        </p:blipFill>
        <p:spPr>
          <a:xfrm>
            <a:off x="2209680" y="1676520"/>
            <a:ext cx="4762800" cy="4743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Международный и отечественный  опыт инклюзивного образования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ыт 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одательство США об образовании инвалидов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е употребляя впрямую термин « инклюзия», предусматривает необходимое финансирование специального образования в системе местных школ, использование индивидуальных учебных планов и предоставление по мере необходимости учащимися с особыми образовательными потребностями специальной дополнительной помощи в общеобразовательной школе. Вместе с тем родители могут выбрать специальную государственную или частную школу, обучение в которой в большей степени оплачивается за государственный счет. Такие школы предназначались в основном детям с тяжелыми и множественными проблемами развития и поведенческими нарушениями. Современная политика США, проводимая в области специального образования, заключается в предложении слияния массового и специального образования. Предлагается три основных подхода этого слияния: «основное направление», «инициатива массового образования», «ВКЛЮЧ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4638240" y="324576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дательство США 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65707948"/>
          <p:cNvPicPr/>
          <p:nvPr/>
        </p:nvPicPr>
        <p:blipFill>
          <a:blip r:embed="rId1"/>
          <a:stretch/>
        </p:blipFill>
        <p:spPr>
          <a:xfrm>
            <a:off x="2666880" y="2590920"/>
            <a:ext cx="4334040" cy="2886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Опыт Италии</a:t>
            </a:r>
            <a:endParaRPr b="1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Италии количество детей с особыми образовательными потребностями, обучающихся в массовых школах, превышает 90%. По мнению исследователей, Италия стала апробационной площадкой инклюзивной модели образования для остального мира. Ранний период  итальянцы называют «дикой интеграцией». Однако слова «интеграция» и «включение» для той ситуации весьма условны. По существу, то, что происходило там с самого начала, было ближе к включению, потому что главной целью была социализация и адаптация детей в школьное сообщество таким образом, чтобы у всех было чувство принадлеж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71.г. появился первый «Закон о праве детей с особыми потребностями на обучение в массовых школах»№118. Он постановляет , что « образование учащихся в ситуации инвалидности должно происходить в обычных классах государственной школы, за исключением случаев, в которых ученики страдают от серьезных недостатков, умственных или физических»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77г. Были внесены изменения в «Закон о праве детей с особыми потребностями на обучение в массовых школах»(№517) с целью направленности действий образования на «продвижение полного формирования личности учащихся» и в части установления определенных нормативов( максимальное количество детей в классе, социальные мероприятия по поддержке детей с особыми потребностями должны быть «встроены» в занятия в классе и.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Опыт Великобритании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Великобритании после принятия Акта об образовании(1981г) число учащихся специальных школ составило 1,7%( данные на 1985г). Кроме этого, в специальном образовании страны были упразднены все нозологические категории «особенности».С этого момента специальное образование в Великобритании продолжает развиваться в условиях интегрированного обучения. Эффективность интеграции выразилась в общем снижении числа специальных школ; наличия оптимистичных данных о результатах интегрированного обучения отдельных представителей «особенных детей». По имеющимся данным наиболее успешно включены в процесс интеграции учащиеся с физическими отклонениями и с нарушениями зр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Опыт МАОУ СОШ №38( корпус 2) в области инклюзивного образования</a:t>
            </a:r>
            <a:endParaRPr b="1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АОУ СОШ №38( корпус 2) первые коррекционные классы появились в 1992 году. В классах обучались 8-12 человек по специальной программе после прохождения ПМПК. Многие дети, к концу 9 класса «выравнивались», заканчивали основную школу на «4» и «5. Ребенок инвалид с ДЦП, с сохранным интеллектом закончил среднюю школу на «отлично» и получил золотую мед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настоящее время в нашей школе обучаются 20 детей по програм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ида.. Эти дети обучаются в классе общего типа. Учитель поочередно выстраивает работу с детьми, обучающимися по общеобразовательной и коррекционной программе. С этими учащимися работает психолог.  У него есть программа психологического сопровождения учащихся, занимаюжщихся по по програм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Цель психологического сопровождения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оптимальных  условий  для детей с трудностямив обучении в соответствии с их возрастными и индивидуально- типологическими особенностями,состоянием соматического  и нервно – психического здоровья, способствующих их интеллектуальному, личностному и эмоционально- волевому развитию; содействие  социально- культурной адаптации в современном социу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 направления психологического сопровождения учащихся обусло влены особыми образовательными потребностями детейЗП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Диагностическое направление- заключается в проведении первичного обследования школьников. Организованного в рамках комплексного изучения развития учащихся специалистами школьного ПМПк. И дальнейшего динамического наблюдения за развитием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коррекционно- развивающее направление- предполагает разработку и реализацию коррекционных программ, планирование содержания занятий, комплектованеие групп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налитическое направление- определяет взаимодействие специалистов в работе, а также позволяет корригировать программы сзанятий в соответствии с достижениями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консультативно- просветительское пи профилактическое направление- обеспечивает оказание помощи педагогам и родителям в вопросах обучения ребенка и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Организационно- методическое направление- включает подготовку и участие психолога в консилиумах, методобъединениях, педсоветах, оформлении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Инклюзивное и специальное образование- проблемы и перспективы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егодняшний момент можно выделить несколько основных проблем в инклюзивном образован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гибких образовательных стандар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соответствие учебных планов и содержания обучения массовой школы особым образовательным потребностям ребе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специальной подготовки педагогического коллектива образовательного учреждения общего типа, незнание основ коррекционной педагогики и специальной психолог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у педагогов массовых школ представлений об особенностях психофизического развития детей с ОВЗ, методиках и технологии организации образовательного и коррекционного процесса для таких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достаточное материально-техническое оснащение общеобразовательного учреждения под нужды детей с ОВЗ (отсутствие пандусов, лифтов, специального учебного, реабилитационного, медицинского оборудования, специально оборудованных учебных мест и т.д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в штатном расписании образовательных учреждений общего типа дополнительных ставок педагогических (сурдопедагоги, логопеды, педагоги-психологи, тифлопедагоги) и медицинских работ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ди — их отношение, недостаток знаний, страх, предубеждения, чрезмерная специализация, отсутствие опыта, стереотипность мышл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хватка материальных средств и оборудования, низкая заработная плата, неравномерное распределение ресурс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Проблемы и перспективы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грамотность, отсутствие доступа к зданиям, слабая политика или ее отсутствие, отсутствие коллективного опыта в обсуждении и решении проб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сложности связаны с материальными затратами по созданию в общеобразовательной школе условий для обучения детей с ограниченными возможностями. Требуются значительные средства на обеспечение школы специальными программами, учебниками, подготовку специальных учебных помещений (классы для социально-бытовой ориентировки (СБО), учебно-производственные мастерские). Однако финансовые трудности окупаются созданием благоприятной образовательной среды для детей с отклонениями в развитии, тем самым реализуется право этих учащихся на равные возможности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54080" y="49078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ебя дискомфорт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организации специального обучения в общеобразовательной школе психологи и педагоги сталкиваются с трудностями образовательной интеграции, обусловленными и социальными факторами. Наше общество еще не вполне готово к принятию интеграции, в общественном сознании существуют определенные стереотипы и предрассудки в восприятии детей с психофизическими нарушениями. Некоторые учителя, прежде всего учителя-дефектологи, считают, что общеобразовательная школа не готова принять таких детей: обычные ученики станут их унижать, и дети с особенностями психофизического развития будут чувствовать себя дискомфорт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нужно помнить, что интеграция особых детей в массовые образовательные учреждения не снимает проблемы их коррекционной поддержки, без нее неординарные ученики вряд ли смогут учиться наравне со своими обычными одноклассниками и реализовать свое право на образование. Ввиду нестандартности ситуации, интегрированный ребенок будет также нуждаться в услугах службы психологической поддержки, и ей предстоит осуществлять контроль за успешностью его обучения, помогать ему справляться с эмоциональными труд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8" name="Picture 7" descr="Mx_fwN0brfY"/>
          <p:cNvPicPr/>
          <p:nvPr/>
        </p:nvPicPr>
        <p:blipFill>
          <a:blip r:embed="rId1"/>
          <a:stretch/>
        </p:blipFill>
        <p:spPr>
          <a:xfrm>
            <a:off x="2746440" y="19051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92584959"/>
          <p:cNvPicPr/>
          <p:nvPr/>
        </p:nvPicPr>
        <p:blipFill>
          <a:blip r:embed="rId1"/>
          <a:stretch/>
        </p:blipFill>
        <p:spPr>
          <a:xfrm>
            <a:off x="762120" y="-2590920"/>
            <a:ext cx="14344560" cy="1006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Цель инклюзивного образован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словий для получения образования детьми с ограниченными возможностями здоровья, необходимого для их максимальной адаптации и полноценной интеграции в 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инклюзивного образования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условий для освоения обучающимися общеобразовательных программ в соответствии с государственным образовательным стандартом и эффективной системы психолого- педагогического  и медико- социального сопровождения обучающихся в общеобразовательном учреждении с целью максимальной коррекции недостатков их психофизического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 у всех участников образовательного процесса  толерантного отношения к проблемам детей с ограниченными возможностями здоро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Многообразие подходов к интерпретации понятия « Инклюзивное образование»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«Понятие одно, интерпретаций много…»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и Эйнскоу, Бут и Дюсон предлагают объединить все множество определений понятия «инклюзия»в две большие группы:дескриптивные и прескриптив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скриптивные- отражает использование понятия «инклюзия» на практике, центральным объектом являются отдельные индивиды или группы так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скриптивные отсылают нас к более широкому кругу вопросов обучения и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нутри основных групп определений выделяются шесть подгрупп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 Инклюзия как процесс, направленный на обучение лиц с ограниченными возможностями здоровья(ОВЗ) и иных лиц в категории « имеющие особые образовательные потреб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Инклюзия как реакция  на дисциплинарное исключение.( акцентирует внимание на учащихся, подвергающихся исключению из класса/школы за нарушение правил школьного распоряд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Инклюзия, как процесс, направленный на все группы лиц, подвергаемых эксклюзии. (исчпользуется для для описания процессов преодоления дискриминации и факторов, неблагоприятных для жизни групп людей, подвергаемых риску маргинализации и эксклюзии- экономической, социальной, культурной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Инклюзия как механизм создания «Школы для всех».( Удовлетворение самых различных потребностей учащихс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Инклюзия   как «образование для всех» ( широкий доступ к образованию для всех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Инклюзия как  принципиальный подход к развитию образования и общества. ( В соответствии с данной точки зрения, разработка мероприятий, методик и политик, направленных на внедрение конкретных приоритетов и ценностей, возможна только при условии четкой формулировки и заявления последн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9" descr="1357815629_obrazov"/>
          <p:cNvPicPr/>
          <p:nvPr/>
        </p:nvPicPr>
        <p:blipFill>
          <a:blip r:embed="rId1"/>
          <a:stretch/>
        </p:blipFill>
        <p:spPr>
          <a:xfrm>
            <a:off x="320040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Международные правовые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документы, составляющие нормативно- правовые основы инклюзивного образования.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7" descr="Inclusion2"/>
          <p:cNvPicPr/>
          <p:nvPr/>
        </p:nvPicPr>
        <p:blipFill>
          <a:blip r:embed="rId1"/>
          <a:stretch/>
        </p:blipFill>
        <p:spPr>
          <a:xfrm>
            <a:off x="1905120" y="2057400"/>
            <a:ext cx="552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Документы, регулирующие инклюзивное образование на территории РФ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е доку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Закон Российской федерации от 29 декабря 2012 года № 273 «Об образовании в Российской Федераци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Закон Российской федерации от 24 ноября 1995 г. N 181-ФЗ (с дополнениями и изменениями) «О социальной защите инвалидов в Российской Федерации»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Закон Российской Федерации 3 июля 1998 года (с изменениями от 20 июля 2000 г., 22 августа, 21 декабря 2004 г., 26, 30 июня 2007 г.) «Об основных гарантиях прав ребенка в Российской Федерации»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Национальная образовательная инициатива «Наша новая школа» (Утверждена Президент Российской Д.Медведевым 04 февраля 2010 года, Пр-27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Федеральный закон Российской Федерации от 3 мая 2012 г. N 46-ФЗ «О ратификации Конвенции о правах инвалидо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Указ Президента Российской Федерации от 7 мая 2012 года № 599 «О мерах по реализации государственной политики в области образования и наук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Указ Президента Российской Федерации от 1 июня 2012 года № 761"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енные доку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Распоряжение Правительства РФ от 17 ноября 2008 года № 1662-р «Концепция долгосрочного социально-экономического развития РФ на период до 2020 год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Постановление Правительства РФ от от 1 декабря 2015 г. N 129 «О государственной программе Российской Федерации «Доступная среда» на 2011 - 2020 год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Ведомственные документы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     Приказ Министерства образования и науки Российской Федерации от 20 сентября 2013 г. N 1082 г «Положение о психолого-медико-педагогической комиссии»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 Приказ Министерства образования и науки РФ от 30 августа 2013 г. N 1015 "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 и среднего общего образования» 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    Письмо Министерства образования Российской Федерации    от 27.03.2000 № 27/901-6) «О психолого-медико-педагогическом консилиуме (ПМПк) образовательного учрежд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     Письмо Министерства образования и науки РФ  от 18.04.2008 № АФ-150/06 «О создании условий для получения образования детьми с ограниченными возможностями здоровья и детьми-инвалидами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     Приказ Министерства образования инауки РФ от 6 октября 2009 года № 373 «Об утверждении и введении в действие федерального  государственного  образовательного стандарта начального общего образова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Приказ Министерства образования и науки Российской Федерации от 19 декабря 2014 г. № 1598 «Об утверждении Федерального государственного образовательного стандарта начального общего образования обучающихся с ограниченными возможностями здоровь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Приказ Министерства образования и науки Российской Федерации от 19 декабря 2014 г. № 1599 «Об утверждении федерального государственного образовательного стандарта образования обучающихся с умственной отсталостью (интеллектуальными нарушениям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иональные докумен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Т от 22 июля 2013 года N 68-ЗРТ «Об образовании» (в редакции Законов Республики Татарстан от 23.07.2014 N 61-ЗРТ, от 16.03.2015 N 14-ЗРТ, от 08.10.2015 N 76-ЗРТ), принят Государственным Советом Республики Татарстан 28 июня 2013 г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09T10:34:5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