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5DA2-674A-4324-BD90-74B6228C15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1EDF-766B-40AB-B073-8C7B88C9BD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F50C-E639-47FD-8421-4D6026EB20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B8EE-39A0-4AB9-B739-7C34E4C48F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BBF0-44BB-4443-9FA2-9A07770F88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4308-0FA0-4F1E-91C8-FDC089B860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1780-EEB8-4F31-AC9A-E6A9C5C31D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960D-6220-4672-B021-2C68361CB6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DAE1-6A51-40FA-97CE-97BC0DED5A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3D51-CEB4-4F1B-B249-2680E5E113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C573-DD2E-4768-AAE3-CAAE99B1E8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1153-4567-4153-AFD2-DA164F7775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D099-3E36-4C6E-BD7B-849927FAF5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721F-77FD-4320-A97E-F0CA352F4F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8A79-FCB2-4681-B1A5-6342A163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9A18-C1CB-4C39-8775-AE4FD161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0A7-23C7-4A6D-9097-CE38FF5D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7268-8223-486F-B46D-C2C42A5E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C3C3-2E94-45A4-82A0-45E8664D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C078-A344-4580-BFF5-7BBD0770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0611-EAA9-4FC7-8AE8-D340129E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B5A8-E9A8-4F97-A13A-0B9BF44B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E8C6-DC09-47D9-BF40-B7ED883B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F480-07BD-4E58-ADBB-384E9704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4136-6208-4989-9904-4FE8A45A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0505-6925-451C-80A3-82A5C5C6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E084-B9F2-4449-805B-8029A4C3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BBDC-04D6-49B7-B829-7D1B567F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C1C9-9F45-4AFD-9DD9-F9323EB0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E6C9-AB25-4FF9-AE9D-361947FA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D785-313C-400C-B511-D729BCA1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7912-0CC5-4BBB-B21A-40441A4F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DF42-3D17-492D-BDB9-3372DF4F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F1A-2395-443A-8479-6E07436E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8B66-4C0E-4EEE-8950-EF3237B8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6D8D-EF9A-42D1-9F89-93D9A493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DB0-130E-48F5-9DBD-20A8F4F8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7AC-9A31-4B72-9CE5-DBEAFCD7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7FD3-7A58-4DD9-826B-FB2951363516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9A02-C542-41A8-8536-F5A90EB6CD40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3"/>
          <p:cNvSpPr txBox="1"/>
          <p:nvPr/>
        </p:nvSpPr>
        <p:spPr>
          <a:xfrm>
            <a:off x="3124080" y="228600"/>
            <a:ext cx="5486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ишайники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516720" y="1557360"/>
            <a:ext cx="2438280" cy="4952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2057400" cy="1557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468360" y="765000"/>
            <a:ext cx="1871640" cy="1951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3635280" y="1989000"/>
            <a:ext cx="2667240" cy="20574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685800" y="422100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Times New Roman"/>
              </a:rPr>
              <a:t>Урок биологии в 5 классе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9933"/>
                </a:solidFill>
                <a:latin typeface="Times New Roman"/>
              </a:rPr>
              <a:t>Презентация подготовлена учителем биологии ГБОУ №212 Гриневой Г.Б.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Лишайники - пионеры суш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5105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533520" y="1371600"/>
            <a:ext cx="64767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Times New Roman"/>
              </a:rPr>
              <a:t>Разрушают горные породы.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Times New Roman"/>
              </a:rPr>
              <a:t>Участвуют в образовании почв.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Times New Roman"/>
              </a:rPr>
              <a:t>Питание для обитателей почвы.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2590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5" presetSubtype="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Роль лишайников в жизни </a:t>
            </a: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               челове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Пища(исландский мох, манна небесная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В медицине(за противомикробные свойства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Индикаторы чистоты воздуха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В химической промышленност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(красители,лакмус,глюкоза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Получают красители и используют в парфюмерной промышленности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5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5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Охрана лишайников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3657600" cy="4419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5334120" y="396252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4267080" y="3429000"/>
            <a:ext cx="40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Times New Roman"/>
              </a:rPr>
              <a:t>Асахинея шоландера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1981080" y="5943600"/>
            <a:ext cx="35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Лобария легочная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4"/>
          <a:stretch/>
        </p:blipFill>
        <p:spPr>
          <a:xfrm>
            <a:off x="7010280" y="838080"/>
            <a:ext cx="1905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500"/>
                            </p:stCondLst>
                            <p:childTnLst>
                              <p:par>
                                <p:cTn id="41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000"/>
                            </p:stCondLst>
                            <p:childTnLst>
                              <p:par>
                                <p:cTn id="4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ff"/>
                </a:solidFill>
                <a:latin typeface="Times New Roman"/>
              </a:rPr>
              <a:t>Дополнительные сведения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В состав лишайников входит около 26000 видов грибов и около 26 родов фотосинтезирующих организмов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Самыми старыми лишайниками считаются антарктические лишайники, имеющие возраст около 10000 лет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Лишайники не боятся ничего, кроме загрязнения воздуха. Они гибнут при высоком содержании грязных примесей в атмосфере,особенно серы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52680" y="8377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Цель уро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ознакомить с особенностями строения и жизнедеятельности лишайников как симбиоза гриба и водоросли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оказать приспособленность лишайников к разнообразным условиям обитания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Самостоятельно раскрыть роль лишайников в природе и в жизни человека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Общая характеристика и внешнее                                 </a:t>
            </a:r>
            <a:br>
              <a:rPr sz="3600"/>
            </a:b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                    строение</a:t>
            </a:r>
            <a:r>
              <a:rPr b="0" lang="ru-RU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Лишайники – особая группа живых симбиотических организмов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роизрастают на всех континентах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Более 25000 видов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В Арктике 350 видов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Относятся к высшим растениям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0600" y="17524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Тело – слоевище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Разнообразны по окраске, форме, размерам и строению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Размеры от 3-7 сантиметров до метра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Размножаются кусочками слоевища и спорами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Растут медленно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60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65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700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75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Times New Roman"/>
              </a:rPr>
              <a:t>Виды лишайников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rcRect l="1998" t="12480" r="1998" b="7598"/>
          <a:stretch/>
        </p:blipFill>
        <p:spPr>
          <a:xfrm>
            <a:off x="457200" y="1447920"/>
            <a:ext cx="8229600" cy="51051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334120" y="45720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стистый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7010280" y="762120"/>
            <a:ext cx="19051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1" lang="ru-RU" sz="4800" spc="-1" strike="noStrike">
                <a:solidFill>
                  <a:srgbClr val="993300"/>
                </a:solidFill>
                <a:latin typeface="Times New Roman"/>
              </a:rPr>
              <a:t>Накипные лишайники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71500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3429000" y="571500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00"/>
                </a:solidFill>
                <a:latin typeface="Times New Roman"/>
              </a:rPr>
              <a:t>Кальцеофилы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      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Листоватые 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3733920" cy="2438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3352680" cy="2438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6401160" y="4267080"/>
            <a:ext cx="20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imes New Roman"/>
              </a:rPr>
              <a:t>Пармелия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762120" y="44197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Пельтигера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pic>
        <p:nvPicPr>
          <p:cNvPr id="121" name="Picture 9" descr=""/>
          <p:cNvPicPr/>
          <p:nvPr/>
        </p:nvPicPr>
        <p:blipFill>
          <a:blip r:embed="rId3"/>
          <a:stretch/>
        </p:blipFill>
        <p:spPr>
          <a:xfrm>
            <a:off x="3200400" y="3733920"/>
            <a:ext cx="3124080" cy="2514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990720" y="6172200"/>
            <a:ext cx="714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cc00"/>
                </a:solidFill>
                <a:latin typeface="Times New Roman"/>
              </a:rPr>
              <a:t>Ксантория настенная   (золотянка)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99ff"/>
                </a:solidFill>
                <a:latin typeface="Times New Roman"/>
              </a:rPr>
              <a:t>Кустистые лишайники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914400" y="5791320"/>
            <a:ext cx="13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Уснея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48520" y="449568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666880" cy="2438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6477120" y="3809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Кладонии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457200" y="1371600"/>
            <a:ext cx="2286000" cy="4114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4"/>
          <a:stretch/>
        </p:blipFill>
        <p:spPr>
          <a:xfrm>
            <a:off x="3200400" y="2438280"/>
            <a:ext cx="2590920" cy="23623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3"/>
          <p:cNvSpPr/>
          <p:nvPr/>
        </p:nvSpPr>
        <p:spPr>
          <a:xfrm>
            <a:off x="3352680" y="5334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Times New Roman"/>
              </a:rPr>
              <a:t>Цетрария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2590560" cy="4191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289548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4"/>
          <p:cNvSpPr/>
          <p:nvPr/>
        </p:nvSpPr>
        <p:spPr>
          <a:xfrm>
            <a:off x="4267080" y="449568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99ff"/>
                </a:solidFill>
                <a:latin typeface="Times New Roman"/>
              </a:rPr>
              <a:t>Гифы</a:t>
            </a:r>
            <a:endParaRPr b="0" lang="en-US" sz="28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99ff"/>
                </a:solidFill>
                <a:latin typeface="Times New Roman"/>
              </a:rPr>
              <a:t>гриба</a:t>
            </a:r>
            <a:endParaRPr b="0" lang="en-US" sz="28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886200" y="16002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Times New Roman"/>
              </a:rPr>
              <a:t>Клетки</a:t>
            </a:r>
            <a:endParaRPr b="0" lang="en-US" sz="28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Times New Roman"/>
              </a:rPr>
              <a:t>водоросли</a:t>
            </a:r>
            <a:endParaRPr b="0" lang="en-US" sz="28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2057400" y="4114800"/>
            <a:ext cx="2209680" cy="6094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 flipH="1">
            <a:off x="5562720" y="4114800"/>
            <a:ext cx="1295280" cy="68580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37" name="Line 20"/>
          <p:cNvSpPr/>
          <p:nvPr/>
        </p:nvSpPr>
        <p:spPr>
          <a:xfrm flipV="1">
            <a:off x="2895480" y="1904760"/>
            <a:ext cx="1067040" cy="5331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38" name="Line 22"/>
          <p:cNvSpPr/>
          <p:nvPr/>
        </p:nvSpPr>
        <p:spPr>
          <a:xfrm flipH="1" flipV="1">
            <a:off x="5333760" y="1904760"/>
            <a:ext cx="1143000" cy="5331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4114800" y="243828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3809880" y="2590920"/>
            <a:ext cx="106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Times New Roman"/>
              </a:rPr>
              <a:t>Орга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Times New Roman"/>
              </a:rPr>
              <a:t>ничес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Times New Roman"/>
              </a:rPr>
              <a:t>кие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Times New Roman"/>
              </a:rPr>
              <a:t>вещества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41" name="Line 25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42" name="Text Box 27"/>
          <p:cNvSpPr/>
          <p:nvPr/>
        </p:nvSpPr>
        <p:spPr>
          <a:xfrm>
            <a:off x="4952880" y="2362320"/>
            <a:ext cx="99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Times New Roman"/>
              </a:rPr>
              <a:t>Вода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99ff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Times New Roman"/>
              </a:rPr>
              <a:t>мине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Times New Roman"/>
              </a:rPr>
              <a:t>раль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Times New Roman"/>
              </a:rPr>
              <a:t>ные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Times New Roman"/>
              </a:rPr>
              <a:t>соли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762120" y="4572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Times New Roman"/>
              </a:rPr>
              <a:t>Внутреннее строение и питание</a:t>
            </a:r>
            <a:endParaRPr b="0" lang="en-US" sz="40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Times New Roman"/>
              </a:rPr>
              <a:t>                       </a:t>
            </a:r>
            <a:r>
              <a:rPr b="1" lang="ru-RU" sz="4000" spc="-1" strike="noStrike">
                <a:solidFill>
                  <a:srgbClr val="9966ff"/>
                </a:solidFill>
                <a:latin typeface="Times New Roman"/>
              </a:rPr>
              <a:t>лишайника</a:t>
            </a: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143000" y="57564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Лишайник – симбиоз гетеротрофного гриба</a:t>
            </a:r>
            <a:endParaRPr b="0" lang="en-US" sz="28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                  </a:t>
            </a: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и автотрофной водоросли.</a:t>
            </a:r>
            <a:endParaRPr b="0" lang="en-US" sz="2800" spc="-1" strike="noStrike">
              <a:solidFill>
                <a:srgbClr val="cccc00"/>
              </a:solidFill>
              <a:latin typeface="Times New Roman"/>
            </a:endParaRPr>
          </a:p>
        </p:txBody>
      </p:sp>
      <p:pic>
        <p:nvPicPr>
          <p:cNvPr id="145" name="Picture 31" descr=""/>
          <p:cNvPicPr/>
          <p:nvPr/>
        </p:nvPicPr>
        <p:blipFill>
          <a:blip r:embed="rId3"/>
          <a:stretch/>
        </p:blipFill>
        <p:spPr>
          <a:xfrm>
            <a:off x="7238880" y="990720"/>
            <a:ext cx="19051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Роль лишайников в природ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Times New Roman"/>
              </a:rPr>
              <a:t>Корм для северных оленей(ягель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Times New Roman"/>
              </a:rPr>
              <a:t>Защищают деревья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Times New Roman"/>
              </a:rPr>
              <a:t>от грибов – паразитов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Times New Roman"/>
              </a:rPr>
              <a:t>Лишайники – индикаторы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Times New Roman"/>
              </a:rPr>
              <a:t>состояния окружающей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Times New Roman"/>
              </a:rPr>
              <a:t>среды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3886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80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6:32:15Z</dcterms:created>
  <dc:creator>1</dc:creator>
  <dc:description/>
  <dc:language>en-US</dc:language>
  <cp:lastModifiedBy>Галина</cp:lastModifiedBy>
  <dcterms:modified xsi:type="dcterms:W3CDTF">2018-12-08T22:17:36Z</dcterms:modified>
  <cp:revision>42</cp:revision>
  <dc:subject/>
  <dc:title>Презентация PowerPoint</dc:title>
</cp:coreProperties>
</file>