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FB73-FD31-4104-872E-176C60CD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B63-9015-4E9E-A1F3-F1EDC179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D5C1-D01C-4378-AC39-E5E7F37F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62EA-8AE3-4E68-B5EE-119079B3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36E8-04E3-45D1-ABF9-26E33C0B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8D38-7F29-4C45-9F57-CF156DAC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7226-333B-421C-A804-633904BF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CDDB-D168-4FFE-B3F0-E9673E16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CEE0-7280-4AE0-9343-073D4441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FBAB-9128-46B6-80B2-9F6447F2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5C26-FC81-4146-8EB0-5DDB0E50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D59-6372-448B-BBD5-27045EED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9255-640D-4929-A754-3C1676B9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6138-0AC5-4317-8B7D-FBB95B2C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1FAF-33CA-4814-9329-7C7DE8AE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AC53-BED7-4ABC-A710-6C9AFCE6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67F7-3C59-44DC-9FAF-A6510963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51B0E-4D6E-4F7B-8532-615C4399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EECB5-F006-4F81-876A-D118EE55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0213D-EED8-49CF-B888-D72BFC29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96C19-0F6C-43F5-9452-F3241968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F3AF4-C197-4A3A-AAEB-B735D513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625-017D-430B-AD46-DB002942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BE03D-5F2B-464E-B054-517F1DAE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180E4-A6F8-4436-9BBC-39BEB8F4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338D1-4B4E-490B-9BE6-B388A1E1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1D832-C9F9-4532-B492-CA551DC2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51091-2E87-45C2-B17E-FFEF450F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BC1B6-8162-42ED-A42D-4F1C1A81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B4034-1DAB-497B-97ED-00F1CDE3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DD36F-7FA4-421B-A47C-3F6B32F1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0C8B7-3C8A-473B-B850-2F333683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E6489-D920-4047-A9DC-6829C1A2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3DF-2623-4B39-9931-FBE79B76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00F02-26B1-471A-AEDF-B3792725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C7210-63D7-4A06-994C-52955F40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8655B-9263-4EA3-A96F-82FCAF9B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AA46E-E564-41DF-BA52-B5636F79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671F3-BB36-4B1C-85CE-EF301528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6D3CC-5021-4E0B-AC2F-E18A3E7C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CA176-9EAE-4BCA-9289-BB0D8CF1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3E39F-CA95-4A1F-BFEE-7B1F08D1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81445-7BF9-4504-AD9B-A6F11102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846C-1963-48A5-8275-268817F6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A32A-FB3D-4FFB-AD01-C8E1A945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B0A8-FA77-4BA0-A8C5-F1022949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0C1-EDF4-424E-BD68-2DF72A4E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A6D-B7A0-47D1-BBD6-FF319192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7F98-0688-4351-BBDB-7F22737DB7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94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5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6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8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26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7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44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5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252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53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D516-5B86-4BDB-B874-AA3F8ABDDD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0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1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1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7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CF44-C19B-4B7E-899C-473E2B8845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91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92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93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6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2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3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04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05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6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3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24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5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6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7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8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9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0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1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2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3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4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5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6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7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8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9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0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41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42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3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4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5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6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7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8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4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5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EBFB-1B69-4D3E-B46B-E95CA91C5F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1371600" y="6281280"/>
            <a:ext cx="64008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</a:rPr>
              <a:t>22 июня 1941 года</a:t>
            </a:r>
            <a:r>
              <a:rPr b="0" i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ru-RU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ru-RU" sz="4000" spc="-1" strike="noStrike">
                <a:solidFill>
                  <a:srgbClr val="ffffcc"/>
                </a:solidFill>
                <a:latin typeface="Times New Roman"/>
              </a:rPr>
              <a:t>фашистская Германия</a:t>
            </a:r>
            <a:br>
              <a:rPr sz="4000"/>
            </a:br>
            <a:r>
              <a:rPr b="0" i="1" lang="ru-RU" sz="4000" spc="-1" strike="noStrike">
                <a:solidFill>
                  <a:srgbClr val="ffffcc"/>
                </a:solidFill>
                <a:latin typeface="Times New Roman"/>
              </a:rPr>
              <a:t>    вероломно напала на СССР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0" i="1" lang="ru-RU" sz="4000" spc="-1" strike="noStrike">
                <a:solidFill>
                  <a:srgbClr val="ffff00"/>
                </a:solidFill>
                <a:latin typeface="Times New Roman"/>
              </a:rPr>
              <a:t>«Вставай страна огромная,</a:t>
            </a:r>
            <a:br>
              <a:rPr sz="4000"/>
            </a:br>
            <a:r>
              <a:rPr b="0" i="1" lang="ru-RU" sz="4000" spc="-1" strike="noStrike">
                <a:solidFill>
                  <a:srgbClr val="ffff00"/>
                </a:solidFill>
                <a:latin typeface="Times New Roman"/>
              </a:rPr>
              <a:t> Вставай на смертный бой.</a:t>
            </a:r>
            <a:br>
              <a:rPr sz="4000"/>
            </a:br>
            <a:r>
              <a:rPr b="0" i="1" lang="ru-RU" sz="4000" spc="-1" strike="noStrike">
                <a:solidFill>
                  <a:srgbClr val="ffff00"/>
                </a:solidFill>
                <a:latin typeface="Times New Roman"/>
              </a:rPr>
              <a:t>С фашистской силой тёмною,</a:t>
            </a:r>
            <a:br>
              <a:rPr sz="4000"/>
            </a:br>
            <a:r>
              <a:rPr b="0" i="1" lang="ru-RU" sz="4000" spc="-1" strike="noStrike">
                <a:solidFill>
                  <a:srgbClr val="ffff00"/>
                </a:solidFill>
                <a:latin typeface="Times New Roman"/>
              </a:rPr>
              <a:t>С проклятою ордой…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рош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асковья Лавренть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9" name="Picture 4" descr="Изображение 002"/>
          <p:cNvPicPr/>
          <p:nvPr/>
        </p:nvPicPr>
        <p:blipFill>
          <a:blip r:embed="rId1"/>
          <a:stretch/>
        </p:blipFill>
        <p:spPr>
          <a:xfrm>
            <a:off x="1905120" y="2590920"/>
            <a:ext cx="53640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9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оронк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оя Алексе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2" name="Picture 4" descr="Изображение 003"/>
          <p:cNvPicPr/>
          <p:nvPr/>
        </p:nvPicPr>
        <p:blipFill>
          <a:blip r:embed="rId1"/>
          <a:stretch/>
        </p:blipFill>
        <p:spPr>
          <a:xfrm>
            <a:off x="3276720" y="2362320"/>
            <a:ext cx="27432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cecff"/>
                </a:solidFill>
                <a:latin typeface="Script MT Bold"/>
              </a:rPr>
              <a:t>Вдовы</a:t>
            </a:r>
            <a:br>
              <a:rPr sz="8000"/>
            </a:br>
            <a:r>
              <a:rPr b="1" i="1" lang="ru-RU" sz="8000" spc="-1" strike="noStrike">
                <a:solidFill>
                  <a:srgbClr val="ccecff"/>
                </a:solidFill>
                <a:latin typeface="Script MT Bold"/>
              </a:rPr>
              <a:t>ветеранов ВОВ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1371600" y="562356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68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68" fill="hold"/>
                                        <p:tgtEl>
                                          <p:spTgt spid="6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68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68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ворникова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Ефросинья Александров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доркин В.Н. в гостях у Ефросиньи Александровны (2005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7" name="Picture 4" descr="Изображение 004"/>
          <p:cNvPicPr/>
          <p:nvPr/>
        </p:nvPicPr>
        <p:blipFill>
          <a:blip r:embed="rId1"/>
          <a:stretch/>
        </p:blipFill>
        <p:spPr>
          <a:xfrm>
            <a:off x="1981080" y="2666880"/>
            <a:ext cx="546264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ерчинская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оя Иванов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доркин В.Н. в гостях у Зои Ивановны (2005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0" name="Picture 4" descr="Изображение 005"/>
          <p:cNvPicPr/>
          <p:nvPr/>
        </p:nvPicPr>
        <p:blipFill>
          <a:blip r:embed="rId1"/>
          <a:stretch/>
        </p:blipFill>
        <p:spPr>
          <a:xfrm>
            <a:off x="2124000" y="2590920"/>
            <a:ext cx="546264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пова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ария Ивановн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доркин В.Н. в гостях у Марии Ивановны (2005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3" name="Picture 4" descr="Изображение 006"/>
          <p:cNvPicPr/>
          <p:nvPr/>
        </p:nvPicPr>
        <p:blipFill>
          <a:blip r:embed="rId1"/>
          <a:stretch/>
        </p:blipFill>
        <p:spPr>
          <a:xfrm>
            <a:off x="1905120" y="2665440"/>
            <a:ext cx="546264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ccecff"/>
                </a:solidFill>
                <a:uFillTx/>
                <a:latin typeface="Arial"/>
              </a:rPr>
              <a:t>Их имена </a:t>
            </a:r>
            <a:br>
              <a:rPr sz="4800"/>
            </a:br>
            <a:r>
              <a:rPr b="0" i="1" lang="ru-RU" sz="4800" spc="-1" strike="noStrike" u="sng">
                <a:solidFill>
                  <a:srgbClr val="ccecff"/>
                </a:solidFill>
                <a:uFillTx/>
                <a:latin typeface="Arial"/>
              </a:rPr>
              <a:t>занесены в «Книгу памяти» Красноярского края </a:t>
            </a:r>
            <a:br>
              <a:rPr sz="4800"/>
            </a:br>
            <a:r>
              <a:rPr b="0" i="1" lang="ru-RU" sz="4800" spc="-1" strike="noStrike" u="sng">
                <a:solidFill>
                  <a:srgbClr val="ccecff"/>
                </a:solidFill>
                <a:uFillTx/>
                <a:latin typeface="Arial"/>
              </a:rPr>
              <a:t>«Никто не забыт…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258920" y="1052640"/>
            <a:ext cx="6400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рлаков Иван Андре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айда Пётр Фёдо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Щелканов Андрей Лавренть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пов Яков Иннокенть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пов Владимир Иван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чинский Андрей Пет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доренко Валентина Витал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доренко Николай Клименть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ранишников Дмитрий Степан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50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50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50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50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5000" fill="hold"/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6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5000" fill="hold"/>
                                        <p:tgtEl>
                                          <p:spTgt spid="6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5000" fill="hold"/>
                                        <p:tgtEl>
                                          <p:spTgt spid="6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5000" fill="hold"/>
                                        <p:tgtEl>
                                          <p:spTgt spid="6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5000" fill="hold"/>
                                        <p:tgtEl>
                                          <p:spTgt spid="6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0" fill="hold"/>
                                        <p:tgtEl>
                                          <p:spTgt spid="6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5000" fill="hold"/>
                                        <p:tgtEl>
                                          <p:spTgt spid="6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5000" fill="hold"/>
                                        <p:tgtEl>
                                          <p:spTgt spid="63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5000" fill="hold"/>
                                        <p:tgtEl>
                                          <p:spTgt spid="6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5000" fill="hold"/>
                                        <p:tgtEl>
                                          <p:spTgt spid="6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5000" fill="hold"/>
                                        <p:tgtEl>
                                          <p:spTgt spid="63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5000" fill="hold"/>
                                        <p:tgtEl>
                                          <p:spTgt spid="637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5000" fill="hold"/>
                                        <p:tgtEl>
                                          <p:spTgt spid="63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5000" fill="hold"/>
                                        <p:tgtEl>
                                          <p:spTgt spid="637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огинов Пётр Филипп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иволуцкий Ефим Мирон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липенко Александр Иван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есников Василий Иван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илецкий Зикфрид Казими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есников Леонид Иван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ворников Яков Фёдо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китин Анатолий Пет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лексеенко Константин Никола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0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5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5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5000" fill="hold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5000" fill="hold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5000" fill="hold"/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5000" fill="hold"/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5000" fill="hold"/>
                                        <p:tgtEl>
                                          <p:spTgt spid="6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000" fill="hold"/>
                                        <p:tgtEl>
                                          <p:spTgt spid="6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5000" fill="hold"/>
                                        <p:tgtEl>
                                          <p:spTgt spid="6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5000" fill="hold"/>
                                        <p:tgtEl>
                                          <p:spTgt spid="6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5000" fill="hold"/>
                                        <p:tgtEl>
                                          <p:spTgt spid="6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5000" fill="hold"/>
                                        <p:tgtEl>
                                          <p:spTgt spid="6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5000" fill="hold"/>
                                        <p:tgtEl>
                                          <p:spTgt spid="6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5000" fill="hold"/>
                                        <p:tgtEl>
                                          <p:spTgt spid="6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5000" fill="hold"/>
                                        <p:tgtEl>
                                          <p:spTgt spid="63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5000" fill="hold"/>
                                        <p:tgtEl>
                                          <p:spTgt spid="63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5000" fill="hold"/>
                                        <p:tgtEl>
                                          <p:spTgt spid="63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5000" fill="hold"/>
                                        <p:tgtEl>
                                          <p:spTgt spid="63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ркалов Устин Дмитри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уков Константин Михайл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узгин Василий Елисе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андуров Александр Осип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курихин Семён Дмитри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адрин Александр Сергее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хрякова Августа Константин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икинёв Александр Демьян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уцаков Михаил Ефим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5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5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5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5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5000" fill="hold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5000" fill="hold"/>
                                        <p:tgtEl>
                                          <p:spTgt spid="6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5000" fill="hold"/>
                                        <p:tgtEl>
                                          <p:spTgt spid="6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5000" fill="hold"/>
                                        <p:tgtEl>
                                          <p:spTgt spid="6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5000" fill="hold"/>
                                        <p:tgtEl>
                                          <p:spTgt spid="6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5000" fill="hold"/>
                                        <p:tgtEl>
                                          <p:spTgt spid="6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5000" fill="hold"/>
                                        <p:tgtEl>
                                          <p:spTgt spid="6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5000" fill="hold"/>
                                        <p:tgtEl>
                                          <p:spTgt spid="6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5000" fill="hold"/>
                                        <p:tgtEl>
                                          <p:spTgt spid="6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5000" fill="hold"/>
                                        <p:tgtEl>
                                          <p:spTgt spid="6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5000" fill="hold"/>
                                        <p:tgtEl>
                                          <p:spTgt spid="6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000" fill="hold"/>
                                        <p:tgtEl>
                                          <p:spTgt spid="6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5000" fill="hold"/>
                                        <p:tgtEl>
                                          <p:spTgt spid="64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5000" fill="hold"/>
                                        <p:tgtEl>
                                          <p:spTgt spid="64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6ffff"/>
                </a:solidFill>
                <a:latin typeface="Arial Narrow"/>
              </a:rPr>
              <a:t>Список </a:t>
            </a:r>
            <a:br>
              <a:rPr sz="4800"/>
            </a:br>
            <a:r>
              <a:rPr b="0" i="1" lang="ru-RU" sz="4800" spc="-1" strike="noStrike">
                <a:solidFill>
                  <a:srgbClr val="66ffff"/>
                </a:solidFill>
                <a:latin typeface="Arial Narrow"/>
              </a:rPr>
              <a:t>ушедших на фронт из с.Епишино, </a:t>
            </a:r>
            <a:br>
              <a:rPr sz="4800"/>
            </a:br>
            <a:r>
              <a:rPr b="0" i="1" lang="ru-RU" sz="4800" spc="-1" strike="noStrike">
                <a:solidFill>
                  <a:srgbClr val="66ffff"/>
                </a:solidFill>
                <a:latin typeface="Arial Narrow"/>
              </a:rPr>
              <a:t>призванных Енисейским РВК, частично восстановленный по данным военкомата г.Енисейск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371600" y="6281280"/>
            <a:ext cx="64008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43" name="Picture 4" descr="сканирование0016"/>
          <p:cNvPicPr/>
          <p:nvPr/>
        </p:nvPicPr>
        <p:blipFill>
          <a:blip r:embed="rId1"/>
          <a:stretch/>
        </p:blipFill>
        <p:spPr>
          <a:xfrm>
            <a:off x="6229440" y="1989000"/>
            <a:ext cx="2170080" cy="32403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5364000" y="602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чинский Андрей Петр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25 - 2002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5" name="Picture 6" descr="сканирование0010"/>
          <p:cNvPicPr/>
          <p:nvPr/>
        </p:nvPicPr>
        <p:blipFill>
          <a:blip r:embed="rId2"/>
          <a:stretch/>
        </p:blipFill>
        <p:spPr>
          <a:xfrm>
            <a:off x="1116000" y="1989000"/>
            <a:ext cx="2292480" cy="309744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7"/>
          <p:cNvSpPr/>
          <p:nvPr/>
        </p:nvSpPr>
        <p:spPr>
          <a:xfrm>
            <a:off x="324000" y="595008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льников Николай Федор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24 – 1983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WordArt 12"/>
          <p:cNvSpPr txBox="1"/>
          <p:nvPr/>
        </p:nvSpPr>
        <p:spPr>
          <a:xfrm>
            <a:off x="684360" y="404640"/>
            <a:ext cx="721980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односельчане - ветераны ВОВ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1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5" dur="2000" fill="hold"/>
                                        <p:tgtEl>
                                          <p:spTgt spid="6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9" dur="2000" fill="hold"/>
                                        <p:tgtEl>
                                          <p:spTgt spid="6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2" descr="сканирование0017"/>
          <p:cNvPicPr/>
          <p:nvPr/>
        </p:nvPicPr>
        <p:blipFill>
          <a:blip r:embed="rId1"/>
          <a:stretch/>
        </p:blipFill>
        <p:spPr>
          <a:xfrm>
            <a:off x="647640" y="2273400"/>
            <a:ext cx="2210040" cy="29080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3" descr="сканирование0025"/>
          <p:cNvPicPr/>
          <p:nvPr/>
        </p:nvPicPr>
        <p:blipFill>
          <a:blip r:embed="rId2"/>
          <a:stretch/>
        </p:blipFill>
        <p:spPr>
          <a:xfrm>
            <a:off x="6172200" y="2286000"/>
            <a:ext cx="2133720" cy="2895480"/>
          </a:xfrm>
          <a:prstGeom prst="rect">
            <a:avLst/>
          </a:prstGeom>
          <a:ln w="0">
            <a:noFill/>
          </a:ln>
        </p:spPr>
      </p:pic>
      <p:sp>
        <p:nvSpPr>
          <p:cNvPr id="650" name="WordArt 4"/>
          <p:cNvSpPr txBox="1"/>
          <p:nvPr/>
        </p:nvSpPr>
        <p:spPr>
          <a:xfrm>
            <a:off x="762120" y="304920"/>
            <a:ext cx="76960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односельчане-ветераны ВОВ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228600" y="586728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айда Пётр Федор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27 - 2004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5257800" y="5213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5486400" y="59436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рхипов Михаил Ефим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24 - 1996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Text Box 8"/>
          <p:cNvSpPr/>
          <p:nvPr/>
        </p:nvSpPr>
        <p:spPr>
          <a:xfrm>
            <a:off x="6400800" y="3962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6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0" dur="2000" fill="hold"/>
                                        <p:tgtEl>
                                          <p:spTgt spid="6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4" dur="2000" fill="hold"/>
                                        <p:tgtEl>
                                          <p:spTgt spid="6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2" descr="сканирование0020"/>
          <p:cNvPicPr/>
          <p:nvPr/>
        </p:nvPicPr>
        <p:blipFill>
          <a:blip r:embed="rId1"/>
          <a:stretch/>
        </p:blipFill>
        <p:spPr>
          <a:xfrm>
            <a:off x="5940360" y="2349360"/>
            <a:ext cx="2362320" cy="2971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" descr="сканирование0032"/>
          <p:cNvPicPr/>
          <p:nvPr/>
        </p:nvPicPr>
        <p:blipFill>
          <a:blip r:embed="rId2"/>
          <a:stretch/>
        </p:blipFill>
        <p:spPr>
          <a:xfrm>
            <a:off x="684360" y="2421000"/>
            <a:ext cx="2133360" cy="298440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4"/>
          <p:cNvSpPr/>
          <p:nvPr/>
        </p:nvSpPr>
        <p:spPr>
          <a:xfrm>
            <a:off x="0" y="6095880"/>
            <a:ext cx="32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ворников Яков Федор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18 - 1997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Text Box 5"/>
          <p:cNvSpPr/>
          <p:nvPr/>
        </p:nvSpPr>
        <p:spPr>
          <a:xfrm flipV="1" rot="10800000">
            <a:off x="5636880" y="6095520"/>
            <a:ext cx="35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пов Владимир Иван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25 - 2003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3352680" y="3841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1371600" y="5594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0" y="3917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WordArt 9"/>
          <p:cNvSpPr txBox="1"/>
          <p:nvPr/>
        </p:nvSpPr>
        <p:spPr>
          <a:xfrm>
            <a:off x="762120" y="304920"/>
            <a:ext cx="76960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односельчане-ветераны ВОВ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1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5" dur="2000" fill="hold"/>
                                        <p:tgtEl>
                                          <p:spTgt spid="6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9" dur="2000" fill="hold"/>
                                        <p:tgtEl>
                                          <p:spTgt spid="6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сканирование0022"/>
          <p:cNvPicPr/>
          <p:nvPr/>
        </p:nvPicPr>
        <p:blipFill>
          <a:blip r:embed="rId1"/>
          <a:stretch/>
        </p:blipFill>
        <p:spPr>
          <a:xfrm>
            <a:off x="3276720" y="1989000"/>
            <a:ext cx="2303280" cy="331164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3"/>
          <p:cNvSpPr/>
          <p:nvPr/>
        </p:nvSpPr>
        <p:spPr>
          <a:xfrm>
            <a:off x="0" y="61246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доренко Николай Клементье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18 - 2000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WordArt 4"/>
          <p:cNvSpPr txBox="1"/>
          <p:nvPr/>
        </p:nvSpPr>
        <p:spPr>
          <a:xfrm>
            <a:off x="685800" y="277920"/>
            <a:ext cx="800100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односельчане-ветераны ВОВ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6" name="Rectangle 5"/>
          <p:cNvSpPr/>
          <p:nvPr/>
        </p:nvSpPr>
        <p:spPr>
          <a:xfrm>
            <a:off x="4581360" y="6095880"/>
            <a:ext cx="4562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доренко Валентина Витал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22 - 2000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6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0" dur="2000" fill="hold"/>
                                        <p:tgtEl>
                                          <p:spTgt spid="6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сканирование0031"/>
          <p:cNvPicPr/>
          <p:nvPr/>
        </p:nvPicPr>
        <p:blipFill>
          <a:blip r:embed="rId1"/>
          <a:stretch/>
        </p:blipFill>
        <p:spPr>
          <a:xfrm>
            <a:off x="5867280" y="2362320"/>
            <a:ext cx="2286000" cy="28191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сканирование0034"/>
          <p:cNvPicPr/>
          <p:nvPr/>
        </p:nvPicPr>
        <p:blipFill>
          <a:blip r:embed="rId2"/>
          <a:stretch/>
        </p:blipFill>
        <p:spPr>
          <a:xfrm>
            <a:off x="900000" y="242100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4"/>
          <p:cNvSpPr/>
          <p:nvPr/>
        </p:nvSpPr>
        <p:spPr>
          <a:xfrm>
            <a:off x="250920" y="39337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179280" y="6124680"/>
            <a:ext cx="38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иволуцкий Ефим Мирон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05 - 1987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Text Box 6"/>
          <p:cNvSpPr/>
          <p:nvPr/>
        </p:nvSpPr>
        <p:spPr>
          <a:xfrm>
            <a:off x="3429000" y="3994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5410080" y="609588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илипенко Александр Иван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17 - 1995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WordArt 8"/>
          <p:cNvSpPr txBox="1"/>
          <p:nvPr/>
        </p:nvSpPr>
        <p:spPr>
          <a:xfrm>
            <a:off x="762120" y="304920"/>
            <a:ext cx="76960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односельчане-ветераны ВОВ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7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1" dur="2000" fill="hold"/>
                                        <p:tgtEl>
                                          <p:spTgt spid="6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5" dur="2000" fill="hold"/>
                                        <p:tgtEl>
                                          <p:spTgt spid="6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сканирование0033"/>
          <p:cNvPicPr/>
          <p:nvPr/>
        </p:nvPicPr>
        <p:blipFill>
          <a:blip r:embed="rId1"/>
          <a:stretch/>
        </p:blipFill>
        <p:spPr>
          <a:xfrm>
            <a:off x="5867280" y="2060640"/>
            <a:ext cx="2438640" cy="322092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4859280" y="6021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пов Яков Иннокентье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22 - 2001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6" name="Picture 4" descr="сканирование0035"/>
          <p:cNvPicPr/>
          <p:nvPr/>
        </p:nvPicPr>
        <p:blipFill>
          <a:blip r:embed="rId2"/>
          <a:stretch/>
        </p:blipFill>
        <p:spPr>
          <a:xfrm>
            <a:off x="762120" y="2133720"/>
            <a:ext cx="2514600" cy="312408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5"/>
          <p:cNvSpPr/>
          <p:nvPr/>
        </p:nvSpPr>
        <p:spPr>
          <a:xfrm>
            <a:off x="250920" y="6093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улесов Сергей Василье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27 – 2005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WordArt 6"/>
          <p:cNvSpPr txBox="1"/>
          <p:nvPr/>
        </p:nvSpPr>
        <p:spPr>
          <a:xfrm>
            <a:off x="762120" y="304920"/>
            <a:ext cx="76960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односельчане-ветераны ВОВ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2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6" dur="2000" fill="hold"/>
                                        <p:tgtEl>
                                          <p:spTgt spid="6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0" dur="2000" fill="hold"/>
                                        <p:tgtEl>
                                          <p:spTgt spid="6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2" descr="сканирование0023"/>
          <p:cNvPicPr/>
          <p:nvPr/>
        </p:nvPicPr>
        <p:blipFill>
          <a:blip r:embed="rId1"/>
          <a:stretch/>
        </p:blipFill>
        <p:spPr>
          <a:xfrm>
            <a:off x="5915160" y="2214720"/>
            <a:ext cx="2390760" cy="3159000"/>
          </a:xfrm>
          <a:prstGeom prst="rect">
            <a:avLst/>
          </a:prstGeom>
          <a:ln w="0">
            <a:noFill/>
          </a:ln>
        </p:spPr>
      </p:pic>
      <p:sp>
        <p:nvSpPr>
          <p:cNvPr id="680" name="Rectangle 3"/>
          <p:cNvSpPr/>
          <p:nvPr/>
        </p:nvSpPr>
        <p:spPr>
          <a:xfrm>
            <a:off x="5257800" y="61246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огинов Петр Филипп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17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1" name="Picture 4" descr="сканирование0030"/>
          <p:cNvPicPr/>
          <p:nvPr/>
        </p:nvPicPr>
        <p:blipFill>
          <a:blip r:embed="rId2"/>
          <a:stretch/>
        </p:blipFill>
        <p:spPr>
          <a:xfrm>
            <a:off x="887400" y="2209680"/>
            <a:ext cx="2084400" cy="301968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5"/>
          <p:cNvSpPr/>
          <p:nvPr/>
        </p:nvSpPr>
        <p:spPr>
          <a:xfrm>
            <a:off x="0" y="6019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лесников Леонид Иван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17г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WordArt 6"/>
          <p:cNvSpPr txBox="1"/>
          <p:nvPr/>
        </p:nvSpPr>
        <p:spPr>
          <a:xfrm>
            <a:off x="457200" y="277920"/>
            <a:ext cx="79246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односельчане-ветераны ВОВ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7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1" dur="2000" fill="hold"/>
                                        <p:tgtEl>
                                          <p:spTgt spid="6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5" dur="20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2"/>
          <p:cNvSpPr/>
          <p:nvPr/>
        </p:nvSpPr>
        <p:spPr>
          <a:xfrm>
            <a:off x="4932360" y="602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анишников Дмитрий Степан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12 – 1988г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-252360" y="5734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лесников Василий Ивано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12 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WordArt 4"/>
          <p:cNvSpPr txBox="1"/>
          <p:nvPr/>
        </p:nvSpPr>
        <p:spPr>
          <a:xfrm>
            <a:off x="762120" y="304920"/>
            <a:ext cx="76960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односельчане-ветераны В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7" name="Picture 5" descr=""/>
          <p:cNvPicPr/>
          <p:nvPr/>
        </p:nvPicPr>
        <p:blipFill>
          <a:blip r:embed="rId3"/>
          <a:stretch/>
        </p:blipFill>
        <p:spPr>
          <a:xfrm>
            <a:off x="1332000" y="1916280"/>
            <a:ext cx="2192400" cy="331452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8"/>
          <p:cNvSpPr/>
          <p:nvPr/>
        </p:nvSpPr>
        <p:spPr>
          <a:xfrm>
            <a:off x="4643280" y="573408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9" name="Picture 9" descr=""/>
          <p:cNvPicPr/>
          <p:nvPr/>
        </p:nvPicPr>
        <p:blipFill>
          <a:blip r:embed="rId4"/>
          <a:stretch/>
        </p:blipFill>
        <p:spPr>
          <a:xfrm>
            <a:off x="5796000" y="1989000"/>
            <a:ext cx="22208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6" dur="2000" fill="hold"/>
                                        <p:tgtEl>
                                          <p:spTgt spid="6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0" dur="2000" fill="hold"/>
                                        <p:tgtEl>
                                          <p:spTgt spid="6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39528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Щелканов Андрей Лаврентье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14 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457200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мчук Михаил Василье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1923г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WordArt 4"/>
          <p:cNvSpPr txBox="1"/>
          <p:nvPr/>
        </p:nvSpPr>
        <p:spPr>
          <a:xfrm>
            <a:off x="762120" y="304920"/>
            <a:ext cx="76960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односельчане-ветераны В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3" name="Picture 5" descr=""/>
          <p:cNvPicPr/>
          <p:nvPr/>
        </p:nvPicPr>
        <p:blipFill>
          <a:blip r:embed="rId3"/>
          <a:stretch/>
        </p:blipFill>
        <p:spPr>
          <a:xfrm>
            <a:off x="1106640" y="1916280"/>
            <a:ext cx="1960560" cy="302544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7" descr=""/>
          <p:cNvPicPr/>
          <p:nvPr/>
        </p:nvPicPr>
        <p:blipFill>
          <a:blip r:embed="rId4"/>
          <a:stretch/>
        </p:blipFill>
        <p:spPr>
          <a:xfrm>
            <a:off x="5724360" y="1916280"/>
            <a:ext cx="19749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7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1" dur="2000" fill="hold"/>
                                        <p:tgtEl>
                                          <p:spTgt spid="6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5" dur="2000" fill="hold"/>
                                        <p:tgtEl>
                                          <p:spTgt spid="6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Вечная память героям,</a:t>
            </a:r>
            <a:br>
              <a:rPr sz="5400"/>
            </a:b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 павшим в битве за человечество против фашизма, </a:t>
            </a:r>
            <a:br>
              <a:rPr sz="5400"/>
            </a:b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за свободу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1371600" y="5262480"/>
            <a:ext cx="640080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0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-23796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 Narrow"/>
              </a:rPr>
              <a:t>Из с.Епишино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i="1" lang="ru-RU" sz="4800" spc="-1" strike="noStrike">
                <a:solidFill>
                  <a:srgbClr val="ff0000"/>
                </a:solidFill>
                <a:latin typeface="Arial Narrow"/>
              </a:rPr>
              <a:t>ушли на фронт 54 человека,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Arial Narrow"/>
              </a:rPr>
              <a:t>вернулись - 44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cecff"/>
                </a:solidFill>
                <a:latin typeface="Arial"/>
              </a:rPr>
              <a:t>Они похоронены в с.Епишино</a:t>
            </a:r>
            <a:endParaRPr b="0" lang="en-US" sz="2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чурин Пётр Александрович ( ?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ркалов Устин Дмитриевич ( ?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ндуров Александр Осипович ( ?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адрин Александр Сергеевич (1956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курин Семён Дмитриевич (1967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ин Дмитрий Степанович (1972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уков Константин Михайлович (1972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икинёв Александр Демьянович (1981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льников Николай Фёдорович (1983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згин Василий Алексеевич (1985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китин Анатолий Петрович (1985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иволуцкий Ефим Миронович (1987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хрякова Августа Константиновна (1988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ранишников Дмитрий Степанович (1988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ексеенко Константин Николаевич (1988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6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6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6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6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6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6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6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6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6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6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6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6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6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6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6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6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цаков Михаил Ефимович (1992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липенко Александр Иванович (1995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хипов Михаил Афанасьевич (1996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орников Яков Фёдорович (1997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доренко Николай Климентьевич (2000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доренко Валентина Витальевна (2000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рлаков Иван Андреевич (2001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пов Яков Иннокентьевич (2001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чинский Андрей Петрович (2002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пов Владимир Иванович (2003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айда Пётр Фёдорович (2004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улесов Сергей Васильевич (2005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7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7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7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7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7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7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7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7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7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7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7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7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7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7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7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7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7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7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65530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Picture 4" descr="Изображение 005"/>
          <p:cNvPicPr/>
          <p:nvPr/>
        </p:nvPicPr>
        <p:blipFill>
          <a:blip r:embed="rId1"/>
          <a:stretch/>
        </p:blipFill>
        <p:spPr>
          <a:xfrm>
            <a:off x="2666880" y="533520"/>
            <a:ext cx="39117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33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ffff"/>
                </a:solidFill>
                <a:latin typeface="Monotype Corsiva"/>
              </a:rPr>
              <a:t>В благодарной памяти людей не померкнет слава героев Великой Отечественной войны. </a:t>
            </a:r>
            <a:br>
              <a:rPr sz="3600"/>
            </a:br>
            <a:r>
              <a:rPr b="0" i="1" lang="ru-RU" sz="3600" spc="-1" strike="noStrike">
                <a:solidFill>
                  <a:srgbClr val="66ffff"/>
                </a:solidFill>
                <a:latin typeface="Monotype Corsiva"/>
              </a:rPr>
              <a:t>Их подвиг – вдохновляющий пример для грядущих поколений.</a:t>
            </a:r>
            <a:br>
              <a:rPr sz="3600"/>
            </a:br>
            <a:r>
              <a:rPr b="0" i="1" lang="ru-RU" sz="3600" spc="-1" strike="noStrike">
                <a:solidFill>
                  <a:srgbClr val="66ffff"/>
                </a:solidFill>
                <a:latin typeface="Monotype Corsiva"/>
              </a:rPr>
              <a:t>Победа в Великой Отечественной войне была одержана советским народом во имя мира и жизни на Земле.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6095880"/>
            <a:ext cx="82296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8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6095880"/>
            <a:ext cx="82296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8" name="Picture 4" descr="Изображение 002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3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1" name="Picture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85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4" name="Picture 5" descr=""/>
          <p:cNvPicPr/>
          <p:nvPr/>
        </p:nvPicPr>
        <p:blipFill>
          <a:blip r:embed="rId1"/>
          <a:stretch/>
        </p:blipFill>
        <p:spPr>
          <a:xfrm>
            <a:off x="324000" y="660240"/>
            <a:ext cx="849600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8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1680" y="259920"/>
            <a:ext cx="8540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.   Поздняков Павел Ивано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3. Дубняк Алексей Клим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.   Завьялов Иван Викторо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4. Дулесов Сергей Василье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.   Игнатьев Александр Моисее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5. Богданов Пётр Леонтье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.   Измайлов Иван Константино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6. Безъязыков Иван Степан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5.   Сивак Владимир Юзефо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7. Глотов Иван Алексее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6.   Кушнер Михаил Давыдо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8. Жуков Константин Михайл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7.   Клыж Адам Валентино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9. Козин Владимир Михайл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8.   Лузгин Василий Елисее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0. Никитин Анатолий Петр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9.   Лысько Михаил Войцехо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1. Шкурихин Семён Дмитрие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0.  Пикарь Тадеуш Войцехо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2. Данилецкий Зикфрид Казимир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1. Тарчевский Николай Николае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3. Васюнин Пётр Михайл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2. Харьков Александр Георгие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4. Каралыков Куприян Леон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3. Хасанов Магомед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5. Стариков Пётр Василье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4. Худик Михаил Степано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6. Аксёнов Николай Лаврентье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5. Чикинёв Александр Демьяно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7. Варыгин Владимир Василье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6. Дранишников Дмитрий Степано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8. Зырянов Василий Алексее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7. Деменчук Лаврентий Григорье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9. Стыжных Николай Иван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8. Кирпа Иван Яковле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0. Твердохлёбов Александр Фёдор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19. Курятников Прокопий Григорье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1. Марков Григорий Иван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0. Истомин Григорий Алексее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2. Круяк (Круль) Бронислав Якуб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1. Улыбушев Алексей Яковле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3. Соколов Ефим Иван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2. Белозёров Иннокентий Андреевич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4. Максимов Павел Иван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5. Гущин Михаил Петрови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0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0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0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0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0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0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Дети войны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1371600" y="907560"/>
            <a:ext cx="6400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абовская Васса Павловна – 1935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фанасьева Софья Кузьминична – 1929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сильев Иван Петрович – 1930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юрников Николай Григорьевич – 1936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ойлова Любовь Петровна – 1930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лев Виталий Владимирович – 1934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йков Владимир Иванович – 1930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панова Галина Егоровна – 1934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лисейкина Анастасия Васильевна - 1934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ыкова Тамара Григорьевна - 1934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сильева Анна Кузьминична - 1935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ванова Тамара Фёдоровна - 1935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логолова Любовь Алексеевна - 1936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дозрелова Екатерина Павловна - 1936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кланова Надежда Николаевна - 1937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йкова Анна Ивановна - 1936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олова Анна Владимировна - 1939 г.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6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ecff"/>
                </a:solidFill>
                <a:latin typeface="Arial Narrow"/>
              </a:rPr>
              <a:t>Малолетние узники концлагерей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юрников                           Бойк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колай                               Ан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игорьевич                       Иван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Picture 4" descr="Изображение 007"/>
          <p:cNvPicPr/>
          <p:nvPr/>
        </p:nvPicPr>
        <p:blipFill>
          <a:blip r:embed="rId1"/>
          <a:stretch/>
        </p:blipFill>
        <p:spPr>
          <a:xfrm>
            <a:off x="1487520" y="3500280"/>
            <a:ext cx="1971720" cy="27244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Изображение 008"/>
          <p:cNvPicPr/>
          <p:nvPr/>
        </p:nvPicPr>
        <p:blipFill>
          <a:blip r:embed="rId2"/>
          <a:stretch/>
        </p:blipFill>
        <p:spPr>
          <a:xfrm>
            <a:off x="5784840" y="3429000"/>
            <a:ext cx="2278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0" dur="2000" fill="hold"/>
                                        <p:tgtEl>
                                          <p:spTgt spid="6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4" dur="2000" fill="hold"/>
                                        <p:tgtEl>
                                          <p:spTgt spid="6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ecff"/>
                </a:solidFill>
                <a:latin typeface="Times New Roman"/>
              </a:rPr>
              <a:t>Не расскажешь </a:t>
            </a:r>
            <a:br>
              <a:rPr sz="5400"/>
            </a:br>
            <a:r>
              <a:rPr b="1" i="1" lang="ru-RU" sz="5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i="1" lang="ru-RU" sz="5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i="1" lang="ru-RU" sz="5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i="1" lang="ru-RU" sz="5400" spc="-1" strike="noStrike">
                <a:solidFill>
                  <a:srgbClr val="ccecff"/>
                </a:solidFill>
                <a:latin typeface="Times New Roman"/>
              </a:rPr>
              <a:t>в этой были </a:t>
            </a:r>
            <a:br>
              <a:rPr sz="5400"/>
            </a:br>
            <a:r>
              <a:rPr b="1" i="1" lang="ru-RU" sz="5400" spc="-1" strike="noStrike">
                <a:solidFill>
                  <a:srgbClr val="ccecff"/>
                </a:solidFill>
                <a:latin typeface="Times New Roman"/>
              </a:rPr>
              <a:t>Всех чудес </a:t>
            </a:r>
            <a:br>
              <a:rPr sz="5400"/>
            </a:br>
            <a:r>
              <a:rPr b="1" i="1" lang="ru-RU" sz="5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i="1" lang="ru-RU" sz="5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i="1" lang="ru-RU" sz="5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i="1" lang="ru-RU" sz="5400" spc="-1" strike="noStrike">
                <a:solidFill>
                  <a:srgbClr val="ccecff"/>
                </a:solidFill>
                <a:latin typeface="Times New Roman"/>
              </a:rPr>
              <a:t>о нашем тыле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5280840"/>
            <a:ext cx="64008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руженицы тыл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ахар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лександра Алексе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4" descr="Изображение"/>
          <p:cNvPicPr/>
          <p:nvPr/>
        </p:nvPicPr>
        <p:blipFill>
          <a:blip r:embed="rId1"/>
          <a:stretch/>
        </p:blipFill>
        <p:spPr>
          <a:xfrm>
            <a:off x="2971800" y="2590920"/>
            <a:ext cx="331308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ворнико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Ефросинья Александ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4" descr="Изображение 001"/>
          <p:cNvPicPr/>
          <p:nvPr/>
        </p:nvPicPr>
        <p:blipFill>
          <a:blip r:embed="rId1"/>
          <a:stretch/>
        </p:blipFill>
        <p:spPr>
          <a:xfrm>
            <a:off x="3048120" y="2133720"/>
            <a:ext cx="3027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18-12-09T07:47:09Z</dcterms:modified>
  <cp:revision>19</cp:revision>
  <dc:subject/>
  <dc:title>PowerPoint Presentation</dc:title>
</cp:coreProperties>
</file>