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E76-0288-4914-A152-4AE23588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858-4DDE-46AD-808F-29C158A2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DFF-F8CC-4FE8-8CB1-A4D437EE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E39-1B09-49D1-A5D5-DBF7471B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1021-F140-487B-BAFB-3DCE5E22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FB73-725A-4C39-9B15-997F4D30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1FD5-3995-4917-B762-ECEB4E51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6006-AB4A-4B9F-92C1-A7E9A89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8DFE-AB79-4614-B758-E375F3C6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BECE-C26F-4E90-AA5E-48FC2A66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B110-5F58-4148-A25A-084D198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F36-DEA6-497E-BF63-2E7A9EAF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BD13-4E5F-4759-879A-F7268E43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43E3-C865-405E-89D0-80C6983D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0995-8173-4695-89A0-CA617C8A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5510-53C4-4BB8-9263-47C381BA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88E7-6799-491B-9EAA-5F9BC7B6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0791-3AEA-4364-8DA9-66AC0866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F291-3B14-4F3C-9D38-79A41B41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9C98-2A3A-47CB-B08E-A32765F8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46DBB-E059-4311-9983-5E675E4F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450DE-5B37-4C64-BA47-1639B61A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EC2-692C-453F-BBF5-EA850F35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AD3F-334B-4F85-8A0C-32D4420F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1CEE-A96C-4AEE-B0E8-DCA2A70E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B60A-3D41-4BEF-A731-8A77AFCD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27F0-0E26-46E7-8517-0B91C52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0158-2E73-4107-8E7B-21A19A8C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A453-EEB6-422F-80A4-BAA8E0B3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51D6-F8D6-4632-AD2A-882FDC0B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E522-2972-45B4-A577-C8EA9151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34DD-D0A0-431D-A208-875ABF02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78120-389F-4173-B0E3-EE11615A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B56-D0F8-4051-95BC-D6A87815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C3F4-4239-4BEB-A967-EB9FC31C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8254-15E9-4061-AD2B-1C6BD9E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42C8-282D-45A6-8263-EC0A027D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9989-958A-4F51-8998-4CCDF238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0DE9A-CCFF-4EA7-9855-665BBD8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6290-2DE2-4E22-B9B7-BA900E66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374B-4E26-48F1-90E7-9F79741E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B37F-9FA9-42D1-BADC-7DCCB16F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FC97-2156-4FB6-98DA-5AD53D4A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DAE-E43B-401D-970E-A5EAE7D3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258-E41C-4FAA-BA51-B5933C82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538-13FB-45BD-A2CE-22CD473E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D23-9CBF-42C9-9092-F77EE19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6E7-7983-44CB-B0EC-6F2A8FB5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2147-CB74-42A7-AFA9-CD8325AA98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5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64C5-04B9-4799-A9F2-C49785B1B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0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1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B4A-54FE-4BCC-95BA-BB4EE0C0D9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9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2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4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4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4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5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39E-D06D-4ADF-9D71-3CA7FA4C55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371600" y="6281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22 июня 1941 года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фашистская Германия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   вероломно напала на СССР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«Вставай страна огромная,</a:t>
            </a: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 Вставай на смертный бой.</a:t>
            </a: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С фашистской силой тёмною,</a:t>
            </a: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С проклятою ордой…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рош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сковья Лаврент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1905120" y="2590920"/>
            <a:ext cx="5364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9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рон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оя Алексе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3276720" y="2362320"/>
            <a:ext cx="2743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ecff"/>
                </a:solidFill>
                <a:latin typeface="Script MT Bold"/>
              </a:rPr>
              <a:t>Вдовы</a:t>
            </a:r>
            <a:br>
              <a:rPr sz="8000"/>
            </a:br>
            <a:r>
              <a:rPr b="1" i="1" lang="ru-RU" sz="8000" spc="-1" strike="noStrike">
                <a:solidFill>
                  <a:srgbClr val="ccecff"/>
                </a:solidFill>
                <a:latin typeface="Script MT Bold"/>
              </a:rPr>
              <a:t>ветеранов ВОВ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71600" y="562356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68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68" fill="hold"/>
                                        <p:tgtEl>
                                          <p:spTgt spid="6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68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68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ворникова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Ефросинья Александров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кин В.Н. в гостях у Ефросиньи Александровны (2005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1981080" y="2666880"/>
            <a:ext cx="54626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рчинская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оя Иванов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кин В.Н. в гостях у Зои Ивановны (2005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2124000" y="2590920"/>
            <a:ext cx="546264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пов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ария Иванов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кин В.Н. в гостях у Марии Ивановны (2005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1905120" y="2665440"/>
            <a:ext cx="54626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Их имена </a:t>
            </a:r>
            <a:br>
              <a:rPr sz="4800"/>
            </a:br>
            <a:r>
              <a:rPr b="0" i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занесены в «Книгу памяти» Красноярского края </a:t>
            </a:r>
            <a:br>
              <a:rPr sz="4800"/>
            </a:br>
            <a:r>
              <a:rPr b="0" i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«Никто не забыт…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258920" y="1052640"/>
            <a:ext cx="6400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рлаков Иван Андре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йда Пётр Фёдо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Щелканов Андрей Лаврент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ов Яков Иннокент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ов Владимир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чинский Андрей Пет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енко Валентина Вита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енко Николай Климент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анишников Дмитрий Степ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5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6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6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6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6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6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6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0" fill="hold"/>
                                        <p:tgtEl>
                                          <p:spTgt spid="6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0" fill="hold"/>
                                        <p:tgtEl>
                                          <p:spTgt spid="6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5000" fill="hold"/>
                                        <p:tgtEl>
                                          <p:spTgt spid="6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000" fill="hold"/>
                                        <p:tgtEl>
                                          <p:spTgt spid="6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5000" fill="hold"/>
                                        <p:tgtEl>
                                          <p:spTgt spid="63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5000" fill="hold"/>
                                        <p:tgtEl>
                                          <p:spTgt spid="63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0" fill="hold"/>
                                        <p:tgtEl>
                                          <p:spTgt spid="63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0" fill="hold"/>
                                        <p:tgtEl>
                                          <p:spTgt spid="63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нов Пётр Филипп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волуцкий Ефим Миро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липенко Александр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есников Василий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илецкий Зикфрид Казими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есников Леонид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орников Яков Фёдо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итин Анатолий Пет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ексеенко Константин Никола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5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5000" fill="hold"/>
                                        <p:tgtEl>
                                          <p:spTgt spid="6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5000" fill="hold"/>
                                        <p:tgtEl>
                                          <p:spTgt spid="6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5000" fill="hold"/>
                                        <p:tgtEl>
                                          <p:spTgt spid="6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5000" fill="hold"/>
                                        <p:tgtEl>
                                          <p:spTgt spid="6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5000" fill="hold"/>
                                        <p:tgtEl>
                                          <p:spTgt spid="6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0" fill="hold"/>
                                        <p:tgtEl>
                                          <p:spTgt spid="6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5000" fill="hold"/>
                                        <p:tgtEl>
                                          <p:spTgt spid="63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5000" fill="hold"/>
                                        <p:tgtEl>
                                          <p:spTgt spid="63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5000" fill="hold"/>
                                        <p:tgtEl>
                                          <p:spTgt spid="63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000" fill="hold"/>
                                        <p:tgtEl>
                                          <p:spTgt spid="63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ркалов Устин Дмитри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уков Константин Михайл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узгин Василий Елисе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ндуров Александр Осип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урихин Семён Дмитри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дрин Александр Серге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хрякова Августа Константи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кинёв Александр Демья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цаков Михаил Ефим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5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5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50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50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50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50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5000" fill="hold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0" fill="hold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5000" fill="hold"/>
                                        <p:tgtEl>
                                          <p:spTgt spid="6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5000" fill="hold"/>
                                        <p:tgtEl>
                                          <p:spTgt spid="6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6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0" fill="hold"/>
                                        <p:tgtEl>
                                          <p:spTgt spid="6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0" fill="hold"/>
                                        <p:tgtEl>
                                          <p:spTgt spid="6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6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5000" fill="hold"/>
                                        <p:tgtEl>
                                          <p:spTgt spid="64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64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ffff"/>
                </a:solidFill>
                <a:latin typeface="Arial Narrow"/>
              </a:rPr>
              <a:t>Список </a:t>
            </a:r>
            <a:br>
              <a:rPr sz="4800"/>
            </a:br>
            <a:r>
              <a:rPr b="0" i="1" lang="ru-RU" sz="4800" spc="-1" strike="noStrike">
                <a:solidFill>
                  <a:srgbClr val="66ffff"/>
                </a:solidFill>
                <a:latin typeface="Arial Narrow"/>
              </a:rPr>
              <a:t>ушедших на фронт из с.Епишино, </a:t>
            </a:r>
            <a:br>
              <a:rPr sz="4800"/>
            </a:br>
            <a:r>
              <a:rPr b="0" i="1" lang="ru-RU" sz="4800" spc="-1" strike="noStrike">
                <a:solidFill>
                  <a:srgbClr val="66ffff"/>
                </a:solidFill>
                <a:latin typeface="Arial Narrow"/>
              </a:rPr>
              <a:t>призванных Енисейским РВК, частично восстановленный по данным военкомата г.Енисейс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6281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3" name="Picture 4" descr="сканирование0016"/>
          <p:cNvPicPr/>
          <p:nvPr/>
        </p:nvPicPr>
        <p:blipFill>
          <a:blip r:embed="rId1"/>
          <a:stretch/>
        </p:blipFill>
        <p:spPr>
          <a:xfrm>
            <a:off x="6229440" y="1989000"/>
            <a:ext cx="2170080" cy="32403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536400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чинский Андрей Пет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5 - 2002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Picture 6" descr="сканирование0010"/>
          <p:cNvPicPr/>
          <p:nvPr/>
        </p:nvPicPr>
        <p:blipFill>
          <a:blip r:embed="rId2"/>
          <a:stretch/>
        </p:blipFill>
        <p:spPr>
          <a:xfrm>
            <a:off x="1116000" y="1989000"/>
            <a:ext cx="2292480" cy="30974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7"/>
          <p:cNvSpPr/>
          <p:nvPr/>
        </p:nvSpPr>
        <p:spPr>
          <a:xfrm>
            <a:off x="324000" y="59500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льников Николай Федо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4 – 1983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WordArt 12"/>
          <p:cNvSpPr txBox="1"/>
          <p:nvPr/>
        </p:nvSpPr>
        <p:spPr>
          <a:xfrm>
            <a:off x="684360" y="404640"/>
            <a:ext cx="721980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 - 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5" dur="2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6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сканирование0017"/>
          <p:cNvPicPr/>
          <p:nvPr/>
        </p:nvPicPr>
        <p:blipFill>
          <a:blip r:embed="rId1"/>
          <a:stretch/>
        </p:blipFill>
        <p:spPr>
          <a:xfrm>
            <a:off x="647640" y="2273400"/>
            <a:ext cx="2210040" cy="29080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сканирование0025"/>
          <p:cNvPicPr/>
          <p:nvPr/>
        </p:nvPicPr>
        <p:blipFill>
          <a:blip r:embed="rId2"/>
          <a:stretch/>
        </p:blipFill>
        <p:spPr>
          <a:xfrm>
            <a:off x="6172200" y="2286000"/>
            <a:ext cx="2133720" cy="2895480"/>
          </a:xfrm>
          <a:prstGeom prst="rect">
            <a:avLst/>
          </a:prstGeom>
          <a:ln w="0">
            <a:noFill/>
          </a:ln>
        </p:spPr>
      </p:pic>
      <p:sp>
        <p:nvSpPr>
          <p:cNvPr id="650" name="WordArt 4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228600" y="586728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йда Пётр Федо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7 - 2004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5257800" y="5213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5486400" y="59436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хипов Михаил Ефим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4 - 1996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640080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6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0" dur="20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20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сканирование0020"/>
          <p:cNvPicPr/>
          <p:nvPr/>
        </p:nvPicPr>
        <p:blipFill>
          <a:blip r:embed="rId1"/>
          <a:stretch/>
        </p:blipFill>
        <p:spPr>
          <a:xfrm>
            <a:off x="5940360" y="2349360"/>
            <a:ext cx="2362320" cy="2971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сканирование0032"/>
          <p:cNvPicPr/>
          <p:nvPr/>
        </p:nvPicPr>
        <p:blipFill>
          <a:blip r:embed="rId2"/>
          <a:stretch/>
        </p:blipFill>
        <p:spPr>
          <a:xfrm>
            <a:off x="684360" y="2421000"/>
            <a:ext cx="2133360" cy="29844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4"/>
          <p:cNvSpPr/>
          <p:nvPr/>
        </p:nvSpPr>
        <p:spPr>
          <a:xfrm>
            <a:off x="0" y="609588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орников Яков Федо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8 - 1997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Text Box 5"/>
          <p:cNvSpPr/>
          <p:nvPr/>
        </p:nvSpPr>
        <p:spPr>
          <a:xfrm flipV="1" rot="10800000">
            <a:off x="5636880" y="6095520"/>
            <a:ext cx="35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ов Владимир Ив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5 - 2003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3352680" y="3841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1371600" y="5594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0" y="3917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WordArt 9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5" dur="20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9" dur="2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сканирование0022"/>
          <p:cNvPicPr/>
          <p:nvPr/>
        </p:nvPicPr>
        <p:blipFill>
          <a:blip r:embed="rId1"/>
          <a:stretch/>
        </p:blipFill>
        <p:spPr>
          <a:xfrm>
            <a:off x="3276720" y="1989000"/>
            <a:ext cx="2303280" cy="331164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3"/>
          <p:cNvSpPr/>
          <p:nvPr/>
        </p:nvSpPr>
        <p:spPr>
          <a:xfrm>
            <a:off x="0" y="6124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доренко Николай Клемент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8 - 2000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WordArt 4"/>
          <p:cNvSpPr txBox="1"/>
          <p:nvPr/>
        </p:nvSpPr>
        <p:spPr>
          <a:xfrm>
            <a:off x="685800" y="277920"/>
            <a:ext cx="800100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4581360" y="6095880"/>
            <a:ext cx="45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доренко Валентина Вита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2 - 2000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0" dur="20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сканирование0031"/>
          <p:cNvPicPr/>
          <p:nvPr/>
        </p:nvPicPr>
        <p:blipFill>
          <a:blip r:embed="rId1"/>
          <a:stretch/>
        </p:blipFill>
        <p:spPr>
          <a:xfrm>
            <a:off x="5867280" y="2362320"/>
            <a:ext cx="2286000" cy="28191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сканирование0034"/>
          <p:cNvPicPr/>
          <p:nvPr/>
        </p:nvPicPr>
        <p:blipFill>
          <a:blip r:embed="rId2"/>
          <a:stretch/>
        </p:blipFill>
        <p:spPr>
          <a:xfrm>
            <a:off x="900000" y="24210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4"/>
          <p:cNvSpPr/>
          <p:nvPr/>
        </p:nvSpPr>
        <p:spPr>
          <a:xfrm>
            <a:off x="250920" y="39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179280" y="612468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иволуцкий Ефим Миро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05 - 1987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3429000" y="3994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5410080" y="60958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липенко Александр Ив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7 - 1995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WordArt 8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1" dur="20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5" dur="20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сканирование0033"/>
          <p:cNvPicPr/>
          <p:nvPr/>
        </p:nvPicPr>
        <p:blipFill>
          <a:blip r:embed="rId1"/>
          <a:stretch/>
        </p:blipFill>
        <p:spPr>
          <a:xfrm>
            <a:off x="5867280" y="2060640"/>
            <a:ext cx="2438640" cy="322092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4859280" y="602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ов Яков Иннокент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2 - 2001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6" name="Picture 4" descr="сканирование0035"/>
          <p:cNvPicPr/>
          <p:nvPr/>
        </p:nvPicPr>
        <p:blipFill>
          <a:blip r:embed="rId2"/>
          <a:stretch/>
        </p:blipFill>
        <p:spPr>
          <a:xfrm>
            <a:off x="762120" y="213372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5"/>
          <p:cNvSpPr/>
          <p:nvPr/>
        </p:nvSpPr>
        <p:spPr>
          <a:xfrm>
            <a:off x="250920" y="609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улесов Сергей Васил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7 – 2005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WordArt 6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20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0" dur="2000" fill="hold"/>
                                        <p:tgtEl>
                                          <p:spTgt spid="6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сканирование0023"/>
          <p:cNvPicPr/>
          <p:nvPr/>
        </p:nvPicPr>
        <p:blipFill>
          <a:blip r:embed="rId1"/>
          <a:stretch/>
        </p:blipFill>
        <p:spPr>
          <a:xfrm>
            <a:off x="5915160" y="2214720"/>
            <a:ext cx="2390760" cy="31590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3"/>
          <p:cNvSpPr/>
          <p:nvPr/>
        </p:nvSpPr>
        <p:spPr>
          <a:xfrm>
            <a:off x="5257800" y="6124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гинов Петр Филипп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7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1" name="Picture 4" descr="сканирование0030"/>
          <p:cNvPicPr/>
          <p:nvPr/>
        </p:nvPicPr>
        <p:blipFill>
          <a:blip r:embed="rId2"/>
          <a:stretch/>
        </p:blipFill>
        <p:spPr>
          <a:xfrm>
            <a:off x="887400" y="2209680"/>
            <a:ext cx="2084400" cy="3019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5"/>
          <p:cNvSpPr/>
          <p:nvPr/>
        </p:nvSpPr>
        <p:spPr>
          <a:xfrm>
            <a:off x="0" y="6019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есников Леонид Ив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7г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WordArt 6"/>
          <p:cNvSpPr txBox="1"/>
          <p:nvPr/>
        </p:nvSpPr>
        <p:spPr>
          <a:xfrm>
            <a:off x="457200" y="277920"/>
            <a:ext cx="79246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1" dur="2000" fill="hold"/>
                                        <p:tgtEl>
                                          <p:spTgt spid="6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2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493236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анишников Дмитрий Степ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2 – 1988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-252360" y="5734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есников Василий Ив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2 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WordArt 4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3"/>
          <a:stretch/>
        </p:blipFill>
        <p:spPr>
          <a:xfrm>
            <a:off x="1332000" y="1916280"/>
            <a:ext cx="2192400" cy="331452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8"/>
          <p:cNvSpPr/>
          <p:nvPr/>
        </p:nvSpPr>
        <p:spPr>
          <a:xfrm>
            <a:off x="4643280" y="57340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9" name="Picture 9" descr=""/>
          <p:cNvPicPr/>
          <p:nvPr/>
        </p:nvPicPr>
        <p:blipFill>
          <a:blip r:embed="rId4"/>
          <a:stretch/>
        </p:blipFill>
        <p:spPr>
          <a:xfrm>
            <a:off x="5796000" y="1989000"/>
            <a:ext cx="2220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6" dur="2000" fill="hold"/>
                                        <p:tgtEl>
                                          <p:spTgt spid="6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0" dur="2000" fill="hold"/>
                                        <p:tgtEl>
                                          <p:spTgt spid="6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39528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лканов Андрей Лаврент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4 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4572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мчук Михаил Васил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3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WordArt 4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3" name="Picture 5" descr=""/>
          <p:cNvPicPr/>
          <p:nvPr/>
        </p:nvPicPr>
        <p:blipFill>
          <a:blip r:embed="rId3"/>
          <a:stretch/>
        </p:blipFill>
        <p:spPr>
          <a:xfrm>
            <a:off x="1106640" y="1916280"/>
            <a:ext cx="1960560" cy="30254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19749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2000" fill="hold"/>
                                        <p:tgtEl>
                                          <p:spTgt spid="6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5" dur="20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ечная память героям,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 павшим в битве за человечество против фашизма,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за свобод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371600" y="526248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 Narrow"/>
              </a:rPr>
              <a:t>Из с.Епишин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i="1" lang="ru-RU" sz="4800" spc="-1" strike="noStrike">
                <a:solidFill>
                  <a:srgbClr val="ff0000"/>
                </a:solidFill>
                <a:latin typeface="Arial Narrow"/>
              </a:rPr>
              <a:t>ушли на фронт 54 человека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 Narrow"/>
              </a:rPr>
              <a:t>вернулись - 4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cecff"/>
                </a:solidFill>
                <a:latin typeface="Arial"/>
              </a:rPr>
              <a:t>Они похоронены в с.Епишино</a:t>
            </a:r>
            <a:endParaRPr b="0" lang="en-US" sz="2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чурин Пётр Александрович ( ?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ркалов Устин Дмитриевич ( ?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ндуров Александр Осипович ( ?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дрин Александр Сергеевич (1956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урин Семён Дмитриевич (1967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ин Дмитрий Степанович (1972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уков Константин Михайлович (1972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кинёв Александр Демьянович (1981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ьников Николай Фёдорович (1983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згин Василий Алексеевич (1985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итин Анатолий Петрович (1985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иволуцкий Ефим Миронович (1987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хрякова Августа Константиновна (1988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анишников Дмитрий Степанович (1988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ексеенко Константин Николаевич (1988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6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6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6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6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6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6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6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цаков Михаил Ефимович (1992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ипенко Александр Иванович (1995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пов Михаил Афанасьевич (1996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орников Яков Фёдорович (1997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доренко Николай Климентьевич (2000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доренко Валентина Витальевна (2000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лаков Иван Андреевич (2001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пов Яков Иннокентьевич (2001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чинский Андрей Петрович (2002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пов Владимир Иванович (2003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йда Пётр Фёдорович (2004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лесов Сергей Васильевич (2005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7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7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7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65530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2666880" y="533520"/>
            <a:ext cx="3911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ff"/>
                </a:solidFill>
                <a:latin typeface="Monotype Corsiva"/>
              </a:rPr>
              <a:t>В благодарной памяти людей не померкнет слава героев Великой Отечественной войны. </a:t>
            </a:r>
            <a:br>
              <a:rPr sz="3600"/>
            </a:br>
            <a:r>
              <a:rPr b="0" i="1" lang="ru-RU" sz="3600" spc="-1" strike="noStrike">
                <a:solidFill>
                  <a:srgbClr val="66ffff"/>
                </a:solidFill>
                <a:latin typeface="Monotype Corsiva"/>
              </a:rPr>
              <a:t>Их подвиг – вдохновляющий пример для грядущих поколений.</a:t>
            </a:r>
            <a:br>
              <a:rPr sz="3600"/>
            </a:br>
            <a:r>
              <a:rPr b="0" i="1" lang="ru-RU" sz="3600" spc="-1" strike="noStrike">
                <a:solidFill>
                  <a:srgbClr val="66ffff"/>
                </a:solidFill>
                <a:latin typeface="Monotype Corsiva"/>
              </a:rPr>
              <a:t>Победа в Великой Отечественной войне была одержана советским народом во имя мира и жизни на Земле.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3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1"/>
          <a:stretch/>
        </p:blipFill>
        <p:spPr>
          <a:xfrm>
            <a:off x="324000" y="660240"/>
            <a:ext cx="849600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.   Поздняков Павел Ива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3. Дубняк Алексей Клим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.   Завьялов Иван Виктор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4. Дулесов Сергей Васил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.   Игнатьев Александр Моисе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5. Богданов Пётр Леонт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  Измайлов Иван Константи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6. Безъязыков Иван Степ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  Сивак Владимир Юзеф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7. Глотов Иван Алексе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.   Кушнер Михаил Давыд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8. Жуков Константин Михайл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7.   Клыж Адам Валенти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9. Козин Владимир Михайл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8.   Лузгин Василий Елисе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0. Никитин Анатолий Петр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9.   Лысько Михаил Войцех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1. Шкурихин Семён Дмитри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0.  Пикарь Тадеуш Войцех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2. Данилецкий Зикфрид Казимир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1. Тарчевский Николай Никола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3. Васюнин Пётр Михайл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2. Харьков Александр Георги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4. Каралыков Куприян Лео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3. Хасанов Магомед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5. Стариков Пётр Васил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4. Худик Михаил Степа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6. Аксёнов Николай Лаврент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5. Чикинёв Александр Демья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7. Варыгин Владимир Васил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6. Дранишников Дмитрий Степа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8. Зырянов Василий Алексе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7. Деменчук Лаврентий Григорь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9. Стыжных Николай Ив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8. Кирпа Иван Яковл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0. Твердохлёбов Александр Фёдор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9. Курятников Прокопий Григорь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1. Марков Григорий Ив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. Истомин Григорий Алексе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2. Круяк (Круль) Бронислав Якуб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1. Улыбушев Алексей Яковл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3. Соколов Ефим Ив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2. Белозёров Иннокентий Андре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4. Максимов Павел Ив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5. Гущин Михаил Петр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Дети войн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600" y="90756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бовская Васса Павловна – 1935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фанасьева Софья Кузьминична – 1929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ильев Иван Петрович – 1930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юрников Николай Григорьевич – 1936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ойлова Любовь Петровна – 1930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лев Виталий Владимирович – 1934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йков Владимир Иванович – 1930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анова Галина Егоровна – 1934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исейкина Анастасия Васильевна - 1934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ыкова Тамара Григорьевна - 1934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ильева Анна Кузьминична - 1935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ванова Тамара Фёдоровна - 1935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оголова Любовь Алексеевна - 1936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озрелова Екатерина Павловна - 1936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кланова Надежда Николаевна - 1937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йкова Анна Ивановна - 1936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олова Анна Владимировна - 1939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 Narrow"/>
              </a:rPr>
              <a:t>Малолетние узники концлагере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юрников                           Бойк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лай                               Ан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игорьевич                      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1487520" y="3500280"/>
            <a:ext cx="1971720" cy="27244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Изображение 008"/>
          <p:cNvPicPr/>
          <p:nvPr/>
        </p:nvPicPr>
        <p:blipFill>
          <a:blip r:embed="rId2"/>
          <a:stretch/>
        </p:blipFill>
        <p:spPr>
          <a:xfrm>
            <a:off x="5784840" y="3429000"/>
            <a:ext cx="2278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Не расскажешь </a:t>
            </a:r>
            <a:br>
              <a:rPr sz="5400"/>
            </a:b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в этой были </a:t>
            </a:r>
            <a:br>
              <a:rPr sz="5400"/>
            </a:b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Всех чудес </a:t>
            </a:r>
            <a:br>
              <a:rPr sz="5400"/>
            </a:b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о нашем тыл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528084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уженицы ты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ха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ександра Алексе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4" descr="Изображение"/>
          <p:cNvPicPr/>
          <p:nvPr/>
        </p:nvPicPr>
        <p:blipFill>
          <a:blip r:embed="rId1"/>
          <a:stretch/>
        </p:blipFill>
        <p:spPr>
          <a:xfrm>
            <a:off x="2971800" y="2590920"/>
            <a:ext cx="33130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ворнико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Ефросинья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3048120" y="2133720"/>
            <a:ext cx="302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8-12-09T07:47:09Z</dcterms:modified>
  <cp:revision>19</cp:revision>
  <dc:subject/>
  <dc:title>PowerPoint Presentation</dc:title>
</cp:coreProperties>
</file>