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FD7-7912-4990-ABA0-4A401836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844-131F-4DA5-B2C4-EF605370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F85-AFF0-440D-B3D6-800C9D32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BC4-BFE5-43A1-8B99-E5CC545E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FD34-D71B-4792-A5DF-475031AD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ACE-5AB0-46B1-BFEB-0277E1C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E0F9-EC03-4FDF-846C-5B11059F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111-4FF0-4B3F-91F1-CF41C825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18DE-22D0-4CFC-9A02-645315C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818-AE77-417B-81AF-31911F51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89D7-76E6-49FD-BB98-D9270FDA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89A-5661-4FC5-A6F9-C285789B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4EF4-F8A2-48EB-B290-8DD6CE8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422-7474-40BF-8532-8B006E9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A4F-605F-4924-87CE-80ED4C42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27C1-80A3-42A3-B7DE-C29CBF3B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A788-3EE1-498E-8745-9B49D7AE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CDB3-70ED-4BB6-9C56-48CD3AF4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0245-A0E8-494F-A1FB-A320C5B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44A1-FFA2-429A-A9C8-22DDD574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3213-D652-4D1D-9114-0215003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96C5-EBA6-4944-83F4-904C6DC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0D4-916C-477B-BAD7-2F740074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38C9-D6FF-4058-8B65-B044170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5415-9E36-40DE-A13C-F577F7E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9810-F41E-4840-A579-0A77C09A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A1C7-9F52-4F4B-BB09-B3A78A9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5E1B-1C53-4382-8E25-BF77046A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30EA-3EAE-43E4-B78B-E630659C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3D02-3A86-4217-A0DD-07394AFD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F505-45A3-4DB1-AB2A-B598FEA3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6488-3907-41AA-94F8-37004665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F385-2F97-4845-9AD5-30D730B7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F07-9449-4DA7-B159-E689A0F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8794-6260-4B44-8684-B157754B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77E4-298E-456A-BF68-3C0C4F4F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78AE-6B4C-425F-AB7F-4EF13D0F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DAD6-A5D2-44CB-8AF0-A4DA7EF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F7289-79A3-40E7-BECE-B10CF7CC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AC5C-5A18-45D5-9CD4-D12DB10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84E1-22A4-42F4-9B9F-A560B41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3AFB-DAF6-4850-8A7F-0522DB94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D97A-24A8-4E56-AB61-B3BF6BBE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3075-0BC8-422C-9C22-E173C355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492-131A-44A1-BBEF-BEBF7A36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9F79-64B7-4959-86A1-2EF0C94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1E154-5F28-4E79-A01A-A278C99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2F670-A96F-43A3-B572-7C019DA0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84129-E28F-4AC6-A693-3F5F97D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C125-3F3A-474C-8F04-4ABEF264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331CA-0CFD-4737-AFB2-765F568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D8AC-C161-486A-916F-FEBBEDE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8289-E831-47BD-A2D9-6B6568E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36BB-0832-4400-905B-A37A322B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8841-FE81-4ACE-8095-34431918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5B1-72DC-41A2-B02B-13554A57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87B0F-FA8E-4139-A266-46C5D0B9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E6186-CE23-4CA9-B04F-13915DF0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36D3-6DC6-465B-994E-7184105A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5C78-E3C6-4150-83EC-1DA01E2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92F93-AFC7-46A7-81AB-F49DFF1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8C237-2C4B-4191-BCAD-C2F969C8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08C6-25BB-4E7F-9D22-1674604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024E1-E507-401F-8C8A-9A95A105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2C37-2524-46EE-ABD1-D407CAA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F464-85B9-4A53-AA65-500A5D97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FED-D730-4166-9A54-B15FD8B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A96C-81B3-44D0-8281-8D17D22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450D-673C-4933-B740-5EEF8238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2DB7-7F05-4973-A567-53EB6663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ED35-BEF6-4181-A28C-0827B678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6A05-9708-49CC-8B95-4F08B327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A3DA-BF53-48B7-8ED0-91BFFE26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D220-81D7-4483-8BBF-CDA6BA20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9A8F-532E-448B-BA23-20B1A26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C141B-0035-4D0C-9F7D-C642B5E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E25A8-D878-48E1-A205-90A7C10D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1C4-ABE5-4E2E-95E3-ADC7972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87BF5-9132-458A-980B-151D6E8F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B9D3C-A147-4962-9178-7B217DE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1D279-2855-4DE4-880B-5C011A8C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BD30B-C1A6-4AD5-B503-0533753D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BCB3-101B-42C4-AE18-2AF56ECB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618-1E77-4471-A412-724F428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73F-A2B5-4B4F-9B31-D4B48F0C66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125-5FB7-4FEA-898E-8748271E83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CD2B-7D90-44E8-9180-581D08B57E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B4C2-9970-4CA7-952D-3C87A73636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EBC-F7EC-4BD2-B737-55411FBE77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5F01-1263-4B5A-8979-79917A85C8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DCD-91AD-4780-838A-5AB1988C1E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30e"/>
                </a:solidFill>
                <a:latin typeface="Corbel"/>
              </a:rPr>
              <a:t>«ЭКСПЕРТНАЯ ОЦЕНКА ДЕЯТЕЛЬНОСТИ ПЕДАГОГОВ ДОУ В УСЛОВИЯХ ВВЕДЕНИЯ ПРОФЕССИОНАЛЬНОГО СТАНДАРТА»</a:t>
            </a:r>
            <a:br>
              <a:rPr sz="40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30e"/>
                </a:solidFill>
                <a:latin typeface="Corbel"/>
              </a:rPr>
              <a:t>Выполнила </a:t>
            </a:r>
            <a:br>
              <a:rPr sz="3200"/>
            </a:br>
            <a:r>
              <a:rPr b="1" lang="ru-RU" sz="3200" spc="-1" strike="noStrike">
                <a:solidFill>
                  <a:srgbClr val="27130e"/>
                </a:solidFill>
                <a:latin typeface="Corbel"/>
              </a:rPr>
              <a:t>Шмырина Анастасия Александр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бщий результат оценки деятельности педагога на соответствие требованиям профессионального стандарта «Педагог»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896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87280" y="189000"/>
            <a:ext cx="7777440" cy="58658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 fontScale="99000"/>
          </a:bodyPr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Объект исследования –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деятельность педагогов ДОУ в условиях введения профессионального стандарт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Предмет исследования –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редства эксперта, используемые в процедуре оценки качества профессионально-педагогической деятельности педагогов ДО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Цель исследования –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работка методики для проведения внутренней оценки качества профессионально-педагогической деятельности педагога ДОУ в условиях введения профессионального стандарт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) Определить теоретические и нормативно-правовые основы экспертной оценки деятельности педагогов ДОУ в условиях введения профессионального стандарта педагог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2) Проанализировать опыт ДОУ в процедуре проведения аттестации при оценке качества профессионально-педагогической деятельности педагога ДОУ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3) Разработать средства экспертной оценки качества профессионально-педагогической деятельности педагога ДОУ в условиях введения профессионального стандарт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77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Задача 1:</a:t>
            </a:r>
            <a:r>
              <a:rPr b="1" lang="ru-RU" sz="2000" spc="-1" strike="noStrike">
                <a:solidFill>
                  <a:srgbClr val="3b1d15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27130e"/>
                </a:solidFill>
                <a:latin typeface="Corbel"/>
              </a:rPr>
              <a:t>Определить теоретические и нормативно-правовые основы экспертной оценки деятельности педагогов ДОУ в условиях введения профессионального стандарта педагог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42560" y="1268280"/>
            <a:ext cx="78915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30e"/>
                </a:solidFill>
                <a:latin typeface="Corbel"/>
              </a:rPr>
              <a:t>18 октября 2013г.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 – Приказ Минтруда России </a:t>
            </a:r>
            <a:r>
              <a:rPr b="1" lang="ru-RU" sz="1600" spc="-1" strike="noStrike">
                <a:solidFill>
                  <a:srgbClr val="27130e"/>
                </a:solidFill>
                <a:latin typeface="Corbel"/>
              </a:rPr>
              <a:t>№ 544н 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«Об утверждении профессионального стандарта «Педагог» (педагогическая деятельность в дошкольном, начальном общем, основном общем, среднем общем образовании) (воспитатель, учитель)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30e"/>
                </a:solidFill>
                <a:latin typeface="Corbel"/>
              </a:rPr>
              <a:t>Профессиональный стандарт «Педагог»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 (педагогическая деятельность в сфере дошкольного, начального общего, основного общего, среднего общего образования) (воспитатель, учитель)» – это рамочный документ, определяющий основные требования к квалификации педагога, отражающий структуру его профессиональной деятельности, а также характеризующий личностные качеств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1.1. Нормативные документы федерального уровн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Федеральный закон от 29.12.2012 N 273-ФЗ (ред. от 07.03.2018г.) "Об образовании в Российской Федерации»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Трудовой кодекс Российской Федерации» от 30.12.2001г.    № 197-ФЗ (ред. от 05.02.2018 года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иказ Минздравсоцразвития РФ от 26.08.2010г. № 761н «Об утверждении единого квалификационного справочника должностей руководителей, специалистов и служащих, раздел «Квалификационные характеристики должностей работников образования» 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Инструктивное письмо «О внедрении профессионального стандарта педагога (педагогическая деятельность в дошкольном, начальном общем, основном общем, среднем общем образовании) (воспитатель, учитель)» от 17.07.2014г. № 03-06/068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116000" y="476280"/>
            <a:ext cx="78897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1.2. Нормативные документы регионального уровня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окументы, определяющие регламент предоставления государственной услуги «Аттестация педагогических кадров»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1.3.Локальные акты (уровень образовательного учреждения)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трудовой договор (или эффективный контракт) с педагогом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оложение об оплате труда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орядок проведения аттеста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олжностная инструкция педагога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оменклатура должностей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штатное расписание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устав образовательной организации в новой редак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ограмма развития образовательной организа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сновная образовательная программа образовательной организа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оллективный договор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авила внутреннего трудового распорядка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дача 2:</a:t>
            </a:r>
            <a:r>
              <a:rPr b="1" lang="ru-RU" sz="2800" spc="-1" strike="noStrike">
                <a:solidFill>
                  <a:srgbClr val="3b1d15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роанализировать опыт учреждения ГБДОУ детский сад № 28 общеразвивающего вида Калининского района Санкт-Петербурга в процедуре проведения аттестации при оценке качества профессионально-педагогической деятельности педагога ДОУ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дача 3: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Разработать средства экспертной оценки качества профессионально-педагогической деятельности педагога ДОУ в условиях введения профессионального</a:t>
            </a:r>
            <a:br>
              <a:rPr sz="2800"/>
            </a:b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 стандарта педагог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42560" y="6093000"/>
            <a:ext cx="7891560" cy="1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-406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3840480" cy="1176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1081080" y="1736640"/>
            <a:ext cx="2401920" cy="890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6419880" y="1798560"/>
            <a:ext cx="2475000" cy="8654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5"/>
          <p:cNvSpPr/>
          <p:nvPr/>
        </p:nvSpPr>
        <p:spPr>
          <a:xfrm>
            <a:off x="3498840" y="2570040"/>
            <a:ext cx="3033720" cy="935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30e"/>
                </a:solidFill>
                <a:latin typeface="Corbel"/>
              </a:rPr>
              <a:t>Самоэкспертиза (самооценк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Скругленный прямоугольник 6"/>
          <p:cNvSpPr/>
          <p:nvPr/>
        </p:nvSpPr>
        <p:spPr>
          <a:xfrm>
            <a:off x="3951360" y="3768840"/>
            <a:ext cx="2130480" cy="792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Индивидуальная карта оценки (Приложение 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Скругленный прямоугольник 11"/>
          <p:cNvSpPr/>
          <p:nvPr/>
        </p:nvSpPr>
        <p:spPr>
          <a:xfrm>
            <a:off x="3484440" y="4797360"/>
            <a:ext cx="3032280" cy="9352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Критерии для самооценки (портфолио педагог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(Приложение 3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Скругленный прямоугольник 12"/>
          <p:cNvSpPr/>
          <p:nvPr/>
        </p:nvSpPr>
        <p:spPr>
          <a:xfrm>
            <a:off x="6967440" y="4437000"/>
            <a:ext cx="1946520" cy="900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Экспертное заключение (Приложение 4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Скругленный прямоугольник 13"/>
          <p:cNvSpPr/>
          <p:nvPr/>
        </p:nvSpPr>
        <p:spPr>
          <a:xfrm>
            <a:off x="1098720" y="4041720"/>
            <a:ext cx="2178000" cy="6476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Локальные акт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1098720" y="2819520"/>
            <a:ext cx="2178000" cy="94932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ремя, место, организационные мероприят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Скругленный прямоугольник 15"/>
          <p:cNvSpPr/>
          <p:nvPr/>
        </p:nvSpPr>
        <p:spPr>
          <a:xfrm>
            <a:off x="6732720" y="2857680"/>
            <a:ext cx="2162160" cy="1184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ализ документов и обработка результато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нализ трудовых действий педагог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850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orbel"/>
              </a:rPr>
              <a:t>Общий результат уровня владения трудовой функцией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792144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Сумма баллов для определения уровня профессиональной компетенции педагога в соответствии с требованиями профессионального стандарта</a:t>
            </a:r>
            <a:br>
              <a:rPr sz="28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871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6:39:08Z</dcterms:created>
  <dc:creator>Лена</dc:creator>
  <dc:description/>
  <dc:language>en-US</dc:language>
  <cp:lastModifiedBy>HOME</cp:lastModifiedBy>
  <dcterms:modified xsi:type="dcterms:W3CDTF">2018-12-09T12:35:00Z</dcterms:modified>
  <cp:revision>110</cp:revision>
  <dc:subject/>
  <dc:title>МАГИСТЕРСКАЯ ДИССЕРТАЦИЯ   «Экспертиза критериев оценки качества образовательной деятельности образовательных организаций»</dc:title>
</cp:coreProperties>
</file>