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E37-86F1-49C9-B042-C322CBDA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6C6-0818-421E-87E1-722760D0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ECC-62CF-467B-B57E-197F2561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CB9-467D-4A12-B8F1-52699745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42FE-2FB1-4EB1-8AE2-E19ACE10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78C3-AC5E-40F9-9716-8DDFB451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72BC-815B-45EE-B8A7-A15EA2AE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03B9-F08C-4B1F-8922-A17085A9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50B7-D881-4080-A273-E890C236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6848-B9F2-4764-BA56-8507EFB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7A10-3C9A-46FD-ABDC-D041244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89C3-A948-435C-B194-CD7972AC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7744-653A-4D87-BF34-F18276D4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7402-BF95-4CFA-B099-96187358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0332-62FD-4F4F-A384-2181D27D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96BC-EE98-414A-85BF-00504F54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6026-F1C5-4538-89BA-92F0044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B6562-92B4-4CC9-8363-AC88C9D9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A323-980A-4C9D-ABF5-4C5E89D9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9584E-05E5-44B9-BAB2-F64053DF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17A0C-511F-40A9-96BE-18E4E2BF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E9442-B3B2-4BA5-BA22-FC330360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FC6-A7BC-4058-849B-EC323A82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00C2-9ACC-4F8C-9C84-68DCF84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CD39-44D4-4705-84A8-5349424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FB00A-DE21-4858-887F-8E2248BC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E7EA-034D-4AAA-AFAC-55886761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3D7C-1BFD-44ED-BEC3-392397E7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5FD7C-3D13-4AB5-80D7-507A23AC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1B5AD-6FDA-4AA9-B020-81F7BC13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C769-5212-48C7-8243-ED22782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44BCE-2E21-46AA-9F26-44CD7839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E010-CC3D-435D-9CE4-06B71735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FB1-C5CE-42F1-A72A-584C8C8E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BDDD-A5DC-4C9E-BEEE-161593F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CAF6A-A5FF-4C9B-96A6-A0389080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86F2-0092-4058-894B-8988EE2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EB08-9411-47BF-A3F3-C665049A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7B01-A859-4353-BDD6-171AC0F6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CA07-DF7E-46B9-B879-7FBB628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A2F6-DE7C-4578-AECC-3E9419C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93E8-FE1F-49B1-BB88-B63BE1BD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93B9-ED55-4DC2-AEEF-F95DAE1A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7671-E184-4D98-98A0-E3F11C46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1AF-7252-49BD-AA2F-79B4C228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2D4F1-D5E4-4609-823D-2A431000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64E39-023F-4AF0-BFB9-64A197B1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61E53-D499-41A3-9C25-8750BC36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7FE5D-7995-4C1D-86D5-CB0BA8C8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5B05-DF11-4FDC-B28C-470407A8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A9A47-FAE7-44E4-9B07-917E8008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62D1B-31DC-4E2F-AB0D-5E6A4DB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222D5-1AB3-4DEA-8EC7-4E0DF28C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B4B50-8CB5-4CCB-903D-38DEA1E7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DCE2-4B51-449F-919E-BA86ABE2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C928-D352-454F-96F8-897DD8B7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4317-E8B1-40DA-9AA5-6F37C30C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2A27-10DF-4FFA-91BD-462D9492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B9CD-672E-4C9A-BDB1-CFE891DB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451A-C4BD-465C-8C08-E5EC2CF4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BED2-5FCB-422E-BBBF-F3640F4C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FBEEE-0775-4E1F-9C35-601BC86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33D3-C293-40F9-B970-173ED61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BCE5-042F-473F-9ADF-D415C99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CA1C1-7592-49C9-B247-377AD73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6BF9-3E3D-4F64-BDC6-72B5341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098-FA1A-4AC9-A349-798C36D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56206-FB21-4342-A63A-FBEB5739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5F82F-66C7-4B21-87C1-A98E463C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98E8-D4F5-4DE0-B3DA-6CEAE551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DD4C5-A544-4C0C-B2E3-CB0DB331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97B27-A646-43ED-85C1-D0FD3080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85B3B-BEE7-456B-8EA4-46543C1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AE36-1AA3-45A7-87E0-E9BBFC76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C615-4E2B-4687-AAAF-1FB85E1A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B969-6F57-4496-8C90-CF4B48B5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600FB-6B01-400F-8A0E-590BB74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AB1-2EC8-4B24-ADD1-2DDD5137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C597-1559-4836-8A11-65BD492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33571-69E1-4691-A302-2C5B71D4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4A31-C63B-4315-AF03-BDE8B5A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06270-0E20-4817-834A-D999A1F3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6740-184D-4713-8519-7231BC9B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856-2536-477D-92B7-F62E9A98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E733-6135-416C-A0EA-88A8622C2E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1E3B-42A1-4BBC-A101-C9A90267049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7789-03A5-41E6-AD82-9340D9D89E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4462-78B9-4828-8DB7-7F14A679AB6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2DE-339A-4CE8-ADA1-06B3F3B8820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EE9C-51F7-48B3-8ED8-8729BE40037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B2D8-750F-48BA-BFD9-D965D324D7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76360" y="17730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30e"/>
                </a:solidFill>
                <a:latin typeface="Corbel"/>
              </a:rPr>
              <a:t>«ЭКСПЕРТНАЯ ОЦЕНКА ДЕЯТЕЛЬНОСТИ ПЕДАГОГОВ ДОУ В УСЛОВИЯХ ВВЕДЕНИЯ ПРОФЕССИОНАЛЬНОГО СТАНДАРТА»</a:t>
            </a:r>
            <a:br>
              <a:rPr sz="40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130e"/>
                </a:solidFill>
                <a:latin typeface="Corbel"/>
              </a:rPr>
              <a:t>Выполнила </a:t>
            </a:r>
            <a:br>
              <a:rPr sz="3200"/>
            </a:br>
            <a:r>
              <a:rPr b="1" lang="ru-RU" sz="3200" spc="-1" strike="noStrike">
                <a:solidFill>
                  <a:srgbClr val="27130e"/>
                </a:solidFill>
                <a:latin typeface="Corbel"/>
              </a:rPr>
              <a:t>Шмырина Анастасия Александр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Общий результат оценки деятельности педагога на соответствие требованиям профессионального стандарта «Педагог»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8964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87280" y="189000"/>
            <a:ext cx="7777440" cy="58658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 fontScale="99000"/>
          </a:bodyPr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Объект исследования –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деятельность педагогов ДОУ в условиях введения профессионального стандарт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Предмет исследования –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редства эксперта, используемые в процедуре оценки качества профессионально-педагогической деятельности педагогов ДОУ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Цель исследования –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работка методики для проведения внутренней оценки качества профессионально-педагогической деятельности педагога ДОУ в условиях введения профессионального стандарт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Corbel"/>
              </a:rPr>
              <a:t>Задачи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) Определить теоретические и нормативно-правовые основы экспертной оценки деятельности педагогов ДОУ в условиях введения профессионального стандарта педагог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2) Проанализировать опыт ДОУ в процедуре проведения аттестации при оценке качества профессионально-педагогической деятельности педагога ДОУ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3) Разработать средства экспертной оценки качества профессионально-педагогической деятельности педагога ДОУ в условиях введения профессионального стандарт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7992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7777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rbel"/>
              </a:rPr>
              <a:t>Задача 1:</a:t>
            </a:r>
            <a:r>
              <a:rPr b="1" lang="ru-RU" sz="2000" spc="-1" strike="noStrike">
                <a:solidFill>
                  <a:srgbClr val="3b1d15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27130e"/>
                </a:solidFill>
                <a:latin typeface="Corbel"/>
              </a:rPr>
              <a:t>Определить теоретические и нормативно-правовые основы экспертной оценки деятельности педагогов ДОУ в условиях введения профессионального стандарта педагог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42560" y="1268280"/>
            <a:ext cx="78915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30e"/>
                </a:solidFill>
                <a:latin typeface="Corbel"/>
              </a:rPr>
              <a:t>18 октября 2013г.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 – Приказ Минтруда России </a:t>
            </a:r>
            <a:r>
              <a:rPr b="1" lang="ru-RU" sz="1600" spc="-1" strike="noStrike">
                <a:solidFill>
                  <a:srgbClr val="27130e"/>
                </a:solidFill>
                <a:latin typeface="Corbel"/>
              </a:rPr>
              <a:t>№ 544н 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«Об утверждении профессионального стандарта «Педагог» (педагогическая деятельность в дошкольном, начальном общем, основном общем, среднем общем образовании) (воспитатель, учитель)»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7130e"/>
                </a:solidFill>
                <a:latin typeface="Corbel"/>
              </a:rPr>
              <a:t>Профессиональный стандарт «Педагог»</a:t>
            </a:r>
            <a:r>
              <a:rPr b="0" lang="ru-RU" sz="1600" spc="-1" strike="noStrike">
                <a:solidFill>
                  <a:srgbClr val="27130e"/>
                </a:solidFill>
                <a:latin typeface="Corbel"/>
              </a:rPr>
              <a:t> (педагогическая деятельность в сфере дошкольного, начального общего, основного общего, среднего общего образования) (воспитатель, учитель)» – это рамочный документ, определяющий основные требования к квалификации педагога, отражающий структуру его профессиональной деятельности, а также характеризующий личностные качества педагог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1.1. Нормативные документы федерального уровня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Федеральный закон от 29.12.2012 N 273-ФЗ (ред. от 07.03.2018г.) "Об образовании в Российской Федерации»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«Трудовой кодекс Российской Федерации» от 30.12.2001г.    № 197-ФЗ (ред. от 05.02.2018 года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Приказ Минздравсоцразвития РФ от 26.08.2010г. № 761н «Об утверждении единого квалификационного справочника должностей руководителей, специалистов и служащих, раздел «Квалификационные характеристики должностей работников образования» 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Инструктивное письмо «О внедрении профессионального стандарта педагога (педагогическая деятельность в дошкольном, начальном общем, основном общем, среднем общем образовании) (воспитатель, учитель)» от 17.07.2014г. № 03-06/068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116000" y="476280"/>
            <a:ext cx="78897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5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1.2. Нормативные документы регионального уровня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окументы, определяющие регламент предоставления государственной услуги «Аттестация педагогических кадров»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rbel"/>
              </a:rPr>
              <a:t>1.3.Локальные акты (уровень образовательного учреждения)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трудовой договор (или эффективный контракт) с педагогом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оложение об оплате труда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орядок проведения аттеста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должностная инструкция педагога; 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номенклатура должностей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штатное расписание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устав образовательной организации в новой редак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ограмма развития образовательной организа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основная образовательная программа образовательной организации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коллективный договор;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rbel"/>
              </a:rPr>
              <a:t>правила внутреннего трудового распорядка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marL="75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920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дача 2:</a:t>
            </a:r>
            <a:r>
              <a:rPr b="1" lang="ru-RU" sz="2800" spc="-1" strike="noStrike">
                <a:solidFill>
                  <a:srgbClr val="3b1d15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Проанализировать опыт учреждения ГБДОУ детский сад № 28 общеразвивающего вида Калининского района Санкт-Петербурга в процедуре проведения аттестации при оценке качества профессионально-педагогической деятельности педагога ДОУ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Задача 3: </a:t>
            </a: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Разработать средства экспертной оценки качества профессионально-педагогической деятельности педагога ДОУ в условиях введения профессионального</a:t>
            </a:r>
            <a:br>
              <a:rPr sz="2800"/>
            </a:br>
            <a:r>
              <a:rPr b="1" lang="ru-RU" sz="2800" spc="-1" strike="noStrike">
                <a:solidFill>
                  <a:srgbClr val="27130e"/>
                </a:solidFill>
                <a:latin typeface="Corbel"/>
              </a:rPr>
              <a:t> стандарта педагога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42560" y="6093000"/>
            <a:ext cx="7891560" cy="1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-4068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3132000" y="476280"/>
            <a:ext cx="3840480" cy="11764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1081080" y="1736640"/>
            <a:ext cx="2401920" cy="890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"/>
          <p:cNvPicPr/>
          <p:nvPr/>
        </p:nvPicPr>
        <p:blipFill>
          <a:blip r:embed="rId3"/>
          <a:stretch/>
        </p:blipFill>
        <p:spPr>
          <a:xfrm>
            <a:off x="6419880" y="1798560"/>
            <a:ext cx="2475000" cy="865440"/>
          </a:xfrm>
          <a:prstGeom prst="rect">
            <a:avLst/>
          </a:prstGeom>
          <a:ln w="0">
            <a:noFill/>
          </a:ln>
        </p:spPr>
      </p:pic>
      <p:sp>
        <p:nvSpPr>
          <p:cNvPr id="330" name="Овал 5"/>
          <p:cNvSpPr/>
          <p:nvPr/>
        </p:nvSpPr>
        <p:spPr>
          <a:xfrm>
            <a:off x="3498840" y="2570040"/>
            <a:ext cx="3033720" cy="935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7130e"/>
                </a:solidFill>
                <a:latin typeface="Corbel"/>
              </a:rPr>
              <a:t>Самоэкспертиза (самооценк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Скругленный прямоугольник 6"/>
          <p:cNvSpPr/>
          <p:nvPr/>
        </p:nvSpPr>
        <p:spPr>
          <a:xfrm>
            <a:off x="3951360" y="3768840"/>
            <a:ext cx="2130480" cy="792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Индивидуальная карта оценки (Приложение 1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Скругленный прямоугольник 11"/>
          <p:cNvSpPr/>
          <p:nvPr/>
        </p:nvSpPr>
        <p:spPr>
          <a:xfrm>
            <a:off x="3484440" y="4797360"/>
            <a:ext cx="3032280" cy="9352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Критерии для самооценки (портфолио педагог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(Приложение 3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Скругленный прямоугольник 12"/>
          <p:cNvSpPr/>
          <p:nvPr/>
        </p:nvSpPr>
        <p:spPr>
          <a:xfrm>
            <a:off x="6967440" y="4437000"/>
            <a:ext cx="1946520" cy="900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Экспертное заключение (Приложение 4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Скругленный прямоугольник 13"/>
          <p:cNvSpPr/>
          <p:nvPr/>
        </p:nvSpPr>
        <p:spPr>
          <a:xfrm>
            <a:off x="1098720" y="4041720"/>
            <a:ext cx="2178000" cy="6476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Локальные акт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1098720" y="2819520"/>
            <a:ext cx="2178000" cy="94932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Время, место, организационные мероприяти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Скругленный прямоугольник 15"/>
          <p:cNvSpPr/>
          <p:nvPr/>
        </p:nvSpPr>
        <p:spPr>
          <a:xfrm>
            <a:off x="6732720" y="2857680"/>
            <a:ext cx="2162160" cy="118404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130e"/>
                </a:solidFill>
                <a:latin typeface="Corbel"/>
              </a:rPr>
              <a:t>Анализ документов и обработка результато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нализ трудовых действий педагогов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850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Corbel"/>
              </a:rPr>
              <a:t>Общий результат уровня владения трудовой функцией</a:t>
            </a:r>
            <a:br>
              <a:rPr sz="25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7921440" cy="20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Сумма баллов для определения уровня профессиональной компетенции педагога в соответствии с требованиями профессионального стандарта</a:t>
            </a:r>
            <a:br>
              <a:rPr sz="28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 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1042920" y="2997360"/>
            <a:ext cx="87138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5T06:39:08Z</dcterms:created>
  <dc:creator>Лена</dc:creator>
  <dc:description/>
  <dc:language>en-US</dc:language>
  <cp:lastModifiedBy>HOME</cp:lastModifiedBy>
  <dcterms:modified xsi:type="dcterms:W3CDTF">2018-12-09T12:35:00Z</dcterms:modified>
  <cp:revision>110</cp:revision>
  <dc:subject/>
  <dc:title>МАГИСТЕРСКАЯ ДИССЕРТАЦИЯ   «Экспертиза критериев оценки качества образовательной деятельности образовательных организаций»</dc:title>
</cp:coreProperties>
</file>