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7050-4BEE-404D-AC06-386E10D35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C2F1-8333-4B80-AE3B-0778BEF67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CD71-F3D1-4FE4-90B9-00A1D3AF4E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D15-9A76-4EB2-B537-E4AF3E52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00C-38E7-474D-81D4-649FED6E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CA3-D2B0-4BF2-A28B-61809F8B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3A6-AA28-4458-9654-7AD7DBB8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E89-F14F-4EB0-BAE3-05FDEF7E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24F-BFA4-483C-B081-5A2615F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518-292A-4528-890E-F92140FB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7AD-9F03-40A5-ADA6-11B38027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BAE-1194-4E3F-8571-A478353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D7B-9B68-4BA1-BCCC-E3ED54E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D7B-8AD5-4FEC-99EC-D251BE3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42F-BCE4-4A7A-A962-217E0A61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016-0E63-4806-A00F-7984D6B2A4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4284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я аттестационной работы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428840" y="285840"/>
            <a:ext cx="72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ральский государственный педагогический университ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ститут специ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акультет повышения квалификации и профессиональной  переподготовки работников специ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857160" y="2428920"/>
            <a:ext cx="785808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: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мелкой моторики у детей младшего школьного возраста с интеллектуальной недостаточ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с использованием методики М. Монтессо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929120" y="5286240"/>
            <a:ext cx="39290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ый руководитель: Алмазова О.В., к.п.н., проф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846240" y="62866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атеринбург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alt"/>
          <p:cNvPicPr/>
          <p:nvPr/>
        </p:nvPicPr>
        <p:blipFill>
          <a:blip r:embed="rId1"/>
          <a:stretch/>
        </p:blipFill>
        <p:spPr>
          <a:xfrm>
            <a:off x="500040" y="142920"/>
            <a:ext cx="947880" cy="1123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8"/>
          <p:cNvSpPr/>
          <p:nvPr/>
        </p:nvSpPr>
        <p:spPr>
          <a:xfrm>
            <a:off x="4857840" y="3929040"/>
            <a:ext cx="3929040" cy="1159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полнитель: Моржанаева Ирина Николаевна, слушатель факультета   повышения  квалификации и   профессиональной  переподго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йный аппар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2249640" cy="25005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80" name="Прямоугольник 5"/>
          <p:cNvSpPr/>
          <p:nvPr/>
        </p:nvSpPr>
        <p:spPr>
          <a:xfrm>
            <a:off x="3000240" y="2571840"/>
            <a:ext cx="5715000" cy="1465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лкая мотори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 — это совокупность скоординированных действий нервной, мышечной и костной систем, часто в сочетании со зрительной системой в выполнении мелких и точных движений кистями и пальцами рук и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3071880" y="4500720"/>
            <a:ext cx="571500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моторное развитие  ребенка – это развитие его восприятия и формирование представлений о внешних свойствах предметов: их форме, размере, цвете положении в простран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000240" y="1500120"/>
            <a:ext cx="55724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торика — это совокупность двигательных реакций, свойственных детскому возра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тирующий экспериме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цессе экспериментального исследования мы использовали следующие методы: наблюдени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этап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агностика развития тонкой моторики и умения работать по образ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ская методика Н.И. Гуткина «Домик» , методика выявления развития мелкой моторики по выполнению группы упраж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атирующий экспериме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Заголовок 1"/>
          <p:cNvSpPr/>
          <p:nvPr/>
        </p:nvSpPr>
        <p:spPr>
          <a:xfrm>
            <a:off x="500040" y="3571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результатов экспериментального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Содержимое 10" descr=""/>
          <p:cNvPicPr/>
          <p:nvPr/>
        </p:nvPicPr>
        <p:blipFill>
          <a:blip r:embed="rId1"/>
          <a:stretch/>
        </p:blipFill>
        <p:spPr>
          <a:xfrm>
            <a:off x="714240" y="1714680"/>
            <a:ext cx="80726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2011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ровень развития мелкой моторики младших школьников с интеллектуальной недостаточностью при выполнении рисунка «Домик», методика Н.И. Гуткина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28760" y="2571840"/>
          <a:ext cx="8115120" cy="3489120"/>
        </p:xfrm>
        <a:graphic>
          <a:graphicData uri="http://schemas.openxmlformats.org/drawingml/2006/table">
            <a:tbl>
              <a:tblPr/>
              <a:tblGrid>
                <a:gridCol w="2028600"/>
                <a:gridCol w="2028960"/>
                <a:gridCol w="2028960"/>
                <a:gridCol w="2028600"/>
              </a:tblGrid>
              <a:tr h="9284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х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и выполнения зад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ысок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редн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изкий уровень (чел/ 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 -16,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-33,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8580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-5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0" name="Заголовок 1"/>
          <p:cNvSpPr/>
          <p:nvPr/>
        </p:nvSpPr>
        <p:spPr>
          <a:xfrm>
            <a:off x="357120" y="642960"/>
            <a:ext cx="8329680" cy="165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развития мелкой моторики младших школьников с интеллектуальной недостаточностью при выполнении рисунка «Домик», методика Н.И. Гутк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Выводы по результатам эксперимен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ущие младшим школьникам с нарушением интеллекта грубые нарушения мелкой моторики препятствуют формированию у них целенаправленности в поведении и деятельности, резко снижают их работоспособность и тем самым значительно затрудняют организацию учебно-воспитательного процесса. В связи с этим актуальны поиски путей и методов, способствующих коррекции дефектов развития мелкой моторики у учащихся с интеллектуальной недостаточность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2286000" y="2550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ЕТОДИКА М.МОНТЕССОРИ КАК УСЛОВИЕ РАЗВИТИЯ МЕЛКОЙ МОТОРИКИ У ДЕТЕЙ С ИНТЕЛЛЕКТУАЛЬНОЙ НЕДОСТАТОЧНОСТЬЮ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-6-638"/>
          <p:cNvPicPr/>
          <p:nvPr/>
        </p:nvPicPr>
        <p:blipFill>
          <a:blip r:embed="rId1"/>
          <a:stretch/>
        </p:blipFill>
        <p:spPr>
          <a:xfrm>
            <a:off x="1557360" y="1600200"/>
            <a:ext cx="60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етодические рекомендации педагогам и родителям, направленные на развитие мелкой моторики  у детей   с интеллектуальной недостаточностью  (с использованием методики М. Монтессори)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я исследования на выявление уровня развития мелкой моторики у детей младшего школьного   с интеллектуальной недостаточностью мы подобрали упражнения по развитию мелкой моторики  и  разработали рекомендации для педагогов и родителей,  по  развитию мелкой моторики.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данные рекомендации вошли упражнения  и  игры разработанные М. Монтессор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214200" y="321480"/>
            <a:ext cx="777420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alibri"/>
              </a:rPr>
              <a:t>Упражнения с предметами: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    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— составление контуров предметов из палочек сначала более крупных размеров, а затем более мелких (стол, дом, треугольник, машин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оставление цепочки из 6—10 и более канцелярских скрепок разного цвета с соблюдением очередности цве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вырезание из бумаги какой-либо фигуры правой и левой руко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низывание на шнурок пуговиц, крупных бусин, а на нитку с иголкой — мелких бусин, бисе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ортировка бобов, фасоли, гороха, а также перебор крупы (пшено, гречка, рис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застегивание и расстегивание пуговиц, молний, кнопок, крючк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завинчивание и отвинчивание шайбы, крышек у пузырьков, баноче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доставание бусин ложкой из стакан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кладывание мелких деталей (пуговицы, бусины) в узкий цилинд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тирание ластиком нарисованных предме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áпание из пипетки в узкое горлышко бутылоч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девание и снимание колечка (массаж пальца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втыкание канцелярских кнопок в деревянный брусок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омканье платка (носовой платок взять за уголок одной рукой и вобрать в ладонь пальцами только одной руки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прикрепление бельевых прищепок к горизонтально натянутой веревке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перебирание четок или бус одновременно двумя руками навстречу и обратно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нахождение спрятанных предметов в «сухом бассейне», наполненном горохом и фасолью, в пластиковых ведрах или тазиках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сжимание и разжимание эспандер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     — катание мячей-ежиков (с шипа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00040" y="571320"/>
            <a:ext cx="814392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онструк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Шнуро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ноцветные прищеп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мки-вкладыши дл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водок и штрихов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Игры с счетными палочк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Prishepki"/>
          <p:cNvPicPr/>
          <p:nvPr/>
        </p:nvPicPr>
        <p:blipFill>
          <a:blip r:embed="rId1"/>
          <a:stretch/>
        </p:blipFill>
        <p:spPr>
          <a:xfrm>
            <a:off x="5429160" y="142920"/>
            <a:ext cx="1928880" cy="1878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" descr="PICT0268 (2).JPG"/>
          <p:cNvPicPr/>
          <p:nvPr/>
        </p:nvPicPr>
        <p:blipFill>
          <a:blip r:embed="rId2"/>
          <a:stretch/>
        </p:blipFill>
        <p:spPr>
          <a:xfrm>
            <a:off x="6643800" y="2786040"/>
            <a:ext cx="23763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Picture 2" descr="http://cs606920.vk.me/v606920802/2ea2/Wn9xpEzGQFE.jpg"/>
          <p:cNvPicPr/>
          <p:nvPr/>
        </p:nvPicPr>
        <p:blipFill>
          <a:blip r:embed="rId3"/>
          <a:srcRect l="0" t="-8313" r="0" b="0"/>
          <a:stretch/>
        </p:blipFill>
        <p:spPr>
          <a:xfrm>
            <a:off x="6715080" y="4643280"/>
            <a:ext cx="2152800" cy="2000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natalytkachenko.ru/wp-content/uploads/2011/02/sp_2.jpg"/>
          <p:cNvPicPr/>
          <p:nvPr/>
        </p:nvPicPr>
        <p:blipFill>
          <a:blip r:embed="rId4"/>
          <a:stretch/>
        </p:blipFill>
        <p:spPr>
          <a:xfrm>
            <a:off x="3857760" y="4714920"/>
            <a:ext cx="2743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теоретических источников и результаты экспериментального исследования развития мелкой моторики у младших школьников с интеллектуальной недостаточностью показывают, чт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лкая моторика в жизни и деятельности, учащихся с интеллектуальной недостаточностью выполняет много разных функций. Оно активизирует нужные и тормозит ненужные в данный момент психологические и физиологические процессы, способствует организованному и целенаправленному отбору поступающей в организм информации в соответствии с его актуальными потребностями, обеспечивает избирательную и длительную сосредоточенность на одном объекте или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  работ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785880" y="144468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я мелкой моторики обусловливает возможности познавательной деятельности и существенно влияет на эффективность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500040" y="14292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ормирующем этапе нами  даны методические рекомендации, направленные на развитие мелкой моторики у детей младшего школьного возраста с нарушением интеллекта (с использованием методики М. Монтессори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новная задача тренировочных упражнений состоит в том, чтобы сделать доступными и легко выполнимыми все задания, связанные с необходимостью использования мелкой моторики рук в условиях дома, квартиры. Достигнуть этого можно лишь путём постепенного развития ручной умелости, достигаемой в результате перехода от простых к  более сложным  для ребенка заданиям по мере овладения 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Цели и задачи аттестационной  работы вы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одарю за внимание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 работы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14320" y="1643040"/>
            <a:ext cx="7429320" cy="1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28800" y="1999800"/>
            <a:ext cx="7858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методических рекомендаций, направленных на развитие мелкой моторики у детей младшего школьного возраста с  интеллектуальной недостаточност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685800" y="71280"/>
            <a:ext cx="7772400" cy="1285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задачи, реализуемы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 работе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42920" y="19461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анализировать теоретические аспекты проблемы развития мелкой моторики в работах специа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ить особенности развития мелкой моторики у детей младшегошкольного возраста с   интеллектуальной недостаточ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влияние комплексов упражнений и методики М. Монтессори на развитие мелкой моторики   школьников с   интеллектуальной недостато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 аттестационной работ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735480" y="11430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857160" y="2109960"/>
            <a:ext cx="7286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СИХОЛОГО-ПЕДАГОГИЧЕСКОЙ ЛИТЕРАТУРЫ ПОПРОБЛЕМ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857160" y="314316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.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 УРОВНЯ СФОРМИРОВАННОСТИ МЕЛКОЙ МОТОРИКИ У ДЕТЕЙ МЛАДШЕГО ШКОЛЬНОГО ВОЗРАСТА С ИНТЕЛЛЕКТУАЛЬНОЙ НЕДОСТАТО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928800" y="4429080"/>
            <a:ext cx="785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А М.МОНТЕССОРИ КАК УСЛОВИЕ РАЗВИТИЯ МЕЛКОЙ МОТОРИКИ У ДЕТЕЙ С ИНТЕЛЛЕКТУАЛЬНОЙ НЕДОСТАТОЧ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932040" y="5715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мет исслед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785880" y="1000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ение методики М. Монтессори, направленной на развитие мелкой моторики у детей младшего школьного возраста с интеллектуальной недостаточ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1000080" y="30718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928800" y="4357800"/>
            <a:ext cx="778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мелкой моторики у детей младшего школьного возраста с интеллектуальной недостаточ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Теоретические и эмпирические методы, включающие аналитический обзор психолого-педагогической, профессионально-педагогической литературы, программно-методических документ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abic Typesetting"/>
              </a:rPr>
              <a:t>констатирующий эксперимент,  изучались аналитические данные,  документация, осуществлялись наблюдения на  занятиях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исследования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1"/>
          <p:cNvSpPr/>
          <p:nvPr/>
        </p:nvSpPr>
        <p:spPr>
          <a:xfrm>
            <a:off x="685800" y="71280"/>
            <a:ext cx="7772400" cy="755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значимос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85840" y="13737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ается в изучении особенностей развития мелкой моторики младших школь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работке рекомендаций для  педагогов и родителей, направленных на развитие мелкой моторики  у детей   с интеллектуальной недостаточностью (с использованием методики М. Монтессори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научные методологические принципы развития и системност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ы деятельного подхода в процессе изучения личности учащихся с интеллектуальной недостаточ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ологическая основа исследовани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8:28:19Z</dcterms:created>
  <dc:creator>Nikita Maximov</dc:creator>
  <dc:description/>
  <dc:language>en-US</dc:language>
  <cp:lastModifiedBy>Sideswipe</cp:lastModifiedBy>
  <dcterms:modified xsi:type="dcterms:W3CDTF">2018-12-09T15:51:07Z</dcterms:modified>
  <cp:revision>39</cp:revision>
  <dc:subject/>
  <dc:title>Презентация дипломной работы</dc:title>
</cp:coreProperties>
</file>