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449-3932-4C8D-92D6-D8A52D7C6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0540-4673-4D6C-AC74-DD2DB1794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E54-03C5-4521-B334-9EDA4A516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352-26A0-443F-A874-CB4FDAE8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F44-AC55-4905-A716-D971887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275-179F-4BDA-8445-AC0DF4FD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E12-A2E2-479D-ACCC-01D61C38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612-8A8D-4CF8-9081-29DE529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236-4038-4D97-B209-32BB4407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1B2-1DE2-4951-BEAC-C8A8A814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3AC-0391-4E69-99F2-CE760E1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8FD-B2B9-4C8B-A0A7-27AAE9E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5DB-C380-4F37-8EB6-29FAA78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BF1-55F6-4D9F-B78B-BA3C5EA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DFB-F648-40F5-BC68-DC72822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A09-40F0-4463-8581-993BB7A82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аттестационной работы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428840" y="285840"/>
            <a:ext cx="72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льский государственный педагогический университ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итут специ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культет повышения квалификации и профессиональной  переподготовки работников специ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857160" y="2428920"/>
            <a:ext cx="785808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мелкой моторики у детей младшего школьного возраста с интеллектуальной недостаточ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с использованием методики М. Монтессо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929120" y="5286240"/>
            <a:ext cx="39290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: Алмазова О.В., к.п.н.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846240" y="62866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бург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alt"/>
          <p:cNvPicPr/>
          <p:nvPr/>
        </p:nvPicPr>
        <p:blipFill>
          <a:blip r:embed="rId1"/>
          <a:stretch/>
        </p:blipFill>
        <p:spPr>
          <a:xfrm>
            <a:off x="500040" y="142920"/>
            <a:ext cx="947880" cy="1123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4857840" y="3929040"/>
            <a:ext cx="3929040" cy="1159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полнитель: Моржанаева Ирина Николаевна, слушатель факультета   повышения  квалификации и   профессиональной  переподго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йный 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2249640" cy="2500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80" name="Прямоугольник 5"/>
          <p:cNvSpPr/>
          <p:nvPr/>
        </p:nvSpPr>
        <p:spPr>
          <a:xfrm>
            <a:off x="3000240" y="2571840"/>
            <a:ext cx="5715000" cy="146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лкая мотори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— это совокупность скоординированных действий нервной, мышечной и костной систем, часто в сочетании со зрительной системой в выполнении мелких и точных движений кистями и пальцами рук и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071880" y="4500720"/>
            <a:ext cx="571500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моторное развитие  ребенка – это развитие его восприятия и формирование представлений о внешних свойствах предметов: их форме, размере, цвете положении в простран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000240" y="1500120"/>
            <a:ext cx="55724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торика — это совокупность двигательных реакций, свойственных детскому возра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тирующий экспериме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цессе экспериментального исследования мы использовали следующие методы: наблюд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этап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гностика развития тонкой моторики и умения работать по образ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ская методика Н.И. Гуткина «Домик» , методика выявления развития мелкой моторики по выполнению группы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тирующий экспериме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500040" y="3571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результатов эксперименталь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10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8072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2011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ровень развития мелкой моторики младших школьников с интеллектуальной недостаточностью при выполнении рисунка «Домик», методика Н.И. Гуткин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2571840"/>
          <a:ext cx="8115120" cy="3489120"/>
        </p:xfrm>
        <a:graphic>
          <a:graphicData uri="http://schemas.openxmlformats.org/drawingml/2006/table">
            <a:tbl>
              <a:tblPr/>
              <a:tblGrid>
                <a:gridCol w="2028600"/>
                <a:gridCol w="2028960"/>
                <a:gridCol w="2028960"/>
                <a:gridCol w="2028600"/>
              </a:tblGrid>
              <a:tr h="9284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выполнения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сок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зк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-16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-33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-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Заголовок 1"/>
          <p:cNvSpPr/>
          <p:nvPr/>
        </p:nvSpPr>
        <p:spPr>
          <a:xfrm>
            <a:off x="357120" y="642960"/>
            <a:ext cx="8329680" cy="165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развития мелкой моторики младших школьников с интеллектуальной недостаточностью при выполнении рисунка «Домик», методика Н.И. Гутк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ыводы по результатам эксперимен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ущие младшим школьникам с нарушением интеллекта грубые нарушения мелкой моторики препятствуют формированию у них целенаправленности в поведении и деятельности, резко снижают их работоспособность и тем самым значительно затрудняют организацию учебно-воспитательного процесса. В связи с этим актуальны поиски путей и методов, способствующих коррекции дефектов развития мелкой моторики у учащихся с интеллектуальной недостаточ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ТОДИКА М.МОНТЕССОРИ КАК УСЛОВИЕ РАЗВИТИЯ МЕЛКОЙ МОТОРИКИ У ДЕТЕЙ С ИНТЕЛЛЕКТУАЛЬНОЙ НЕДОСТАТОЧНОСТЬЮ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-6-638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етодические рекомендации педагогам и родителям, направленные на развитие мелкой моторики  у детей   с интеллектуальной недостаточностью  (с использованием методики М. Монтессори)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я исследования на выявление уровня развития мелкой моторики у детей младшего школьного   с интеллектуальной недостаточностью мы подобрали упражнения по развитию мелкой моторики  и  разработали рекомендации для педагогов и родителей,  по  развитию мелкой моторики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данные рекомендации вошли упражнения  и  игры разработанные М. Монтессор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14200" y="321480"/>
            <a:ext cx="777420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Упражнения с предметами: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составление контуров предметов из палочек сначала более крупных размеров, а затем более мелких (стол, дом, треугольник, машин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оставление цепочки из 6—10 и более канцелярских скрепок разного цвета с соблюдением очередности цве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вырезание из бумаги какой-либо фигуры правой и левой руко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низывание на шнурок пуговиц, крупных бусин, а на нитку с иголкой — мелких бусин, бисе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ортировка бобов, фасоли, гороха, а также перебор крупы (пшено, гречка, рис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застегивание и расстегивание пуговиц, молний, кнопок, крюч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завинчивание и отвинчивание шайбы, крышек у пузырьков, баноче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доставание бусин ложкой из стакан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кладывание мелких деталей (пуговицы, бусины) в узкий цилинд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тирание ластиком нарисованных предме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áпание из пипетки в узкое горлышко бутылоч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девание и снимание колечка (массаж пальц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втыкание канцелярских кнопок в деревянный брусо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омканье платка (носовой платок взять за уголок одной рукой и вобрать в ладонь пальцами только одной руки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прикрепление бельевых прищепок к горизонтально натянутой веревк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перебирание четок или бус одновременно двумя руками навстречу и обратно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хождение спрятанных предметов в «сухом бассейне», наполненном горохом и фасолью, в пластиковых ведрах или тазика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жимание и разжимание эспанде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атание мячей-ежиков (с шип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00040" y="571320"/>
            <a:ext cx="8143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нстру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нур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ноцветные прище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мки-вкладыши дл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водок и штрих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гры с счетными палоч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Prishepki"/>
          <p:cNvPicPr/>
          <p:nvPr/>
        </p:nvPicPr>
        <p:blipFill>
          <a:blip r:embed="rId1"/>
          <a:stretch/>
        </p:blipFill>
        <p:spPr>
          <a:xfrm>
            <a:off x="5429160" y="142920"/>
            <a:ext cx="1928880" cy="1878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PICT0268 (2).JPG"/>
          <p:cNvPicPr/>
          <p:nvPr/>
        </p:nvPicPr>
        <p:blipFill>
          <a:blip r:embed="rId2"/>
          <a:stretch/>
        </p:blipFill>
        <p:spPr>
          <a:xfrm>
            <a:off x="6643800" y="2786040"/>
            <a:ext cx="23763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http://cs606920.vk.me/v606920802/2ea2/Wn9xpEzGQFE.jpg"/>
          <p:cNvPicPr/>
          <p:nvPr/>
        </p:nvPicPr>
        <p:blipFill>
          <a:blip r:embed="rId3"/>
          <a:srcRect l="0" t="-8313" r="0" b="0"/>
          <a:stretch/>
        </p:blipFill>
        <p:spPr>
          <a:xfrm>
            <a:off x="6715080" y="4643280"/>
            <a:ext cx="215280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natalytkachenko.ru/wp-content/uploads/2011/02/sp_2.jpg"/>
          <p:cNvPicPr/>
          <p:nvPr/>
        </p:nvPicPr>
        <p:blipFill>
          <a:blip r:embed="rId4"/>
          <a:stretch/>
        </p:blipFill>
        <p:spPr>
          <a:xfrm>
            <a:off x="3857760" y="4714920"/>
            <a:ext cx="2743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оретических источников и результаты экспериментального исследования развития мелкой моторики у младших школьников с интеллектуальной недостаточностью показывают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 моторика в жизни и деятельности, учащихся с интеллектуальной недостаточностью выполняет много разных функций. Оно активизирует нужные и тормозит ненужные в данный момент психологические и физиологические процессы, способствует организованному и целенаправленному отбору поступающей в организм информации в соответствии с его актуальными потребностями, обеспечивает избирательную и длительную сосредоточенность на одном объекте или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  рабо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785880" y="144468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я мелкой моторики обусловливает возможности познавательной деятельности и существенно влияет на эффективность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500040" y="14292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рмирующем этапе нами  даны методические рекомендации, направленные на развитие мелкой моторики у детей младшего школьного возраста с нарушением интеллекта (с использованием методики М. Монтессори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я задача тренировочных упражнений состоит в том, чтобы сделать доступными и легко выполнимыми все задания, связанные с необходимостью использования мелкой моторики рук в условиях дома, квартиры. Достигнуть этого можно лишь путём постепенного развития ручной умелости, достигаемой в результате перехода от простых к  более сложным  для ребенка заданиям по мере овладения 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Цели и задачи аттестационной  работы вы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 рабо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1643040"/>
            <a:ext cx="7429320" cy="1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28800" y="1999800"/>
            <a:ext cx="7858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ческих рекомендаций, направленных на развитие мелкой моторики у детей младшего школьного возраста с  интеллектуальной недостаточ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685800" y="71280"/>
            <a:ext cx="7772400" cy="128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, реализуем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 работ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42920" y="19461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анализировать теоретические аспекты проблемы развития мелкой моторики в работах специа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особенности развития мелкой моторики у детей младшегошкольного возраста с   интеллектуальной недостаточ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влияние комплексов упражнений и методики М. Монтессори на развитие мелкой моторики   школьников с   интеллектуальной недостато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аттестационной работ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35480" y="11430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857160" y="2109960"/>
            <a:ext cx="7286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СИХОЛОГО-ПЕДАГОГИЧЕСКОЙ ЛИТЕРАТУРЫ ПОПРОБЛЕМ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857160" y="314316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 УРОВНЯ СФОРМИРОВАННОСТИ МЕЛКОЙ МОТОРИКИ У ДЕТЕЙ МЛАДШЕГО ШКОЛЬНОГО ВОЗРАСТА С ИНТЕЛЛЕКТУАЛЬНОЙ НЕДОСТАТО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928800" y="4429080"/>
            <a:ext cx="785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М.МОНТЕССОРИ КАК УСЛОВИЕ РАЗВИТИЯ МЕЛКОЙ МОТОРИКИ У ДЕТЕЙ С ИНТЕЛЛЕКТУАЛЬНОЙ НЕДОСТАТОЧ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932040" y="5715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исслед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785880" y="1000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методики М. Монтессори, направленной на развитие мелкой моторики у детей младшего школьного возраста с интеллектуальной недостат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1000080" y="30718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928800" y="4357800"/>
            <a:ext cx="778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елкой моторики у детей младшего школьного возраста с интеллектуальной недостаточ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Теоретические и эмпирические методы, включающие аналитический обзор психолого-педагогической, профессионально-педагогической литературы, программно-методических документ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констатирующий эксперимент,  изучались аналитические данные,  документация, осуществлялись наблюдения на  занятиях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исследования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значимо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85840" y="13737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ается в изучении особенностей развития мелкой моторики младших 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работке рекомендаций для  педагогов и родителей, направленных на развитие мелкой моторики  у детей   с интеллектуальной недостаточностью (с использованием методики М. Монтессори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научные методологические принципы развития и систем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деятельного подхода в процессе изучения личности учащихся с интеллектуальной недостаточ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ологическая основа исследовани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28:19Z</dcterms:created>
  <dc:creator>Nikita Maximov</dc:creator>
  <dc:description/>
  <dc:language>en-US</dc:language>
  <cp:lastModifiedBy>Sideswipe</cp:lastModifiedBy>
  <dcterms:modified xsi:type="dcterms:W3CDTF">2018-12-09T15:51:07Z</dcterms:modified>
  <cp:revision>39</cp:revision>
  <dc:subject/>
  <dc:title>Презентация дипломной работы</dc:title>
</cp:coreProperties>
</file>