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8A1-E2EB-4060-8D75-41CF0A92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930-5DE9-438D-8B88-ED16192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2A9-2220-433C-BB98-97C463C9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7B6-2D4B-4540-A326-DD29DCF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81B-FCE9-454E-8776-726811D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31B-4969-4718-88C6-AB9398B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A7B-DA88-430F-94D9-D127759C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0686-74E3-4B17-9F20-FA20B53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76E-343E-43D3-9641-2C01EA50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68C-E914-463A-A7CF-3D713FE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B39-D809-4DCE-8B85-CC94683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384-ABA5-4608-B4D3-A61BF5DA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C5D8-874E-44CA-B5BE-9D6450B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6B8-A264-434B-863C-BE2810F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BF23-2C0C-40CE-89DD-967DAA78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A02-D253-41C6-867D-B09EBEA6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F1D-00FA-4793-A76E-3B790B5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609A-12E8-4B6D-8047-B9A33378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71CE-5E43-4B34-940B-97C9266D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AC80-C425-44F8-A45A-CC55CFF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C7A6-4C02-4398-8BBD-83A111F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1560-780C-49EC-A21E-6F26D593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301-2817-482F-BF17-41F4746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44CA-18DF-4745-A7CA-FEF7F104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5AFF-A027-4D05-9302-7240ACC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D1E3-CF9A-44D9-8853-1AA809A7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2D38-3B04-456A-B269-AA1427A9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071A-01D9-41E4-951A-EA530A70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B1FD-8F87-4A2B-A471-8589E65F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61A1-75B5-4C25-81E8-EF1F4F8F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DB8-F41B-46C2-9D0E-585A6AAF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80C-5862-4550-A734-7C7CD44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FFB-7ED2-42FA-96BE-606B16B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F8-6E89-4469-8D75-4615685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25C-DEE2-4C06-AA46-62E34B0E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200-EF33-442D-ACA8-FB1417E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8E2-2E07-401F-B2F3-4A36043BA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2343-6513-4976-B944-8EBF57A5F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BCDD-6BDC-4E9F-B624-40550EEFDE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9720" y="1214280"/>
            <a:ext cx="7286760" cy="37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одительское собр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"Возрастные особенности шестиклассников                                        и причины подростковой агрессии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ак взрослому правильно вести себя с агрессивным ребенко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покойное отношение в случае незначительной агре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гнорирование реакций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ение понимания чувств ребенка («Конечно, тебе обидно…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ключение внимания («Помоги мне …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итивное обозначение поведения («Ты злишься потому, что ты уста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Акцентирование внимания на поступках ( поведении), а не личности (обратная связь);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78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ация факта («Ты ведешь себя агрессивно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ирующий вопрос («Ты злишься?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ие мотивов агрессивного поведения («Ты хочешь меня обидеть?, продемонстрировать силу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ение своих собственных чувств по отношению к нежелательному поведению ( «Мне не нравится, когда со мной говорят в таком тоне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пеляция к правилам (« Мы  же с тобой договаривалис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Контроль над собственными негативными эмоци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зрослым необходимо очень тщательно контролировать свои негативные эмоции во взаимодействии с агрессив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обходимо признать нормальность и естественность этих негативных переживаний, понять характер, силу и длительность таких чув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Снижение напряжения ситу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правильные действия взросло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Повышение голоса (угрожающий т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Демонстрация власти  ( «Будет так, как я скажу»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рик, негод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Агрессивные позы, жес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смешки, высмеивание, передразн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егативная оценка личности ребенка, его близких, друз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Использование физической силы, непреклонное настаивание на своей прав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отации, проповеди, «чтение морал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казания, угрозы наказ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бобщение типа : «Вы все одинаковые», «Ты как всегд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Сравнение ребенка с другими детьми- не в его поль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оманды, давление, жесткие треб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правдания, подкуп, нагр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Обсуждение проступ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ждать повед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 момент проявления агрессии, а после того, когда все успокоятся и ситуация разрешится, но и в то же время как можно скорее…( лучше наедине, без свидетел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хранять спокой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б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дить последств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го поведения, ег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зруши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отношению к окружающим и к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ублично минимизировать вину подростка («Ты  не важно себя чувствуешь», Ты не хотел его обидеть»), в беседе наедине показать ист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требовать полного подчинения, позволить подростку выполнить ваше требование по-своем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жить компромисс, договор с взаимными уступ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рефлексивное слуш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лушание без анализ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Пау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дающая возможность ребенку успокоить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шение спокойствия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вербальными средств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снение ситуации с помощью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аводящи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юмо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чув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Критерии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теряет контроль над соб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завистлив, мстите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Ответы дете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лые , невежливые, громко ругаются, кричат на всех, бьют, дерутся, люди , которые не могут справиться со своими эмоциями, они вечно не довольные, постоянно ворч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3" descr=""/>
          <p:cNvPicPr/>
          <p:nvPr/>
        </p:nvPicPr>
        <p:blipFill>
          <a:blip r:embed="rId2"/>
          <a:stretch/>
        </p:blipFill>
        <p:spPr>
          <a:xfrm>
            <a:off x="0" y="1542960"/>
            <a:ext cx="8693280" cy="25844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6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вает ли ваш ребенок агрессив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их ситуациях он проявляет агр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 кого он проявляет агр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вы предпринимаете в семье, чтобы преодолеть агрессивность ребён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611280" y="115920"/>
            <a:ext cx="7848360" cy="93672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равильно сложившихся стилей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функционально несостоятельных семьях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50920" y="1413000"/>
            <a:ext cx="4059000" cy="7920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859280" y="1413000"/>
            <a:ext cx="4105440" cy="792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ёстко-авторитар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50920" y="2492280"/>
            <a:ext cx="4032000" cy="79236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транённо-равнодушны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50920" y="3573360"/>
            <a:ext cx="3924360" cy="792360"/>
          </a:xfrm>
          <a:prstGeom prst="rect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последовательный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19280" y="5877000"/>
            <a:ext cx="6265800" cy="647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по типу «кумир семьи»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859280" y="2565360"/>
            <a:ext cx="4140360" cy="792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нтично-подозрительны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859280" y="4797360"/>
            <a:ext cx="4105440" cy="647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я круговой обороны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250920" y="4724280"/>
            <a:ext cx="4059000" cy="7923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пустититель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нисход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932360" y="3645000"/>
            <a:ext cx="4032360" cy="79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монстративный стиль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4500720" y="1197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H="1">
            <a:off x="4211280" y="184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28472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 flipH="1">
            <a:off x="428472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H="1">
            <a:off x="4211280" y="508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4356000" y="1844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435600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435600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0"/>
          <p:cNvSpPr/>
          <p:nvPr/>
        </p:nvSpPr>
        <p:spPr>
          <a:xfrm>
            <a:off x="4284720" y="50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>
            <a:off x="4500720" y="5445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H="1">
            <a:off x="3276360" y="1557360"/>
            <a:ext cx="122220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2340000" y="443700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дители проявляют по отнош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 своим детям полную беспомо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 приним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левых решений и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«садятся на голову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2636640"/>
            <a:ext cx="35272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предпочитают уговаривать, объясня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>
            <a:off x="4500720" y="1557360"/>
            <a:ext cx="172692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 flipH="1">
            <a:off x="3276360" y="1557360"/>
            <a:ext cx="122220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2195640" y="4699080"/>
            <a:ext cx="5832360" cy="1969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глощена воспита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ладшего ребён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вершенно забыв о старши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5219640" y="2276640"/>
            <a:ext cx="3924360" cy="23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, расставшись с муж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стаёт любить «его ребёнка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странённо – равнодуш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испытывает дефицит любви и внимания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360" y="2205000"/>
            <a:ext cx="37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енщина занята поиском нового спутни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00720" y="1557360"/>
            <a:ext cx="151128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1908000" y="4437000"/>
            <a:ext cx="640908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зкая педагогическая культура ро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развитость родительских чувст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сосредоточенность на  собственных проблем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"/>
          <p:cNvSpPr/>
          <p:nvPr/>
        </p:nvSpPr>
        <p:spPr>
          <a:xfrm>
            <a:off x="5219640" y="2349360"/>
            <a:ext cx="392436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что «все дети такие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бо рассуждают так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ы сами такими же бы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пуститительско – снисход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ребёнка склонность к непослуша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людях ведёт себя неадекватно, нетребователен 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836280"/>
            <a:ext cx="352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ридают значение проступкам де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существует лишь один эффектив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ём воспитания – физическая расправа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, чаще оте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бивают ребёнк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ёстко-авторитар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Дети  растут агрессивными, жестоки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ремятся обижать слабых и беззащитных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5280" y="1699920"/>
            <a:ext cx="396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арактерен для родителей, злоупотребляющих физическими наказания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2340000" y="450864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бирают друз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нтролируют свободное время ребён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уг его общения и интере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0" y="256536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ытаются пол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олировать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верст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7"/>
          <p:cNvSpPr/>
          <p:nvPr/>
        </p:nvSpPr>
        <p:spPr>
          <a:xfrm>
            <a:off x="1116000" y="115920"/>
            <a:ext cx="7559640" cy="18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дантично-подозр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 расту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ыми, озлоблен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ыми,  неуверен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ируются  невротические расстройства у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916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е доверяют своим детям, подвергают их оскорбительному тотальному контро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5364000" y="1989000"/>
            <a:ext cx="1008360" cy="50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3"/>
          <p:cNvSpPr/>
          <p:nvPr/>
        </p:nvSpPr>
        <p:spPr>
          <a:xfrm flipH="1">
            <a:off x="3276360" y="1628640"/>
            <a:ext cx="936360" cy="863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"/>
          <p:cNvSpPr/>
          <p:nvPr/>
        </p:nvSpPr>
        <p:spPr>
          <a:xfrm>
            <a:off x="2268360" y="450864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лух заявляют, что сын растёт «бандитом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чь «проститутка» и п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5292720" y="2349360"/>
            <a:ext cx="385128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казывают о его просту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вно преувеличи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епень их опас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"/>
          <p:cNvSpPr/>
          <p:nvPr/>
        </p:nvSpPr>
        <p:spPr>
          <a:xfrm>
            <a:off x="1187280" y="115920"/>
            <a:ext cx="7632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монстративный ст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водит к утрате у ребё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ыдливости, чувства раскаяния за свои поступ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нимает внутренний контроль за своё поведение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360" y="2133720"/>
            <a:ext cx="3672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тели, чаще всего мать, не стесняясь, всем жалуются на своего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788000" y="1628640"/>
            <a:ext cx="1584360" cy="865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то указывает на неправильное пове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детей  становятся их 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ие родители вес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грессив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роены ко вс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зиция круговой об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 лживы и жесто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.к. постоянно уверенны в родительской защи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8360" y="1773360"/>
            <a:ext cx="352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стро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и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окруж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принцип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ш ребёнок всегда пра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 flipH="1">
            <a:off x="3348000" y="1700280"/>
            <a:ext cx="93672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84360" y="436572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сделаю для ребёнка, посвящу ему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его прось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рихоти выполня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1116000" y="115920"/>
            <a:ext cx="755964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ание по типу «кумир сем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бёнок растёт эгоистом и от его эгоизма страдают сами родит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764640"/>
            <a:ext cx="4427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бенок—центр моих интерес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4859280" y="1700280"/>
            <a:ext cx="1368360" cy="720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21988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5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9680" y="642600"/>
            <a:ext cx="8186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обходимо отметить те качества, которые у вашего ребёнка наиболее выражены и чаще проявляются в поведении подрост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ув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ладист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ям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сс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го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5"/>
          <p:cNvGrpSpPr/>
          <p:nvPr/>
        </p:nvGrpSpPr>
        <p:grpSpPr>
          <a:xfrm>
            <a:off x="1871640" y="847800"/>
            <a:ext cx="6649920" cy="2084400"/>
            <a:chOff x="1871640" y="847800"/>
            <a:chExt cx="6649920" cy="2084400"/>
          </a:xfrm>
        </p:grpSpPr>
        <p:pic>
          <p:nvPicPr>
            <p:cNvPr id="453" name="Rectangle 5" descr=""/>
            <p:cNvPicPr/>
            <p:nvPr/>
          </p:nvPicPr>
          <p:blipFill>
            <a:blip r:embed="rId2"/>
            <a:stretch/>
          </p:blipFill>
          <p:spPr>
            <a:xfrm>
              <a:off x="1871640" y="847800"/>
              <a:ext cx="664992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084400" y="866160"/>
              <a:ext cx="6224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взрослых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мы пытаемс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воспитывая себя!»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Прямоугольник 9" descr=""/>
          <p:cNvPicPr/>
          <p:nvPr/>
        </p:nvPicPr>
        <p:blipFill>
          <a:blip r:embed="rId3"/>
          <a:stretch/>
        </p:blipFill>
        <p:spPr>
          <a:xfrm>
            <a:off x="4071960" y="3303720"/>
            <a:ext cx="4449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амятка родителям по предупреждению детской агрессив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райтесь сохранить в своей семье атмосферу открытости и дов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давайте своему ребёнку несбыточных обещаний, не вселяйте в его душу несбыточных надеж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авьте своему ребёнку каких бы то ни было усло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тактичны в проявлении мер воздействия на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аказывайте своего ребёнка за то, что позволяете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бойтесь поделиться со своим ребёнком своими чувствами и слабост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26800" y="1052280"/>
            <a:ext cx="6870600" cy="410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Умейте принять и любить детей такими, какие  они есть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сь слушать и слышать  детей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670040"/>
            <a:ext cx="722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чины детской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4" name="Схема 3" descr=""/>
          <p:cNvPicPr/>
          <p:nvPr/>
        </p:nvPicPr>
        <p:blipFill>
          <a:blip r:embed="rId1"/>
          <a:stretch/>
        </p:blipFill>
        <p:spPr>
          <a:xfrm>
            <a:off x="-19080" y="1407960"/>
            <a:ext cx="9212400" cy="53406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детская агрессивность"/>
          <p:cNvPicPr/>
          <p:nvPr/>
        </p:nvPicPr>
        <p:blipFill>
          <a:blip r:embed="rId2"/>
          <a:stretch/>
        </p:blipFill>
        <p:spPr>
          <a:xfrm>
            <a:off x="6000840" y="1429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емей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иятие детей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различие или враждебность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эмоциональных связей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важение к личности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резмерный контроль или полное отсутствие е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т на физическую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в праве на личную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ич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ознательное ожидание 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веренность в собственной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й отрицательный опы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ая нестаби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вольство соб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ная раздражите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в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туатив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е самочувствие, переутом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продуктов пит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шума, вибрации, тесноты, температуры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оциально- биологически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чин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5280" y="1413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льч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ще проявляют агрессию, нежели дево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ст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казаться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белой вороной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згоя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ь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ним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ерстников, взросл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овлены установками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рассуд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стемой ценност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мых для н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зросл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ить всех людей на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ж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- подрос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мейные у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та и ме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сихолог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причин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достаточ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интеллекта и коммуникативных нав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ый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регуля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азвит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гров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мооц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отношениях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Харитонов</cp:lastModifiedBy>
  <dcterms:modified xsi:type="dcterms:W3CDTF">2015-09-09T19:37:50Z</dcterms:modified>
  <cp:revision>119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