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70C-4DBD-4C31-8A82-F44251A7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191-C63D-49E5-A09B-3C5E064C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6EE-59FD-4A34-AB99-93717E87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CD1-5C50-41E4-99DC-F9A61156C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52FD-3F97-40E1-AD1A-FBB4961F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E852-7147-4519-A08B-8049A35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8AEA-6B41-4D4A-821C-925A56E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591C-E27E-4208-9DA2-4506FABB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79DF-9F14-440F-A5A4-C48B9C05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0497-63AF-46B5-BC78-7F295D5D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158D-0B1D-46CF-BE69-447EFC1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508-6D37-4B88-A7EE-E2EAC537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DBF7-BEB7-424E-A3E9-15492B1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6A9-6A33-4DEB-870C-E56EEC0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E382-350F-44C3-A04C-606AB0BB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1EF6-B436-4034-B133-48DC761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DA73-6BB4-4983-BA77-DC9A91F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5611-0B15-4E34-8C60-90C20CF1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23C0-5A90-438F-A573-0112B84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CC8F-5A2A-4862-ACA7-56F32356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7724-872B-4101-8D01-A2CBC003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83E1-4865-42CB-8D25-BF3EA409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9BA-8D55-436A-AA62-8058B525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AAA9F-1231-47B5-BB27-F50DD7C9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02DF-359A-459F-844C-6A386F76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B5327-25C8-482C-AEA4-A1D547A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A0FD-9FFA-4E67-A73D-9AE06C4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3A17-6FA0-4430-90EC-4A5AA9F9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1DAB-6479-44C2-A56F-2C334359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CD4F-0B48-4B1F-A651-BFCCDA01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75B-9865-4D65-BF61-3681F9A7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D17-2C5B-4C61-80A8-26E19C7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0E4E-6275-4C50-BD19-9319F154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B77-A887-442B-9A89-0826DC6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C8D-98B1-4819-9528-2AEF423B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D2F-5CDD-4F36-8B6D-BE81F96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798-25D9-42AC-BABF-A270D25E3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E4B-A93D-46BA-B76C-65CEB732CB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D9AC-13E7-4DEE-83C8-B99E3D1CC4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99720" y="1214280"/>
            <a:ext cx="7286760" cy="37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Arial"/>
              </a:rPr>
              <a:t>Родительское собр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"Возрастные особенности шестиклассников                                        и причины подростковой агрессии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ак взрослому правильно вести себя с агрессивным ребенком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покойное отношение в случае незначительной агрес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ное игнорирование реакций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ение понимания чувств ребенка («Конечно, тебе обидно…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ключение внимания («Помоги мне …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итивное обозначение поведения («Ты злишься потому, что ты уста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Акцентирование внимания на поступках ( поведении), а не личности (обратная связь);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78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ация факта («Ты ведешь себя агрессивно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татирующий вопрос («Ты злишься?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крытие мотивов агрессивного поведения («Ты хочешь меня обидеть?, продемонстрировать силу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наружение своих собственных чувств по отношению к нежелательному поведению ( «Мне не нравится, когда со мной говорят в таком тоне»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ппеляция к правилам (« Мы  же с тобой договаривались!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3. Контроль над собственными негативными эмоция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зрослым необходимо очень тщательно контролировать свои негативные эмоции во взаимодействии с агрессивными деть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еобходимо признать нормальность и естественность этих негативных переживаний, понять характер, силу и длительность таких чув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4. Снижение напряжения ситуа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Неправильные действия взрослог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Повышение голоса (угрожающий тон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Демонстрация власти  ( «Будет так, как я скажу»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рик, негод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Агрессивные позы, жес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смешки, высмеивание, передразни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егативная оценка личности ребенка, его близких, друз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Использование физической силы, непреклонное настаивание на своей право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отации, проповеди, «чтение морали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Наказания, угрозы наказ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бобщение типа : «Вы все одинаковые», «Ты как всегд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Сравнение ребенка с другими детьми- не в его польз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Команды, давление, жесткие треб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2e6ff"/>
                </a:solidFill>
                <a:latin typeface="Arial"/>
              </a:rPr>
              <a:t>Оправдания, подкуп, нагр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5. Обсуждение проступка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ждать повед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 момент проявления агрессии, а после того, когда все успокоятся и ситуация разрешится, но и в то же время как можно скорее…( лучше наедине, без свидетеле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охранять спокойств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ктив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роб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судить последств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грессивного поведения, ег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азрушитель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 отношению к окружающим и к самому себ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713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ублично минимизировать вину подростка («Ты  не важно себя чувствуешь», Ты не хотел его обидеть»), в беседе наедине показать исти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требовать полного подчинения, позволить подростку выполнить ваше требование по-своем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едложить компромисс, договор с взаимными уступ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Arial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рефлексивное слуш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лушание без анализ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Пауз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дающая возможность ребенку успокоитьс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ушение спокойствия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евербальными средств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снение ситуации с помощью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наводящи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юмор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ние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чувст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Критерии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теряет контроль над собо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орит, ругается со взрослы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отказывается выполнять прави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пециально раздражает люд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винит других в своих ошиб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сердится и отказывается сделать что-либ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о завистлив, мстител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Каких людей ты считаешь агрессивными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8760" y="2428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ffff00"/>
                </a:solidFill>
                <a:latin typeface="Arial"/>
              </a:rPr>
              <a:t>Ответы детей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лые , невежливые, громко ругаются, кричат на всех, бьют, дерутся, люди , которые не могут справиться со своими эмоциями, они вечно не довольные, постоянно ворча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3" descr=""/>
          <p:cNvPicPr/>
          <p:nvPr/>
        </p:nvPicPr>
        <p:blipFill>
          <a:blip r:embed="rId2"/>
          <a:stretch/>
        </p:blipFill>
        <p:spPr>
          <a:xfrm>
            <a:off x="0" y="1542960"/>
            <a:ext cx="8693280" cy="258444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5" descr="H:\тн\05192010165550.jpg"/>
          <p:cNvPicPr/>
          <p:nvPr/>
        </p:nvPicPr>
        <p:blipFill>
          <a:blip r:embed="rId3"/>
          <a:stretch/>
        </p:blipFill>
        <p:spPr>
          <a:xfrm>
            <a:off x="2500200" y="4143240"/>
            <a:ext cx="3571920" cy="20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46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вает ли ваш ребенок агрессивны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их ситуациях он проявляет агр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 кого он проявляет агрессию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вы предпринимаете в семье, чтобы преодолеть агрессивность ребён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611280" y="115920"/>
            <a:ext cx="7848360" cy="936720"/>
          </a:xfrm>
          <a:prstGeom prst="rect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ласс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равильно сложившихся стилей вос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 функционально несостоятельных семьях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50920" y="1413000"/>
            <a:ext cx="4059000" cy="7920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859280" y="1413000"/>
            <a:ext cx="4105440" cy="7920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ёстко-авторитарны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250920" y="2492280"/>
            <a:ext cx="4032000" cy="792360"/>
          </a:xfrm>
          <a:prstGeom prst="rect">
            <a:avLst/>
          </a:prstGeom>
          <a:solidFill>
            <a:srgbClr val="ff00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странённо-равнодушны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250920" y="3573360"/>
            <a:ext cx="3924360" cy="792360"/>
          </a:xfrm>
          <a:prstGeom prst="rect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последовательный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619280" y="5877000"/>
            <a:ext cx="6265800" cy="647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по типу «кумир семьи»</a:t>
            </a: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4859280" y="2565360"/>
            <a:ext cx="4140360" cy="79236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едантично-подозрительны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859280" y="4797360"/>
            <a:ext cx="4105440" cy="6476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иция круговой обороны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250920" y="4724280"/>
            <a:ext cx="4059000" cy="7923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пуститительск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нисходи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932360" y="3645000"/>
            <a:ext cx="4032360" cy="79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монстративный стиль</a:t>
            </a:r>
            <a:r>
              <a:rPr b="0" lang="ru-RU" sz="3200" spc="-1" strike="noStrike">
                <a:solidFill>
                  <a:srgbClr val="2f1ac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3"/>
          <p:cNvSpPr/>
          <p:nvPr/>
        </p:nvSpPr>
        <p:spPr>
          <a:xfrm>
            <a:off x="4500720" y="1197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 flipH="1">
            <a:off x="4211280" y="184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5"/>
          <p:cNvSpPr/>
          <p:nvPr/>
        </p:nvSpPr>
        <p:spPr>
          <a:xfrm flipH="1">
            <a:off x="4284720" y="285264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 flipH="1">
            <a:off x="4284720" y="3933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 flipH="1">
            <a:off x="4211280" y="5084640"/>
            <a:ext cx="2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30"/>
          <p:cNvSpPr/>
          <p:nvPr/>
        </p:nvSpPr>
        <p:spPr>
          <a:xfrm>
            <a:off x="4356000" y="1844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0"/>
          <p:cNvSpPr/>
          <p:nvPr/>
        </p:nvSpPr>
        <p:spPr>
          <a:xfrm>
            <a:off x="435600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0"/>
          <p:cNvSpPr/>
          <p:nvPr/>
        </p:nvSpPr>
        <p:spPr>
          <a:xfrm>
            <a:off x="4356000" y="393372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0"/>
          <p:cNvSpPr/>
          <p:nvPr/>
        </p:nvSpPr>
        <p:spPr>
          <a:xfrm>
            <a:off x="4284720" y="508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>
            <a:off x="4500720" y="5445000"/>
            <a:ext cx="0" cy="405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3"/>
          <p:cNvSpPr/>
          <p:nvPr/>
        </p:nvSpPr>
        <p:spPr>
          <a:xfrm flipH="1">
            <a:off x="3276360" y="1557360"/>
            <a:ext cx="122220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4"/>
          <p:cNvSpPr/>
          <p:nvPr/>
        </p:nvSpPr>
        <p:spPr>
          <a:xfrm>
            <a:off x="2340000" y="443700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дители проявляют по отнош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 своим детям полную беспомощнос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 приним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левых решений и наказ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ещеватель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«садятся на голову»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одителя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8360" y="2636640"/>
            <a:ext cx="352728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предпочитают уговаривать, объясня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>
            <a:off x="4500720" y="1557360"/>
            <a:ext cx="1726920" cy="93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3"/>
          <p:cNvSpPr/>
          <p:nvPr/>
        </p:nvSpPr>
        <p:spPr>
          <a:xfrm flipH="1">
            <a:off x="3276360" y="1557360"/>
            <a:ext cx="122220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Oval 4"/>
          <p:cNvSpPr/>
          <p:nvPr/>
        </p:nvSpPr>
        <p:spPr>
          <a:xfrm>
            <a:off x="2195640" y="4699080"/>
            <a:ext cx="5832360" cy="1969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глощена воспитание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ладшего ребён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вершенно забыв о старши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6"/>
          <p:cNvSpPr/>
          <p:nvPr/>
        </p:nvSpPr>
        <p:spPr>
          <a:xfrm>
            <a:off x="5219640" y="2276640"/>
            <a:ext cx="3924360" cy="2304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енщина, расставшись с муж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стаёт любить «его ребёнка»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Отстранённо – равнодуш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испытывает дефицит любви и внимания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8360" y="2205000"/>
            <a:ext cx="3743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Женщина занята поиском нового спутник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4500720" y="1557360"/>
            <a:ext cx="151128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2411280" y="4653000"/>
            <a:ext cx="5832720" cy="1800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наказание, слёзы, руган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о умиление и всепрощ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0" y="2492280"/>
            <a:ext cx="4572000" cy="216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никают рез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моциональные перепа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ношениях с деть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епоследов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бёнок становится либо неуправляем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ибо, используя разногласия родителе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ело манипулирует им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8000" y="836280"/>
            <a:ext cx="4392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 родителей,  не хват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держки, самооблада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ля осуществления последовательной воспитательной тактики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4"/>
          <p:cNvSpPr/>
          <p:nvPr/>
        </p:nvSpPr>
        <p:spPr>
          <a:xfrm>
            <a:off x="1908000" y="4437000"/>
            <a:ext cx="6409080" cy="2303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изкая педагогическая культура родит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развитость родительских чувст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сосредоточенность на  собственных проблем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"/>
          <p:cNvSpPr/>
          <p:nvPr/>
        </p:nvSpPr>
        <p:spPr>
          <a:xfrm>
            <a:off x="5219640" y="2349360"/>
            <a:ext cx="392436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что «все дети такие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ибо рассуждают так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ы сами такими же был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пуститительско – снисход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ребёнка склонность к непослуша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 людях ведёт себя неадекватно, нетребователен к себ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836280"/>
            <a:ext cx="35272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ридают значение проступкам де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читают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существует лишь один эффектив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ём воспитания – физическая расправа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, чаще оте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бивают ребёнк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Жёстко-авторитар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Дети  растут агрессивными, жестоким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ремятся обижать слабых и беззащитных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5280" y="1699920"/>
            <a:ext cx="396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Характерен для родителей, злоупотребляющих физическими наказаниями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2340000" y="450864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бирают друз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нтролируют свободное время ребён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уг его общения и интере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0" y="256536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ытаются пол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олировать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 сверстни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7"/>
          <p:cNvSpPr/>
          <p:nvPr/>
        </p:nvSpPr>
        <p:spPr>
          <a:xfrm>
            <a:off x="1116000" y="115920"/>
            <a:ext cx="7559640" cy="187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едантично-подозритель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 расту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решительными, озлобленным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безынициативными,  неуверенны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ируются  невротические расстройства у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68360" y="1916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не доверяют своим детям, подвергают их оскорбительному тотальному контрол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5364000" y="1989000"/>
            <a:ext cx="1008360" cy="5050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3"/>
          <p:cNvSpPr/>
          <p:nvPr/>
        </p:nvSpPr>
        <p:spPr>
          <a:xfrm flipH="1">
            <a:off x="3276360" y="1628640"/>
            <a:ext cx="936360" cy="863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"/>
          <p:cNvSpPr/>
          <p:nvPr/>
        </p:nvSpPr>
        <p:spPr>
          <a:xfrm>
            <a:off x="2268360" y="450864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лух заявляют, что сын растёт «бандитом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чь «проститутка» и пр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5292720" y="2349360"/>
            <a:ext cx="385128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казывают о его проступк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вно преувеличи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епень их опас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"/>
          <p:cNvSpPr/>
          <p:nvPr/>
        </p:nvSpPr>
        <p:spPr>
          <a:xfrm>
            <a:off x="1187280" y="115920"/>
            <a:ext cx="7632720" cy="151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емонстративный сти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водит к утрате у ребё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тыдливости, чувства раскаяния за свои поступк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нимает внутренний контроль за своё поведение.</a:t>
            </a:r>
            <a:r>
              <a:rPr b="0" lang="ru-RU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360" y="2133720"/>
            <a:ext cx="3672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одители, чаще всего мать, не стесняясь, всем жалуются на своего ребё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4788000" y="1628640"/>
            <a:ext cx="1584360" cy="8654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"/>
          <p:cNvSpPr/>
          <p:nvPr/>
        </p:nvSpPr>
        <p:spPr>
          <a:xfrm flipH="1">
            <a:off x="3203640" y="1557360"/>
            <a:ext cx="1295280" cy="10796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4"/>
          <p:cNvSpPr/>
          <p:nvPr/>
        </p:nvSpPr>
        <p:spPr>
          <a:xfrm>
            <a:off x="2340000" y="4365720"/>
            <a:ext cx="583236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то указывает на неправильное повед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х детей  становятся их враг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кие родители весь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грессив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строены ко вс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Oval 7"/>
          <p:cNvSpPr/>
          <p:nvPr/>
        </p:nvSpPr>
        <p:spPr>
          <a:xfrm>
            <a:off x="1116000" y="115920"/>
            <a:ext cx="7416720" cy="144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Позиция круговой об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ети в таких семьях  лживы и жесток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.к. постоянно уверенны в родительской защи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8360" y="1773360"/>
            <a:ext cx="35272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дители стро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и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окруж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принцип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наш ребёнок всегда прав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9"/>
          <p:cNvSpPr/>
          <p:nvPr/>
        </p:nvSpPr>
        <p:spPr>
          <a:xfrm>
            <a:off x="4500720" y="1557360"/>
            <a:ext cx="1871640" cy="1008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Line 2"/>
          <p:cNvSpPr/>
          <p:nvPr/>
        </p:nvSpPr>
        <p:spPr>
          <a:xfrm>
            <a:off x="4500720" y="1557360"/>
            <a:ext cx="647640" cy="2735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3"/>
          <p:cNvSpPr/>
          <p:nvPr/>
        </p:nvSpPr>
        <p:spPr>
          <a:xfrm flipH="1">
            <a:off x="3348000" y="1700280"/>
            <a:ext cx="936720" cy="7920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84360" y="4365720"/>
            <a:ext cx="5832720" cy="2158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сделаю для ребёнка, посвящу ему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0" y="2492280"/>
            <a:ext cx="446400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5400720" y="2421000"/>
            <a:ext cx="3743280" cy="20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 его просьб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рихоти выполняют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1116000" y="115920"/>
            <a:ext cx="755964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ание по типу «кумир семь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Ребёнок растёт эгоистом и от его эгоизма страдают сами родител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764640"/>
            <a:ext cx="4427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Haettenschweiler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бенок—центр моих интересов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4859280" y="1700280"/>
            <a:ext cx="1368360" cy="720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21988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54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9680" y="642600"/>
            <a:ext cx="8186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обходимо отметить те качества, которые у вашего ребёнка наиболее выражены и чаще проявляются в поведении подростк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чув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ладист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п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ям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грессив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ерп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гоиз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2" name="Rectangle 5"/>
          <p:cNvGrpSpPr/>
          <p:nvPr/>
        </p:nvGrpSpPr>
        <p:grpSpPr>
          <a:xfrm>
            <a:off x="1871640" y="847800"/>
            <a:ext cx="6649920" cy="2084400"/>
            <a:chOff x="1871640" y="847800"/>
            <a:chExt cx="6649920" cy="2084400"/>
          </a:xfrm>
        </p:grpSpPr>
        <p:pic>
          <p:nvPicPr>
            <p:cNvPr id="453" name="Rectangle 5" descr=""/>
            <p:cNvPicPr/>
            <p:nvPr/>
          </p:nvPicPr>
          <p:blipFill>
            <a:blip r:embed="rId2"/>
            <a:stretch/>
          </p:blipFill>
          <p:spPr>
            <a:xfrm>
              <a:off x="1871640" y="847800"/>
              <a:ext cx="664992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2084400" y="866160"/>
              <a:ext cx="62247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«Главная ошибка взрослых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 том, что мы пытаемся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воспитывать детей,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 </a:t>
              </a:r>
              <a:r>
                <a:rPr b="1" lang="ru-RU" sz="3200" spc="-1" strike="noStrike">
                  <a:solidFill>
                    <a:srgbClr val="002060"/>
                  </a:solidFill>
                  <a:latin typeface="Bookman Old Style"/>
                  <a:ea typeface="Times New Roman"/>
                </a:rPr>
                <a:t>не воспитывая себя!».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5" name="Прямоугольник 9" descr=""/>
          <p:cNvPicPr/>
          <p:nvPr/>
        </p:nvPicPr>
        <p:blipFill>
          <a:blip r:embed="rId3"/>
          <a:stretch/>
        </p:blipFill>
        <p:spPr>
          <a:xfrm>
            <a:off x="4071960" y="3303720"/>
            <a:ext cx="44496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Памятка родителям по предупреждению детской агрессивност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райтесь сохранить в своей семье атмосферу открытости и довер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давайте своему ребёнку несбыточных обещаний, не вселяйте в его душу несбыточных надеж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авьте своему ребёнку каких бы то ни было усло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удьте тактичны в проявлении мер воздействия на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наказывайте своего ребёнка за то, что позволяете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бойтесь поделиться со своим ребёнком своими чувствами и слабостя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26800" y="1052280"/>
            <a:ext cx="6870600" cy="410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Умейте принять и любить детей такими, какие  они есть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сь слушать и слышать  детей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670040"/>
            <a:ext cx="722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4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чины детской агрессивност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4" name="Схема 3" descr=""/>
          <p:cNvPicPr/>
          <p:nvPr/>
        </p:nvPicPr>
        <p:blipFill>
          <a:blip r:embed="rId1"/>
          <a:stretch/>
        </p:blipFill>
        <p:spPr>
          <a:xfrm>
            <a:off x="-19080" y="1407960"/>
            <a:ext cx="9212400" cy="53406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детская агрессивность"/>
          <p:cNvPicPr/>
          <p:nvPr/>
        </p:nvPicPr>
        <p:blipFill>
          <a:blip r:embed="rId2"/>
          <a:stretch/>
        </p:blipFill>
        <p:spPr>
          <a:xfrm>
            <a:off x="6000840" y="14292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емей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05264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иятие детей родителя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различие или враждебность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ушение эмоциональных связей в семь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уважение к личности реб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резмерный контроль или полное отсутствие е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быток или недостаток внимания со стороны роди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рет на физическую активно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каз в праве на личную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ич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ознательное ожидание 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веренность в собственной безопас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й отрицательный опы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ая нестаби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довольство соб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енная раздражительно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в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Ситуативные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причин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хое самочувствие, переутом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продуктов пит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лияние шума, вибрации, тесноты, температуры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Социально- биологические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чин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5280" y="141300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льчи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аще проявляют агрессию, нежели девоч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стр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д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казаться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белой вороной»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згоя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ь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ним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верстников, взросл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овлены установками,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едрассуд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истемой ценностей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чимых для них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зросл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ить всех людей на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во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и 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чуж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- подрос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емейные установк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щита и ме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520" indent="-488520" algn="ctr">
              <a:spcBef>
                <a:spcPts val="601"/>
              </a:spcBef>
              <a:buClr>
                <a:srgbClr val="99ff99"/>
              </a:buClr>
              <a:buSzPct val="80000"/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Психологические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причины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достаточн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азвитие интеллекта и коммуникативных навы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ый уров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регуля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развит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гровой деятель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ниженна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амооцен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руш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отношениях со сверстни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06:59:55Z</dcterms:created>
  <dc:creator>XTreme</dc:creator>
  <dc:description/>
  <dc:language>en-US</dc:language>
  <cp:lastModifiedBy>Харитонов</cp:lastModifiedBy>
  <dcterms:modified xsi:type="dcterms:W3CDTF">2015-09-09T19:37:50Z</dcterms:modified>
  <cp:revision>119</cp:revision>
  <dc:subject/>
  <dc:title>Муниципальное общеобразовательное учреждение – гимназия №1 г.Лыткарино Московской области  ТЕМА. «Стили семейного воспитания».</dc:title>
</cp:coreProperties>
</file>