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92A-BEC6-41D8-B869-D4E712A5FE3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0EF3-327A-42C4-A0D5-5F70904E1CD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C7E-BBC8-405A-9022-6C58F6CC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AE0-9190-4B16-BCA2-C21A014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2D6E-C37E-4695-B557-B8304B9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CA9D5-AE87-496D-B0FF-32F6A42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B8306-B68C-4776-97EF-7B6B010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16CCB-3FD5-4113-BE34-7C6D5C0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8D5B0-2D04-4C51-AE45-BFC7DF8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004BA-E930-4DFC-AB66-88A19BD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EB3A5-0359-405D-84F0-62765C89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38B2-6F26-4DAD-B3B1-2EEA45ED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FAB74-73A9-410F-A0DA-0793AAA9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5D9-C0EE-4919-8F30-927E368A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FAF-4240-4CCE-AD9A-0B1AA3A6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602-E43D-417C-9357-530831FB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57B-05DD-4452-943B-A2F92B9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938-7E27-4E7E-9B97-6AC39B4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3E54-6BB0-45E6-9B1A-A0962363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291-E600-4642-A11C-9E239A8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296F-4F05-4E59-B3D9-4189C65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405D-61E8-43C5-A259-4D7650A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2D3-2FD7-40F2-9CC1-F02CC1A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DAE-588D-4BF5-A4D7-F3F5A62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C4F-2B82-405F-8BAB-CE8402E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839D-24F2-40D9-A891-88D85A6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B8FD-0EA1-465F-BCF0-B462B20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0C94-78CF-44A2-B5C8-0C944473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5FB9-B1A7-4A94-9716-D9D219A7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AE2B-3D52-4051-842E-2A86726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E03A-9234-49CB-9D34-C953CA3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8804-71B9-4C62-B18A-9C4EFE33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E22F-8623-42E9-9A29-00D3F03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70D-4E5C-4C27-87F1-EE56607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9697-237D-458F-B634-04CB1052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5899-9B42-4E9E-AA0A-CCB1D75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E9A8-7697-4F03-AC0F-455652F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C583-4DE2-430C-8129-E1656FF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C94B-525A-4469-B5D5-CE80566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0CFF-A0EF-44C1-A573-92AD263A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DC3B-63E6-40EB-A1A8-D9F543C5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50C7-5ACB-45EE-A4BB-4C0F4F7C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BB51-7FFA-41B4-A021-3559E29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9B56-3272-4C03-8672-1730D0E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980-B717-4677-BB4C-CD23792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CFF2-0AB5-4D39-BFDB-DE73A87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42C1-C498-435A-87BA-FC8C279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6469-6664-4996-A047-4D90465F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C6E2-8CA9-4C07-9C74-9B1CF1A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540F-3129-4CBD-87FA-82E8839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27C4-B12D-4DE4-A932-A964980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09D3-0A9E-43A9-A2F3-0645EB2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E959-C91D-4993-B9C0-B4A38094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63FE-8A7E-479E-94A1-B97D13C8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0C10-8A49-451F-B643-4A6B645D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32E-CED8-4365-A385-3FE479D6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280FB-BDB8-40E7-AA65-F58125B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244A-6F79-4C00-B549-222BD77A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9675-AAB3-4F28-8320-4D22DDF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DDA2-57B1-46C6-B86E-A9D538C4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192A-733C-4447-B88C-EDC3FEC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504E-A426-422B-9FE9-E043BCE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EDEE-98ED-45DC-A31B-4CD854C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1782C-C23E-4206-AEB8-AE6248A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7FC6-53CF-4E88-8508-0EBA5F7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D637-8608-4CDE-A226-0918233F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D8D-29DB-4B53-9EBA-55F2646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3BC8-2E44-4724-A115-02366E15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E1F93-ED16-4687-BAD5-8C469916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CF03-3BEB-4AF3-B4B1-A94382E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BE9D-D98C-4C23-A850-9B5360A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4A63-4340-4F3F-8333-A72917F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709ED-A84A-415D-9C8B-3F2CB591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8A67-A6EC-4B88-9EB0-439D385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299C-DE5C-42AD-BBF2-140E8E3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B13EB-B919-4BCF-973F-CC0206E2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9180-D58D-4597-A6D1-E5E6D8E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0F7-AD63-4ACE-92C2-5C81D71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9CEA-A45D-4819-9B0D-A017814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3EFD-3B2E-4234-9F79-101CDCAB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08C9-94BB-4E32-A5C6-F88303B0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5844A-642C-4983-8F1B-C0C30C2A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F0E0-E74F-4205-9321-8D61C97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8E97-FFD6-46FF-9E5E-9FA948D0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A8C91-13A3-4896-89C7-E04843A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287CB-1DCA-45B9-8D4B-CD87CC8E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C1C0-E357-489D-BF92-207CA9D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A43B3-EBD4-4E83-A98E-E2C63B6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ACD-A199-4574-9F61-6442E73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488A7-ADC8-466D-808E-B88410F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84EC-7EDF-403C-97FF-4A380D21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0537-AF00-43D2-A10A-F70988BA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19837-D14A-438A-A64F-E0E74B71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11BD-90A5-4CAF-8D66-E3178EB6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C8A4-8065-42F5-A5A6-BDC9F651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6BE2-97CA-494A-AFDC-87B9111D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C6913-9E05-4C59-BC97-5EE0ECA3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AE887-3A4D-4011-A312-08AFA2F6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DE75-4414-4EAF-A1BE-37E0C1D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C54-C099-4480-B4BD-1F2A08EE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6371B-6A6C-4B73-8A64-92C8977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B8ED-1A48-40C7-9286-FFFBFA7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4ECB-57ED-48AC-99C3-80D1A14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23D4-B768-47D1-8C6E-012553F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1C3D-FC2D-46DF-B62E-156D96E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037E-E6B4-427F-AFAC-7FC7A3C6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DD68-494B-4DC7-9104-E848FD9E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05DBA-CDA4-4D6D-8AA5-4850B90C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5A92-E877-43B6-A2AE-D95F2EB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39D99-7AC2-4BF3-8E6A-2146B749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31DC-3A5D-407E-BB5C-9601098A78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977-617C-4678-9A0E-538145E81A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F87-2BA4-4219-958F-471EE8FE2B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671-6B61-4485-ACFF-E11D1B5830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A548-BFF6-43D2-9A6B-1CA7E51633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3007-DC21-4992-ACD0-BC5C228CAB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A19F-5E20-4F80-8763-2B5699FB85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CA9F-8F28-4AB4-B30A-7FFB06A6A9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7633-F868-4DAA-AF77-9A6214C83F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455320" cy="50054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8" descr="main-ae8ddba750b0934cd783c68b4dc9a96c.jpg"/>
          <p:cNvPicPr/>
          <p:nvPr/>
        </p:nvPicPr>
        <p:blipFill>
          <a:blip r:embed="rId2"/>
          <a:stretch/>
        </p:blipFill>
        <p:spPr>
          <a:xfrm>
            <a:off x="468360" y="4149720"/>
            <a:ext cx="3643200" cy="2478240"/>
          </a:xfrm>
          <a:prstGeom prst="rect">
            <a:avLst/>
          </a:prstGeom>
          <a:ln w="0">
            <a:noFill/>
          </a:ln>
        </p:spPr>
      </p:pic>
      <p:pic>
        <p:nvPicPr>
          <p:cNvPr id="408" name="Rectangle 26" descr=""/>
          <p:cNvPicPr/>
          <p:nvPr/>
        </p:nvPicPr>
        <p:blipFill>
          <a:blip r:embed="rId3"/>
          <a:stretch/>
        </p:blipFill>
        <p:spPr>
          <a:xfrm>
            <a:off x="3706920" y="3790800"/>
            <a:ext cx="5406840" cy="24876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285840" y="333360"/>
            <a:ext cx="87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Государствен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детский сад № 54  комбинированного вида Красносель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3744000" y="595008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8705880" cy="1120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4000" y="1125360"/>
            <a:ext cx="62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1.  Ребенок может стать более утомляемым, раздражительным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2.  Кривлянье и манерничанье.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3.  Обостряется агрессивность. Иногда бывает и наоборот – появляется излишняя застенчивость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4.  Ребенок очень хочет быть похожим на взрослых.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5.  Если ребенок уже ходит в школу, то его успеваемость неожиданно снижается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6.  Порой появляются страхи, повышается тревожность и неуверенность в себе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Все это говорит о том, что у вашего отпрыска серьезные проблемы – и физиологические, и психологическ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Рисунок 7" descr="SA4VVWCA7KA80RCAFRBMQRCAZM1P2OCA7K6J4DCAC4XJXWCAW08RU9CAB5RQW2CAW1AM5XCA1CI870CA84X5WDCA7ATCGHCA71WU5ACAW785XPCA2B4NOMCAWY2C3UCARMHWC8CAK12C4FCASFARH2CA2N3N5X.jpg"/>
          <p:cNvPicPr/>
          <p:nvPr/>
        </p:nvPicPr>
        <p:blipFill>
          <a:blip r:embed="rId2"/>
          <a:stretch/>
        </p:blipFill>
        <p:spPr>
          <a:xfrm>
            <a:off x="6875640" y="3765600"/>
            <a:ext cx="1944360" cy="2652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images (3).jpg"/>
          <p:cNvPicPr/>
          <p:nvPr/>
        </p:nvPicPr>
        <p:blipFill>
          <a:blip r:embed="rId3"/>
          <a:stretch/>
        </p:blipFill>
        <p:spPr>
          <a:xfrm>
            <a:off x="6875640" y="1773360"/>
            <a:ext cx="1944360" cy="155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38120" y="334800"/>
            <a:ext cx="8705880" cy="46753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1309420272_image0031.jpg"/>
          <p:cNvPicPr/>
          <p:nvPr/>
        </p:nvPicPr>
        <p:blipFill>
          <a:blip r:embed="rId2"/>
          <a:stretch/>
        </p:blipFill>
        <p:spPr>
          <a:xfrm>
            <a:off x="7380360" y="260280"/>
            <a:ext cx="1538280" cy="19764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7" descr="p75_bezyimyannyiy1.jpg"/>
          <p:cNvPicPr/>
          <p:nvPr/>
        </p:nvPicPr>
        <p:blipFill>
          <a:blip r:embed="rId3"/>
          <a:stretch/>
        </p:blipFill>
        <p:spPr>
          <a:xfrm>
            <a:off x="826920" y="4797360"/>
            <a:ext cx="2206800" cy="154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360360"/>
            <a:ext cx="8686800" cy="599760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4" descr="PBCXKTCAK1DAI2CAJXG67LCAU8B8D4CABMO992CA50K1RPCA32PL3LCA6GM37CCA80IWYDCAE86MRECAVVTD4QCA41OFT9CAN0Z3BCCA0G58E3CA6238LLCACWZ7OOCAV2OPFMCANLQRG9CAZMI6PRCAG8LD7M.jpg"/>
          <p:cNvPicPr/>
          <p:nvPr/>
        </p:nvPicPr>
        <p:blipFill>
          <a:blip r:embed="rId2"/>
          <a:stretch/>
        </p:blipFill>
        <p:spPr>
          <a:xfrm>
            <a:off x="6715080" y="642960"/>
            <a:ext cx="1857600" cy="1795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686800" cy="5999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6" descr="21.png"/>
          <p:cNvPicPr/>
          <p:nvPr/>
        </p:nvPicPr>
        <p:blipFill>
          <a:blip r:embed="rId2"/>
          <a:stretch/>
        </p:blipFill>
        <p:spPr>
          <a:xfrm>
            <a:off x="6372360" y="4437000"/>
            <a:ext cx="2222280" cy="1828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7200" y="360360"/>
            <a:ext cx="8686800" cy="90180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2" descr=""/>
          <p:cNvPicPr/>
          <p:nvPr/>
        </p:nvPicPr>
        <p:blipFill>
          <a:blip r:embed="rId2"/>
          <a:stretch/>
        </p:blipFill>
        <p:spPr>
          <a:xfrm>
            <a:off x="-139680" y="1285920"/>
            <a:ext cx="9131400" cy="3078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3.png"/>
          <p:cNvPicPr/>
          <p:nvPr/>
        </p:nvPicPr>
        <p:blipFill>
          <a:blip r:embed="rId3"/>
          <a:stretch/>
        </p:blipFill>
        <p:spPr>
          <a:xfrm>
            <a:off x="6480000" y="371628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6" descr=""/>
          <p:cNvPicPr/>
          <p:nvPr/>
        </p:nvPicPr>
        <p:blipFill>
          <a:blip r:embed="rId4"/>
          <a:stretch/>
        </p:blipFill>
        <p:spPr>
          <a:xfrm>
            <a:off x="176040" y="3571920"/>
            <a:ext cx="6413760" cy="311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Franklin Gothic Medium"/>
              </a:rPr>
              <a:t>Спасибо за внимание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5" descr="877f55a620ec.jpg"/>
          <p:cNvPicPr/>
          <p:nvPr/>
        </p:nvPicPr>
        <p:blipFill>
          <a:blip r:embed="rId1"/>
          <a:stretch/>
        </p:blipFill>
        <p:spPr>
          <a:xfrm>
            <a:off x="3429000" y="2928960"/>
            <a:ext cx="2286000" cy="2759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58:34Z</dcterms:created>
  <dc:creator>МАМА</dc:creator>
  <dc:description/>
  <dc:language>en-US</dc:language>
  <cp:lastModifiedBy>Iurii</cp:lastModifiedBy>
  <dcterms:modified xsi:type="dcterms:W3CDTF">2018-12-09T19:33:39Z</dcterms:modified>
  <cp:revision>31</cp:revision>
  <dc:subject/>
  <dc:title>Слайд 1</dc:title>
</cp:coreProperties>
</file>