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7D11-2D8E-4CEE-9B97-FE97743DAD6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6DF0-C49D-4212-8903-59A09E3925F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220-E039-4BD2-8BDC-1B3AA927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3A0-F3CD-4838-AAAE-AB886D5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28241-3E52-4650-9017-46BD4DCF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1E37A-28F9-49F9-8547-69DAF51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0ACB5-3E0D-4C14-995B-0419E320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F1FCC-9305-4C13-A56A-C6CCDF8B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FF04B-7178-4DE2-9A14-5AFEDD9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BF5FC-5B70-4B94-8490-91CED80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05312-85EB-4FA4-9F4C-4F3B536F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80E23-EF85-4FBD-9EDC-A52FA2ED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9A89F-937C-4180-BAF1-6D4252CC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2C2-7045-4FC5-9A31-F9ABD90C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098-B82B-452B-A523-B16C1D47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5B89-685B-4A62-B1ED-354EBF43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3A5-C4ED-4315-B888-E5625174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CD4C-75D1-494F-A086-92A96912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15F9-5CBB-47ED-8DDF-FB4DF16E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F496-ECEB-4DD8-99E7-FD6AC395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656-EE08-487E-BB73-1D290BD0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344-2B52-430F-84DB-4E9F25D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DFE-FF0C-4670-AC65-7125D2BE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CCCB-DFE8-4EDD-A9C3-CCD9B68D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DA72-3BD0-4F5F-A021-7BB5783D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D3FE-20B6-43B1-84A5-14DBF3C5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9BA3-6E3C-44B5-8774-CD4C48F3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390E-9249-4F6B-8770-7B8059EB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C1C1-DE14-4ED3-B72B-737BF503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9B83D-3F31-4600-AD0B-AA98676A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2E447-888D-4A44-8CE6-BAEB61FE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BAC7-E1A6-4AA6-A451-A49A995C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10E0-C142-4C3E-AA67-A79FBA4A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24E-C0DF-4B36-867A-C0D308F9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18B0-89FD-4E79-B32D-8067EA07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6694-DB0D-4F8C-89C8-02C28136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B772-324F-439D-B54D-1C4EF15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6A8F-8A7B-4822-8763-1903F22D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46A6-65EB-4797-93CC-52B5549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C07D-78CF-4159-BFF3-5AD2C131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9368-4558-45F9-91B8-897895D9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3208-5DE0-4D2E-AB7F-D1DD376B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0A0E-51B5-4775-8FF9-8E185075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C4726-CA92-4B9A-AA3D-021A33C5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41D-7BB9-4EB9-8AF1-68E24817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19DC-79F1-4D96-A279-5C7F45E5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1B4C-EC8E-4C44-A560-C8DAD6CE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9668-3C74-4BE0-AE20-A226AB5C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91EF-5478-453D-A3A8-55229E77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27B4-A043-4F7B-B72E-3FC2F7BD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7F716-4D82-4F30-ABD3-78E456D6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E4E6-CD03-47F6-ACC0-3847B15C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FA8D-E904-4DD6-9CB5-139FFE51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C885-4B6B-43E4-93D6-28D4E221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FB59C-F46A-4EBE-9090-381ECD7B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1E2-71B9-458B-B7E4-2190C33C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6B3A7-CA6C-4C16-AA2B-DCB58D4C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9D900-166C-4E8F-81A4-3F058892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9693F-B2A0-4979-9260-932960B1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304F-537C-4077-B946-752CADD1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1753-AAB1-4559-95DB-B2BE3E09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C6CCE-D555-44F5-8AE2-4FFD019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9ADF-22ED-43F1-8E1D-CBF8288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D902C-88AA-4437-A90E-58F866B1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173D-3BE7-4977-A737-FD8B41C8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106BB-C78C-4571-8210-C47B2B0E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D52-17A8-4A84-986C-133D294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1ECA-EF8D-4372-B8F7-65A8B1F7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D5076-8B9B-4225-9ED9-0821C794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D965F-109D-490E-B1D0-879EBF3F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7B010-8D47-4798-9CD9-A937E8D9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9A3C-0334-40F3-869D-D8B0FD6F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4ECD6-2F49-441D-B09B-6672589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CF3F4-9CE3-4592-8E2E-419B0F20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95CE6-2947-42F1-8683-6D0BB255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B9FF3-BA4A-4045-8B6A-4B33688D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9EF52-2C7A-49F3-AD8B-41AB3834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FFA-CFAD-4B1C-8163-231E862F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22F5E-AF0D-4D30-AE9C-782C7587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7D4F4-1C16-43A9-9614-36FF6231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350F-01A3-43C7-9C5A-F4FE9831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7CC37-15BA-4B5E-9B70-3CF5CAAF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9F035-0759-4844-9D49-9F3826F1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333D7-8F55-476E-86C9-C4FE40F7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67679-F521-44BB-B1D4-20406B8A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E943A-9E16-4B0D-8C55-2FCB3C86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6AC0E-5FD4-4FE1-B1C3-3CCC1CD8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C1F53-D7F8-4E5F-B185-271B0272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EAB-4AA4-45D0-A7ED-55F99E1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4C009-B04B-416B-9840-41DFE18E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B1F55-BF88-4D5E-B9A1-8FE24673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D8CA2-F012-41BC-BDB4-4205ECBF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9CCB-55F7-41FB-BF27-A0E674BE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1804-58D2-438F-9833-4F966C6B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55F49-1969-41C1-A73D-B26AD337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A8A37-3290-4B16-8644-D1E2FFAC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A3C3E-470B-415D-AC7D-6104D94A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0CCE8-0FF8-4C8A-A13F-3F9B3A9F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FD00A-DCE4-48AE-AD9C-736D9314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13C-F54A-43EC-938E-A95595EF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01716-8896-4F5F-A7DF-05AE8A08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1AA03-9107-4860-9D5B-FFE605D1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2A619-BB3F-483A-840A-C1C8A12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43F75-8154-40D2-A15B-7B3BA67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2EEB7-0135-4D87-8141-2E44CC54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E1D2E-8545-4DB6-8F35-891BAC15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85AD5-EC1E-4C3D-9E21-8026ABC9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C1B51-5CCB-41D9-A56F-42F0BE0E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1F2C3-A693-4502-8CE5-B64A58F2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34C09-1A3C-456B-8083-889707C2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34CF-5612-44D3-999F-9AD24A3146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13CE-3ECE-4B98-99E7-2551DA717D1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E41F-05F8-49DB-A231-ADD9FA1555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87E0-9583-40BD-8966-8379E97D91D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6DB7-14FA-4269-96BF-4411FD6BBDD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DD95-F1A2-401B-AD3E-333BE652BC7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3366-A780-44BD-8EF6-039E45DD4CF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BA8-501C-4537-849E-11B3E64DCE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127C-CD82-42AA-88EB-688EB2C49B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96720" y="401760"/>
            <a:ext cx="8455320" cy="500544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8" descr="main-ae8ddba750b0934cd783c68b4dc9a96c.jpg"/>
          <p:cNvPicPr/>
          <p:nvPr/>
        </p:nvPicPr>
        <p:blipFill>
          <a:blip r:embed="rId2"/>
          <a:stretch/>
        </p:blipFill>
        <p:spPr>
          <a:xfrm>
            <a:off x="468360" y="4149720"/>
            <a:ext cx="3643200" cy="2478240"/>
          </a:xfrm>
          <a:prstGeom prst="rect">
            <a:avLst/>
          </a:prstGeom>
          <a:ln w="0">
            <a:noFill/>
          </a:ln>
        </p:spPr>
      </p:pic>
      <p:pic>
        <p:nvPicPr>
          <p:cNvPr id="408" name="Rectangle 26" descr=""/>
          <p:cNvPicPr/>
          <p:nvPr/>
        </p:nvPicPr>
        <p:blipFill>
          <a:blip r:embed="rId3"/>
          <a:stretch/>
        </p:blipFill>
        <p:spPr>
          <a:xfrm>
            <a:off x="3706920" y="3790800"/>
            <a:ext cx="5406840" cy="24876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"/>
          <p:cNvSpPr/>
          <p:nvPr/>
        </p:nvSpPr>
        <p:spPr>
          <a:xfrm>
            <a:off x="285840" y="333360"/>
            <a:ext cx="87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Государственное бюджетное дошколь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детский сад № 54  комбинированного вида Красносель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3744000" y="595008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Medium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8705880" cy="1120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24000" y="1125360"/>
            <a:ext cx="62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1.  Ребенок может стать более утомляемым, раздражительным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2.  Кривлянье и манерничанье. 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3.  Обостряется агрессивность. Иногда бывает и наоборот – появляется излишняя застенчивость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4.  Ребенок очень хочет быть похожим на взрослых. 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5.  Если ребенок уже ходит в школу, то его успеваемость неожиданно снижается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6.  Порой появляются страхи, повышается тревожность и неуверенность в себе.</a:t>
            </a:r>
            <a:br>
              <a:rPr sz="2400"/>
            </a:b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Medium"/>
                <a:ea typeface="Times New Roman"/>
              </a:rPr>
              <a:t>Все это говорит о том, что у вашего отпрыска серьезные проблемы – и физиологические, и психологически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Рисунок 7" descr="SA4VVWCA7KA80RCAFRBMQRCAZM1P2OCA7K6J4DCAC4XJXWCAW08RU9CAB5RQW2CAW1AM5XCA1CI870CA84X5WDCA7ATCGHCA71WU5ACAW785XPCA2B4NOMCAWY2C3UCARMHWC8CAK12C4FCASFARH2CA2N3N5X.jpg"/>
          <p:cNvPicPr/>
          <p:nvPr/>
        </p:nvPicPr>
        <p:blipFill>
          <a:blip r:embed="rId2"/>
          <a:stretch/>
        </p:blipFill>
        <p:spPr>
          <a:xfrm>
            <a:off x="6875640" y="3765600"/>
            <a:ext cx="1944360" cy="265284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8" descr="images (3).jpg"/>
          <p:cNvPicPr/>
          <p:nvPr/>
        </p:nvPicPr>
        <p:blipFill>
          <a:blip r:embed="rId3"/>
          <a:stretch/>
        </p:blipFill>
        <p:spPr>
          <a:xfrm>
            <a:off x="6875640" y="1773360"/>
            <a:ext cx="1944360" cy="155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438120" y="334800"/>
            <a:ext cx="8705880" cy="467532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4" descr="1309420272_image0031.jpg"/>
          <p:cNvPicPr/>
          <p:nvPr/>
        </p:nvPicPr>
        <p:blipFill>
          <a:blip r:embed="rId2"/>
          <a:stretch/>
        </p:blipFill>
        <p:spPr>
          <a:xfrm>
            <a:off x="7380360" y="260280"/>
            <a:ext cx="1538280" cy="1976400"/>
          </a:xfrm>
          <a:prstGeom prst="rect">
            <a:avLst/>
          </a:prstGeom>
          <a:ln w="0">
            <a:noFill/>
          </a:ln>
        </p:spPr>
      </p:pic>
      <p:pic>
        <p:nvPicPr>
          <p:cNvPr id="417" name="Содержимое 7" descr="p75_bezyimyannyiy1.jpg"/>
          <p:cNvPicPr/>
          <p:nvPr/>
        </p:nvPicPr>
        <p:blipFill>
          <a:blip r:embed="rId3"/>
          <a:stretch/>
        </p:blipFill>
        <p:spPr>
          <a:xfrm>
            <a:off x="826920" y="4797360"/>
            <a:ext cx="2206800" cy="15415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304920" y="360360"/>
            <a:ext cx="8686800" cy="5997600"/>
          </a:xfrm>
          <a:prstGeom prst="rect">
            <a:avLst/>
          </a:prstGeom>
          <a:ln w="0">
            <a:noFill/>
          </a:ln>
        </p:spPr>
      </p:pic>
      <p:pic>
        <p:nvPicPr>
          <p:cNvPr id="419" name="Содержимое 4" descr="PBCXKTCAK1DAI2CAJXG67LCAU8B8D4CABMO992CA50K1RPCA32PL3LCA6GM37CCA80IWYDCAE86MRECAVVTD4QCA41OFT9CAN0Z3BCCA0G58E3CA6238LLCACWZ7OOCAV2OPFMCANLQRG9CAZMI6PRCAG8LD7M.jpg"/>
          <p:cNvPicPr/>
          <p:nvPr/>
        </p:nvPicPr>
        <p:blipFill>
          <a:blip r:embed="rId2"/>
          <a:stretch/>
        </p:blipFill>
        <p:spPr>
          <a:xfrm>
            <a:off x="6715080" y="642960"/>
            <a:ext cx="1857600" cy="1795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686800" cy="599904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6" descr="21.png"/>
          <p:cNvPicPr/>
          <p:nvPr/>
        </p:nvPicPr>
        <p:blipFill>
          <a:blip r:embed="rId2"/>
          <a:stretch/>
        </p:blipFill>
        <p:spPr>
          <a:xfrm>
            <a:off x="6372360" y="4437000"/>
            <a:ext cx="2222280" cy="1828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7200" y="360360"/>
            <a:ext cx="8686800" cy="901800"/>
          </a:xfrm>
          <a:prstGeom prst="rect">
            <a:avLst/>
          </a:prstGeom>
          <a:ln w="0">
            <a:noFill/>
          </a:ln>
        </p:spPr>
      </p:pic>
      <p:pic>
        <p:nvPicPr>
          <p:cNvPr id="423" name="Содержимое 2" descr=""/>
          <p:cNvPicPr/>
          <p:nvPr/>
        </p:nvPicPr>
        <p:blipFill>
          <a:blip r:embed="rId2"/>
          <a:stretch/>
        </p:blipFill>
        <p:spPr>
          <a:xfrm>
            <a:off x="-139680" y="1285920"/>
            <a:ext cx="9131400" cy="30780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5" descr="3.png"/>
          <p:cNvPicPr/>
          <p:nvPr/>
        </p:nvPicPr>
        <p:blipFill>
          <a:blip r:embed="rId3"/>
          <a:stretch/>
        </p:blipFill>
        <p:spPr>
          <a:xfrm>
            <a:off x="6480000" y="3716280"/>
            <a:ext cx="2664000" cy="266544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6" descr=""/>
          <p:cNvPicPr/>
          <p:nvPr/>
        </p:nvPicPr>
        <p:blipFill>
          <a:blip r:embed="rId4"/>
          <a:stretch/>
        </p:blipFill>
        <p:spPr>
          <a:xfrm>
            <a:off x="176040" y="3571920"/>
            <a:ext cx="6413760" cy="3110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Franklin Gothic Medium"/>
              </a:rPr>
              <a:t>Спасибо за внимание!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7" name="Рисунок 5" descr="877f55a620ec.jpg"/>
          <p:cNvPicPr/>
          <p:nvPr/>
        </p:nvPicPr>
        <p:blipFill>
          <a:blip r:embed="rId1"/>
          <a:stretch/>
        </p:blipFill>
        <p:spPr>
          <a:xfrm>
            <a:off x="3429000" y="2928960"/>
            <a:ext cx="2286000" cy="27590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58:34Z</dcterms:created>
  <dc:creator>МАМА</dc:creator>
  <dc:description/>
  <dc:language>en-US</dc:language>
  <cp:lastModifiedBy>Iurii</cp:lastModifiedBy>
  <dcterms:modified xsi:type="dcterms:W3CDTF">2018-12-09T19:33:39Z</dcterms:modified>
  <cp:revision>31</cp:revision>
  <dc:subject/>
  <dc:title>Слайд 1</dc:title>
</cp:coreProperties>
</file>