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2.png" ContentType="image/png"/>
  <Override PartName="/ppt/media/image17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20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2.jpeg" ContentType="image/jpeg"/>
  <Override PartName="/ppt/media/image23.jpeg" ContentType="image/jpeg"/>
  <Override PartName="/ppt/media/image3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03D3-B12E-4C47-9FF4-B908B2DA9E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AF79-F86A-43F6-A485-ACAAAFC03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8FC0-E1CF-4FC0-8839-63FBC2B71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858E-ABC3-4EC7-809F-D716C284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925-0EE0-4934-A0D1-CB0DCA25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B9E-36F3-4D76-B4E4-DF834FC9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3F8-CBA6-4279-8163-B97E6835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9637-EA6A-48C2-82B3-BBB682FA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B03D-B3B8-4686-97A2-8B80CBAE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A1DD-D919-475F-969D-20F073B9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2F0A-BFF5-49A8-973E-DEE4F994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A4A2-EC6D-4918-848B-0F9455C9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B0A8-785E-4115-9097-BA5983D7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02B9-B154-4087-8EE2-DB000126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84F-D1E4-4DEB-ACE2-8C3A34DB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30E0-298B-4913-B22F-1D46DE79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D4D6-533A-4735-9257-05D7A16F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E618-A566-4BF4-9E28-029F7C8A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9668-BEC7-44D6-9322-BFFF146F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0C92-462B-4459-AD8E-B96DFBAF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937-E017-4A8D-822B-D8C435A9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ED5-8477-4F14-AF91-30F16242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81F-E053-4305-AACE-DB8B9602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77F-4E3A-404A-9B11-D1FF1E49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0DF-C347-4105-8189-05B46D63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DE64-1FF8-4BCD-ADB0-A90BF58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5112-5714-4F5A-8955-EA77E3E3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48ED-0B6E-47BE-AECD-C9D328B981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C1C9-0532-433C-AEAE-8E801D9B29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ое собрание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«Возрастные особенности детей 3-4 ле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6" descr="http://forumsmile.ru/u/f/5/2/f528265ff31d7ee184897ab4e3f59a3d.gif"/>
          <p:cNvPicPr/>
          <p:nvPr/>
        </p:nvPicPr>
        <p:blipFill>
          <a:blip r:embed="rId1"/>
          <a:stretch/>
        </p:blipFill>
        <p:spPr>
          <a:xfrm>
            <a:off x="6732720" y="4653000"/>
            <a:ext cx="20271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908000" y="765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явле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птивости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71640" y="2924280"/>
            <a:ext cx="753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Arial"/>
              </a:rPr>
              <a:t>капризы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Arial"/>
              </a:rPr>
              <a:t>по любому повод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forumsmile.ru/u/7/b/7/7b795a05e79d43850c811d937f597bbe.gif"/>
          <p:cNvPicPr/>
          <p:nvPr/>
        </p:nvPicPr>
        <p:blipFill>
          <a:blip r:embed="rId1"/>
          <a:stretch/>
        </p:blipFill>
        <p:spPr>
          <a:xfrm>
            <a:off x="250920" y="907920"/>
            <a:ext cx="20318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1763640" y="128556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ребёнок всё хоче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 </a:t>
            </a: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делать сам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5024"/>
                </a:solidFill>
                <a:latin typeface="Times New Roman"/>
                <a:ea typeface="Calibri"/>
              </a:rPr>
              <a:t>борется за свою самостоятельно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342360" y="189000"/>
            <a:ext cx="856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явление своеволия:</a:t>
            </a:r>
            <a:r>
              <a:rPr b="0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http://forumsmile.ru/u/f/8/1/f81fe1c51667cc5201455ee53bed3c9b.gif"/>
          <p:cNvPicPr/>
          <p:nvPr/>
        </p:nvPicPr>
        <p:blipFill>
          <a:blip r:embed="rId1"/>
          <a:stretch/>
        </p:blipFill>
        <p:spPr>
          <a:xfrm>
            <a:off x="0" y="1916280"/>
            <a:ext cx="262728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995840" y="196560"/>
            <a:ext cx="503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Бунт проти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окружающих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62800" y="2147040"/>
            <a:ext cx="8369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Ребёнок как будто находи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в состоянии  жестокого конфлик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со всеми людьм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постоянно ссорится с ним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Calibri"/>
              </a:rPr>
              <a:t>ведет  себя очень агрессив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150920" y="18900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бесценивание ребенко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личности близких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684360" y="2708280"/>
            <a:ext cx="8064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Arial"/>
              </a:rPr>
              <a:t>может начать называть  близких людей бранными словами, которых ранее никогда не употреблял, замахиваться на них, отказывается играть с ни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http://forumsmile.ru/u/0/2/8/028f906b682de060d8e2caf1403ffcf1.gif"/>
          <p:cNvPicPr/>
          <p:nvPr/>
        </p:nvPicPr>
        <p:blipFill>
          <a:blip r:embed="rId1"/>
          <a:stretch/>
        </p:blipFill>
        <p:spPr>
          <a:xfrm>
            <a:off x="0" y="0"/>
            <a:ext cx="25560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179280" y="6991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Стремление к деспотическому подавлению окружающих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539640" y="2205000"/>
            <a:ext cx="820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Часто встречается в семьях с единственным ребёнком, или этот ребёнок (3-4 лет)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самый младший из дет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http://forumsmile.ru/u/b/3/4/b34676a904bd2ae375edd3f101e96ce6.gif"/>
          <p:cNvPicPr/>
          <p:nvPr/>
        </p:nvPicPr>
        <p:blipFill>
          <a:blip r:embed="rId1"/>
          <a:stretch/>
        </p:blipFill>
        <p:spPr>
          <a:xfrm>
            <a:off x="4716360" y="4508640"/>
            <a:ext cx="208764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Вам как его родителям важно:</a:t>
            </a:r>
            <a:br>
              <a:rPr sz="28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С терпением и пониманием относиться к проявлениям </a:t>
            </a:r>
            <a:br>
              <a:rPr sz="36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«противо-воли»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ребенка.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мнить, что так называемое упрямство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—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это реакция ребенка, который настаивает на чем-то  не потому,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что ему этого очень хочется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а потому, что ему важно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тобы с его мнением считались.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6" descr=""/>
          <p:cNvPicPr/>
          <p:nvPr/>
        </p:nvPicPr>
        <p:blipFill>
          <a:blip r:embed="rId1"/>
          <a:stretch/>
        </p:blipFill>
        <p:spPr>
          <a:xfrm>
            <a:off x="884160" y="378000"/>
            <a:ext cx="73454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68996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м, как его родителям важно:</a:t>
            </a:r>
            <a:br>
              <a:rPr sz="6000"/>
            </a:br>
            <a:r>
              <a:rPr b="1" lang="en-US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Бережно обращаться с чувствами ребенка. Сопереживать его горю, понимать злость, разделять с ним радость, чувствовать его усталость. 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•Осознавать, что речевые обороты и запас слов будут формироваться у него главным образом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               из той речи, которую он слышит в семье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http://forumsmile.ru/u/9/4/2/94208d162d37da078121aa7ff1000255.gif"/>
          <p:cNvPicPr/>
          <p:nvPr/>
        </p:nvPicPr>
        <p:blipFill>
          <a:blip r:embed="rId1"/>
          <a:stretch/>
        </p:blipFill>
        <p:spPr>
          <a:xfrm>
            <a:off x="6875640" y="4437000"/>
            <a:ext cx="2268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Verdana"/>
              </a:rPr>
              <a:t>ПАМЯТКА РОДИТЕЛЯМ ОТ РЕБЕНКА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Выноска-облако 6"/>
          <p:cNvSpPr/>
          <p:nvPr/>
        </p:nvSpPr>
        <p:spPr>
          <a:xfrm>
            <a:off x="-252360" y="765000"/>
            <a:ext cx="5184720" cy="3816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Не балуйте меня, вы меня этим порт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Я очень хорошо знаю, что не обязательно предоставлять мне все, что я запрашив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Я просто испытываю вас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7"/>
          <p:cNvSpPr/>
          <p:nvPr/>
        </p:nvSpPr>
        <p:spPr>
          <a:xfrm>
            <a:off x="4140360" y="692280"/>
            <a:ext cx="5003640" cy="3644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е делайте для меня и за меня 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что я в состоянии сделать для себя с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Я могу продолжать использовать вас в качестве прислуг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8"/>
          <p:cNvSpPr/>
          <p:nvPr/>
        </p:nvSpPr>
        <p:spPr>
          <a:xfrm>
            <a:off x="2411280" y="3716280"/>
            <a:ext cx="5256360" cy="331308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е заставляйте меня чувствовать себя младше, чем я есть на самом де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Я отыграюсь на вас за это, став «плаксой» и «нытиком»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Анимашки Дети"/>
          <p:cNvPicPr/>
          <p:nvPr/>
        </p:nvPicPr>
        <p:blipFill>
          <a:blip r:embed="rId1"/>
          <a:stretch/>
        </p:blipFill>
        <p:spPr>
          <a:xfrm>
            <a:off x="6732720" y="400536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Анимашки Дети"/>
          <p:cNvPicPr/>
          <p:nvPr/>
        </p:nvPicPr>
        <p:blipFill>
          <a:blip r:embed="rId2"/>
          <a:stretch/>
        </p:blipFill>
        <p:spPr>
          <a:xfrm flipH="1">
            <a:off x="-181080" y="4300560"/>
            <a:ext cx="244944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Verdana"/>
              </a:rPr>
              <a:t>ПАМЯТКА РОДИТЕЛЯМ ОТ РЕБЕНКА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Выноска-облако 7"/>
          <p:cNvSpPr/>
          <p:nvPr/>
        </p:nvSpPr>
        <p:spPr>
          <a:xfrm>
            <a:off x="0" y="836640"/>
            <a:ext cx="5003640" cy="3860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Не требуйте от меня объясн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зачем я это сдел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Я иногда и сам не знаю, почему поступаю так, а не инач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-облако 4"/>
          <p:cNvSpPr/>
          <p:nvPr/>
        </p:nvSpPr>
        <p:spPr>
          <a:xfrm>
            <a:off x="1979640" y="3402000"/>
            <a:ext cx="4932360" cy="34560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 бойтесь быть твердыми со м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Я предпочитаю именно такой подх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Это позволяет мне определить свое место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-облако 8"/>
          <p:cNvSpPr/>
          <p:nvPr/>
        </p:nvSpPr>
        <p:spPr>
          <a:xfrm>
            <a:off x="4211640" y="620640"/>
            <a:ext cx="5508720" cy="3600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Не поправляйте ме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при посторонних люд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Я обращу гораздо больше внимания на ваше замечание, если вы скажете мне все спокойно с глазу на глаз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Анимашки Дети"/>
          <p:cNvPicPr/>
          <p:nvPr/>
        </p:nvPicPr>
        <p:blipFill>
          <a:blip r:embed="rId1"/>
          <a:stretch/>
        </p:blipFill>
        <p:spPr>
          <a:xfrm>
            <a:off x="6659640" y="4005360"/>
            <a:ext cx="2004840" cy="28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7120" y="549000"/>
            <a:ext cx="851688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бёнку исполнилось 3 года - это возраст, который можно рассматривать как определенный рубеж развития ребенка с момента его рождения. </a:t>
            </a:r>
            <a:br>
              <a:rPr sz="4800"/>
            </a:b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Это важный рубеж в его жизни. </a:t>
            </a:r>
            <a:br>
              <a:rPr sz="4800"/>
            </a:b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forumsmile.ru/u/5/0/9/50954c24a615d89eac00ea12c59c687c.gif"/>
          <p:cNvPicPr/>
          <p:nvPr/>
        </p:nvPicPr>
        <p:blipFill>
          <a:blip r:embed="rId1"/>
          <a:stretch/>
        </p:blipFill>
        <p:spPr>
          <a:xfrm>
            <a:off x="0" y="1413000"/>
            <a:ext cx="13683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Verdana"/>
              </a:rPr>
              <a:t>ПАМЯТКА РОДИТЕЛЯМ ОТ РЕБЕНКА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Выноска-облако 7"/>
          <p:cNvSpPr/>
          <p:nvPr/>
        </p:nvSpPr>
        <p:spPr>
          <a:xfrm>
            <a:off x="0" y="549360"/>
            <a:ext cx="5580000" cy="386064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 придирайтесь ко мне и не ворчите на ме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Если вы будете это дел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я буду вынужден защищ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творяясь глухи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Выноска-облако 8"/>
          <p:cNvSpPr/>
          <p:nvPr/>
        </p:nvSpPr>
        <p:spPr>
          <a:xfrm>
            <a:off x="3635280" y="476280"/>
            <a:ext cx="5508720" cy="407808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Не пытайтесь обсуждать мое поведение в самый разгар конфлик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024"/>
                </a:solidFill>
                <a:latin typeface="Calibri"/>
              </a:rPr>
              <a:t>Будет нормально, если вы предпримите определенные шаги, но поговорите со мной об этом несколько поздне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ыноска-облако 9"/>
          <p:cNvSpPr/>
          <p:nvPr/>
        </p:nvSpPr>
        <p:spPr>
          <a:xfrm>
            <a:off x="0" y="4005360"/>
            <a:ext cx="6012000" cy="270828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 кроме того,  пожалуйста,   любите меня  та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- какой я е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Анимашки Дети"/>
          <p:cNvPicPr/>
          <p:nvPr/>
        </p:nvPicPr>
        <p:blipFill>
          <a:blip r:embed="rId1"/>
          <a:stretch/>
        </p:blipFill>
        <p:spPr>
          <a:xfrm>
            <a:off x="5526000" y="4149720"/>
            <a:ext cx="36180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может уметь ребенок 3-4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Прямоугольник 8" descr=""/>
          <p:cNvPicPr/>
          <p:nvPr/>
        </p:nvPicPr>
        <p:blipFill>
          <a:blip r:embed="rId1"/>
          <a:stretch/>
        </p:blipFill>
        <p:spPr>
          <a:xfrm>
            <a:off x="1384200" y="1316160"/>
            <a:ext cx="68644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1" descr=""/>
          <p:cNvPicPr/>
          <p:nvPr/>
        </p:nvPicPr>
        <p:blipFill>
          <a:blip r:embed="rId1"/>
          <a:stretch/>
        </p:blipFill>
        <p:spPr>
          <a:xfrm>
            <a:off x="1536840" y="781200"/>
            <a:ext cx="712620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554040"/>
            <a:ext cx="8261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1" descr=""/>
          <p:cNvPicPr/>
          <p:nvPr/>
        </p:nvPicPr>
        <p:blipFill>
          <a:blip r:embed="rId1"/>
          <a:stretch/>
        </p:blipFill>
        <p:spPr>
          <a:xfrm>
            <a:off x="853920" y="182520"/>
            <a:ext cx="68882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1" descr=""/>
          <p:cNvPicPr/>
          <p:nvPr/>
        </p:nvPicPr>
        <p:blipFill>
          <a:blip r:embed="rId1"/>
          <a:stretch/>
        </p:blipFill>
        <p:spPr>
          <a:xfrm>
            <a:off x="2073240" y="1195560"/>
            <a:ext cx="66070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900igr.net/datas/obschestvoznanie/Semja-1/0142-142-Spasibo-za-vnimanie.jpg"/>
          <p:cNvPicPr/>
          <p:nvPr/>
        </p:nvPicPr>
        <p:blipFill>
          <a:blip r:embed="rId1"/>
          <a:srcRect l="4839" t="0" r="6130" b="0"/>
          <a:stretch/>
        </p:blipFill>
        <p:spPr>
          <a:xfrm>
            <a:off x="468360" y="549360"/>
            <a:ext cx="828036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поднимается на новую ступень своего развития. Уже можно задуматься над его дальнейшей судьбой, и над тем, что можно сделать для того ,чтобы он вырос умным и счастливым человеком. Именно в этот период закладываются основы будущей личности, формируются предпосылки физического, умственного, нравственного развития ребёнка, и чтобы это формирование было полноценным необходимо постоянное и умелое руководство со стороны взрослых. Зачастую многие родители не видят изменений которые происходят с их ребёнком, не видят его потребностей. Для нормального развития желательно чтобы ребёнок ощущал что все взрослые знают что рядом с ними не малыш, а равный им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600200" y="304920"/>
            <a:ext cx="6248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ок 3-4 лет не способен длительное время удерживать свое внимание на каком-то одном предмете, он быстро переключается с одной деятельности на друг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ы резкие перепады настроения. Эмоциональное состояние зависит от физического комфорта. На настроение начинают влиять взаимоотношения со сверстниками и взрос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3-4 года дети начинают усваивать правила взаимоотношений в группе свер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инает развиваться самооценка. Продолжает развиваться их половая идентификация, что проявляется в характере выбираемых игрушек и сюж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Игра с предметами может иметь уже какое-то сюжетное наполнение, она все более становится образно-ролевой. Но в этом возрасте ребенку достаточно поиграть 10—15 минут, 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потом ему хочется 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переключиться на что-то  другое.</a:t>
            </a:r>
            <a:br>
              <a:rPr sz="2800"/>
            </a:br>
            <a:r>
              <a:rPr b="1" lang="ru-RU" sz="40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•</a:t>
            </a: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 Появляется много новых слов. Ребенок активно осваивает речь, придумывая несуществующие слова, придавая уже известным словам свой особенный личностный смысл.</a:t>
            </a:r>
            <a:br>
              <a:rPr sz="2800"/>
            </a:br>
            <a:r>
              <a:rPr b="1" lang="ru-RU" sz="2800" spc="-1" strike="noStrike">
                <a:solidFill>
                  <a:srgbClr val="005024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http://forumsmile.ru/u/6/a/5/6a5d514fc7787076ff404d457cdd08ad.gif"/>
          <p:cNvPicPr/>
          <p:nvPr/>
        </p:nvPicPr>
        <p:blipFill>
          <a:blip r:embed="rId1"/>
          <a:stretch/>
        </p:blipFill>
        <p:spPr>
          <a:xfrm>
            <a:off x="7236000" y="2060640"/>
            <a:ext cx="147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5"/>
          <p:cNvSpPr/>
          <p:nvPr/>
        </p:nvSpPr>
        <p:spPr>
          <a:xfrm>
            <a:off x="457200" y="149400"/>
            <a:ext cx="8381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953735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ось бы обратить внимание на «кризис трех лет», когда малыш, еще недавно такой покладистый, начинает проявлять нетерпимость к опеке взрослого, стремление настоять на своем требовании, упорство в осуществлении своих целей. Это свидетельствует о том, что прежний тип взаимоотношений взрослого и ребенка должен быть изменен в направлении предоставления малышу большей самостоятельности и обогащения его деятельности новым содерж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      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понять, что характерное для ребенка третьего года жизни требование «я - сам» прежде всего отражает появление у него новой потребности в самостоятельных действиях, а не фактический уровень его возможностей. Поэтому задача взрослого - поддержать стремление к самостоятельности, не погасить его критикой неумелых действий ребенка, не подорвать веру ребенка в собственные силы, высказывая нетерпение по поводу его медленных и неумелых дейст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    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Calibri"/>
              </a:rPr>
              <a:t>Что-же в этом возрасте происходит у вашего ребенка: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Происходит формирование </a:t>
            </a:r>
            <a:br>
              <a:rPr sz="28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«ПРОТИВО-ВОЛИ», </a:t>
            </a:r>
            <a:br>
              <a:rPr sz="40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что выражается в желании делать все по-своему.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• Проявления осознания себя как отдельного человека будут выражаться в его потребности отвергать почти все, что предлагают родители, и делать что-то  самому, даже если ему этого не очень хочется или пока не по силам. </a:t>
            </a:r>
            <a:br>
              <a:rPr sz="2400"/>
            </a:br>
            <a:r>
              <a:rPr b="0" lang="ru-RU" sz="2400" spc="-1" strike="noStrike">
                <a:solidFill>
                  <a:srgbClr val="7030a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50920" y="557640"/>
            <a:ext cx="864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явление упрямства,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торое отличается от настойчивости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бёнок добивается своего только потому, что он так захотел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http://forumsmile.ru/u/9/2/a/92abaa4322143ad2c0c0f6f5f5d8188b.gif"/>
          <p:cNvPicPr/>
          <p:nvPr/>
        </p:nvPicPr>
        <p:blipFill>
          <a:blip r:embed="rId1"/>
          <a:stretch/>
        </p:blipFill>
        <p:spPr>
          <a:xfrm>
            <a:off x="6516720" y="1916280"/>
            <a:ext cx="3895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684360" y="329040"/>
            <a:ext cx="753084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оявление  негатив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Проявляется как будто даже против воли самого ребёнка и часто в ущерб его собственным интерес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Ребёнок, действуя наперекор взросло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поступает и наперекор собственным ощущения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024"/>
                </a:solidFill>
                <a:latin typeface="Arial"/>
                <a:ea typeface="Calibri"/>
              </a:rPr>
              <a:t>впечатлениям и жела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http://forumsmile.ru/u/d/0/7/d0758e3d13f8607374b62c4c6463dcbe.gif"/>
          <p:cNvPicPr/>
          <p:nvPr/>
        </p:nvPicPr>
        <p:blipFill>
          <a:blip r:embed="rId1"/>
          <a:stretch/>
        </p:blipFill>
        <p:spPr>
          <a:xfrm>
            <a:off x="-1260360" y="2492280"/>
            <a:ext cx="446400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29:24Z</dcterms:created>
  <dc:creator>Федотова Виктория Александровна</dc:creator>
  <dc:description/>
  <dc:language>en-US</dc:language>
  <cp:lastModifiedBy>Любовь Лаврова</cp:lastModifiedBy>
  <cp:lastPrinted>2001-12-31T22:04:18Z</cp:lastPrinted>
  <dcterms:modified xsi:type="dcterms:W3CDTF">2018-10-12T09:42:07Z</dcterms:modified>
  <cp:revision>60</cp:revision>
  <dc:subject/>
  <dc:title>Слайд 1</dc:title>
</cp:coreProperties>
</file>