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22.png" ContentType="image/png"/>
  <Override PartName="/ppt/media/image17.gif" ContentType="image/gif"/>
  <Override PartName="/ppt/media/image21.png" ContentType="image/png"/>
  <Override PartName="/ppt/media/image19.png" ContentType="image/png"/>
  <Override PartName="/ppt/media/image16.gif" ContentType="image/gif"/>
  <Override PartName="/ppt/media/image20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2.jpeg" ContentType="image/jpeg"/>
  <Override PartName="/ppt/media/image23.jpeg" ContentType="image/jpeg"/>
  <Override PartName="/ppt/media/image3.gif" ContentType="image/gi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0DD9-C0BD-477A-8F6B-B7F1855540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8E85-E3E5-45A4-A38D-D3095246CC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469B-A677-4CD4-B77D-950D7EDEE2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080-6A58-4CE3-A806-D9CA0D7D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736-2FC3-4854-9022-7C07A14B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7DD-F055-4D43-AB1D-10134108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6F1C-6C13-4C65-887A-08FD7B38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C5A1-0B19-4914-9807-E713D2E7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8FCE-47B6-4A8A-B3D3-49BE117C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8F18-F48F-4648-8FE9-7E972C77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419B-41EF-455C-B761-DB319909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178A-96A9-49A9-8361-DE512F56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91B6-97D9-410C-B9B6-8B8337CB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6DC9-1727-4E34-BD83-32EA4B15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F3C-B44C-4E8B-8908-A82C810E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2FCC-9AC3-4090-85F2-2FF0160C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8418-A710-4AF4-9FE8-3C6DD661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2F14-8EF1-4CF7-9ACC-CCC2EEC6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B551-45EE-4E7C-A69E-2DD472B1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9E6F-DF17-421A-8463-7250290C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F7D-D85D-41F9-BFAD-6BA01654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BA90-67C6-4DE9-884A-7752B336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9EC8-DB62-4AF8-B21B-4D08BDE0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8D5B-9DA6-4DB0-9EDC-B5663C67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D026-546D-4AEF-A4C2-917DED41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1B7-464B-4BB2-8108-D245E996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63AA-9509-4958-AA27-69976DBE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6885-6ADF-48B3-9D3C-145D76912C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A3F4-CE1F-46C8-AB4F-DA90548190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ое собрание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«Возрастные особенности детей 3-4 ле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79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6" descr="http://forumsmile.ru/u/f/5/2/f528265ff31d7ee184897ab4e3f59a3d.gif"/>
          <p:cNvPicPr/>
          <p:nvPr/>
        </p:nvPicPr>
        <p:blipFill>
          <a:blip r:embed="rId1"/>
          <a:stretch/>
        </p:blipFill>
        <p:spPr>
          <a:xfrm>
            <a:off x="6732720" y="4653000"/>
            <a:ext cx="20271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908000" y="76500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явлени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птивости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971640" y="2924280"/>
            <a:ext cx="7530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024"/>
                </a:solidFill>
                <a:latin typeface="Arial"/>
              </a:rPr>
              <a:t>каприз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024"/>
                </a:solidFill>
                <a:latin typeface="Arial"/>
              </a:rPr>
              <a:t>по любому поводу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forumsmile.ru/u/7/b/7/7b795a05e79d43850c811d937f597bbe.gif"/>
          <p:cNvPicPr/>
          <p:nvPr/>
        </p:nvPicPr>
        <p:blipFill>
          <a:blip r:embed="rId1"/>
          <a:stretch/>
        </p:blipFill>
        <p:spPr>
          <a:xfrm>
            <a:off x="250920" y="907920"/>
            <a:ext cx="203184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1763640" y="1285560"/>
            <a:ext cx="712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024"/>
                </a:solidFill>
                <a:latin typeface="Times New Roman"/>
                <a:ea typeface="Calibri"/>
              </a:rPr>
              <a:t>ребёнок всё хоч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024"/>
                </a:solidFill>
                <a:latin typeface="Times New Roman"/>
                <a:ea typeface="Calibri"/>
              </a:rPr>
              <a:t> </a:t>
            </a:r>
            <a:r>
              <a:rPr b="1" lang="ru-RU" sz="6000" spc="-1" strike="noStrike">
                <a:solidFill>
                  <a:srgbClr val="005024"/>
                </a:solidFill>
                <a:latin typeface="Times New Roman"/>
                <a:ea typeface="Calibri"/>
              </a:rPr>
              <a:t>делать сам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024"/>
                </a:solidFill>
                <a:latin typeface="Times New Roman"/>
                <a:ea typeface="Calibri"/>
              </a:rPr>
              <a:t>борется за свою самостоятельнос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342360" y="189000"/>
            <a:ext cx="856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явление своеволия: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http://forumsmile.ru/u/f/8/1/f81fe1c51667cc5201455ee53bed3c9b.gif"/>
          <p:cNvPicPr/>
          <p:nvPr/>
        </p:nvPicPr>
        <p:blipFill>
          <a:blip r:embed="rId1"/>
          <a:stretch/>
        </p:blipFill>
        <p:spPr>
          <a:xfrm>
            <a:off x="0" y="1916280"/>
            <a:ext cx="262728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1995840" y="196560"/>
            <a:ext cx="503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Calibri"/>
              </a:rPr>
              <a:t>Бунт против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Calibri"/>
              </a:rPr>
              <a:t>окружающих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262800" y="2147040"/>
            <a:ext cx="8369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Calibri"/>
              </a:rPr>
              <a:t>Ребёнок как будто находи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Calibri"/>
              </a:rPr>
              <a:t>в состоянии  жестокого конфлик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Calibri"/>
              </a:rPr>
              <a:t>со всеми людьм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Calibri"/>
              </a:rPr>
              <a:t>постоянно ссорится с ним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Calibri"/>
              </a:rPr>
              <a:t>ведет  себя очень агрессив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1150920" y="189000"/>
            <a:ext cx="79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бесценивание ребенко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личности близких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684360" y="2708280"/>
            <a:ext cx="8064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Arial"/>
              </a:rPr>
              <a:t>может начать называть  близких людей бранными словами, которых ранее никогда не употреблял, замахиваться на них, отказывается играть с ни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http://forumsmile.ru/u/0/2/8/028f906b682de060d8e2caf1403ffcf1.gif"/>
          <p:cNvPicPr/>
          <p:nvPr/>
        </p:nvPicPr>
        <p:blipFill>
          <a:blip r:embed="rId1"/>
          <a:stretch/>
        </p:blipFill>
        <p:spPr>
          <a:xfrm>
            <a:off x="0" y="0"/>
            <a:ext cx="25560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179280" y="6991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Стремление к деспотическому подавлению окружающих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539640" y="2205000"/>
            <a:ext cx="820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Часто встречается в семьях с единственным ребёнком, или этот ребёнок (3-4 лет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самый младший из дет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http://forumsmile.ru/u/b/3/4/b34676a904bd2ae375edd3f101e96ce6.gif"/>
          <p:cNvPicPr/>
          <p:nvPr/>
        </p:nvPicPr>
        <p:blipFill>
          <a:blip r:embed="rId1"/>
          <a:stretch/>
        </p:blipFill>
        <p:spPr>
          <a:xfrm>
            <a:off x="4716360" y="4508640"/>
            <a:ext cx="208764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Вам как его родителям важно:</a:t>
            </a:r>
            <a:br>
              <a:rPr sz="28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С терпением и пониманием относиться к проявлениям </a:t>
            </a:r>
            <a:br>
              <a:rPr sz="36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«противо-воли»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ребенка.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Помнить, что так называемое упрямство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—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это реакция ребенка, который настаивает на чем-то  не потому,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что ему этого очень хочется,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а потому, что ему важно,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чтобы с его мнением считались.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6" descr=""/>
          <p:cNvPicPr/>
          <p:nvPr/>
        </p:nvPicPr>
        <p:blipFill>
          <a:blip r:embed="rId1"/>
          <a:stretch/>
        </p:blipFill>
        <p:spPr>
          <a:xfrm>
            <a:off x="884160" y="378000"/>
            <a:ext cx="734544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68996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м, как его родителям важно:</a:t>
            </a:r>
            <a:br>
              <a:rPr sz="6000"/>
            </a:br>
            <a:r>
              <a:rPr b="1" lang="en-US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Бережно обращаться с чувствами ребенка. Сопереживать его горю, понимать злость, разделять с ним радость, чувствовать его усталость. </a:t>
            </a:r>
            <a:br>
              <a:rPr sz="2800"/>
            </a:b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•Осознавать, что речевые обороты и запас слов будут формироваться у него главным образом</a:t>
            </a:r>
            <a:br>
              <a:rPr sz="2800"/>
            </a:b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               из той речи, которую он слышит в семье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http://forumsmile.ru/u/9/4/2/94208d162d37da078121aa7ff1000255.gif"/>
          <p:cNvPicPr/>
          <p:nvPr/>
        </p:nvPicPr>
        <p:blipFill>
          <a:blip r:embed="rId1"/>
          <a:stretch/>
        </p:blipFill>
        <p:spPr>
          <a:xfrm>
            <a:off x="6875640" y="4437000"/>
            <a:ext cx="2268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  <a:ea typeface="Verdana"/>
              </a:rPr>
              <a:t>ПАМЯТКА РОДИТЕЛЯМ ОТ РЕБЕНКА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Выноска-облако 6"/>
          <p:cNvSpPr/>
          <p:nvPr/>
        </p:nvSpPr>
        <p:spPr>
          <a:xfrm>
            <a:off x="-252360" y="765000"/>
            <a:ext cx="5184720" cy="38163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Не балуйте меня, вы меня этим порти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Я очень хорошо знаю, что не обязательно предоставлять мне все, что я запрашива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Я просто испытываю вас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Выноска-облако 7"/>
          <p:cNvSpPr/>
          <p:nvPr/>
        </p:nvSpPr>
        <p:spPr>
          <a:xfrm>
            <a:off x="4140360" y="692280"/>
            <a:ext cx="5003640" cy="36446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е делайте для меня и за меня 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что я в состоянии сделать для себя с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Я могу продолжать использовать вас в качестве прислуг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носка-облако 8"/>
          <p:cNvSpPr/>
          <p:nvPr/>
        </p:nvSpPr>
        <p:spPr>
          <a:xfrm>
            <a:off x="2411280" y="3716280"/>
            <a:ext cx="5256360" cy="331308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е заставляйте меня чувствовать себя младше, чем я есть на самом де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Я отыграюсь на вас за это, став «плаксой» и «нытиком»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Анимашки Дети"/>
          <p:cNvPicPr/>
          <p:nvPr/>
        </p:nvPicPr>
        <p:blipFill>
          <a:blip r:embed="rId1"/>
          <a:stretch/>
        </p:blipFill>
        <p:spPr>
          <a:xfrm>
            <a:off x="6732720" y="400536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Анимашки Дети"/>
          <p:cNvPicPr/>
          <p:nvPr/>
        </p:nvPicPr>
        <p:blipFill>
          <a:blip r:embed="rId2"/>
          <a:stretch/>
        </p:blipFill>
        <p:spPr>
          <a:xfrm flipH="1">
            <a:off x="-181080" y="4300560"/>
            <a:ext cx="244944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Verdana"/>
                <a:ea typeface="Verdana"/>
              </a:rPr>
              <a:t>ПАМЯТКА РОДИТЕЛЯМ ОТ РЕБЕНКА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Выноска-облако 7"/>
          <p:cNvSpPr/>
          <p:nvPr/>
        </p:nvSpPr>
        <p:spPr>
          <a:xfrm>
            <a:off x="0" y="836640"/>
            <a:ext cx="5003640" cy="38606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Не требуйте от меня объясн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зачем я это сдел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Я иногда и сам не знаю, почему поступаю так, а не инач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Выноска-облако 4"/>
          <p:cNvSpPr/>
          <p:nvPr/>
        </p:nvSpPr>
        <p:spPr>
          <a:xfrm>
            <a:off x="1979640" y="3402000"/>
            <a:ext cx="4932360" cy="345600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 бойтесь быть твердыми со м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Я предпочитаю именно такой подх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Это позволяет мне определить свое место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Выноска-облако 8"/>
          <p:cNvSpPr/>
          <p:nvPr/>
        </p:nvSpPr>
        <p:spPr>
          <a:xfrm>
            <a:off x="4211640" y="620640"/>
            <a:ext cx="5508720" cy="36003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Calibri"/>
              </a:rPr>
              <a:t>Не поправляйте ме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Calibri"/>
              </a:rPr>
              <a:t>при посторонних люд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Calibri"/>
              </a:rPr>
              <a:t>Я обращу гораздо больше внимания на ваше замечание, если вы скажете мне все спокойно с глазу на глаз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Анимашки Дети"/>
          <p:cNvPicPr/>
          <p:nvPr/>
        </p:nvPicPr>
        <p:blipFill>
          <a:blip r:embed="rId1"/>
          <a:stretch/>
        </p:blipFill>
        <p:spPr>
          <a:xfrm>
            <a:off x="6659640" y="4005360"/>
            <a:ext cx="200484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7120" y="549000"/>
            <a:ext cx="851688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бёнку исполнилось 3 года - это возраст, который можно рассматривать как определенный рубеж развития ребенка с момента его рождения. </a:t>
            </a:r>
            <a:br>
              <a:rPr sz="4800"/>
            </a:b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Это важный рубеж в его жизни. </a:t>
            </a:r>
            <a:br>
              <a:rPr sz="4800"/>
            </a:b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forumsmile.ru/u/5/0/9/50954c24a615d89eac00ea12c59c687c.gif"/>
          <p:cNvPicPr/>
          <p:nvPr/>
        </p:nvPicPr>
        <p:blipFill>
          <a:blip r:embed="rId1"/>
          <a:stretch/>
        </p:blipFill>
        <p:spPr>
          <a:xfrm>
            <a:off x="0" y="1413000"/>
            <a:ext cx="136836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Verdana"/>
                <a:ea typeface="Verdana"/>
              </a:rPr>
              <a:t>ПАМЯТКА РОДИТЕЛЯМ ОТ РЕБЕНКА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Выноска-облако 7"/>
          <p:cNvSpPr/>
          <p:nvPr/>
        </p:nvSpPr>
        <p:spPr>
          <a:xfrm>
            <a:off x="0" y="549360"/>
            <a:ext cx="5580000" cy="38606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 придирайтесь ко мне и не ворчите на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Если вы будете это дел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я буду вынужден защищ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итворяясь глухи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Выноска-облако 8"/>
          <p:cNvSpPr/>
          <p:nvPr/>
        </p:nvSpPr>
        <p:spPr>
          <a:xfrm>
            <a:off x="3635280" y="476280"/>
            <a:ext cx="5508720" cy="407808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Calibri"/>
              </a:rPr>
              <a:t>Не пытайтесь обсуждать мое поведение в самый разгар конфлик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Calibri"/>
              </a:rPr>
              <a:t>Будет нормально, если вы предпримите определенные шаги, но поговорите со мной об этом несколько поздне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Выноска-облако 9"/>
          <p:cNvSpPr/>
          <p:nvPr/>
        </p:nvSpPr>
        <p:spPr>
          <a:xfrm>
            <a:off x="0" y="4005360"/>
            <a:ext cx="6012000" cy="270828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 кроме того,  пожалуйста,   любите меня  та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- какой я 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Анимашки Дети"/>
          <p:cNvPicPr/>
          <p:nvPr/>
        </p:nvPicPr>
        <p:blipFill>
          <a:blip r:embed="rId1"/>
          <a:stretch/>
        </p:blipFill>
        <p:spPr>
          <a:xfrm>
            <a:off x="5526000" y="4149720"/>
            <a:ext cx="361800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может уметь ребенок 3-4 л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Прямоугольник 8" descr=""/>
          <p:cNvPicPr/>
          <p:nvPr/>
        </p:nvPicPr>
        <p:blipFill>
          <a:blip r:embed="rId1"/>
          <a:stretch/>
        </p:blipFill>
        <p:spPr>
          <a:xfrm>
            <a:off x="1384200" y="1316160"/>
            <a:ext cx="68644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Прямоугольник 1" descr=""/>
          <p:cNvPicPr/>
          <p:nvPr/>
        </p:nvPicPr>
        <p:blipFill>
          <a:blip r:embed="rId1"/>
          <a:stretch/>
        </p:blipFill>
        <p:spPr>
          <a:xfrm>
            <a:off x="1536840" y="781200"/>
            <a:ext cx="712620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Прямоугольник 4" descr=""/>
          <p:cNvPicPr/>
          <p:nvPr/>
        </p:nvPicPr>
        <p:blipFill>
          <a:blip r:embed="rId1"/>
          <a:stretch/>
        </p:blipFill>
        <p:spPr>
          <a:xfrm>
            <a:off x="633240" y="554040"/>
            <a:ext cx="82616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1" descr=""/>
          <p:cNvPicPr/>
          <p:nvPr/>
        </p:nvPicPr>
        <p:blipFill>
          <a:blip r:embed="rId1"/>
          <a:stretch/>
        </p:blipFill>
        <p:spPr>
          <a:xfrm>
            <a:off x="853920" y="182520"/>
            <a:ext cx="688824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Прямоугольник 1" descr=""/>
          <p:cNvPicPr/>
          <p:nvPr/>
        </p:nvPicPr>
        <p:blipFill>
          <a:blip r:embed="rId1"/>
          <a:stretch/>
        </p:blipFill>
        <p:spPr>
          <a:xfrm>
            <a:off x="2073240" y="1195560"/>
            <a:ext cx="66070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900igr.net/datas/obschestvoznanie/Semja-1/0142-142-Spasibo-za-vnimanie.jpg"/>
          <p:cNvPicPr/>
          <p:nvPr/>
        </p:nvPicPr>
        <p:blipFill>
          <a:blip r:embed="rId1"/>
          <a:srcRect l="4839" t="0" r="6130" b="0"/>
          <a:stretch/>
        </p:blipFill>
        <p:spPr>
          <a:xfrm>
            <a:off x="468360" y="549360"/>
            <a:ext cx="828036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 поднимается на новую ступень своего развития. Уже можно задуматься над его дальнейшей судьбой, и над тем, что можно сделать для того ,чтобы он вырос умным и счастливым человеком. Именно в этот период закладываются основы будущей личности, формируются предпосылки физического, умственного, нравственного развития ребёнка, и чтобы это формирование было полноценным необходимо постоянное и умелое руководство со стороны взрослых. Зачастую многие родители не видят изменений которые происходят с их ребёнком, не видят его потребностей. Для нормального развития желательно чтобы ребёнок ощущал что все взрослые знают что рядом с ними не малыш, а равный им челов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600200" y="304920"/>
            <a:ext cx="6248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ок 3-4 лет не способен длительное время удерживать свое внимание на каком-то одном предмете, он быстро переключается с одной деятельности на друг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ны резкие перепады настроения. Эмоциональное состояние зависит от физического комфорта. На настроение начинают влиять взаимоотношения со сверстниками и взросл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3-4 года дети начинают усваивать правила взаимоотношений в группе сверст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инает развиваться самооценка. Продолжает развиваться их половая идентификация, что проявляется в характере выбираемых игрушек и сюж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Игра с предметами может иметь уже какое-то сюжетное наполнение, она все более становится образно-ролевой. Но в этом возрасте ребенку достаточно поиграть 10—15 минут, </a:t>
            </a:r>
            <a:br>
              <a:rPr sz="2800"/>
            </a:b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потом ему хочется </a:t>
            </a:r>
            <a:br>
              <a:rPr sz="2800"/>
            </a:b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переключиться на что-то  другое.</a:t>
            </a:r>
            <a:br>
              <a:rPr sz="2800"/>
            </a:b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•</a:t>
            </a: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 Появляется много новых слов. Ребенок активно осваивает речь, придумывая несуществующие слова, придавая уже известным словам свой особенный личностный смысл.</a:t>
            </a:r>
            <a:br>
              <a:rPr sz="2800"/>
            </a:b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http://forumsmile.ru/u/6/a/5/6a5d514fc7787076ff404d457cdd08ad.gif"/>
          <p:cNvPicPr/>
          <p:nvPr/>
        </p:nvPicPr>
        <p:blipFill>
          <a:blip r:embed="rId1"/>
          <a:stretch/>
        </p:blipFill>
        <p:spPr>
          <a:xfrm>
            <a:off x="7236000" y="2060640"/>
            <a:ext cx="1476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5"/>
          <p:cNvSpPr/>
          <p:nvPr/>
        </p:nvSpPr>
        <p:spPr>
          <a:xfrm>
            <a:off x="457200" y="149400"/>
            <a:ext cx="8381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953735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телось бы обратить внимание на «кризис трех лет», когда малыш, еще недавно такой покладистый, начинает проявлять нетерпимость к опеке взрослого, стремление настоять на своем требовании, упорство в осуществлении своих целей. Это свидетельствует о том, что прежний тип взаимоотношений взрослого и ребенка должен быть изменен в направлении предоставления малышу большей самостоятельности и обогащения его деятельности новым содерж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      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о понять, что характерное для ребенка третьего года жизни требование «я - сам» прежде всего отражает появление у него новой потребности в самостоятельных действиях, а не фактический уровень его возможностей. Поэтому задача взрослого - поддержать стремление к самостоятельности, не погасить его критикой неумелых действий ребенка, не подорвать веру ребенка в собственные силы, высказывая нетерпение по поводу его медленных и неумелых действ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4000" spc="-1" strike="noStrike" u="sng">
                <a:solidFill>
                  <a:srgbClr val="0070c0"/>
                </a:solidFill>
                <a:uFillTx/>
                <a:latin typeface="Calibri"/>
              </a:rPr>
              <a:t>Что-же в этом возрасте происходит у вашего ребенка: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Происходит формирование </a:t>
            </a:r>
            <a:br>
              <a:rPr sz="28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ПРОТИВО-ВОЛИ», </a:t>
            </a:r>
            <a:br>
              <a:rPr sz="40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что выражается в желании делать все по-своему.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• Проявления осознания себя как отдельного человека будут выражаться в его потребности отвергать почти все, что предлагают родители, и делать что-то  самому, даже если ему этого не очень хочется или пока не по силам. 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50920" y="55764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явление упрямства,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торое отличается от настойчивости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бёнок добивается своего только потому, что он так захотел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http://forumsmile.ru/u/9/2/a/92abaa4322143ad2c0c0f6f5f5d8188b.gif"/>
          <p:cNvPicPr/>
          <p:nvPr/>
        </p:nvPicPr>
        <p:blipFill>
          <a:blip r:embed="rId1"/>
          <a:stretch/>
        </p:blipFill>
        <p:spPr>
          <a:xfrm>
            <a:off x="6516720" y="1916280"/>
            <a:ext cx="38955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684360" y="329040"/>
            <a:ext cx="753084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явление  негативиз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024"/>
                </a:solidFill>
                <a:latin typeface="Arial"/>
                <a:ea typeface="Calibri"/>
              </a:rPr>
              <a:t>Проявляется как будто даже против воли самого ребёнка и часто в ущерб его собственным интерес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024"/>
                </a:solidFill>
                <a:latin typeface="Arial"/>
                <a:ea typeface="Calibri"/>
              </a:rPr>
              <a:t>Ребёнок, действуя наперекор взрослом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024"/>
                </a:solidFill>
                <a:latin typeface="Arial"/>
                <a:ea typeface="Calibri"/>
              </a:rPr>
              <a:t>поступает и наперекор собственным ощущения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024"/>
                </a:solidFill>
                <a:latin typeface="Arial"/>
                <a:ea typeface="Calibri"/>
              </a:rPr>
              <a:t>впечатлениям и желани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http://forumsmile.ru/u/d/0/7/d0758e3d13f8607374b62c4c6463dcbe.gif"/>
          <p:cNvPicPr/>
          <p:nvPr/>
        </p:nvPicPr>
        <p:blipFill>
          <a:blip r:embed="rId1"/>
          <a:stretch/>
        </p:blipFill>
        <p:spPr>
          <a:xfrm>
            <a:off x="-1260360" y="2492280"/>
            <a:ext cx="4464000" cy="32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29:24Z</dcterms:created>
  <dc:creator>Федотова Виктория Александровна</dc:creator>
  <dc:description/>
  <dc:language>en-US</dc:language>
  <cp:lastModifiedBy>Любовь Лаврова</cp:lastModifiedBy>
  <cp:lastPrinted>2001-12-31T22:04:18Z</cp:lastPrinted>
  <dcterms:modified xsi:type="dcterms:W3CDTF">2018-10-12T09:42:07Z</dcterms:modified>
  <cp:revision>60</cp:revision>
  <dc:subject/>
  <dc:title>Слайд 1</dc:title>
</cp:coreProperties>
</file>