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BC9-C7D2-4BE9-A3D1-ADF4C644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04A-E3D0-4386-A375-6329DAE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675-90D8-4282-8E0D-76B16B1E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84D-1B4B-4F06-AB5D-B060C4A3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F0F6-D1B2-49C7-A172-3785DBD7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D04-C405-4E36-9E61-B06C53B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8B0-C6E6-42C5-B211-6B269C0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1FEE-06F2-40E9-9181-BEE27661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97C-AF86-4555-941D-3428CFD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419-5552-4984-A9BF-F95D5EA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154-B428-4F17-B5A3-B453BCF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E3F-7881-4841-A619-F75692D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214-4757-4513-AA93-9FC28BE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59B-B0E3-4AA7-BDB9-1F295A9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4537-EE43-477E-A1E7-894CBF86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E041-4CD5-4E70-B7A7-A940505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6765-60A2-443B-9E67-8A773DAF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15B-F1D5-414F-BBC2-D811254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071-8642-40A3-B34F-E4842B81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9B4-8571-47FF-B4C7-9B4AD2D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F76-0210-46D3-AB5E-766D392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C89-73A8-4B83-A212-8F2CFDB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967-80DB-4018-B3CA-86A88A6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92D-DEDD-4098-9552-D3DED7C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0E0-2548-4ED2-996F-3FCCBDA0A9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B9C1-AA94-4B58-B7C3-33CAB6FEE9F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052640"/>
            <a:ext cx="8226360" cy="26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Bodoni MT Poster Compressed"/>
              </a:rPr>
              <a:t>Совместная работа учителя – логопеда и воспитателей группы детей с ОВЗ.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Логопедическая гостиная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 начале учебного года учитель-логопед знакомит воспитателей с результатами обследования, проводит совместное обсуждение путей реализации поставленных задач по реабилитации детей с речевыми нарушения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  определении содержания работы учитель-логопед знакомит педагогов с перспективным планом, уточняет наиболее рациональные приёмы проведения коррекции речи у каждого ребё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лько тесная взаимосвязь в работе учителя-логопеда и воспитателей МБДОУ д/с № 188  позволяет добиваться положительных результатов в коррекции речи дошкольник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Содержимое 7" descr="DSC_4381.JPG"/>
          <p:cNvPicPr/>
          <p:nvPr/>
        </p:nvPicPr>
        <p:blipFill>
          <a:blip r:embed="rId1"/>
          <a:stretch/>
        </p:blipFill>
        <p:spPr>
          <a:xfrm>
            <a:off x="611280" y="54936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9" descr="DSC_4386.JPG"/>
          <p:cNvPicPr/>
          <p:nvPr/>
        </p:nvPicPr>
        <p:blipFill>
          <a:blip r:embed="rId2"/>
          <a:stretch/>
        </p:blipFill>
        <p:spPr>
          <a:xfrm>
            <a:off x="5003640" y="549360"/>
            <a:ext cx="343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ложительные результаты достигаются тесным сотрудничеством учителя-логопеда и воспит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4" descr="Детский сад 005"/>
          <p:cNvPicPr/>
          <p:nvPr/>
        </p:nvPicPr>
        <p:blipFill>
          <a:blip r:embed="rId1"/>
          <a:stretch/>
        </p:blipFill>
        <p:spPr>
          <a:xfrm>
            <a:off x="324000" y="2516040"/>
            <a:ext cx="4037040" cy="269244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6" descr="DSC_4384.JPG"/>
          <p:cNvPicPr/>
          <p:nvPr/>
        </p:nvPicPr>
        <p:blipFill>
          <a:blip r:embed="rId2"/>
          <a:stretch/>
        </p:blipFill>
        <p:spPr>
          <a:xfrm>
            <a:off x="4788000" y="2492280"/>
            <a:ext cx="40370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нашем ДОУ работает одна группа дошкольного возраста с ограниченными возможностям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мещение оформлено в соответствии с рекомендациями по созданию речевой среды в группах коррекционной направленности для наиболее полной логопедизации педагогического процесс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Содержимое 13" descr="DSC_4355.JPG"/>
          <p:cNvPicPr/>
          <p:nvPr/>
        </p:nvPicPr>
        <p:blipFill>
          <a:blip r:embed="rId1"/>
          <a:stretch/>
        </p:blipFill>
        <p:spPr>
          <a:xfrm>
            <a:off x="844560" y="1598760"/>
            <a:ext cx="3583080" cy="28382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15" descr="DSC_4356.JPG"/>
          <p:cNvPicPr/>
          <p:nvPr/>
        </p:nvPicPr>
        <p:blipFill>
          <a:blip r:embed="rId2"/>
          <a:stretch/>
        </p:blipFill>
        <p:spPr>
          <a:xfrm>
            <a:off x="5033880" y="1628640"/>
            <a:ext cx="357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новную работу по формированию речевых навыков проводят учителя-логопеды, а воспитатели включаются в неё на этапе закрепления уже сформированных навы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ие из коррекционных задач решаются нами совместно (развитие коммуникативной функции речи, воспитание речевой активности, обучение грамматически правильной речи и рассказыванию, обогащение и активизация словаря, формирование звуковой культуры речи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месте с этим чётко разграничены функции учителя-логопеда и воспитателей, чтобы исключить возможность дублирования коррекционного материала. Для этого воспитатели присутствуют на занятиях логопеда, а тот в свою очередь посещает отдельные занятия воспитателей с целью контроля за качеством речи детей, а также оказания методической помощи 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 основе слаженной работы учителя-логопеда и воспитателей лежат следующие принципы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2565000"/>
            <a:ext cx="82263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комплексного подхода к организации коррекционно-педагогического 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единства диагностики  и непосредственного коррекционно-педагогическ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сотрудничества между учителем-логопедом, воспитателями и деть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учёта интересов всех участников коррекционно-педагогическ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дифференцированного подхода к логопатам в процессе воспитания у них правильной реч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Деятельность учителя-логопеда предусматривает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иагностику уровня речевого развития детей, определение направления рабо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итие мышления, памяти, внимания дошкольник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ррекцию звукопроизнош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итие фонематического слух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своение норм лексико-грамматических категор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учение связной реч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ормирование речевого дыхания, чувства ритма и выразительности реч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ррекцию нарушений слоговой струк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филактику нарушений письма и чт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ормирование навыков послогового чт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вершенствование общей и мелкой мото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бязанности работы воспитателя коррекционной групп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следование всех видов детской деятельности, установление соответствия их возрастной норм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ние условий, способствующих активизации речи логопа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ганизация непосредственно образовательной деятельности в соответствии с программами, а также индивидуальной работы с детьми по заданию логопеда в вечернее врем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истематический контроль за качеством детской реч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ъяснение (при необходимости) заданий учителя-логопеда родителям для закрепления дома пройденного материа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Формы взаимодействия учителя-логопеда и воспитателей коррекционной группы в МБДОУ № 18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2205000"/>
            <a:ext cx="82263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полнение воспитателем заданий учителя-логопеда в вечернее врем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менение воспитателями комплексов самомассажа на физкультминутка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заимопосещения занят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формление картотек по разным разделам коррекционной работ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седания «Логопедической гостиной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ланирование и проведение итоговых мероприятий после прохождения лексической тем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заимодействие логопедов и воспитателей в разработке тем по самообразованию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ыполнение воспитателями заданий учителя-логопеда в вечернее врем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3" descr="C:\Users\admin\Desktop\материалы презентации\игры с  палочками 10\DSC_2423.JPG"/>
          <p:cNvPicPr/>
          <p:nvPr/>
        </p:nvPicPr>
        <p:blipFill>
          <a:blip r:embed="rId1"/>
          <a:stretch/>
        </p:blipFill>
        <p:spPr>
          <a:xfrm>
            <a:off x="324000" y="1989000"/>
            <a:ext cx="3744720" cy="29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admin\Desktop\материалы презентации\игры с кольцами 12\DSC_2401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7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9:07:36Z</dcterms:created>
  <dc:creator>User</dc:creator>
  <dc:description/>
  <dc:language>en-US</dc:language>
  <cp:lastModifiedBy>Natali</cp:lastModifiedBy>
  <dcterms:modified xsi:type="dcterms:W3CDTF">2018-12-09T14:34:31Z</dcterms:modified>
  <cp:revision>46</cp:revision>
  <dc:subject/>
  <dc:title>Взаимодействие учителей-логопедов и воспитателей коррекционных групп</dc:title>
</cp:coreProperties>
</file>