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9B9-0754-4B98-BE78-78E32CD8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488-5051-4B9F-A499-31A69F0C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DEA-5B19-4E93-88F8-F6C5A36D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EDE-F27F-4424-BD05-8334BD7C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ADCE-4DD1-406A-BC98-BCFB1CF9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6F23-FA3C-4325-8D75-1508E5F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101C-9C96-4C19-B826-76707EA3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2BC9-4659-40A6-B2E7-C20B5BAC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949F-FD84-49FF-B7E8-A2A5A921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FB9B-F932-497B-A0D8-77095891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FFDA-806E-4304-BBC4-5DFD07F8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FDA-1019-4E04-AAAE-00E88672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706B-E184-43CA-AF92-C76F791F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6B1B-D677-421A-85E9-A361949E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A2FF-1D26-4ADF-A285-C96015B9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60AA-4A9C-42E9-BF70-269A94E3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6B1C-A5A5-47E3-B3A1-7C09E748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77D-5281-4EE8-A6CC-BA12466D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93E-1517-4B61-8FCF-67237306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5DD-D48D-478F-8446-6504B850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63D-E0B2-4BD8-AE5C-8482666B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AC5-9691-4F15-B451-BBB8DC9D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1FC-E799-426F-B131-90C3F9AA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ACB-22C1-464B-A7AA-4B901B4B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7BF2-7FF8-4F5F-8BB3-DF5FE92EDA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8ECF-1405-4720-8E20-055154BEB7A7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052640"/>
            <a:ext cx="8226360" cy="2604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Bodoni MT Poster Compressed"/>
              </a:rPr>
              <a:t>Совместная работа учителя – логопеда и воспитателей группы детей с ОВЗ.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«Логопедическая гостиная»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 начале учебного года учитель-логопед знакомит воспитателей с результатами обследования, проводит совместное обсуждение путей реализации поставленных задач по реабилитации детей с речевыми нарушениями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и  определении содержания работы учитель-логопед знакомит педагогов с перспективным планом, уточняет наиболее рациональные приёмы проведения коррекции речи у каждого ребён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Только тесная взаимосвязь в работе учителя-логопеда и воспитателей МБДОУ д/с № 188  позволяет добиваться положительных результатов в коррекции речи дошкольников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Содержимое 7" descr="DSC_4381.JPG"/>
          <p:cNvPicPr/>
          <p:nvPr/>
        </p:nvPicPr>
        <p:blipFill>
          <a:blip r:embed="rId1"/>
          <a:stretch/>
        </p:blipFill>
        <p:spPr>
          <a:xfrm>
            <a:off x="611280" y="54936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239" name="Содержимое 9" descr="DSC_4386.JPG"/>
          <p:cNvPicPr/>
          <p:nvPr/>
        </p:nvPicPr>
        <p:blipFill>
          <a:blip r:embed="rId2"/>
          <a:stretch/>
        </p:blipFill>
        <p:spPr>
          <a:xfrm>
            <a:off x="5003640" y="549360"/>
            <a:ext cx="343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6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оложительные результаты достигаются тесным сотрудничеством учителя-логопеда и воспит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Picture 4" descr="Детский сад 005"/>
          <p:cNvPicPr/>
          <p:nvPr/>
        </p:nvPicPr>
        <p:blipFill>
          <a:blip r:embed="rId1"/>
          <a:stretch/>
        </p:blipFill>
        <p:spPr>
          <a:xfrm>
            <a:off x="324000" y="2516040"/>
            <a:ext cx="4037040" cy="2692440"/>
          </a:xfrm>
          <a:prstGeom prst="rect">
            <a:avLst/>
          </a:prstGeom>
          <a:ln w="0">
            <a:noFill/>
          </a:ln>
        </p:spPr>
      </p:pic>
      <p:pic>
        <p:nvPicPr>
          <p:cNvPr id="217" name="Содержимое 6" descr="DSC_4384.JPG"/>
          <p:cNvPicPr/>
          <p:nvPr/>
        </p:nvPicPr>
        <p:blipFill>
          <a:blip r:embed="rId2"/>
          <a:stretch/>
        </p:blipFill>
        <p:spPr>
          <a:xfrm>
            <a:off x="4788000" y="2492280"/>
            <a:ext cx="403704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нашем ДОУ работает одна группа дошкольного возраста с ограниченными возможностями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омещение оформлено в соответствии с рекомендациями по созданию речевой среды в группах коррекционной направленности для наиболее полной логопедизации педагогического процесс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Содержимое 13" descr="DSC_4355.JPG"/>
          <p:cNvPicPr/>
          <p:nvPr/>
        </p:nvPicPr>
        <p:blipFill>
          <a:blip r:embed="rId1"/>
          <a:stretch/>
        </p:blipFill>
        <p:spPr>
          <a:xfrm>
            <a:off x="844560" y="1598760"/>
            <a:ext cx="3583080" cy="2838240"/>
          </a:xfrm>
          <a:prstGeom prst="rect">
            <a:avLst/>
          </a:prstGeom>
          <a:ln w="0">
            <a:noFill/>
          </a:ln>
        </p:spPr>
      </p:pic>
      <p:pic>
        <p:nvPicPr>
          <p:cNvPr id="221" name="Содержимое 15" descr="DSC_4356.JPG"/>
          <p:cNvPicPr/>
          <p:nvPr/>
        </p:nvPicPr>
        <p:blipFill>
          <a:blip r:embed="rId2"/>
          <a:stretch/>
        </p:blipFill>
        <p:spPr>
          <a:xfrm>
            <a:off x="5033880" y="1628640"/>
            <a:ext cx="357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5400" y="549000"/>
            <a:ext cx="8226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сновную работу по формированию речевых навыков проводят учителя-логопеды, а воспитатели включаются в неё на этапе закрепления уже сформированных навыков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ие из коррекционных задач решаются нами совместно (развитие коммуникативной функции речи, воспитание речевой активности, обучение грамматически правильной речи и рассказыванию, обогащение и активизация словаря, формирование звуковой культуры речи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месте с этим чётко разграничены функции учителя-логопеда и воспитателей, чтобы исключить возможность дублирования коррекционного материала. Для этого воспитатели присутствуют на занятиях логопеда, а тот в свою очередь посещает отдельные занятия воспитателей с целью контроля за качеством речи детей, а также оказания методической помощи 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764640"/>
            <a:ext cx="82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 основе слаженной работы учителя-логопеда и воспитателей лежат следующие принципы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2565000"/>
            <a:ext cx="822636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комплексного подхода к организации коррекционно-педагогического 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единства диагностики  и непосредственного коррекционно-педагогическ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сотрудничества между учителем-логопедом, воспитателями и детьм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учёта интересов всех участников коррекционно-педагогическ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нцип дифференцированного подхода к логопатам в процессе воспитания у них правильной реч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Деятельность учителя-логопеда предусматривает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Диагностику уровня речевого развития детей, определение направления работ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звитие мышления, памяти, внимания дошкольник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ррекцию звукопроизнош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Развитие фонематического слух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Усвоение норм лексико-грамматических категор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Обучение связной реч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Формирование речевого дыхания, чувства ритма и выразительности реч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Коррекцию нарушений слоговой структуры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Профилактику нарушений письма и чт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Формирование навыков послогового чт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овершенствование общей и мелкой мотор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Обязанности работы воспитателя коррекционной групп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следование всех видов детской деятельности, установление соответствия их возрастной норм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здание условий, способствующих активизации речи логопат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рганизация непосредственно образовательной деятельности в соответствии с программами, а также индивидуальной работы с детьми по заданию логопеда в вечернее врем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истематический контроль за качеством детской реч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бъяснение (при необходимости) заданий учителя-логопеда родителям для закрепления дома пройденного материал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Формы взаимодействия учителя-логопеда и воспитателей коррекционной группы в МБДОУ № 188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2205000"/>
            <a:ext cx="82263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полнение воспитателем заданий учителя-логопеда в вечернее врем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рименение воспитателями комплексов самомассажа на физкультминутка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заимопосещения заняти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Оформление картотек по разным разделам коррекционной работы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Заседания «Логопедической гостиной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Планирование и проведение итоговых мероприятий после прохождения лексической темы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заимодействие логопедов и воспитателей в разработке тем по самообразованию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ыполнение воспитателями заданий учителя-логопеда в вечернее время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3" descr="C:\Users\admin\Desktop\материалы презентации\игры с  палочками 10\DSC_2423.JPG"/>
          <p:cNvPicPr/>
          <p:nvPr/>
        </p:nvPicPr>
        <p:blipFill>
          <a:blip r:embed="rId1"/>
          <a:stretch/>
        </p:blipFill>
        <p:spPr>
          <a:xfrm>
            <a:off x="324000" y="1989000"/>
            <a:ext cx="3744720" cy="2928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admin\Desktop\материалы презентации\игры с кольцами 12\DSC_2401.JPG"/>
          <p:cNvPicPr/>
          <p:nvPr/>
        </p:nvPicPr>
        <p:blipFill>
          <a:blip r:embed="rId2"/>
          <a:stretch/>
        </p:blipFill>
        <p:spPr>
          <a:xfrm>
            <a:off x="4788000" y="1989000"/>
            <a:ext cx="3979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9:07:36Z</dcterms:created>
  <dc:creator>User</dc:creator>
  <dc:description/>
  <dc:language>en-US</dc:language>
  <cp:lastModifiedBy>Natali</cp:lastModifiedBy>
  <dcterms:modified xsi:type="dcterms:W3CDTF">2018-12-09T14:34:31Z</dcterms:modified>
  <cp:revision>46</cp:revision>
  <dc:subject/>
  <dc:title>Взаимодействие учителей-логопедов и воспитателей коррекционных групп</dc:title>
</cp:coreProperties>
</file>