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wmf" ContentType="image/x-wmf"/>
  <Override PartName="/ppt/media/image6.gif" ContentType="image/gif"/>
  <Override PartName="/ppt/media/TIKTAK05.wav" ContentType="audio/x-wav"/>
  <Override PartName="/ppt/media/image7.gif" ContentType="image/gif"/>
  <Override PartName="/ppt/media/image8.jpeg" ContentType="image/jpeg"/>
  <Override PartName="/ppt/media/image9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93B4-3775-49AA-8BFF-DBB28F4A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3A4-B130-4D03-BCA1-020A3A51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8CB-A363-4F46-A655-B0EAB76C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AF3A-FA6E-4974-82B6-FF8EB8F2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2452-23C2-40D9-80D2-5CAFEC86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52E3-4FB2-4E16-9251-381D72AC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42EC-C924-492C-8E04-203819A0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4BDE-07E1-4594-969F-F939C4CF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AC40-93C6-433F-8E02-EC8C8E41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9A8F-EC10-4630-8AEA-C1370A96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507D-3986-4834-9A5A-78A11A8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273-0A4D-4667-90E0-74CCE7C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150-9C4D-4D1A-B373-39D653CE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2DA9-11EE-403A-AD28-0271F81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0742-798B-40DF-91FD-6A32522F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67A6-6D4C-4E63-83F8-3B978F45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1BD1-DA92-4CF8-9A1F-CB1191DF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E59-BD13-4B61-AC86-D1000583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08C-C7BA-489C-AA37-60ACEEFC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D5A-2D8D-451C-9AE2-471979F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564-5198-47B7-BCB8-0F8EB760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893-BE68-436E-ACD2-F767D265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26E-6C50-420C-8209-C528609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3B7-6608-4FFC-B8E0-03408C3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B59D-758A-41C8-8A50-A493744133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95DD-B72C-4257-A91C-A2C2C07098D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TIKTAK05.wav"/><Relationship Id="rId3" Type="http://schemas.openxmlformats.org/officeDocument/2006/relationships/audio" Target="../media/TIKTAK05.wav"/><Relationship Id="rId4" Type="http://schemas.openxmlformats.org/officeDocument/2006/relationships/audio" Target="../media/TIKTAK05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ОУ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«Средняя общеобразовательная школа №14»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4" descr="2"/>
          <p:cNvPicPr/>
          <p:nvPr/>
        </p:nvPicPr>
        <p:blipFill>
          <a:blip r:embed="rId1"/>
          <a:stretch/>
        </p:blipFill>
        <p:spPr>
          <a:xfrm>
            <a:off x="304920" y="1371600"/>
            <a:ext cx="8534160" cy="503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7. Какие тригонометрические уравнения называются однородными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Как решаются такие уравнения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c85e"/>
                </a:solidFill>
                <a:latin typeface="Verdana"/>
              </a:rPr>
              <a:t>Алгоритм решения однородных уравнений второй степени найдите в учебн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62120" y="1295280"/>
            <a:ext cx="769608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очна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абот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39" name="Picture 5" descr="Рисунок18"/>
          <p:cNvPicPr/>
          <p:nvPr/>
        </p:nvPicPr>
        <p:blipFill>
          <a:blip r:embed="rId1"/>
          <a:stretch/>
        </p:blipFill>
        <p:spPr>
          <a:xfrm>
            <a:off x="6095880" y="4038480"/>
            <a:ext cx="1981440" cy="2362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1152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9448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вариан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x+   =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sin(x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)+   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gx=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6sinx-6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+3sinxcosx+2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вариан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x-1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(2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-х)+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n(   +x)=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gx=5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2co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-7cosx+3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5) 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 sinx-cosx=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0744200" y="4572000"/>
          <a:ext cx="990720" cy="1760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4200" y="4572000"/>
                    <a:ext cx="9907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5"/>
          <p:cNvSpPr/>
          <p:nvPr/>
        </p:nvSpPr>
        <p:spPr>
          <a:xfrm>
            <a:off x="0" y="3352680"/>
            <a:ext cx="9144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876920" y="4038480"/>
                <a:ext cx="76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6" name="Rectangle 7"/>
          <p:cNvSpPr/>
          <p:nvPr/>
        </p:nvSpPr>
        <p:spPr>
          <a:xfrm>
            <a:off x="30492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1905120" y="533520"/>
                <a:ext cx="380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1905120" y="914400"/>
                <a:ext cx="347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2743200" y="1066680"/>
                <a:ext cx="45720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3505320" y="3809880"/>
                <a:ext cx="3236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914400" y="5562720"/>
                <a:ext cx="533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982160" y="38854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i="1" lang="en-US" sz="1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едупредительный сигнал об окончании работы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4724"/>
                </a:solidFill>
                <a:latin typeface="Verdana"/>
              </a:rPr>
              <a:t>Осталос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676520" y="3565440"/>
            <a:ext cx="4876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44724"/>
                </a:solidFill>
                <a:latin typeface="Comic Sans MS"/>
              </a:rPr>
              <a:t>15</a:t>
            </a:r>
            <a:endParaRPr b="0" i="1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44724"/>
                </a:solidFill>
                <a:latin typeface="Comic Sans MS"/>
              </a:rPr>
              <a:t>Секунд!!!</a:t>
            </a:r>
            <a:endParaRPr b="0" i="1" lang="en-US" sz="6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6" descr="Рисунок15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IKTAK05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Arial"/>
              </a:rPr>
              <a:t>Конец работы!!!</a:t>
            </a:r>
            <a:br>
              <a:rPr sz="5400"/>
            </a:b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Рисунок50"/>
          <p:cNvPicPr/>
          <p:nvPr/>
        </p:nvPicPr>
        <p:blipFill>
          <a:blip r:embed="rId1"/>
          <a:stretch/>
        </p:blipFill>
        <p:spPr>
          <a:xfrm>
            <a:off x="2514600" y="1143000"/>
            <a:ext cx="48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44724"/>
                </a:solidFill>
                <a:latin typeface="Comic Sans MS"/>
              </a:rPr>
              <a:t>Правильные ответ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 вариант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-г; 2-а; 3-б; 4-б; 5-г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2вариант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-а; 2-в;3-а; 4-б; 5-г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212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ешение уравнений второго 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ретьего уровня слож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На доске №18.28(б)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        №</a:t>
            </a: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18.33(б)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Verdana"/>
              </a:rPr>
              <a:t>Не забудьте заполнить оценочные листы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Verdana"/>
              </a:rPr>
              <a:t>и получить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aeaea"/>
                </a:solidFill>
                <a:latin typeface="Verdana"/>
              </a:rPr>
              <a:t>домашнее задание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542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за урок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1" name="Рисунок 5" descr="1251783547_statut3_fl.jpg"/>
          <p:cNvPicPr/>
          <p:nvPr/>
        </p:nvPicPr>
        <p:blipFill>
          <a:blip r:embed="rId3"/>
          <a:stretch/>
        </p:blipFill>
        <p:spPr>
          <a:xfrm>
            <a:off x="6095880" y="4343400"/>
            <a:ext cx="2268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8229600" cy="56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338120" y="1600200"/>
            <a:ext cx="6467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шение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ригонометрических 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равнений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«Мне приходиться делить время между политикой и уравнениями. Однако уравнения, по-моему, гораздо важнее, политика существует только для данного момента. А уравнения будут существовать вечно»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Альберт Энштей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4" descr="2005_09_02_enshtejn_ss"/>
          <p:cNvPicPr/>
          <p:nvPr/>
        </p:nvPicPr>
        <p:blipFill>
          <a:blip r:embed="rId1"/>
          <a:stretch/>
        </p:blipFill>
        <p:spPr>
          <a:xfrm>
            <a:off x="1143000" y="3049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cc"/>
                </a:solidFill>
                <a:latin typeface="Arial"/>
              </a:rPr>
              <a:t>Повторим теорию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. Дать определение арксинуса, арккосинуса, арктангенса числ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. Чему равен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csin(-a)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rccos(-a),arctg (-a)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При каких значениях  </a:t>
            </a: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а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выполняется каждое равенств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3.Что обычно называют тригонометрическим уравнение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4. Заполните таблицу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 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os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tg 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ctgx=a</a:t>
                      </a:r>
                      <a:endParaRPr b="0" i="1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1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-1</a:t>
                      </a:r>
                      <a:endParaRPr b="0" i="1" lang="en-US" sz="4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aeaea"/>
                </a:solidFill>
                <a:latin typeface="Verdana"/>
              </a:rPr>
              <a:t>Смотри на форзаце учебника!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5. Запишите общие формулы решения тригонометрических уравнени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Рисунок 5" descr="картинка"/>
          <p:cNvPicPr/>
          <p:nvPr/>
        </p:nvPicPr>
        <p:blipFill>
          <a:blip r:embed="rId1"/>
          <a:stretch/>
        </p:blipFill>
        <p:spPr>
          <a:xfrm>
            <a:off x="3357720" y="3733920"/>
            <a:ext cx="24285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Sin t=a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IaI&lt;&lt;1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=(-1)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n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rcsin a+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Cos t=a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,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I&lt;&lt;1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=-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rcos a+2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tg x=a,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x=arctg a+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ctg x=a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, x= arcctg a+</a:t>
            </a:r>
            <a:r>
              <a:rPr b="0" i="1" lang="ru-RU" sz="3600" spc="-1" strike="noStrike">
                <a:solidFill>
                  <a:srgbClr val="eaeaea"/>
                </a:solidFill>
                <a:latin typeface="Blackadder ITC"/>
              </a:rPr>
              <a:t>П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6. Какие методы решения тригонометрических уравнений вы знаете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Blackadder ITC"/>
              </a:rPr>
              <a:t>NB!</a:t>
            </a:r>
            <a:r>
              <a:rPr b="0" lang="en-US" sz="3200" spc="-1" strike="noStrike">
                <a:solidFill>
                  <a:srgbClr val="eaeaea"/>
                </a:solidFill>
                <a:latin typeface="Blackadder ITC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Blackadder ITC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и решении тригонометрических уравнений следует соблюдать прави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ледить за равносильностью преобразован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е допускать потери корне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тбрасывать посторонние корни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хмад</cp:lastModifiedBy>
  <dcterms:modified xsi:type="dcterms:W3CDTF">2014-01-26T13:31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