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wmf" ContentType="image/x-wmf"/>
  <Override PartName="/ppt/media/image6.gif" ContentType="image/gif"/>
  <Override PartName="/ppt/media/TIKTAK05.wav" ContentType="audio/x-wav"/>
  <Override PartName="/ppt/media/image7.gif" ContentType="image/gif"/>
  <Override PartName="/ppt/media/image8.jpeg" ContentType="image/jpeg"/>
  <Override PartName="/ppt/media/image9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FA0-97BB-4430-86EB-B89D2B3A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877-4C39-4FD9-AB06-696D28FA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01F-5A94-4D45-BAD9-AD852A8F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58D-3D97-40F8-8477-B07FC2E6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D16E-F5F0-43B0-A0E6-CFC7FD91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532B-401A-412B-94A1-3010B276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1428-11AB-4C4A-874A-D60CF855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4EED-1C16-422A-9E7E-C939B529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2852-0A24-42DD-B306-AB189994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237-9BC0-4522-B88E-69BE58CC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9337-7546-43B9-950F-2648570A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6DA-0BF3-470F-8C46-4D0CCA7A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811D-D2FD-423F-8994-24252BE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90DE-364C-4DBF-9935-3791904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1F6D-175F-4345-AB1F-B58132CF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0A5D-D6F2-4656-9A86-9B1ED7F3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61EC-03D9-44A1-87E4-B9F77C69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47D-3F73-4066-AB24-CDC98CAB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392-32A5-4C20-9011-2158B6F6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33C-36D9-4119-B388-9FDA633A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A6C-B69C-4EC9-97CF-D33E006F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DA6-3C3F-4367-A550-216AB4EA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093-4F7B-4D04-84DC-CB0F3CFF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177-0739-45FF-BD62-49B72597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A6DF-A72E-48EF-8CDE-0D7688B926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10D3-B8CE-4F9F-A4A4-5801B37AF9B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TIKTAK05.wav"/><Relationship Id="rId3" Type="http://schemas.openxmlformats.org/officeDocument/2006/relationships/audio" Target="../media/TIKTAK05.wav"/><Relationship Id="rId4" Type="http://schemas.openxmlformats.org/officeDocument/2006/relationships/audio" Target="../media/TIKTAK05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ОУ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«Средняя общеобразовательная школа №14»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4" descr="2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03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7. Какие тригонометрические уравнения называются однородным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Как решаются такие уравнения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c85e"/>
                </a:solidFill>
                <a:latin typeface="Verdana"/>
              </a:rPr>
              <a:t>Алгоритм решения однородных уравнений второй степени найдите в учебни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762120" y="1295280"/>
            <a:ext cx="76960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ерочна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бо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9" name="Picture 5" descr="Рисунок18"/>
          <p:cNvPicPr/>
          <p:nvPr/>
        </p:nvPicPr>
        <p:blipFill>
          <a:blip r:embed="rId1"/>
          <a:stretch/>
        </p:blipFill>
        <p:spPr>
          <a:xfrm>
            <a:off x="6095880" y="4038480"/>
            <a:ext cx="1981440" cy="236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152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вариан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x+   =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sin(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)+   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gx=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+6sinx-6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+3sinxcosx+2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вариан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x-1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(2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-х)+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in(   +x)=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gx=5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co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-7cosx+3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5)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 sinx-cosx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0744200" y="4572000"/>
          <a:ext cx="990720" cy="1760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4200" y="4572000"/>
                    <a:ext cx="99072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5"/>
          <p:cNvSpPr/>
          <p:nvPr/>
        </p:nvSpPr>
        <p:spPr>
          <a:xfrm>
            <a:off x="0" y="3352680"/>
            <a:ext cx="9144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876920" y="4038480"/>
                <a:ext cx="76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6" name="Rectangle 7"/>
          <p:cNvSpPr/>
          <p:nvPr/>
        </p:nvSpPr>
        <p:spPr>
          <a:xfrm>
            <a:off x="30492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1905120" y="533520"/>
                <a:ext cx="380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905120" y="914400"/>
                <a:ext cx="347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2743200" y="1066680"/>
                <a:ext cx="4572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3505320" y="3809880"/>
                <a:ext cx="3236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914400" y="5562720"/>
                <a:ext cx="533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1982160" y="388548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i="1" lang="en-US" sz="11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редупредительный сигнал об окончании работ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4724"/>
                </a:solidFill>
                <a:latin typeface="Verdana"/>
              </a:rPr>
              <a:t>Осталос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676520" y="3565440"/>
            <a:ext cx="4876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44724"/>
                </a:solidFill>
                <a:latin typeface="Comic Sans MS"/>
              </a:rPr>
              <a:t>15</a:t>
            </a:r>
            <a:endParaRPr b="0" i="1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44724"/>
                </a:solidFill>
                <a:latin typeface="Comic Sans MS"/>
              </a:rPr>
              <a:t>Секунд!!!</a:t>
            </a:r>
            <a:endParaRPr b="0" i="1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6" descr="Рисунок15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KTAK0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KTAK0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KTAK0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aeaea"/>
                </a:solidFill>
                <a:latin typeface="Arial"/>
              </a:rPr>
              <a:t>Конец работы!!!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4" descr="Рисунок50"/>
          <p:cNvPicPr/>
          <p:nvPr/>
        </p:nvPicPr>
        <p:blipFill>
          <a:blip r:embed="rId1"/>
          <a:stretch/>
        </p:blipFill>
        <p:spPr>
          <a:xfrm>
            <a:off x="2514600" y="1143000"/>
            <a:ext cx="4876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4724"/>
                </a:solidFill>
                <a:latin typeface="Comic Sans MS"/>
              </a:rPr>
              <a:t>Правильные ответ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1 вариант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1-г; 2-а; 3-б; 4-б; 5-г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2вариант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1-а; 2-в;3-а; 4-б; 5-г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ешение уравнений второго 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етьего уровня сложно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На доске №18.28(б)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          №</a:t>
            </a: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18.33(б)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aeaea"/>
                </a:solidFill>
                <a:latin typeface="Verdana"/>
              </a:rPr>
              <a:t>Не забудьте заполнить оценочные листы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aeaea"/>
                </a:solidFill>
                <a:latin typeface="Verdana"/>
              </a:rPr>
              <a:t>и получить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aeaea"/>
                </a:solidFill>
                <a:latin typeface="Verdana"/>
              </a:rPr>
              <a:t>домашнее задание!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542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урок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1" name="Рисунок 5" descr="1251783547_statut3_fl.jpg"/>
          <p:cNvPicPr/>
          <p:nvPr/>
        </p:nvPicPr>
        <p:blipFill>
          <a:blip r:embed="rId3"/>
          <a:stretch/>
        </p:blipFill>
        <p:spPr>
          <a:xfrm>
            <a:off x="6095880" y="4343400"/>
            <a:ext cx="2268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8229600" cy="56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1338120" y="1600200"/>
            <a:ext cx="6467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шение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игонометрических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внений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«Мне приходиться делить время между политикой и уравнениями. Однако уравнения, по-моему, гораздо важнее, политика существует только для данного момента. А уравнения будут существовать вечно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Альберт Энштей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4" descr="2005_09_02_enshtejn_ss"/>
          <p:cNvPicPr/>
          <p:nvPr/>
        </p:nvPicPr>
        <p:blipFill>
          <a:blip r:embed="rId1"/>
          <a:stretch/>
        </p:blipFill>
        <p:spPr>
          <a:xfrm>
            <a:off x="1143000" y="3049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Arial"/>
              </a:rPr>
              <a:t>Повторим теорию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. Дать определение арксинуса, арккосинуса, арктангенса числ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. Чему равен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rcsin(-a)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rccos(-a),arctg (-a)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и каких значениях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ыполняется каждое равенств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.Что обычно называют тригонометрическим уравнение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4. Заполните таблицу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</a:t>
                      </a:r>
                      <a:endParaRPr b="0" i="1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 x=a</a:t>
                      </a:r>
                      <a:endParaRPr b="0" i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osx=a</a:t>
                      </a:r>
                      <a:endParaRPr b="0" i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g x=a</a:t>
                      </a:r>
                      <a:endParaRPr b="0" i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tgx=a</a:t>
                      </a:r>
                      <a:endParaRPr b="0" i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</a:t>
                      </a:r>
                      <a:endParaRPr b="0" i="1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i="1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-1</a:t>
                      </a:r>
                      <a:endParaRPr b="0" i="1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Смотри на форзаце учебника!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5. Запишите общие формулы решения тригонометрических уравнен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Рисунок 5" descr="картинка"/>
          <p:cNvPicPr/>
          <p:nvPr/>
        </p:nvPicPr>
        <p:blipFill>
          <a:blip r:embed="rId1"/>
          <a:stretch/>
        </p:blipFill>
        <p:spPr>
          <a:xfrm>
            <a:off x="3357720" y="3733920"/>
            <a:ext cx="24285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Sin t=a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IaI&lt;&lt;1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=(-1)</a:t>
            </a:r>
            <a:r>
              <a:rPr b="0" lang="en-US" sz="3600" spc="-1" strike="noStrike" baseline="30000">
                <a:solidFill>
                  <a:srgbClr val="eaeaea"/>
                </a:solidFill>
                <a:latin typeface="Verdana"/>
              </a:rPr>
              <a:t>n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rcsin a+</a:t>
            </a:r>
            <a:r>
              <a:rPr b="0" i="1" lang="ru-RU" sz="3600" spc="-1" strike="noStrike">
                <a:solidFill>
                  <a:srgbClr val="eaeaea"/>
                </a:solidFill>
                <a:latin typeface="Blackadder ITC"/>
              </a:rPr>
              <a:t>П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Cos t=a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I&lt;&lt;1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=-</a:t>
            </a:r>
            <a:r>
              <a:rPr b="0" lang="en-US" sz="36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rcos a+2</a:t>
            </a:r>
            <a:r>
              <a:rPr b="0" i="1" lang="ru-RU" sz="3600" spc="-1" strike="noStrike">
                <a:solidFill>
                  <a:srgbClr val="eaeaea"/>
                </a:solidFill>
                <a:latin typeface="Blackadder ITC"/>
              </a:rPr>
              <a:t>П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tg x=a,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x=arctg a+</a:t>
            </a:r>
            <a:r>
              <a:rPr b="0" i="1" lang="ru-RU" sz="3600" spc="-1" strike="noStrike">
                <a:solidFill>
                  <a:srgbClr val="eaeaea"/>
                </a:solidFill>
                <a:latin typeface="Blackadder ITC"/>
              </a:rPr>
              <a:t>П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ctg x=a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, x= arcctg a+</a:t>
            </a:r>
            <a:r>
              <a:rPr b="0" i="1" lang="ru-RU" sz="3600" spc="-1" strike="noStrike">
                <a:solidFill>
                  <a:srgbClr val="eaeaea"/>
                </a:solidFill>
                <a:latin typeface="Blackadder ITC"/>
              </a:rPr>
              <a:t>П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6. Какие методы решения тригонометрических уравнений вы знаете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ackadder ITC"/>
              </a:rPr>
              <a:t>NB!</a:t>
            </a:r>
            <a:r>
              <a:rPr b="0" lang="en-US" sz="3200" spc="-1" strike="noStrike">
                <a:solidFill>
                  <a:srgbClr val="eaeaea"/>
                </a:solidFill>
                <a:latin typeface="Blackadder ITC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Blackadder ITC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и решении тригонометрических уравнений следует соблюдать прави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ледить за равносильностью преобразован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е допускать потери корн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тбрасывать посторонние корни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хмад</cp:lastModifiedBy>
  <dcterms:modified xsi:type="dcterms:W3CDTF">2014-01-26T13:31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