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1A8-E247-45AF-971A-4654E7A5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B6E-70B7-416D-9773-1E8F53EC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D82-BE5D-4DD9-93E2-C26284C9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7C67-1819-48C9-B9EA-85F7DD0F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1E4-4FBE-4097-840C-CFA497B2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5C5F-4900-44C0-A3C1-36B0BE7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CC06-2D83-4F19-9376-28A0F3B0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F394-A0E0-47CB-B9BB-223F20AD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396C-1343-45D1-B49E-61C575C7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7451-4DFB-4656-AC18-2970E112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E038-6F7D-4163-88FE-EC59DA1B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ADC-93B3-48B0-A427-721C3844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308B-7CF4-4BF1-8033-E6C43AF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1E5F-8445-434F-8EFE-70BA4E0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CD01-4F72-4C7F-A8C8-E5EDE690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EFA7-1659-4D93-8C38-EAEA6B77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F83C-C24D-4F92-86D6-B651488B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65B-6239-408F-A9D9-FF1F1042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719-46E6-44F5-B4E8-1E2169F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A74-0AEF-4A72-A80F-97F5F47B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164-D3F3-4B81-B026-9CC42475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1B2-2E8B-465E-A193-D84CEBBB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896-1DC2-469A-B3E3-1FAA7120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087-4AF6-4FA8-BB16-F22C8D22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F9FE-2575-48EA-8E3C-198C4C8DE3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13BC-D047-4138-B535-6D7C3CE72E63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elemir_Khlebnikov_191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lap_in_the_Face_of_Public_Tast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hlebnikov_Ryav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lebnikow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u.wikipedia.org/wiki/&#1060;&#1072;&#1081;&#1083;:Flag_of_Russia.sv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Khlebnikov_1908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1908_&#1075;&#1086;&#1076;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елимир Хлебников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знь и творчество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211640" y="4911840"/>
            <a:ext cx="3456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ыполнил  Матяшов Никита, учащийся 11 класса МБОУ СОШ №1 р.п. Хор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русского языка и литературы Литвиненко С.Ю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оявление будетлянства (1910—1911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К началу 1910 года Хлебников уже перестал посещать «Академию стиха». В феврале Василий Каменский познакомил его с другим крылом нового искусства: художником Михаилом Матюшиным, его женой поэтессой Еленой Гуро, братьями Давидом, Владимиром и Николаем Бурлюками. Вскоре Хлебников переехал жить в квартиру Бурлюков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«Деятельность Кульбина устраивала Каменского, Д. Бурлюка и Хлебникова не в полной мере, что привело к тому, что они основали собственную группу — «будетляне» (от слова </a:t>
            </a:r>
            <a:r>
              <a:rPr b="1" i="1" lang="ru-RU" sz="1400" spc="-1" strike="noStrike">
                <a:solidFill>
                  <a:srgbClr val="2f1311"/>
                </a:solidFill>
                <a:latin typeface="Arial"/>
              </a:rPr>
              <a:t>будет</a:t>
            </a: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) и начали готовить выпуск сборника, который решено было назвать «Садок судей» (название книги, как и группы, было придумано Хлебниковым. Книга увидела свет в апреле 1910 года. Она была выпущена тиражом 300 экземпляров в издательстве «Журавль» Матюшина и Гуро без буквы ѣ и твёрдого знака на конце слов. В «Садке…» из произведений Хлебникова были напечатаны «Зверинец», первая часть драмы «Маркиза Дэзес» и начало поэмы «Журавль». Сборник был воспринят как открытая конфронтация с литературным миром. Валерий Брюсов писал о нём: «Сборник переполнен мальчишескими выходками дурного вкуса, и его авторы прежде всего стремятся поразить читателя и раздразнить критиков». Будетлян можно назвать первой футуристической группой в русской литературе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Летом 1910 года Хлебников уехал вместе с Бурлюками в Таврическую губернию. После этой поездки у будетлян появилось ещё одно самоназвание — «Гилея». Хлебников много пишет, но его новые стихи уже не столь радикальны и содержат гораздо меньше неологизмов. Например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26920" y="1916640"/>
            <a:ext cx="588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Слоны бились бивнями так,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Что казались белым камнем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Под рукой художника.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Олени заплетались рогами так,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Что казалось, их соединял старинный брак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С взаимными увлечениями и взаимной неверностью.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Реки вливались в море так,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Что казалось: рука одного душит шею друг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Издание первых книг (1912)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Picture 4" descr="200px-Velemir_Khlebnikov_19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907920"/>
            <a:ext cx="3456000" cy="54738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9"/>
          <p:cNvSpPr/>
          <p:nvPr/>
        </p:nvSpPr>
        <p:spPr>
          <a:xfrm>
            <a:off x="5510880" y="64904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913 год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0" y="1090080"/>
            <a:ext cx="4140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1912 год ознаменовался для Хлебникова изданием первой книги. В мае в Херсоне на средства автора с рисунками Владимира Бурлюка была издана брошюра «Учитель и ученик», в которой Хлебников попытался рассказать о найденных им «законах времени», в том числе предсказал бурные российские события 1917 года, Февральскую и Октябрьскую революции: «Не сто́ит ли ждать в 1917 году падения государства?». Вскоре, в августе, в Москве была опубликована «Игра в аду», поэма написанная в соавторстве Кручёных и Хлебниковым; в ноябре вышла ещё одна совместная работа двух поэтов «Мирсконца». Эти книги, выпускавшиеся в основанном Кручёных издательстве «ЕУЫ», были сделаны в технике литографии, причём текст на литографском камне был написан Кручёных от руки (в предисловии авторы высказывали мнение, что почерк очень влияет на восприятие текста)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Оформление движения футуристов (1912—1913)</a:t>
            </a: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4813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1912 году футуристы (тогда уже будетляне и их сподвижники стали называть себя этим словом) начали активно пропагандировать свою деятельность. Проходят выставки художников-авангардистов (возглавляемая Давидом Бурлюком группа «Бубновый валет», «Ослиный хвост» во главе с Натальей Гончаровой и Михаилом Ларионовым), проходят диспуты с участием футуристов, Маяковский читает свои стихи в арт-кафе «Бродячая собака». Тогда же гилейцы (они же кубофутуристы, существовал ещё и эгофутуризм Игоря Северянина) стали готовить стихотворный сборник. Финансировать его издание вызвались два поклонника нового искусства, сами не имевшие отношения к литературе — пилот Георгий Кузьмин и музыкант Сергей Долинск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200px-A_Slap_in_the_Face_of_Public_Tas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484280"/>
            <a:ext cx="2449440" cy="403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5219640" y="5651280"/>
            <a:ext cx="23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бложка сборника футуристов «Пощёчина общественному вкусу», 191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7261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Критика встретила сборник в штыки (один из отзывов: «Вымученный бред претенциозно бездарных людей»), но книга была раскуплена довольно быстро. Уже через два месяца, в феврале 1913, футуристы издали листовку с тем же названием («Пощёчина общественному вкусу»), где Хлебников был назван гением и великим поэтом современности. Затем сразу же появляется второй «Садок судей», большую часть которого опять занимают произведения Хлебникова, в том числе поэма «Шаман и Венера»; в марте — совместный сборник футуристов и группы художников «Союз молодёжи»; в этой книге появилась поэма Хлебникова «Война — смерть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13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рвые авторские сборники (1913—1914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екабрь 1913 года был ознаменован публикацией первого авторского поэтического сборника Хлебникова. Он получил название «Ряв!» и был издан при помощи Алексея Кручёных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200px-Khlebnikov_Ry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620640"/>
            <a:ext cx="1657080" cy="1944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4211640" y="1195560"/>
            <a:ext cx="183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бложка сборника Хлебникова «Ряв», 1913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79280" y="2715480"/>
            <a:ext cx="7488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же в феврале 1914 года Давид Бурлюк (с которым Хлебников был в ссоре из-за разногласий по поводу Маринетти) издал первый том собрания сочинений Хлебникова, снабдив его восторженным предисловием: «Хлебников указал новые пути поэтического творчества!.. Хлебниковым созданы вещи, подобных которым не писал до него ни в русской, ни в мировых литературах никто». Почти одновременно с этой книгой в Петербурге в издательстве Матюшина вышел «Изборник стихов». По причине уже упомянутой ссоры, Хлебников с неодобрением воспринял издание Бурлюка, но приветствовал публикацию «Изборника». Вообще же к весне 1914 года Хлебников был в ссоре со многими своими друзьями и несколько разочаровался в футуризме. Тогда он предпринял попытку присоединиться к «Цеху поэтов», группе акмеистов, но уже в апреле «Цех…» перестал существовать. К 1915 году практически распалась и «Гилея», и Маяковский в статье «Капля дёгтя» (1915) признал, что «футуризм умер как особенная группа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вые поиски «Законов времени» (1914—1916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9 июля (1 августа) 1914 года началась Первая мировая война. Как и русско-японская, она побудила Хлебникова к поискам неких исторических закономерностей, которые помогли бы предвидеть события и не допустить новых войн. Но несмотря на свои исторические исследования, Хлебников продолжал писать стихи, на которых тоже отразилась эта тема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                 </a:t>
            </a: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Усадьба ночью, чингисхань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Шумите, синие берёзы.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Заря ночная, заратустрь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А небо синее, моцарть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И, сумрак облака, будь Гойя!</a:t>
            </a:r>
            <a:br>
              <a:rPr sz="1800"/>
            </a:br>
            <a:r>
              <a:rPr b="0" i="1" lang="ru-RU" sz="1800" spc="-1" strike="noStrike">
                <a:solidFill>
                  <a:srgbClr val="30043c"/>
                </a:solidFill>
                <a:latin typeface="Arial"/>
              </a:rPr>
              <a:t>                 Ты ночью, облако, роопсь!.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лебников в армии (1916—1917)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Picture 4" descr="200px-Khlebnikov_by_Mayakovsky"/>
          <p:cNvPicPr/>
          <p:nvPr/>
        </p:nvPicPr>
        <p:blipFill>
          <a:blip r:embed="rId1"/>
          <a:stretch/>
        </p:blipFill>
        <p:spPr>
          <a:xfrm>
            <a:off x="5292720" y="1268280"/>
            <a:ext cx="2260440" cy="3600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5219640" y="5083200"/>
            <a:ext cx="210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мир Хлебников, портрет работы Владимира Маяковского, 191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0" y="1341360"/>
            <a:ext cx="500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сной 1916 года Хлебников уехал в Астрахань и оттуда 8 апреля был мобилизован на военную службу, в 93-й запасной пехотный полк[15], находившийся в Царицыне. Военная служба давалась Хлебникову с большим трудом[16], о чём свидетельствуют его письма родным и знакомым.[15] В это время он написал большое количество антивоенных стихотворений, которые позже составили поэму «Война в мышеловке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лебников во время революций (1917—1918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обытия Февральской революции побудили Хлебникова в мае отправиться в их центр, то есть в Петроград, где он немедленно включился в общественную и литературную жизнь: участвовал в литературной курии Союза деятелей искусств, принял участие в празднике Искусств 25 мая, написал и опубликовал несколько стихотворений, в том числе приветствовавших революцию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272320" y="3579120"/>
            <a:ext cx="31845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Свобода приходит нагая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Бросая на сердце цветы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И мы, с нею в ногу шагая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Беседуем с небом на ты.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Мы, воины, строго ударим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Рукой по суровым щитам: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Да будет народ государем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Всегда, навсегда, здесь и там!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Пусть девы споют у оконца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Меж песен о древнем походе,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О верноподданном Солнца —</a:t>
            </a:r>
            <a:br>
              <a:rPr sz="1600"/>
            </a:b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Самодержавном народе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-316440"/>
            <a:ext cx="74768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следний год жизни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450072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декабре Хлебников вспомнил о своём желании ехать в Москву и неожиданно для окружающих отправился в столицу. Там его встретили старые друзья — Кручёных и Маяковский. Они обеспечили его жильём и поспособствовали тому, что Хлебников стал членом официального Союза поэтов (это произошло в январе 1922 года), а также устроили несколько творческих вечеров в богемном кафе, известном как «Домино». Тем не менее, поэт печатается гораздо меньше, чем в Пятигорске. Одна из немногих публикаций — стихотворение «Эй, молодчики-купчики…», появившееся в марте 1922 года в газете «Известия»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79280" y="4439880"/>
            <a:ext cx="719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К тому времени уже была закончена сверхповесть «Зангези», которая, как и «Доски судьбы», стала одним из важнейших произведений Хлебникова. Тематически она связана с «Досками судьбы»: главный герой произведения — Зангези — новый пророк. В сверхповести он излагает сформулированные в «Досках судьбы» «законы времени», учение о «звёздном языке». Произведение было опубликовано только после смерти Хлебнико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Picture 7" descr="200px-Zangezi"/>
          <p:cNvPicPr/>
          <p:nvPr/>
        </p:nvPicPr>
        <p:blipFill>
          <a:blip r:embed="rId1"/>
          <a:stretch/>
        </p:blipFill>
        <p:spPr>
          <a:xfrm>
            <a:off x="5724360" y="907920"/>
            <a:ext cx="1905120" cy="2781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5292720" y="3787920"/>
            <a:ext cx="239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бложка книги со сверхповестью «Зангези», 192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Велимир Хлебников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Picture 4" descr="Chlebnikow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1341360"/>
            <a:ext cx="2540160" cy="36324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5437440" y="50839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913 год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403440" y="11462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6" descr="Российская импер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4797360"/>
            <a:ext cx="20952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179280" y="1052640"/>
          <a:ext cx="4321440" cy="5499000"/>
        </p:xfrm>
        <a:graphic>
          <a:graphicData uri="http://schemas.openxmlformats.org/drawingml/2006/table">
            <a:tbl>
              <a:tblPr/>
              <a:tblGrid>
                <a:gridCol w="2016360"/>
                <a:gridCol w="2305080"/>
              </a:tblGrid>
              <a:tr h="112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Имя при рождении</a:t>
                      </a:r>
                      <a:r>
                        <a:rPr b="1" lang="ru-RU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иктор Владимирович Хлебников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севдонимы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Е. Луне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елиполк Хлебников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ата рождения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 ноября 1885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то рождения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алодербетовский улус Астраханской губерн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Дата смерти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8 июня 192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Место смерти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анталово Крестецкого уезда Новгородской губерн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Гражданство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ссийская импер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Род деятельности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эт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Годы творчества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912—192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правление: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футуризм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мерть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сной поэт начал страдать от приступов лихорадки. Он хотел снова отправиться в Астрахань, но пока что это было невозможно, и новый друг и поклонник таланта Хлебникова художник Пётр Митурич (будущий муж сестры Хлебникова Веры) предложил в мае две — три недели побыть в Санталово Крестецкого уезда Новгородской губернии, где жила жена Митурича и двое его детей. Вскоре после приезда туда Хлебников заболел параличом. Удалённость от крупных городов делала невозможной квалифицированную медицинскую помощь, а врач в посёлке Крестцы сказал, что смертельной опасности нет, и торопиться с поездкой в Петроград не сто́ит. Уже через две недели было очевидно, что это не так — окончательно отнялись ноги, развилась гангрена, и Хлебникова выписали из больницы в Крестцах уже как безнадёжного больного. Митурич перевёз почти полностью парализованного поэта в Санталово. 28 июня 1922 года в 9 часов утра Хлебников скончалс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елимир Хлебников был похоронен на погосте в деревне Ручьи. В 1960 году останки поэта были перезахоронены на Новодевичьем кладбище в Москв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сле смерти. Посмертные публикации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7650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деревне Ручьи Крестецкого района Новгородской области, где в 1922 году был похоронен Хлебников, в 1986 году был открыт музей поэта, там проходят ежегодные литературные чтения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честь Хлебникова названа малая планета 3112 Велимир, открытая советским астрономом Н. С. Черных в 1977 году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2787120"/>
            <a:ext cx="7740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ервым серьёзным изданием считается 5-томное «Собрание произведений» под ред. Н. Л. Степанова (1928—1933 гг.), а также дополняющий это собрание том «Неизданных произведений» под ред. Н. Харджиева (1940 г.) С 1941 по 1984 год книги Хлебникова в СССР не издавались. Исключение составил лишь томик из Малой серии «Библиотеки поэта», увидевший свет в 1960-м во время т. н. «оттепели». Однако тексты Хлебникова и о Хлебникове продолжали появляться в научной и литературной периодике, в альманахах, а также — в самиздате. Количество публикаций неуклонно росло и к 100-летию поэта увенчалось выходом в свет тома «Творений» под редакцией В. П. Григорьева и А. Е. Парниса (1986). В 2000—2006 годах было осуществлено новое 6-томное издание «Собрания сочинений» (в 7-ми кн.) Хлебникова (под ред. Е. Р. Арензона и Р. В. Дуганова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Влияние на культуру и оценки современников 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лебников — один из признанных лидеров русского авангарда начала XX века, так как он осознанно занимался выстраиванием нового искусства. Многие футуристы, в том числе, и Маяковский, называли его своим учителем; высказываются предположения о влиянии поэтического языка Хлебникова на творчество Андрея Платонова, Николая Асеева, Бориса Пастернака. В то же время Хлебников часто оставался в тени, так как организаторской деятельностью в основном занимались Давид Бурлюк и Маяковск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Хлебников оказал воздействие на русский и европейский авангард, в том числе в области живописи и музыки. Некоторые исследователи вообще считают, что без него восприятие эстетики и поэтики авангарда неадекватн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4" descr="200px-Velimir_Chlebnikov_-_Als_paarden_sterven_-_Apothekersdijk_26%2C_Leiden"/>
          <p:cNvPicPr/>
          <p:nvPr/>
        </p:nvPicPr>
        <p:blipFill>
          <a:blip r:embed="rId1"/>
          <a:stretch/>
        </p:blipFill>
        <p:spPr>
          <a:xfrm>
            <a:off x="539640" y="4581360"/>
            <a:ext cx="2881440" cy="20876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635280" y="551628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тихотворение Хлебникова на стене дома в Лейдене, Нидерланды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нние годы (1885—1898)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иктор Владимирович Хлебников родился 9 ноября (28 октября по старому стилю) 1885 года в главной ставке Малодербетовского улуса Астраханской губернии (ныне с. Малые Дербеты, Калмыкия). Отец — Владимир Алексеевич Хлебников — был попечителем улуса, учёным-орнитологом, мать — Екатерина Николаевна Хлебникова (урождённая Вербицкая), историк по образованию, двоюродная сестра народовольца Александра Михайлова. Виктор был третьим ребёнком в семье (впоследствии у его родителей родилось ещё двое детей, среди которых — художница Вера Хлебникова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о отцовской линии поэт происходил из старинного купеческого рода — его прадед Иван Матвеевич Хлебников был купцом первой гильдии и потомственным почётным гражданином Астрахани. Хлебников также отмечал, что в нём есть часть армянской и запорожской кров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емье Хлебниковых по службе Владимира Алексеевича приходилось часто переезжать с места на место: в 1891 году отец семейства был переведён в Волынскую губернию, в 1895 — в Симбирскую. Здесь же, в Симбирске, Виктор начинает свою учёбу в гимнази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108000" y="189000"/>
            <a:ext cx="4751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1898 году семья переехала в Казань, где Виктор поступил в 3-ю казанскую гимназию. Через пять лет он окончил курс гимназии, осенью 1903 года поступил на математическое отделение физико-математического факультета Казанского университета. В ноябре того же года после участия в студенческой демонстрации был арестован и месяц провёл в тюрьме. В феврале 1904 года Виктор подаёт прошение об увольнении из числа студентов университета. Летом этого же года подаёт прошение о зачислении на естественное отделение физико-математического факультета Казанского университета, где и продолжает обучение. К 1904 году относятся первые известные литературные опыты Хлебникова, он даже пытается опубликовать пьесу «Елена Гордячкина», послав её в издательство «Знание» Максиму Горькому, но безуспешно. В 1904—1907 годах Хлебников занимается орнитологическими исследованиями, участвует в экспедициях в Дагестан и на Северный Урал, публикует несколько статей по орнитологии. Тогда же Хлебников пытался самостоятельно начать изучение японского языка, думая найти в нём особые формы выразительности, и увлёкся творчеством русских символистов, особенно Фёдора Сологуб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200px-Khlebnikov_19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89000"/>
            <a:ext cx="3097080" cy="4681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4572000" y="501336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лимир Хлебников в </a:t>
            </a:r>
            <a:r>
              <a:rPr b="0" lang="ru-RU" sz="14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1908 год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73864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Русско-японская война и произошедшее в ходе неё Цусимское сражение оказали большое влияние на Хлебникова и побудили его начать поиски «основного закона времени», пытаться найти оправдание смертям. Впоследствии Хлебников писал: «Мы бросились в будущее с 1905 года»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ринятый в декабре 1906 года в Общество естествоиспытателей Казанского университета на правах члена-сотрудника и издавший статью об открытии во время одной из экспедиций нового вида кукушки, Хлебников уже после 1906 года практически перестал уделять внимание как орнитологии, так и занятиям в университете, сосредоточившись на литературе. Примерно в это время он пишет масштабное прозаическое произведение «Еня Воейков», которое осталось незаконченным, но явилось важным этапом творческого становления Хлебникова. Кроме того, в этот период им было написано большое количество стихотворений. Начался «словотворческий» период в творчестве Хлебников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марте 1908 года Хлебников решился послать свои стихи поэту-символисту Вячеславу Иванову, чья статья «О весёлом ремесле и умном веселии», опубликованная в 1907 году в журнале «Золотое руно», произвела на него большое впечатление. Весной 1908 года в Судаке состоялось и личное знакомство. Попавший под влияние Иванова Хлебников в этот период написал около сотни стихотворений и пьесу «Таинство дальних», полную аллюзий на античную мифологию. В этих произведениях прослеживается влияние символизма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В сентябре 1908 Хлебников был зачислен на третий курс естественного отделения физико-математического факультета Санкт-Петербургского университета и переехал в Санкт-Петербург. Главной причиной переезда было желание серьёзно заниматься литературой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Хлебников в кругу символистов (1908—1909)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Петербурге Хлебников сблизился с кругом молодых поэтов и начал, по его собственным словам, вести богемную жизнь. В этот период Хлебников знакомится с символистами Алексеем Ремизовыми Сергеем Городецким, посещает поэтические вечера. Увлечение языческой Русью и народным русским языком способствовало особенному сближению с Ремизовым. Квартира Ремизова стала первым литературным домом, где стал появляться Хлебников. Славянская тема же нашла отражение во многих произведениях Хлебникова того периода. В частности, в пьесе «Снежимочка».Это было прямым продолжением начатой символистами тенденции возобновления интереса к мифам: в те же годы выходят в свет стихи Александра Блока на тему России, книги Ремизова «Лимонарь» и «Посолонь», а также поэтические сборники Городецкого «Ярь» и «Перун» — все эти произведения были так или иначе связаны со славянской мифологией. Вячеслав Иванов в те годы писал: «Оживление интереса к мифу — одна из отличительных черт новейшей нашей поэзии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 этому времени относится кратковременное увлечение Хлебникова идеей воинственного панславизма. 16 (29)   октября 1908 в петербургской газете «Вечер» было напечатано анонимное «Воззвание учащихся славян», написанное Хлебниковым. «Воззвание…» призывало к вооружённой борьбе за свободу славянских народов Восточной Европы. Появление его было связано с «Боснийским кризисом»; тем не менее, уже в конце ноября того же года Хлебников отошёл от принципов, заявленных в «Воззвании». В сентябре 1908 года Хлебников познакомился с Василием Каменским, заместителем главного редактора журнала «Весна», и уже в следующем месяце состоялся дебют Хлебникова в печати: в октябрьском номере «Весны» появилось наполненное неологизмами стихотворение в прозе «Искушение грешника»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24000" y="3863880"/>
            <a:ext cx="7092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043c"/>
                </a:solidFill>
                <a:latin typeface="Arial"/>
              </a:rPr>
              <a:t>…</a:t>
            </a:r>
            <a:r>
              <a:rPr b="0" i="1" lang="ru-RU" sz="1600" spc="-1" strike="noStrike">
                <a:solidFill>
                  <a:srgbClr val="30043c"/>
                </a:solidFill>
                <a:latin typeface="Arial"/>
              </a:rPr>
              <a:t>И были многие и многия: и были враны с голосом: «смерть!» и крыльями ночей, и правдоцветиковый папоротник, и врема-тая избушка, и лицо старушонки в кичке вечности, и злой пёс на цепи дней, с языком мысли, и тропа, по которой бегают сутки и на которой отпечатлелись следы дня, вечера и утра… и стояла ограда из времового тёсу, и скорбеветвенный страдняк ник над водой, и было озеро, где вместо камня было время, а вместо камышей шумели времыш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115920"/>
            <a:ext cx="7386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Большую часть 1909 года (вплоть до августа, с небольшим перерывом в мае) поэт провёл в Святошине, пригороде Киева, где жили его родственники — семья Варвары Николаевны Рябчевской (Вербицкой). С ними у Хлебникова установились близкие отношения, а в дочь Марию Рябчевскую, дочь Варвары Николаевны, он был некоторое время влюблён и посвятил ей несколько стихотворени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апреле 1909 года начала работу «Академия стиха» на «башне» Вячеслава Иванова. «Башней» называлась квартира Иванова, находившаяся на последнем этаже дома 25 по Таврической улице, с круглой угловой комнатой. Её посещал и Хлебников в конце мая 1909 и после возвращения из Святошин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ообще в этот период Хлебников пишет немного, однако именно к лету 1909 относится посвящённая Вячеславу Иванову поэма или рассказ (исследователи творчества Хлебникова затрудняются определить, чем является это произведение) «Зверинец»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24000" y="4048200"/>
            <a:ext cx="684036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О, Сад, Сад!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железо подобно отцу, напоминающему братьям, что они братья, и останавливающему кровопролитную схватку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немцы ходят пить пиво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А красотки продавать тело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орлы сидят подобны вечности, означенной сегодняшним, ещё лишённым вечера, днём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верблюд, чей высокий горб лишён всадника, знает разгадку буддизма и затаил ужимку Китая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олень лишь испуг, цветущий широким камнем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наряды людей баскующие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люди ходят насупившись и сумные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А немцы цветут здоровьем.</a:t>
            </a:r>
            <a:br>
              <a:rPr sz="1400"/>
            </a:br>
            <a:r>
              <a:rPr b="1" i="1" lang="ru-RU" sz="1400" spc="-1" strike="noStrike">
                <a:solidFill>
                  <a:srgbClr val="30043c"/>
                </a:solidFill>
                <a:latin typeface="Arial"/>
              </a:rPr>
              <a:t>Где чёрный взор лебедя, который весь подобен зиме, а черно-жёлтый клюв — осенней рощице, — немного осторожен и недоверчив для него самого…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404280"/>
            <a:ext cx="7386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В сентябре Хлебников подал прошение о переведении его на факультет восточных языков по разряду санскритской словесности, но, передумав, изменил свой выбор на историко-филологический факультет славяно-русского отдел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сенью поэт познакомился с Николаем Гумилёвым, А. Н. Толстым; сблизился с Михаилом Кузминым (в письме матери от 16 (29) октября 1909 Хлебников называет Кузмина своим учителем). Осенью же произошла перемена имени Хлебникова — он взял себе творческий псевдоним Велимир, южнославянское имя, означающее «большой мир». Поэт стал членом «Академии стиха» (или «Общества ревнителей художественного слова»). Его стихи готовятся в печать в журнале «Аполлон», организованном кругом Вячеслава Иванова, но в письме брату Александру Хлебников признавался, что не испытывает восторга по этому поводу, так как журналом руководили поэты, иначе, чем он, воспринимавшие символизм — Кузмин, Гумилёв, Городецкий. В итоге стихи Хлебникова в «Аполлоне» так и не появились. Творчество его не вызывает особого восторга в кругу символистов, но, несмотря на это, Хлебников переживает творческий подъём и осенью 1909 года пишет много стихотворений, поэму «Журавль» и драму «Госпожа Ленин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4:13:40Z</dcterms:created>
  <dc:creator>Shurik</dc:creator>
  <dc:description/>
  <dc:language>en-US</dc:language>
  <cp:lastModifiedBy>Litvinenko</cp:lastModifiedBy>
  <dcterms:modified xsi:type="dcterms:W3CDTF">2018-12-09T05:45:47Z</dcterms:modified>
  <cp:revision>5</cp:revision>
  <dc:subject/>
  <dc:title>Велимир Хлебников </dc:title>
</cp:coreProperties>
</file>