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9.gif" ContentType="image/gif"/>
  <Override PartName="/ppt/media/image24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28.jpeg" ContentType="image/jpeg"/>
  <Override PartName="/ppt/media/image15.gif" ContentType="image/gif"/>
  <Override PartName="/ppt/media/image5.jpeg" ContentType="image/jpeg"/>
  <Override PartName="/ppt/media/image32.jpeg" ContentType="image/jpeg"/>
  <Override PartName="/ppt/media/image33.gif" ContentType="image/gif"/>
  <Override PartName="/ppt/media/image39.png" ContentType="image/png"/>
  <Override PartName="/ppt/media/image9.png" ContentType="image/png"/>
  <Override PartName="/ppt/media/image17.wmf" ContentType="image/x-wmf"/>
  <Override PartName="/ppt/media/image40.jpeg" ContentType="image/jpeg"/>
  <Override PartName="/ppt/media/image13.wmf" ContentType="image/x-wmf"/>
  <Override PartName="/ppt/media/image34.gif" ContentType="image/gif"/>
  <Override PartName="/ppt/media/image37.wmf" ContentType="image/x-wmf"/>
  <Override PartName="/ppt/media/image14.gif" ContentType="image/gif"/>
  <Override PartName="/ppt/media/image38.gif" ContentType="image/gif"/>
  <Override PartName="/ppt/media/image35.jpeg" ContentType="image/jpeg"/>
  <Override PartName="/ppt/media/image10.png" ContentType="image/png"/>
  <Override PartName="/ppt/media/image30.gif" ContentType="image/gif"/>
  <Override PartName="/ppt/media/image8.png" ContentType="image/png"/>
  <Override PartName="/ppt/media/image16.wmf" ContentType="image/x-wmf"/>
  <Override PartName="/ppt/media/image31.gif" ContentType="image/gif"/>
  <Override PartName="/ppt/media/image11.jpeg" ContentType="image/jpeg"/>
  <Override PartName="/ppt/media/image18.wmf" ContentType="image/x-wmf"/>
  <Override PartName="/ppt/media/image36.jpeg" ContentType="image/jpeg"/>
  <Override PartName="/ppt/media/image7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image2.png" ContentType="image/png"/>
  <Override PartName="/ppt/media/image1.png" ContentType="image/png"/>
  <Override PartName="/ppt/media/image1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5804-C44B-436E-BBBC-AA0AFE7C22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F82F-A4B0-42B5-AF3A-73CD5A113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EE9B-2078-4435-9369-ED6F598354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5FCE-B142-4566-B8A8-21226FDEB9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E810-4F5D-4CF5-B257-0203CFDBC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BA8-7FF8-4064-801A-29AA4621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C89-F5AC-4E9B-BC24-E7DE37A5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634-0E47-4073-9DC8-8FE74E06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2FF-13DB-4F56-AD26-484E89AD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DF7D-FF26-4AF8-9A86-F953FCED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0F56-116D-48A9-BB21-B2B9A8FA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FBE4-ECE7-466B-9CE5-722923F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021A-ABFD-448F-91E3-0BEAF08A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7259-591B-45FB-89A3-19D24F8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B43A-6FE6-4E43-A058-701374F5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11E4-4C0C-4E69-8BE9-F1ECBF12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D1B-5751-4191-8870-C9028722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EAC-E2EF-492D-A207-11C904CB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A61E-A00F-4D9F-AA9B-831B2CD8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BD0D-70DC-464F-B4D5-5B5FBAD4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91AB-2E66-4B67-AF3E-452F76C3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AC7F-85E0-45B0-8BBF-B8824F57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46E5-0F4D-4215-A84B-AD2FC1FD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6587-4149-4334-AA1F-EA56A4F2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300FC-286E-4569-A4D2-6BE503B1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813D-357A-401C-877A-B01F55BF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5FDD-D534-4DA5-BF0D-13F9972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FA6-E2E3-4668-A442-313513DF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BDDDF-9D37-4F47-B771-BE1BC24C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F6B90-34F3-4EA6-B16E-4F47AA09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D0E43-BA57-4260-AC66-244AB73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C778-01C0-48BD-B15F-8D9EA15E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93C3-3909-458A-BD5C-A9416123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3C6C-101B-4D45-AB5C-7193648E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18CAF-CCF7-4D13-9814-2F9E1678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1704-44A3-439D-B6DC-D6D84B37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C7B8-AAC1-4C58-ACBB-7B8F7E5A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97A9-454B-4FB7-A99A-4A4657D5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49F-B02B-4366-8A81-0A59BFAA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E2059-0B23-4708-80C1-BE2AE4D4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64366-5DB9-4579-A8CB-C84A8F66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7A0DB-F643-4567-B02F-5E164B12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88304-8270-4713-BC76-435DFFB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A671-EFD6-4A8D-8113-2A34200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1B3F-E68E-4B50-B7B7-CDBD0E0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150E-3FFE-41D1-A307-A28B939C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FE0F5-F4AB-43C9-AC94-D6C8514F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AD1F-0928-458F-85DE-ECF52889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4A3E6-D62E-47DE-BEFF-890E6322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6C3-FEE9-4412-8F58-EC721799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73519-B399-4DE9-91AC-AA37BF6E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32734-8ACF-4347-B0E1-0F3C8CCD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4429-D6D1-40CE-BA37-7361657F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FFFC1-31AD-4C87-9E16-997DCDED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35671-B592-407A-BFB8-93F898AB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4BFEC-C811-46AE-96A6-8A542DB6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26FB-D389-4C2E-86EF-559DE69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BF5E7-31F1-45F3-BA54-5F8FBA0C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62BA-1D86-4CFF-90A4-E049BD88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8527-703B-4340-9339-DB1B45C7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1F9-53ED-46C6-A11E-C03FB5BC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0B2E4-0850-485E-934A-9FD26033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2D8-1EFE-42EA-B229-49097DD5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344-60F2-44D8-B4D9-5517482A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59F9-EE61-491D-AA93-431C866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3F3F-D24C-44BB-8992-203C7263A24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3BD-14E7-4DBF-8EF0-5DBCD0A4F46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758-4C52-4329-818F-5F3AD96F3AA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09E7-D271-45D5-877D-A8463EF901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FF5B-FB54-4027-B735-E4DC03F371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image" Target="../media/image30.gif"/><Relationship Id="rId4" Type="http://schemas.openxmlformats.org/officeDocument/2006/relationships/image" Target="../media/image34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7.wmf"/><Relationship Id="rId3" Type="http://schemas.openxmlformats.org/officeDocument/2006/relationships/image" Target="../media/image17.wmf"/><Relationship Id="rId4" Type="http://schemas.openxmlformats.org/officeDocument/2006/relationships/image" Target="../media/image38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7.wmf"/><Relationship Id="rId4" Type="http://schemas.openxmlformats.org/officeDocument/2006/relationships/image" Target="../media/image2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8076960" cy="1981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62f00"/>
                </a:solidFill>
                <a:latin typeface="Arial Black"/>
              </a:rPr>
              <a:t>ДИДАКТИЧЕСКАЯ ИГРА</a:t>
            </a:r>
            <a:br>
              <a:rPr sz="2200"/>
            </a:br>
            <a:r>
              <a:rPr b="1" lang="ru-RU" sz="4000" spc="-1" strike="noStrike">
                <a:solidFill>
                  <a:srgbClr val="ffc000"/>
                </a:solidFill>
                <a:latin typeface="Arial Black"/>
              </a:rPr>
              <a:t>« В добрый путь!» </a:t>
            </a:r>
            <a:br>
              <a:rPr sz="4000"/>
            </a:br>
            <a:r>
              <a:rPr b="1" lang="ru-RU" sz="2200" spc="-1" strike="noStrike">
                <a:solidFill>
                  <a:srgbClr val="00b050"/>
                </a:solidFill>
                <a:latin typeface="Arial Black"/>
              </a:rPr>
              <a:t>( </a:t>
            </a:r>
            <a:r>
              <a:rPr b="1" lang="ru-RU" sz="2400" spc="-1" strike="noStrike">
                <a:solidFill>
                  <a:srgbClr val="00b050"/>
                </a:solidFill>
                <a:latin typeface="Arial Black"/>
              </a:rPr>
              <a:t>для детей 6 – 7 лет )</a:t>
            </a:r>
            <a:br>
              <a:rPr sz="2400"/>
            </a:br>
            <a:br>
              <a:rPr sz="1400"/>
            </a:b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657600" y="3962160"/>
            <a:ext cx="5105520" cy="2057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иколаева О.К., воспитатель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-детский сад «Алёнушка» п.г.т.Суходо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1.wav" descr=""/>
          <p:cNvPicPr/>
          <p:nvPr/>
        </p:nvPicPr>
        <p:blipFill>
          <a:blip r:embed="rId1"/>
          <a:stretch/>
        </p:blipFill>
        <p:spPr>
          <a:xfrm>
            <a:off x="6858000" y="-533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C:\Documents and Settings\DIABLO\Рабочий стол\946243.jpg"/>
          <p:cNvPicPr/>
          <p:nvPr/>
        </p:nvPicPr>
        <p:blipFill>
          <a:blip r:embed="rId2"/>
          <a:stretch/>
        </p:blipFill>
        <p:spPr>
          <a:xfrm>
            <a:off x="762120" y="3124080"/>
            <a:ext cx="2697120" cy="312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Мы по улице шагаем и ворон мы не считаем, смело мы идем вперед, где нам виден пе-ре-ход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2" name="Picture 57" descr="C:\Documents and Settings\Ирина\Рабочий стол\п22передел.jpg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190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C:\Documents and Settings\Ирина\Рабочий стол\12_md8.gif"/>
          <p:cNvPicPr/>
          <p:nvPr/>
        </p:nvPicPr>
        <p:blipFill>
          <a:blip r:embed="rId2"/>
          <a:stretch/>
        </p:blipFill>
        <p:spPr>
          <a:xfrm>
            <a:off x="5105520" y="3581280"/>
            <a:ext cx="399960" cy="91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AG00222_"/>
          <p:cNvPicPr/>
          <p:nvPr/>
        </p:nvPicPr>
        <p:blipFill>
          <a:blip r:embed="rId3"/>
          <a:stretch/>
        </p:blipFill>
        <p:spPr>
          <a:xfrm flipH="1" rot="21420000">
            <a:off x="3222360" y="4057560"/>
            <a:ext cx="769680" cy="892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C:\Documents and Settings\Ирина\Рабочий стол\собака1.gif"/>
          <p:cNvPicPr/>
          <p:nvPr/>
        </p:nvPicPr>
        <p:blipFill>
          <a:blip r:embed="rId4"/>
          <a:stretch/>
        </p:blipFill>
        <p:spPr>
          <a:xfrm>
            <a:off x="6019920" y="5257800"/>
            <a:ext cx="947520" cy="438120"/>
          </a:xfrm>
          <a:prstGeom prst="rect">
            <a:avLst/>
          </a:prstGeom>
          <a:ln w="0">
            <a:noFill/>
          </a:ln>
        </p:spPr>
      </p:pic>
      <p:pic>
        <p:nvPicPr>
          <p:cNvPr id="336" name="10.wav" descr=""/>
          <p:cNvPicPr/>
          <p:nvPr/>
        </p:nvPicPr>
        <p:blipFill>
          <a:blip r:embed="rId5"/>
          <a:stretch/>
        </p:blipFill>
        <p:spPr>
          <a:xfrm>
            <a:off x="57150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910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81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Если перехода нет- зебра даст на все ответ!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38" name="Picture 26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96080" cy="5047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C:\Documents and Settings\Ирина\Рабочий стол\47_md44.gif"/>
          <p:cNvPicPr/>
          <p:nvPr/>
        </p:nvPicPr>
        <p:blipFill>
          <a:blip r:embed="rId2"/>
          <a:stretch/>
        </p:blipFill>
        <p:spPr>
          <a:xfrm>
            <a:off x="4648320" y="990720"/>
            <a:ext cx="609480" cy="1276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AG00222_"/>
          <p:cNvPicPr/>
          <p:nvPr/>
        </p:nvPicPr>
        <p:blipFill>
          <a:blip r:embed="rId3"/>
          <a:stretch/>
        </p:blipFill>
        <p:spPr>
          <a:xfrm flipH="1" rot="21420000">
            <a:off x="7292520" y="3533400"/>
            <a:ext cx="1147680" cy="2054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C:\Documents and Settings\Ирина\Рабочий стол\машина.gif"/>
          <p:cNvPicPr/>
          <p:nvPr/>
        </p:nvPicPr>
        <p:blipFill>
          <a:blip r:embed="rId4"/>
          <a:stretch/>
        </p:blipFill>
        <p:spPr>
          <a:xfrm>
            <a:off x="6705720" y="1143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342" name="9.wav" descr=""/>
          <p:cNvPicPr/>
          <p:nvPr/>
        </p:nvPicPr>
        <p:blipFill>
          <a:blip r:embed="rId5"/>
          <a:stretch/>
        </p:blipFill>
        <p:spPr>
          <a:xfrm>
            <a:off x="5943600" y="-380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0 L -0.71666 -0.04444 E">
                                      <p:cBhvr>
                                        <p:cTn id="190" dur="8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942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96761"/>
            </a:gs>
            <a:gs pos="50000">
              <a:srgbClr val="e3ded1"/>
            </a:gs>
            <a:gs pos="100000">
              <a:srgbClr val="6967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Если дорогу не успел перейти, остановись, подожди в центре пути!(на центральной линии или островке безопасности)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Rectangle 4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6"/>
          <p:cNvSpPr/>
          <p:nvPr/>
        </p:nvSpPr>
        <p:spPr>
          <a:xfrm>
            <a:off x="9058320" y="0"/>
            <a:ext cx="85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12.wav" descr=""/>
          <p:cNvPicPr/>
          <p:nvPr/>
        </p:nvPicPr>
        <p:blipFill>
          <a:blip r:embed="rId1"/>
          <a:stretch/>
        </p:blipFill>
        <p:spPr>
          <a:xfrm>
            <a:off x="49528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3" descr="C:\Documents and Settings\DIABLO\Рабочий стол\картинки пдд\2.jpeg"/>
          <p:cNvPicPr/>
          <p:nvPr/>
        </p:nvPicPr>
        <p:blipFill>
          <a:blip r:embed="rId2"/>
          <a:stretch/>
        </p:blipFill>
        <p:spPr>
          <a:xfrm>
            <a:off x="1143000" y="1828800"/>
            <a:ext cx="67057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0123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22160" y="762120"/>
            <a:ext cx="712656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Коль улицу надо тебе перейти-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О правиле помни простом: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С вниманьем налево сперва погляди,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Направо взгляни потом.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49" name="22.wav" descr=""/>
          <p:cNvPicPr/>
          <p:nvPr/>
        </p:nvPicPr>
        <p:blipFill>
          <a:blip r:embed="rId1"/>
          <a:stretch/>
        </p:blipFill>
        <p:spPr>
          <a:xfrm>
            <a:off x="51055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C:\Documents and Settings\DIABLO\Рабочий стол\картинки пдд\i.jpeg"/>
          <p:cNvPicPr/>
          <p:nvPr/>
        </p:nvPicPr>
        <p:blipFill>
          <a:blip r:embed="rId2"/>
          <a:stretch/>
        </p:blipFill>
        <p:spPr>
          <a:xfrm>
            <a:off x="1371600" y="2590920"/>
            <a:ext cx="624852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8402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Едет машина, водитель в пути. Ты не беги вперед -  подожди</a:t>
            </a:r>
            <a:r>
              <a:rPr b="1" lang="ru-RU" sz="2500" spc="-1" strike="noStrike">
                <a:solidFill>
                  <a:srgbClr val="c00000"/>
                </a:solidFill>
                <a:latin typeface="Verdana"/>
              </a:rPr>
              <a:t>!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352" name="Group 70"/>
          <p:cNvGrpSpPr/>
          <p:nvPr/>
        </p:nvGrpSpPr>
        <p:grpSpPr>
          <a:xfrm>
            <a:off x="6400800" y="2438280"/>
            <a:ext cx="1943280" cy="2159280"/>
            <a:chOff x="6400800" y="2438280"/>
            <a:chExt cx="1943280" cy="2159280"/>
          </a:xfrm>
        </p:grpSpPr>
        <p:sp>
          <p:nvSpPr>
            <p:cNvPr id="353" name="AutoShape 10"/>
            <p:cNvSpPr/>
            <p:nvPr/>
          </p:nvSpPr>
          <p:spPr>
            <a:xfrm>
              <a:off x="6400800" y="2438280"/>
              <a:ext cx="194328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772680" y="2479680"/>
              <a:ext cx="1350000" cy="174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7812360" y="2498400"/>
              <a:ext cx="299520" cy="199080"/>
            </a:xfrm>
            <a:prstGeom prst="pie">
              <a:avLst/>
            </a:pr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7286400" y="2652840"/>
              <a:ext cx="316080" cy="364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197840" y="2686680"/>
              <a:ext cx="285840" cy="28692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920000" y="2686680"/>
              <a:ext cx="102240" cy="112680"/>
            </a:xfrm>
            <a:prstGeom prst="pie">
              <a:avLst/>
            </a:prstGeom>
            <a:solidFill>
              <a:srgbClr val="fff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7287840" y="2705400"/>
              <a:ext cx="21600" cy="2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688520" y="2711520"/>
              <a:ext cx="118080" cy="124920"/>
            </a:xfrm>
            <a:prstGeom prst="pie">
              <a:avLst/>
            </a:prstGeom>
            <a:solidFill>
              <a:srgbClr val="00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9"/>
            <p:cNvSpPr/>
            <p:nvPr/>
          </p:nvSpPr>
          <p:spPr>
            <a:xfrm>
              <a:off x="7816320" y="2725200"/>
              <a:ext cx="93600" cy="56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0"/>
            <p:cNvSpPr/>
            <p:nvPr/>
          </p:nvSpPr>
          <p:spPr>
            <a:xfrm>
              <a:off x="7732080" y="2731680"/>
              <a:ext cx="48960" cy="3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1"/>
            <p:cNvSpPr/>
            <p:nvPr/>
          </p:nvSpPr>
          <p:spPr>
            <a:xfrm>
              <a:off x="7150320" y="2753280"/>
              <a:ext cx="193320" cy="14184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7730640" y="2761200"/>
              <a:ext cx="43560" cy="2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3"/>
            <p:cNvSpPr/>
            <p:nvPr/>
          </p:nvSpPr>
          <p:spPr>
            <a:xfrm>
              <a:off x="7147440" y="2770200"/>
              <a:ext cx="2700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"/>
            <p:cNvSpPr/>
            <p:nvPr/>
          </p:nvSpPr>
          <p:spPr>
            <a:xfrm>
              <a:off x="7572600" y="2770200"/>
              <a:ext cx="134640" cy="19764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5"/>
            <p:cNvSpPr/>
            <p:nvPr/>
          </p:nvSpPr>
          <p:spPr>
            <a:xfrm>
              <a:off x="7625880" y="2814840"/>
              <a:ext cx="27000" cy="18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6"/>
            <p:cNvSpPr/>
            <p:nvPr/>
          </p:nvSpPr>
          <p:spPr>
            <a:xfrm>
              <a:off x="7306920" y="2819520"/>
              <a:ext cx="91080" cy="92520"/>
            </a:xfrm>
            <a:prstGeom prst="pie">
              <a:avLst/>
            </a:pr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7"/>
            <p:cNvSpPr/>
            <p:nvPr/>
          </p:nvSpPr>
          <p:spPr>
            <a:xfrm>
              <a:off x="7170480" y="2836800"/>
              <a:ext cx="35280" cy="98640"/>
            </a:xfrm>
            <a:prstGeom prst="pie">
              <a:avLst/>
            </a:prstGeom>
            <a:solidFill>
              <a:srgbClr val="a8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8"/>
            <p:cNvSpPr/>
            <p:nvPr/>
          </p:nvSpPr>
          <p:spPr>
            <a:xfrm>
              <a:off x="7624440" y="2838240"/>
              <a:ext cx="28440" cy="2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9"/>
            <p:cNvSpPr/>
            <p:nvPr/>
          </p:nvSpPr>
          <p:spPr>
            <a:xfrm>
              <a:off x="7120440" y="2853360"/>
              <a:ext cx="14760" cy="27720"/>
            </a:xfrm>
            <a:prstGeom prst="pie">
              <a:avLst/>
            </a:prstGeom>
            <a:solidFill>
              <a:srgbClr val="a8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0"/>
            <p:cNvSpPr/>
            <p:nvPr/>
          </p:nvSpPr>
          <p:spPr>
            <a:xfrm>
              <a:off x="7620120" y="2856600"/>
              <a:ext cx="4212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1"/>
            <p:cNvSpPr/>
            <p:nvPr/>
          </p:nvSpPr>
          <p:spPr>
            <a:xfrm>
              <a:off x="7625880" y="2873880"/>
              <a:ext cx="392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2"/>
            <p:cNvSpPr/>
            <p:nvPr/>
          </p:nvSpPr>
          <p:spPr>
            <a:xfrm>
              <a:off x="7619040" y="2876760"/>
              <a:ext cx="69480" cy="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3"/>
            <p:cNvSpPr/>
            <p:nvPr/>
          </p:nvSpPr>
          <p:spPr>
            <a:xfrm>
              <a:off x="7001640" y="2884680"/>
              <a:ext cx="461880" cy="56664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4"/>
            <p:cNvSpPr/>
            <p:nvPr/>
          </p:nvSpPr>
          <p:spPr>
            <a:xfrm>
              <a:off x="7314840" y="2896920"/>
              <a:ext cx="16200" cy="576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5"/>
            <p:cNvSpPr/>
            <p:nvPr/>
          </p:nvSpPr>
          <p:spPr>
            <a:xfrm>
              <a:off x="7314840" y="2919960"/>
              <a:ext cx="27360" cy="27360"/>
            </a:xfrm>
            <a:prstGeom prst="pie">
              <a:avLst/>
            </a:pr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6"/>
            <p:cNvSpPr/>
            <p:nvPr/>
          </p:nvSpPr>
          <p:spPr>
            <a:xfrm>
              <a:off x="7350480" y="2955240"/>
              <a:ext cx="74880" cy="12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7"/>
            <p:cNvSpPr/>
            <p:nvPr/>
          </p:nvSpPr>
          <p:spPr>
            <a:xfrm>
              <a:off x="7454160" y="2970720"/>
              <a:ext cx="31320" cy="2340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8"/>
            <p:cNvSpPr/>
            <p:nvPr/>
          </p:nvSpPr>
          <p:spPr>
            <a:xfrm>
              <a:off x="7452720" y="2991240"/>
              <a:ext cx="34920" cy="4464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9"/>
            <p:cNvSpPr/>
            <p:nvPr/>
          </p:nvSpPr>
          <p:spPr>
            <a:xfrm>
              <a:off x="7132680" y="3028320"/>
              <a:ext cx="128880" cy="27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0"/>
            <p:cNvSpPr/>
            <p:nvPr/>
          </p:nvSpPr>
          <p:spPr>
            <a:xfrm>
              <a:off x="7448760" y="3045240"/>
              <a:ext cx="25560" cy="756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1"/>
            <p:cNvSpPr/>
            <p:nvPr/>
          </p:nvSpPr>
          <p:spPr>
            <a:xfrm>
              <a:off x="7414560" y="3072600"/>
              <a:ext cx="69480" cy="126720"/>
            </a:xfrm>
            <a:prstGeom prst="pie">
              <a:avLst/>
            </a:prstGeom>
            <a:solidFill>
              <a:srgbClr val="80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2"/>
            <p:cNvSpPr/>
            <p:nvPr/>
          </p:nvSpPr>
          <p:spPr>
            <a:xfrm>
              <a:off x="7180200" y="3209040"/>
              <a:ext cx="614520" cy="546480"/>
            </a:xfrm>
            <a:prstGeom prst="pie">
              <a:avLst/>
            </a:prstGeom>
            <a:solidFill>
              <a:srgbClr val="a8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"/>
            <p:cNvSpPr/>
            <p:nvPr/>
          </p:nvSpPr>
          <p:spPr>
            <a:xfrm>
              <a:off x="6950160" y="3344760"/>
              <a:ext cx="88200" cy="130680"/>
            </a:xfrm>
            <a:prstGeom prst="pie">
              <a:avLst/>
            </a:prstGeom>
            <a:solidFill>
              <a:srgbClr val="d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4"/>
            <p:cNvSpPr/>
            <p:nvPr/>
          </p:nvSpPr>
          <p:spPr>
            <a:xfrm>
              <a:off x="7009920" y="3344760"/>
              <a:ext cx="95040" cy="132480"/>
            </a:xfrm>
            <a:prstGeom prst="pie">
              <a:avLst/>
            </a:prstGeom>
            <a:solidFill>
              <a:srgbClr val="d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5"/>
            <p:cNvSpPr/>
            <p:nvPr/>
          </p:nvSpPr>
          <p:spPr>
            <a:xfrm>
              <a:off x="7721280" y="3387960"/>
              <a:ext cx="84240" cy="709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6"/>
            <p:cNvSpPr/>
            <p:nvPr/>
          </p:nvSpPr>
          <p:spPr>
            <a:xfrm>
              <a:off x="7120440" y="3445200"/>
              <a:ext cx="56880" cy="103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7"/>
            <p:cNvSpPr/>
            <p:nvPr/>
          </p:nvSpPr>
          <p:spPr>
            <a:xfrm>
              <a:off x="7709040" y="3446640"/>
              <a:ext cx="137160" cy="167760"/>
            </a:xfrm>
            <a:prstGeom prst="pie">
              <a:avLst/>
            </a:prstGeom>
            <a:solidFill>
              <a:srgbClr val="d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8"/>
            <p:cNvSpPr/>
            <p:nvPr/>
          </p:nvSpPr>
          <p:spPr>
            <a:xfrm>
              <a:off x="7105320" y="3457800"/>
              <a:ext cx="9360" cy="4608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9"/>
            <p:cNvSpPr/>
            <p:nvPr/>
          </p:nvSpPr>
          <p:spPr>
            <a:xfrm>
              <a:off x="7111800" y="3681360"/>
              <a:ext cx="490680" cy="249840"/>
            </a:xfrm>
            <a:prstGeom prst="pie">
              <a:avLst/>
            </a:prstGeom>
            <a:solidFill>
              <a:srgbClr val="47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50"/>
            <p:cNvSpPr/>
            <p:nvPr/>
          </p:nvSpPr>
          <p:spPr>
            <a:xfrm>
              <a:off x="6868080" y="3808440"/>
              <a:ext cx="287280" cy="284040"/>
            </a:xfrm>
            <a:prstGeom prst="pie">
              <a:avLst/>
            </a:prstGeom>
            <a:solidFill>
              <a:srgbClr val="ff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1"/>
            <p:cNvSpPr/>
            <p:nvPr/>
          </p:nvSpPr>
          <p:spPr>
            <a:xfrm>
              <a:off x="6835320" y="3814200"/>
              <a:ext cx="295560" cy="294840"/>
            </a:xfrm>
            <a:prstGeom prst="pie">
              <a:avLst/>
            </a:prstGeom>
            <a:solidFill>
              <a:srgbClr val="00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2"/>
            <p:cNvSpPr/>
            <p:nvPr/>
          </p:nvSpPr>
          <p:spPr>
            <a:xfrm>
              <a:off x="6963480" y="3837240"/>
              <a:ext cx="40680" cy="74160"/>
            </a:xfrm>
            <a:prstGeom prst="pie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3"/>
            <p:cNvSpPr/>
            <p:nvPr/>
          </p:nvSpPr>
          <p:spPr>
            <a:xfrm>
              <a:off x="7079400" y="3849840"/>
              <a:ext cx="115560" cy="1184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4"/>
            <p:cNvSpPr/>
            <p:nvPr/>
          </p:nvSpPr>
          <p:spPr>
            <a:xfrm>
              <a:off x="7413120" y="3860640"/>
              <a:ext cx="137160" cy="348840"/>
            </a:xfrm>
            <a:prstGeom prst="pie">
              <a:avLst/>
            </a:prstGeom>
            <a:solidFill>
              <a:srgbClr val="47f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5"/>
            <p:cNvSpPr/>
            <p:nvPr/>
          </p:nvSpPr>
          <p:spPr>
            <a:xfrm>
              <a:off x="7039800" y="3877560"/>
              <a:ext cx="34920" cy="75600"/>
            </a:xfrm>
            <a:prstGeom prst="pie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6"/>
            <p:cNvSpPr/>
            <p:nvPr/>
          </p:nvSpPr>
          <p:spPr>
            <a:xfrm>
              <a:off x="7643520" y="3894480"/>
              <a:ext cx="296640" cy="216360"/>
            </a:xfrm>
            <a:prstGeom prst="pie">
              <a:avLst/>
            </a:prstGeom>
            <a:solidFill>
              <a:srgbClr val="dee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7"/>
            <p:cNvSpPr/>
            <p:nvPr/>
          </p:nvSpPr>
          <p:spPr>
            <a:xfrm>
              <a:off x="6786360" y="3897720"/>
              <a:ext cx="280800" cy="281160"/>
            </a:xfrm>
            <a:prstGeom prst="pie">
              <a:avLst/>
            </a:prstGeom>
            <a:solidFill>
              <a:srgbClr val="dee3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8"/>
            <p:cNvSpPr/>
            <p:nvPr/>
          </p:nvSpPr>
          <p:spPr>
            <a:xfrm>
              <a:off x="7111800" y="3930120"/>
              <a:ext cx="21600" cy="2448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9"/>
            <p:cNvSpPr/>
            <p:nvPr/>
          </p:nvSpPr>
          <p:spPr>
            <a:xfrm>
              <a:off x="7599960" y="3967200"/>
              <a:ext cx="284760" cy="219240"/>
            </a:xfrm>
            <a:prstGeom prst="pie">
              <a:avLst/>
            </a:prstGeom>
            <a:solidFill>
              <a:srgbClr val="00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0"/>
            <p:cNvSpPr/>
            <p:nvPr/>
          </p:nvSpPr>
          <p:spPr>
            <a:xfrm>
              <a:off x="7593120" y="3991680"/>
              <a:ext cx="259920" cy="194400"/>
            </a:xfrm>
            <a:prstGeom prst="pie">
              <a:avLst/>
            </a:prstGeom>
            <a:solidFill>
              <a:srgbClr val="fff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1"/>
            <p:cNvSpPr/>
            <p:nvPr/>
          </p:nvSpPr>
          <p:spPr>
            <a:xfrm>
              <a:off x="7552440" y="4067640"/>
              <a:ext cx="43560" cy="1252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2"/>
            <p:cNvSpPr/>
            <p:nvPr/>
          </p:nvSpPr>
          <p:spPr>
            <a:xfrm>
              <a:off x="7594200" y="4080240"/>
              <a:ext cx="15120" cy="64440"/>
            </a:xfrm>
            <a:prstGeom prst="pie">
              <a:avLst/>
            </a:prstGeom>
            <a:solidFill>
              <a:srgbClr val="ffd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3"/>
            <p:cNvSpPr/>
            <p:nvPr/>
          </p:nvSpPr>
          <p:spPr>
            <a:xfrm>
              <a:off x="7650360" y="4084560"/>
              <a:ext cx="24480" cy="64440"/>
            </a:xfrm>
            <a:prstGeom prst="pie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64"/>
            <p:cNvSpPr/>
            <p:nvPr/>
          </p:nvSpPr>
          <p:spPr>
            <a:xfrm>
              <a:off x="7714080" y="4109040"/>
              <a:ext cx="31320" cy="58680"/>
            </a:xfrm>
            <a:prstGeom prst="pie">
              <a:avLst/>
            </a:pr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67"/>
            <p:cNvSpPr/>
            <p:nvPr/>
          </p:nvSpPr>
          <p:spPr>
            <a:xfrm>
              <a:off x="7091640" y="4356360"/>
              <a:ext cx="370800" cy="2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8"/>
            <p:cNvSpPr/>
            <p:nvPr/>
          </p:nvSpPr>
          <p:spPr>
            <a:xfrm>
              <a:off x="7196760" y="4402800"/>
              <a:ext cx="422280" cy="13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9"/>
            <p:cNvSpPr/>
            <p:nvPr/>
          </p:nvSpPr>
          <p:spPr>
            <a:xfrm>
              <a:off x="7321680" y="4430520"/>
              <a:ext cx="3351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0" name="Picture 7" descr="CRCTR030"/>
          <p:cNvPicPr/>
          <p:nvPr/>
        </p:nvPicPr>
        <p:blipFill>
          <a:blip r:embed="rId1"/>
          <a:stretch/>
        </p:blipFill>
        <p:spPr>
          <a:xfrm>
            <a:off x="6781680" y="4267080"/>
            <a:ext cx="1741680" cy="2160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6" descr="COBJ060"/>
          <p:cNvPicPr/>
          <p:nvPr/>
        </p:nvPicPr>
        <p:blipFill>
          <a:blip r:embed="rId2"/>
          <a:stretch/>
        </p:blipFill>
        <p:spPr>
          <a:xfrm rot="20178000">
            <a:off x="3795840" y="2476080"/>
            <a:ext cx="2185920" cy="2286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3" descr="COBJ061"/>
          <p:cNvPicPr/>
          <p:nvPr/>
        </p:nvPicPr>
        <p:blipFill>
          <a:blip r:embed="rId3"/>
          <a:stretch/>
        </p:blipFill>
        <p:spPr>
          <a:xfrm flipH="1" rot="4167000">
            <a:off x="1650960" y="2803320"/>
            <a:ext cx="2175120" cy="17780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5" descr="C:\Documents and Settings\Ирина\Рабочий стол\26_md22.gif"/>
          <p:cNvPicPr/>
          <p:nvPr/>
        </p:nvPicPr>
        <p:blipFill>
          <a:blip r:embed="rId4"/>
          <a:stretch/>
        </p:blipFill>
        <p:spPr>
          <a:xfrm>
            <a:off x="533520" y="3581280"/>
            <a:ext cx="761760" cy="2248200"/>
          </a:xfrm>
          <a:prstGeom prst="rect">
            <a:avLst/>
          </a:prstGeom>
          <a:ln w="0">
            <a:noFill/>
          </a:ln>
        </p:spPr>
      </p:pic>
      <p:pic>
        <p:nvPicPr>
          <p:cNvPr id="414" name="13.wav" descr=""/>
          <p:cNvPicPr/>
          <p:nvPr/>
        </p:nvPicPr>
        <p:blipFill>
          <a:blip r:embed="rId5"/>
          <a:stretch/>
        </p:blipFill>
        <p:spPr>
          <a:xfrm>
            <a:off x="5562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6445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445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24.wav" descr=""/>
          <p:cNvPicPr/>
          <p:nvPr/>
        </p:nvPicPr>
        <p:blipFill>
          <a:blip r:embed="rId1"/>
          <a:stretch/>
        </p:blipFill>
        <p:spPr>
          <a:xfrm>
            <a:off x="5562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7" descr=""/>
          <p:cNvPicPr/>
          <p:nvPr/>
        </p:nvPicPr>
        <p:blipFill>
          <a:blip r:embed="rId2"/>
          <a:stretch/>
        </p:blipFill>
        <p:spPr>
          <a:xfrm>
            <a:off x="523800" y="579600"/>
            <a:ext cx="8175600" cy="1998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8" descr="C:\Documents and Settings\DIABLO\Рабочий стол\картинки пдд\8.jpeg"/>
          <p:cNvPicPr/>
          <p:nvPr/>
        </p:nvPicPr>
        <p:blipFill>
          <a:blip r:embed="rId3"/>
          <a:stretch/>
        </p:blipFill>
        <p:spPr>
          <a:xfrm>
            <a:off x="2133720" y="2057400"/>
            <a:ext cx="50482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2750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03"/>
                            </p:stCondLst>
                            <p:childTnLst>
                              <p:par>
                                <p:cTn id="2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7803_1"/>
          <p:cNvPicPr/>
          <p:nvPr/>
        </p:nvPicPr>
        <p:blipFill>
          <a:blip r:embed="rId1"/>
          <a:stretch/>
        </p:blipFill>
        <p:spPr>
          <a:xfrm>
            <a:off x="7380360" y="189000"/>
            <a:ext cx="2376360" cy="1589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47631big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-973080" y="4076640"/>
            <a:ext cx="2520720" cy="169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motor_max_250_0025"/>
          <p:cNvPicPr/>
          <p:nvPr/>
        </p:nvPicPr>
        <p:blipFill>
          <a:blip r:embed="rId3">
            <a:lum bright="-12000"/>
          </a:blip>
          <a:srcRect l="0" t="29219" r="0" b="27344"/>
          <a:stretch/>
        </p:blipFill>
        <p:spPr>
          <a:xfrm rot="375600">
            <a:off x="5148000" y="4508640"/>
            <a:ext cx="3809880" cy="165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ZP3199"/>
          <p:cNvPicPr/>
          <p:nvPr/>
        </p:nvPicPr>
        <p:blipFill>
          <a:blip r:embed="rId4"/>
          <a:stretch/>
        </p:blipFill>
        <p:spPr>
          <a:xfrm>
            <a:off x="324000" y="26028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ZP3299"/>
          <p:cNvPicPr/>
          <p:nvPr/>
        </p:nvPicPr>
        <p:blipFill>
          <a:blip r:embed="rId5"/>
          <a:stretch/>
        </p:blipFill>
        <p:spPr>
          <a:xfrm>
            <a:off x="-684360" y="1700280"/>
            <a:ext cx="2922840" cy="2427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9"/>
          <p:cNvSpPr/>
          <p:nvPr/>
        </p:nvSpPr>
        <p:spPr>
          <a:xfrm>
            <a:off x="3780000" y="692280"/>
            <a:ext cx="1152360" cy="3168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284720" y="3860640"/>
            <a:ext cx="142920" cy="505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851280" y="765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3851280" y="17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3851280" y="2781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1.09462 0.66157 E">
                                      <p:cBhvr>
                                        <p:cTn id="23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625 0.06852 L -1.00364 0.0581 E">
                                      <p:cBhvr>
                                        <p:cTn id="29" dur="3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67 -0.02129 L -1.08264 0.26227 E">
                                      <p:cBhvr>
                                        <p:cTn id="35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6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4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493 0.09629 L 1.30503 0.24329 E">
                                      <p:cBhvr>
                                        <p:cTn id="77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431 -0.00069 L 1.48837 0.02107 E">
                                      <p:cBhvr>
                                        <p:cTn id="8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038480" y="144792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ЯМ ЗНАТЬ ПОЛОЖЕН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C:\Documents and Settings\DIABLO\Рабочий стол\картинки пдд\1.jpeg"/>
          <p:cNvPicPr/>
          <p:nvPr/>
        </p:nvPicPr>
        <p:blipFill>
          <a:blip r:embed="rId1"/>
          <a:stretch/>
        </p:blipFill>
        <p:spPr>
          <a:xfrm>
            <a:off x="762120" y="1523880"/>
            <a:ext cx="2805120" cy="3535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2160" y="2742840"/>
            <a:ext cx="4647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ДОРОЖНЫЕ!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2f00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07f09"/>
                </a:solidFill>
                <a:latin typeface="Verdana"/>
              </a:rPr>
              <a:t>Светофор наш лучший друг,</a:t>
            </a:r>
            <a:br>
              <a:rPr sz="4000"/>
            </a:br>
            <a:r>
              <a:rPr b="1" lang="ru-RU" sz="4000" spc="-1" strike="noStrike">
                <a:solidFill>
                  <a:srgbClr val="f07f09"/>
                </a:solidFill>
                <a:latin typeface="Verdana"/>
              </a:rPr>
              <a:t>каждый это знает!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2975040" cy="4800600"/>
          </a:xfrm>
          <a:prstGeom prst="rect">
            <a:avLst/>
          </a:prstGeom>
          <a:ln w="0">
            <a:noFill/>
          </a:ln>
        </p:spPr>
      </p:pic>
      <p:pic>
        <p:nvPicPr>
          <p:cNvPr id="249" name="3.wav" descr=""/>
          <p:cNvPicPr/>
          <p:nvPr/>
        </p:nvPicPr>
        <p:blipFill>
          <a:blip r:embed="rId2"/>
          <a:stretch/>
        </p:blipFill>
        <p:spPr>
          <a:xfrm>
            <a:off x="5943600" y="-5335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 rot="556800">
            <a:off x="4884480" y="678960"/>
            <a:ext cx="39862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Цвет зелен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ходи! </a:t>
            </a:r>
            <a:br>
              <a:rPr sz="18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8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3733560" y="5943600"/>
            <a:ext cx="82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CRCTR142"/>
          <p:cNvPicPr/>
          <p:nvPr/>
        </p:nvPicPr>
        <p:blipFill>
          <a:blip r:embed="rId1"/>
          <a:stretch/>
        </p:blipFill>
        <p:spPr>
          <a:xfrm>
            <a:off x="6019920" y="2971800"/>
            <a:ext cx="2560680" cy="3097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3" descr="C:\Documents and Settings\Ирина\Рабочий стол\49_milash2.gif"/>
          <p:cNvPicPr/>
          <p:nvPr/>
        </p:nvPicPr>
        <p:blipFill>
          <a:blip r:embed="rId2"/>
          <a:stretch/>
        </p:blipFill>
        <p:spPr>
          <a:xfrm>
            <a:off x="533520" y="2819520"/>
            <a:ext cx="1447560" cy="29811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C:\Documents and Settings\Ирина\Рабочий стол\40_md36.gif"/>
          <p:cNvPicPr/>
          <p:nvPr/>
        </p:nvPicPr>
        <p:blipFill>
          <a:blip r:embed="rId3"/>
          <a:stretch/>
        </p:blipFill>
        <p:spPr>
          <a:xfrm>
            <a:off x="2209680" y="4038480"/>
            <a:ext cx="838440" cy="1581120"/>
          </a:xfrm>
          <a:prstGeom prst="rect">
            <a:avLst/>
          </a:prstGeom>
          <a:ln w="0">
            <a:noFill/>
          </a:ln>
        </p:spPr>
      </p:pic>
      <p:pic>
        <p:nvPicPr>
          <p:cNvPr id="260" name="4.wav" descr=""/>
          <p:cNvPicPr/>
          <p:nvPr/>
        </p:nvPicPr>
        <p:blipFill>
          <a:blip r:embed="rId4"/>
          <a:stretch/>
        </p:blipFill>
        <p:spPr>
          <a:xfrm>
            <a:off x="5715000" y="-457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3238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 rot="568200">
            <a:off x="4774680" y="664560"/>
            <a:ext cx="441036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Желт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алость погод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 flipH="1">
            <a:off x="3860640" y="6172200"/>
            <a:ext cx="82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5" descr="HAPPYBOY"/>
          <p:cNvPicPr/>
          <p:nvPr/>
        </p:nvPicPr>
        <p:blipFill>
          <a:blip r:embed="rId1"/>
          <a:stretch/>
        </p:blipFill>
        <p:spPr>
          <a:xfrm>
            <a:off x="1763640" y="2895480"/>
            <a:ext cx="1152720" cy="2667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COBJ061"/>
          <p:cNvPicPr/>
          <p:nvPr/>
        </p:nvPicPr>
        <p:blipFill>
          <a:blip r:embed="rId2"/>
          <a:stretch/>
        </p:blipFill>
        <p:spPr>
          <a:xfrm flipH="1">
            <a:off x="5790960" y="3809880"/>
            <a:ext cx="2268360" cy="1590840"/>
          </a:xfrm>
          <a:prstGeom prst="rect">
            <a:avLst/>
          </a:prstGeom>
          <a:ln w="0">
            <a:noFill/>
          </a:ln>
        </p:spPr>
      </p:pic>
      <p:pic>
        <p:nvPicPr>
          <p:cNvPr id="270" name="5.wav" descr=""/>
          <p:cNvPicPr/>
          <p:nvPr/>
        </p:nvPicPr>
        <p:blipFill>
          <a:blip r:embed="rId3"/>
          <a:stretch/>
        </p:blipFill>
        <p:spPr>
          <a:xfrm>
            <a:off x="51814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118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 rot="487200">
            <a:off x="5078520" y="831600"/>
            <a:ext cx="395136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у, а если красный –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той, дружок!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асно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"/>
          <p:cNvSpPr/>
          <p:nvPr/>
        </p:nvSpPr>
        <p:spPr>
          <a:xfrm flipH="1">
            <a:off x="4005360" y="6172200"/>
            <a:ext cx="76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3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3" descr="HEA005"/>
          <p:cNvPicPr/>
          <p:nvPr/>
        </p:nvPicPr>
        <p:blipFill>
          <a:blip r:embed="rId1"/>
          <a:stretch/>
        </p:blipFill>
        <p:spPr>
          <a:xfrm>
            <a:off x="990720" y="2362320"/>
            <a:ext cx="1828800" cy="3051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C:\Documents and Settings\Ирина\Рабочий стол\14_md10.gif"/>
          <p:cNvPicPr/>
          <p:nvPr/>
        </p:nvPicPr>
        <p:blipFill>
          <a:blip r:embed="rId2"/>
          <a:stretch/>
        </p:blipFill>
        <p:spPr>
          <a:xfrm>
            <a:off x="7010280" y="3581280"/>
            <a:ext cx="600120" cy="1771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C:\Documents and Settings\Ирина\Рабочий стол\16_md12.gif"/>
          <p:cNvPicPr/>
          <p:nvPr/>
        </p:nvPicPr>
        <p:blipFill>
          <a:blip r:embed="rId3"/>
          <a:stretch/>
        </p:blipFill>
        <p:spPr>
          <a:xfrm>
            <a:off x="5943600" y="3429000"/>
            <a:ext cx="800280" cy="1924200"/>
          </a:xfrm>
          <a:prstGeom prst="rect">
            <a:avLst/>
          </a:prstGeom>
          <a:ln w="0">
            <a:noFill/>
          </a:ln>
        </p:spPr>
      </p:pic>
      <p:pic>
        <p:nvPicPr>
          <p:cNvPr id="281" name="6.wav" descr=""/>
          <p:cNvPicPr/>
          <p:nvPr/>
        </p:nvPicPr>
        <p:blipFill>
          <a:blip r:embed="rId4"/>
          <a:stretch/>
        </p:blipFill>
        <p:spPr>
          <a:xfrm>
            <a:off x="54864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5202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Если светофора нет, то нам поможет на дороге главный человек! (постовой – полицейский)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83" name="Picture 12" descr="MCj01986060000[1]"/>
          <p:cNvPicPr/>
          <p:nvPr/>
        </p:nvPicPr>
        <p:blipFill>
          <a:blip r:embed="rId1"/>
          <a:stretch/>
        </p:blipFill>
        <p:spPr>
          <a:xfrm>
            <a:off x="5562720" y="1143000"/>
            <a:ext cx="2935080" cy="35622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3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111960" y="2057400"/>
            <a:ext cx="2406240" cy="2345400"/>
            <a:chOff x="111960" y="2057400"/>
            <a:chExt cx="2406240" cy="2345400"/>
          </a:xfrm>
        </p:grpSpPr>
        <p:grpSp>
          <p:nvGrpSpPr>
            <p:cNvPr id="288" name="Group 10"/>
            <p:cNvGrpSpPr/>
            <p:nvPr/>
          </p:nvGrpSpPr>
          <p:grpSpPr>
            <a:xfrm>
              <a:off x="111960" y="2057400"/>
              <a:ext cx="2406240" cy="2345400"/>
              <a:chOff x="111960" y="2057400"/>
              <a:chExt cx="2406240" cy="2345400"/>
            </a:xfrm>
          </p:grpSpPr>
          <p:sp>
            <p:nvSpPr>
              <p:cNvPr id="289" name="AutoShape 11"/>
              <p:cNvSpPr/>
              <p:nvPr/>
            </p:nvSpPr>
            <p:spPr>
              <a:xfrm rot="2375400">
                <a:off x="213120" y="2752560"/>
                <a:ext cx="2147760" cy="10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 rot="2375400">
                <a:off x="162000" y="2688120"/>
                <a:ext cx="2320920" cy="94608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13"/>
              <p:cNvSpPr/>
              <p:nvPr/>
            </p:nvSpPr>
            <p:spPr>
              <a:xfrm rot="2375400">
                <a:off x="1324800" y="3777480"/>
                <a:ext cx="409680" cy="36108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14"/>
              <p:cNvSpPr/>
              <p:nvPr/>
            </p:nvSpPr>
            <p:spPr>
              <a:xfrm rot="2375400">
                <a:off x="415800" y="3025440"/>
                <a:ext cx="409680" cy="36108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 rot="2375400">
                <a:off x="934200" y="2800440"/>
                <a:ext cx="1036080" cy="32436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 rot="2375400">
                <a:off x="1199520" y="3305880"/>
                <a:ext cx="434880" cy="3571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 rot="2375400">
                <a:off x="843840" y="3004920"/>
                <a:ext cx="405000" cy="35244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 rot="2375400">
                <a:off x="1990800" y="3888000"/>
                <a:ext cx="118800" cy="17460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 rot="2375400">
                <a:off x="460440" y="2455560"/>
                <a:ext cx="56160" cy="9972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20"/>
              <p:cNvSpPr/>
              <p:nvPr/>
            </p:nvSpPr>
            <p:spPr>
              <a:xfrm rot="2375400">
                <a:off x="705240" y="2749680"/>
                <a:ext cx="64800" cy="35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21"/>
              <p:cNvSpPr/>
              <p:nvPr/>
            </p:nvSpPr>
            <p:spPr>
              <a:xfrm rot="2375400">
                <a:off x="1846080" y="3695040"/>
                <a:ext cx="70200" cy="352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AutoShape 22"/>
            <p:cNvSpPr/>
            <p:nvPr/>
          </p:nvSpPr>
          <p:spPr>
            <a:xfrm rot="2375400">
              <a:off x="496080" y="3105000"/>
              <a:ext cx="254880" cy="2246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3"/>
            <p:cNvSpPr/>
            <p:nvPr/>
          </p:nvSpPr>
          <p:spPr>
            <a:xfrm rot="2375400">
              <a:off x="1405440" y="3856680"/>
              <a:ext cx="254880" cy="22464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8" descr="CAR"/>
          <p:cNvPicPr/>
          <p:nvPr/>
        </p:nvPicPr>
        <p:blipFill>
          <a:blip r:embed="rId2"/>
          <a:stretch/>
        </p:blipFill>
        <p:spPr>
          <a:xfrm rot="3483000">
            <a:off x="102240" y="5301000"/>
            <a:ext cx="2160720" cy="1441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COBJ061"/>
          <p:cNvPicPr/>
          <p:nvPr/>
        </p:nvPicPr>
        <p:blipFill>
          <a:blip r:embed="rId3"/>
          <a:stretch/>
        </p:blipFill>
        <p:spPr>
          <a:xfrm flipH="1" rot="1666800">
            <a:off x="468000" y="893520"/>
            <a:ext cx="2268360" cy="1590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5" descr="C:\Documents and Settings\Ирина\Рабочий стол\19_md15.gif"/>
          <p:cNvPicPr/>
          <p:nvPr/>
        </p:nvPicPr>
        <p:blipFill>
          <a:blip r:embed="rId4"/>
          <a:stretch/>
        </p:blipFill>
        <p:spPr>
          <a:xfrm>
            <a:off x="4629240" y="2209680"/>
            <a:ext cx="780840" cy="1524240"/>
          </a:xfrm>
          <a:prstGeom prst="rect">
            <a:avLst/>
          </a:prstGeom>
          <a:ln w="0">
            <a:noFill/>
          </a:ln>
        </p:spPr>
      </p:pic>
      <p:pic>
        <p:nvPicPr>
          <p:cNvPr id="305" name="7.wav" descr=""/>
          <p:cNvPicPr/>
          <p:nvPr/>
        </p:nvPicPr>
        <p:blipFill>
          <a:blip r:embed="rId5"/>
          <a:stretch/>
        </p:blipFill>
        <p:spPr>
          <a:xfrm>
            <a:off x="49528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22222E-006 L 0.404 0.46111 E">
                                      <p:cBhvr>
                                        <p:cTn id="150" dur="8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8400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На проезжей части играть, друзья, опасно!!!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152280" y="1066680"/>
            <a:ext cx="8991720" cy="60199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j0212957"/>
          <p:cNvPicPr/>
          <p:nvPr/>
        </p:nvPicPr>
        <p:blipFill>
          <a:blip r:embed="rId1"/>
          <a:stretch/>
        </p:blipFill>
        <p:spPr>
          <a:xfrm>
            <a:off x="2057400" y="2133720"/>
            <a:ext cx="2178000" cy="13665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26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7"/>
          <p:cNvSpPr/>
          <p:nvPr/>
        </p:nvSpPr>
        <p:spPr>
          <a:xfrm>
            <a:off x="0" y="6629400"/>
            <a:ext cx="91440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2209680" y="3657600"/>
            <a:ext cx="2716200" cy="1617840"/>
            <a:chOff x="2209680" y="3657600"/>
            <a:chExt cx="2716200" cy="1617840"/>
          </a:xfrm>
        </p:grpSpPr>
        <p:grpSp>
          <p:nvGrpSpPr>
            <p:cNvPr id="313" name="Group 10"/>
            <p:cNvGrpSpPr/>
            <p:nvPr/>
          </p:nvGrpSpPr>
          <p:grpSpPr>
            <a:xfrm>
              <a:off x="2209680" y="3657600"/>
              <a:ext cx="2716200" cy="1617840"/>
              <a:chOff x="2209680" y="3657600"/>
              <a:chExt cx="2716200" cy="1617840"/>
            </a:xfrm>
          </p:grpSpPr>
          <p:sp>
            <p:nvSpPr>
              <p:cNvPr id="314" name="AutoShape 11"/>
              <p:cNvSpPr/>
              <p:nvPr/>
            </p:nvSpPr>
            <p:spPr>
              <a:xfrm>
                <a:off x="2380680" y="3736080"/>
                <a:ext cx="2513520" cy="153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2"/>
              <p:cNvSpPr/>
              <p:nvPr/>
            </p:nvSpPr>
            <p:spPr>
              <a:xfrm>
                <a:off x="2209680" y="3657600"/>
                <a:ext cx="2716200" cy="1335240"/>
              </a:xfrm>
              <a:prstGeom prst="pie">
                <a:avLst/>
              </a:pr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13"/>
              <p:cNvSpPr/>
              <p:nvPr/>
            </p:nvSpPr>
            <p:spPr>
              <a:xfrm>
                <a:off x="4109400" y="4749840"/>
                <a:ext cx="479160" cy="50976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14"/>
              <p:cNvSpPr/>
              <p:nvPr/>
            </p:nvSpPr>
            <p:spPr>
              <a:xfrm>
                <a:off x="2728440" y="4749840"/>
                <a:ext cx="479520" cy="50976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5"/>
              <p:cNvSpPr/>
              <p:nvPr/>
            </p:nvSpPr>
            <p:spPr>
              <a:xfrm>
                <a:off x="2930760" y="3763080"/>
                <a:ext cx="1212480" cy="457920"/>
              </a:xfrm>
              <a:prstGeom prst="pie">
                <a:avLst/>
              </a:pr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6"/>
              <p:cNvSpPr/>
              <p:nvPr/>
            </p:nvSpPr>
            <p:spPr>
              <a:xfrm>
                <a:off x="3639600" y="4339440"/>
                <a:ext cx="509040" cy="50400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7"/>
              <p:cNvSpPr/>
              <p:nvPr/>
            </p:nvSpPr>
            <p:spPr>
              <a:xfrm>
                <a:off x="3096360" y="4345920"/>
                <a:ext cx="474120" cy="497520"/>
              </a:xfrm>
              <a:prstGeom prst="pie">
                <a:avLst/>
              </a:pr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"/>
              <p:cNvSpPr/>
              <p:nvPr/>
            </p:nvSpPr>
            <p:spPr>
              <a:xfrm>
                <a:off x="4762080" y="4432680"/>
                <a:ext cx="138960" cy="24624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9"/>
              <p:cNvSpPr/>
              <p:nvPr/>
            </p:nvSpPr>
            <p:spPr>
              <a:xfrm>
                <a:off x="2293920" y="4291560"/>
                <a:ext cx="65880" cy="140760"/>
              </a:xfrm>
              <a:prstGeom prst="pi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20"/>
              <p:cNvSpPr/>
              <p:nvPr/>
            </p:nvSpPr>
            <p:spPr>
              <a:xfrm>
                <a:off x="2708640" y="4397400"/>
                <a:ext cx="75960" cy="49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21"/>
              <p:cNvSpPr/>
              <p:nvPr/>
            </p:nvSpPr>
            <p:spPr>
              <a:xfrm>
                <a:off x="4442400" y="4397400"/>
                <a:ext cx="82080" cy="496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AutoShape 22"/>
            <p:cNvSpPr/>
            <p:nvPr/>
          </p:nvSpPr>
          <p:spPr>
            <a:xfrm>
              <a:off x="2830320" y="4855680"/>
              <a:ext cx="298080" cy="3168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3"/>
            <p:cNvSpPr/>
            <p:nvPr/>
          </p:nvSpPr>
          <p:spPr>
            <a:xfrm>
              <a:off x="4210920" y="4855680"/>
              <a:ext cx="298080" cy="3168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7" name="Picture 122" descr="MCj03209260000[1]"/>
          <p:cNvPicPr/>
          <p:nvPr/>
        </p:nvPicPr>
        <p:blipFill>
          <a:blip r:embed="rId2"/>
          <a:stretch/>
        </p:blipFill>
        <p:spPr>
          <a:xfrm flipH="1" rot="21553200">
            <a:off x="5698440" y="1318680"/>
            <a:ext cx="3430440" cy="2133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2" descr="CRCTR320"/>
          <p:cNvPicPr/>
          <p:nvPr/>
        </p:nvPicPr>
        <p:blipFill>
          <a:blip r:embed="rId3"/>
          <a:stretch/>
        </p:blipFill>
        <p:spPr>
          <a:xfrm flipH="1" rot="371400">
            <a:off x="6781320" y="4419360"/>
            <a:ext cx="1295640" cy="1752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42" descr="COBJ060"/>
          <p:cNvPicPr/>
          <p:nvPr/>
        </p:nvPicPr>
        <p:blipFill>
          <a:blip r:embed="rId4"/>
          <a:stretch/>
        </p:blipFill>
        <p:spPr>
          <a:xfrm flipH="1" rot="18057600">
            <a:off x="4493880" y="5068800"/>
            <a:ext cx="2602080" cy="1290600"/>
          </a:xfrm>
          <a:prstGeom prst="rect">
            <a:avLst/>
          </a:prstGeom>
          <a:ln w="0">
            <a:noFill/>
          </a:ln>
        </p:spPr>
      </p:pic>
      <p:pic>
        <p:nvPicPr>
          <p:cNvPr id="330" name="8.wav" descr=""/>
          <p:cNvPicPr/>
          <p:nvPr/>
        </p:nvPicPr>
        <p:blipFill>
          <a:blip r:embed="rId5"/>
          <a:stretch/>
        </p:blipFill>
        <p:spPr>
          <a:xfrm>
            <a:off x="49528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7087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рюс Ли</dc:creator>
  <dc:description/>
  <dc:language>en-US</dc:language>
  <cp:lastModifiedBy>Брюс Ли</cp:lastModifiedBy>
  <dcterms:modified xsi:type="dcterms:W3CDTF">2018-12-02T19:10:33Z</dcterms:modified>
  <cp:revision>2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