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9.gif" ContentType="image/gif"/>
  <Override PartName="/ppt/media/image24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28.jpeg" ContentType="image/jpeg"/>
  <Override PartName="/ppt/media/image15.gif" ContentType="image/gif"/>
  <Override PartName="/ppt/media/image5.jpeg" ContentType="image/jpeg"/>
  <Override PartName="/ppt/media/image32.jpeg" ContentType="image/jpeg"/>
  <Override PartName="/ppt/media/image33.gif" ContentType="image/gif"/>
  <Override PartName="/ppt/media/image39.png" ContentType="image/png"/>
  <Override PartName="/ppt/media/image9.png" ContentType="image/png"/>
  <Override PartName="/ppt/media/image17.wmf" ContentType="image/x-wmf"/>
  <Override PartName="/ppt/media/image40.jpeg" ContentType="image/jpeg"/>
  <Override PartName="/ppt/media/image13.wmf" ContentType="image/x-wmf"/>
  <Override PartName="/ppt/media/image34.gif" ContentType="image/gif"/>
  <Override PartName="/ppt/media/image37.wmf" ContentType="image/x-wmf"/>
  <Override PartName="/ppt/media/image14.gif" ContentType="image/gif"/>
  <Override PartName="/ppt/media/image38.gif" ContentType="image/gif"/>
  <Override PartName="/ppt/media/image35.jpeg" ContentType="image/jpeg"/>
  <Override PartName="/ppt/media/image10.png" ContentType="image/png"/>
  <Override PartName="/ppt/media/image30.gif" ContentType="image/gif"/>
  <Override PartName="/ppt/media/image8.png" ContentType="image/png"/>
  <Override PartName="/ppt/media/image16.wmf" ContentType="image/x-wmf"/>
  <Override PartName="/ppt/media/image31.gif" ContentType="image/gif"/>
  <Override PartName="/ppt/media/image11.jpeg" ContentType="image/jpeg"/>
  <Override PartName="/ppt/media/image18.wmf" ContentType="image/x-wmf"/>
  <Override PartName="/ppt/media/image36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2.png" ContentType="image/png"/>
  <Override PartName="/ppt/media/image1.png" ContentType="image/png"/>
  <Override PartName="/ppt/media/image1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0D9-30C2-4F54-9814-0DBC8CDAE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F08-C4EA-4128-9243-0FDF586E3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2D2B-FDEB-4E2A-9603-7615E08EF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759A-1597-4823-8235-0C042BA3F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517F-C41D-4C01-A1BF-46F2C4035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EF8-7E46-46F3-9BB5-8BD48B0C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2C5-C614-470D-B0FA-62046351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59E-0130-4F7A-AED0-898C188B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951-F255-45F6-84A0-087F6901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D0E-1256-4554-849B-CCA49AF7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5816-5E1E-4F7E-B64E-591F0F96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96C7-929E-47DE-82D5-2677949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4C80-78BF-4254-9C69-0361C2A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13A4-3E8D-4FA7-AD91-64ADF12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391C-886E-4770-8016-76E4A730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3289-F68A-4FC6-8EF0-CF1C74F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B17-24F9-417A-B679-1C71F11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B3B5-407F-425F-BA8C-53A9668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31E3-4244-46A6-BBFE-0F237E76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7F8D-5B55-41BA-A7D1-9CF9FDC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AA4-8E56-4841-82B7-55EAB89B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FB5B-0CC6-4907-A147-DC7B890A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ABA2-4724-41AF-B074-8C42B260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8C57-3E3F-4674-9988-DB76F4BA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F132-C951-4C59-A109-E49851AE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1213-8A61-4E8E-9296-E892CD7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6E94-A8D9-42A4-9EF4-F5810212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65A-6D00-4B44-918B-4077591B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EA81-A4A4-4965-BE51-66748BE3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0F20-5441-4CA8-8F26-1D9F067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D027-5B5C-47C2-B294-330CFA51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5BDC-BB59-4A77-AF90-907ADE2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813D-03AB-4CE0-A447-DA637FFB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102B-F878-4390-B703-C1F6C8D5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A979-A1F4-42C3-B3C9-544E6E7A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F1E0-7BC2-458C-A2CB-DB9312BB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A044-166D-4D60-9162-A582A678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94FA-BE7D-4C0C-A8DF-6C7BB28C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F54-DA5A-4508-B432-8B35B353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7931-1FAF-4AC3-8F9D-39AB7905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D7A9-ACCF-4F7F-8FC5-A86C71C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B146-72DA-4E03-809D-51BB061F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3056-DE27-42A8-87B5-18F3BE0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6E9B-2E1E-47C0-AF40-CB0FCDA8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B95B-43B3-4955-B972-B425A68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2ACB-CF69-445E-B55B-CE791F8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509C-35D9-43F8-B65E-AFEFEE45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6415-C494-48B7-BF6F-6249ED0D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F5A5-0C5A-4E24-BA6A-058F5512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CDF-A9C9-4AFA-9792-59FDD7C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874B-4FFC-4B4F-9592-9FAE6D2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5DDE-32C9-4527-8399-C6726973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9A08-38D3-41B2-92E1-C73839C8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08A8-5CD7-47CC-832A-067137C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B411-C898-49D3-9962-57E6A77C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70DB-5429-41C5-9EFF-A4D274F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13F0-2401-44B7-ABC5-D1B85F7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76A1-0E7A-445A-93AA-0B3A98D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7C0D-B1C0-494C-A871-8F28D08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03FD-AC8D-48C5-BE8B-4BBF613F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867-8921-4941-B6E1-2A27AD35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7847-47C9-4C7D-B1B4-84CFA3E5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596-6B6D-410E-9CAC-8CE58E7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E48-9E4F-415C-A5FB-95B58EE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4D5-54AF-4C4A-986C-DD15A6E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F68-D430-4BAD-B0FB-7BD9F2C54F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3470-9C72-4449-A607-5A564E614A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1A23-FDD5-4C9B-A9E8-BA2BB0838F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930-80FA-4111-8D76-19C93BC468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A6A-2E4A-4CF6-B038-A236CB0B1A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0.gif"/><Relationship Id="rId4" Type="http://schemas.openxmlformats.org/officeDocument/2006/relationships/image" Target="../media/image34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7.wmf"/><Relationship Id="rId3" Type="http://schemas.openxmlformats.org/officeDocument/2006/relationships/image" Target="../media/image17.wmf"/><Relationship Id="rId4" Type="http://schemas.openxmlformats.org/officeDocument/2006/relationships/image" Target="../media/image38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7.wmf"/><Relationship Id="rId4" Type="http://schemas.openxmlformats.org/officeDocument/2006/relationships/image" Target="../media/image2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19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62f00"/>
                </a:solidFill>
                <a:latin typeface="Arial Black"/>
              </a:rPr>
              <a:t>ДИДАКТИЧЕСКАЯ ИГРА</a:t>
            </a:r>
            <a:br>
              <a:rPr sz="2200"/>
            </a:b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« В добрый путь!» </a:t>
            </a:r>
            <a:br>
              <a:rPr sz="4000"/>
            </a:br>
            <a:r>
              <a:rPr b="1" lang="ru-RU" sz="2200" spc="-1" strike="noStrike">
                <a:solidFill>
                  <a:srgbClr val="00b050"/>
                </a:solidFill>
                <a:latin typeface="Arial Black"/>
              </a:rPr>
              <a:t>( 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для детей 6 – 7 лет )</a:t>
            </a:r>
            <a:br>
              <a:rPr sz="2400"/>
            </a:br>
            <a:br>
              <a:rPr sz="1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657600" y="3962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колаева О.К., воспитатель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-детский сад «Алёнушка» п.г.т.Суход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1.wav" descr=""/>
          <p:cNvPicPr/>
          <p:nvPr/>
        </p:nvPicPr>
        <p:blipFill>
          <a:blip r:embed="rId1"/>
          <a:stretch/>
        </p:blipFill>
        <p:spPr>
          <a:xfrm>
            <a:off x="6858000" y="-533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C:\Documents and Settings\DIABLO\Рабочий стол\946243.jpg"/>
          <p:cNvPicPr/>
          <p:nvPr/>
        </p:nvPicPr>
        <p:blipFill>
          <a:blip r:embed="rId2"/>
          <a:stretch/>
        </p:blipFill>
        <p:spPr>
          <a:xfrm>
            <a:off x="762120" y="3124080"/>
            <a:ext cx="269712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Мы по улице шагаем и ворон мы не считаем, смело мы идем вперед, где нам виден пе-ре-ход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2" name="Picture 57" descr="C:\Documents and Settings\Ирина\Рабочий стол\п22передел.jpg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190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C:\Documents and Settings\Ирина\Рабочий стол\12_md8.gif"/>
          <p:cNvPicPr/>
          <p:nvPr/>
        </p:nvPicPr>
        <p:blipFill>
          <a:blip r:embed="rId2"/>
          <a:stretch/>
        </p:blipFill>
        <p:spPr>
          <a:xfrm>
            <a:off x="5105520" y="3581280"/>
            <a:ext cx="399960" cy="91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AG00222_"/>
          <p:cNvPicPr/>
          <p:nvPr/>
        </p:nvPicPr>
        <p:blipFill>
          <a:blip r:embed="rId3"/>
          <a:stretch/>
        </p:blipFill>
        <p:spPr>
          <a:xfrm flipH="1" rot="21420000">
            <a:off x="3222360" y="4057560"/>
            <a:ext cx="769680" cy="892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C:\Documents and Settings\Ирина\Рабочий стол\собака1.gif"/>
          <p:cNvPicPr/>
          <p:nvPr/>
        </p:nvPicPr>
        <p:blipFill>
          <a:blip r:embed="rId4"/>
          <a:stretch/>
        </p:blipFill>
        <p:spPr>
          <a:xfrm>
            <a:off x="6019920" y="5257800"/>
            <a:ext cx="947520" cy="438120"/>
          </a:xfrm>
          <a:prstGeom prst="rect">
            <a:avLst/>
          </a:prstGeom>
          <a:ln w="0">
            <a:noFill/>
          </a:ln>
        </p:spPr>
      </p:pic>
      <p:pic>
        <p:nvPicPr>
          <p:cNvPr id="336" name="10.wav" descr=""/>
          <p:cNvPicPr/>
          <p:nvPr/>
        </p:nvPicPr>
        <p:blipFill>
          <a:blip r:embed="rId5"/>
          <a:stretch/>
        </p:blipFill>
        <p:spPr>
          <a:xfrm>
            <a:off x="57150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910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1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Если перехода нет- зебра даст на все ответ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8" name="Picture 26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96080" cy="5047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Documents and Settings\Ирина\Рабочий стол\47_md44.gif"/>
          <p:cNvPicPr/>
          <p:nvPr/>
        </p:nvPicPr>
        <p:blipFill>
          <a:blip r:embed="rId2"/>
          <a:stretch/>
        </p:blipFill>
        <p:spPr>
          <a:xfrm>
            <a:off x="4648320" y="990720"/>
            <a:ext cx="609480" cy="1276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AG00222_"/>
          <p:cNvPicPr/>
          <p:nvPr/>
        </p:nvPicPr>
        <p:blipFill>
          <a:blip r:embed="rId3"/>
          <a:stretch/>
        </p:blipFill>
        <p:spPr>
          <a:xfrm flipH="1" rot="21420000">
            <a:off x="7292520" y="3533400"/>
            <a:ext cx="1147680" cy="2054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Documents and Settings\Ирина\Рабочий стол\машина.gif"/>
          <p:cNvPicPr/>
          <p:nvPr/>
        </p:nvPicPr>
        <p:blipFill>
          <a:blip r:embed="rId4"/>
          <a:stretch/>
        </p:blipFill>
        <p:spPr>
          <a:xfrm>
            <a:off x="6705720" y="1143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42" name="9.wav" descr=""/>
          <p:cNvPicPr/>
          <p:nvPr/>
        </p:nvPicPr>
        <p:blipFill>
          <a:blip r:embed="rId5"/>
          <a:stretch/>
        </p:blipFill>
        <p:spPr>
          <a:xfrm>
            <a:off x="5943600" y="-380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0 L -0.71666 -0.04444 E">
                                      <p:cBhvr>
                                        <p:cTn id="190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942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6761"/>
            </a:gs>
            <a:gs pos="50000">
              <a:srgbClr val="e3ded1"/>
            </a:gs>
            <a:gs pos="100000">
              <a:srgbClr val="696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Если дорогу не успел перейти, остановись, подожди в центре пути!(на центральной линии или островке безопасности)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Rectangle 4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6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12.wav" descr=""/>
          <p:cNvPicPr/>
          <p:nvPr/>
        </p:nvPicPr>
        <p:blipFill>
          <a:blip r:embed="rId1"/>
          <a:stretch/>
        </p:blipFill>
        <p:spPr>
          <a:xfrm>
            <a:off x="49528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3" descr="C:\Documents and Settings\DIABLO\Рабочий стол\картинки пдд\2.jpeg"/>
          <p:cNvPicPr/>
          <p:nvPr/>
        </p:nvPicPr>
        <p:blipFill>
          <a:blip r:embed="rId2"/>
          <a:stretch/>
        </p:blipFill>
        <p:spPr>
          <a:xfrm>
            <a:off x="1143000" y="1828800"/>
            <a:ext cx="67057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123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22160" y="762120"/>
            <a:ext cx="712656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Коль улицу надо тебе перейти-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О правиле помни простом: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С вниманьем налево сперва погляди,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Направо взгляни потом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9" name="22.wav" descr=""/>
          <p:cNvPicPr/>
          <p:nvPr/>
        </p:nvPicPr>
        <p:blipFill>
          <a:blip r:embed="rId1"/>
          <a:stretch/>
        </p:blipFill>
        <p:spPr>
          <a:xfrm>
            <a:off x="51055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C:\Documents and Settings\DIABLO\Рабочий стол\картинки пдд\i.jpeg"/>
          <p:cNvPicPr/>
          <p:nvPr/>
        </p:nvPicPr>
        <p:blipFill>
          <a:blip r:embed="rId2"/>
          <a:stretch/>
        </p:blipFill>
        <p:spPr>
          <a:xfrm>
            <a:off x="1371600" y="2590920"/>
            <a:ext cx="624852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8402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Едет машина, водитель в пути. Ты не беги вперед -  подожди</a:t>
            </a: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!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52" name="Group 70"/>
          <p:cNvGrpSpPr/>
          <p:nvPr/>
        </p:nvGrpSpPr>
        <p:grpSpPr>
          <a:xfrm>
            <a:off x="6400800" y="2438280"/>
            <a:ext cx="1943280" cy="2159280"/>
            <a:chOff x="6400800" y="2438280"/>
            <a:chExt cx="1943280" cy="2159280"/>
          </a:xfrm>
        </p:grpSpPr>
        <p:sp>
          <p:nvSpPr>
            <p:cNvPr id="353" name="AutoShape 10"/>
            <p:cNvSpPr/>
            <p:nvPr/>
          </p:nvSpPr>
          <p:spPr>
            <a:xfrm>
              <a:off x="6400800" y="2438280"/>
              <a:ext cx="194328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772680" y="2479680"/>
              <a:ext cx="1350000" cy="174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7812360" y="2498400"/>
              <a:ext cx="299520" cy="199080"/>
            </a:xfrm>
            <a:prstGeom prst="pie">
              <a:avLst/>
            </a:pr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7286400" y="2652840"/>
              <a:ext cx="316080" cy="364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197840" y="2686680"/>
              <a:ext cx="285840" cy="28692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920000" y="2686680"/>
              <a:ext cx="102240" cy="112680"/>
            </a:xfrm>
            <a:prstGeom prst="pie">
              <a:avLst/>
            </a:pr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7287840" y="2705400"/>
              <a:ext cx="2160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688520" y="2711520"/>
              <a:ext cx="118080" cy="124920"/>
            </a:xfrm>
            <a:prstGeom prst="pie">
              <a:avLst/>
            </a:pr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9"/>
            <p:cNvSpPr/>
            <p:nvPr/>
          </p:nvSpPr>
          <p:spPr>
            <a:xfrm>
              <a:off x="7816320" y="2725200"/>
              <a:ext cx="93600" cy="56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0"/>
            <p:cNvSpPr/>
            <p:nvPr/>
          </p:nvSpPr>
          <p:spPr>
            <a:xfrm>
              <a:off x="7732080" y="2731680"/>
              <a:ext cx="4896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1"/>
            <p:cNvSpPr/>
            <p:nvPr/>
          </p:nvSpPr>
          <p:spPr>
            <a:xfrm>
              <a:off x="7150320" y="2753280"/>
              <a:ext cx="193320" cy="14184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7730640" y="2761200"/>
              <a:ext cx="43560" cy="2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3"/>
            <p:cNvSpPr/>
            <p:nvPr/>
          </p:nvSpPr>
          <p:spPr>
            <a:xfrm>
              <a:off x="7147440" y="2770200"/>
              <a:ext cx="270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"/>
            <p:cNvSpPr/>
            <p:nvPr/>
          </p:nvSpPr>
          <p:spPr>
            <a:xfrm>
              <a:off x="7572600" y="2770200"/>
              <a:ext cx="134640" cy="19764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5"/>
            <p:cNvSpPr/>
            <p:nvPr/>
          </p:nvSpPr>
          <p:spPr>
            <a:xfrm>
              <a:off x="7625880" y="2814840"/>
              <a:ext cx="2700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6"/>
            <p:cNvSpPr/>
            <p:nvPr/>
          </p:nvSpPr>
          <p:spPr>
            <a:xfrm>
              <a:off x="7306920" y="2819520"/>
              <a:ext cx="91080" cy="92520"/>
            </a:xfrm>
            <a:prstGeom prst="pie">
              <a:avLst/>
            </a:pr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7"/>
            <p:cNvSpPr/>
            <p:nvPr/>
          </p:nvSpPr>
          <p:spPr>
            <a:xfrm>
              <a:off x="7170480" y="2836800"/>
              <a:ext cx="35280" cy="98640"/>
            </a:xfrm>
            <a:prstGeom prst="pie">
              <a:avLst/>
            </a:prstGeom>
            <a:solidFill>
              <a:srgbClr val="a8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7624440" y="2838240"/>
              <a:ext cx="28440" cy="2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7120440" y="2853360"/>
              <a:ext cx="14760" cy="27720"/>
            </a:xfrm>
            <a:prstGeom prst="pie">
              <a:avLst/>
            </a:prstGeom>
            <a:solidFill>
              <a:srgbClr val="a8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7620120" y="2856600"/>
              <a:ext cx="4212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7625880" y="2873880"/>
              <a:ext cx="39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7619040" y="2876760"/>
              <a:ext cx="6948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7001640" y="2884680"/>
              <a:ext cx="461880" cy="56664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4"/>
            <p:cNvSpPr/>
            <p:nvPr/>
          </p:nvSpPr>
          <p:spPr>
            <a:xfrm>
              <a:off x="7314840" y="2896920"/>
              <a:ext cx="16200" cy="576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5"/>
            <p:cNvSpPr/>
            <p:nvPr/>
          </p:nvSpPr>
          <p:spPr>
            <a:xfrm>
              <a:off x="7314840" y="2919960"/>
              <a:ext cx="27360" cy="27360"/>
            </a:xfrm>
            <a:prstGeom prst="pie">
              <a:avLst/>
            </a:pr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6"/>
            <p:cNvSpPr/>
            <p:nvPr/>
          </p:nvSpPr>
          <p:spPr>
            <a:xfrm>
              <a:off x="7350480" y="2955240"/>
              <a:ext cx="7488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7"/>
            <p:cNvSpPr/>
            <p:nvPr/>
          </p:nvSpPr>
          <p:spPr>
            <a:xfrm>
              <a:off x="7454160" y="2970720"/>
              <a:ext cx="31320" cy="2340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8"/>
            <p:cNvSpPr/>
            <p:nvPr/>
          </p:nvSpPr>
          <p:spPr>
            <a:xfrm>
              <a:off x="7452720" y="2991240"/>
              <a:ext cx="34920" cy="4464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9"/>
            <p:cNvSpPr/>
            <p:nvPr/>
          </p:nvSpPr>
          <p:spPr>
            <a:xfrm>
              <a:off x="7132680" y="3028320"/>
              <a:ext cx="12888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0"/>
            <p:cNvSpPr/>
            <p:nvPr/>
          </p:nvSpPr>
          <p:spPr>
            <a:xfrm>
              <a:off x="7448760" y="3045240"/>
              <a:ext cx="25560" cy="756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1"/>
            <p:cNvSpPr/>
            <p:nvPr/>
          </p:nvSpPr>
          <p:spPr>
            <a:xfrm>
              <a:off x="7414560" y="3072600"/>
              <a:ext cx="69480" cy="126720"/>
            </a:xfrm>
            <a:prstGeom prst="pie">
              <a:avLst/>
            </a:pr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2"/>
            <p:cNvSpPr/>
            <p:nvPr/>
          </p:nvSpPr>
          <p:spPr>
            <a:xfrm>
              <a:off x="7180200" y="3209040"/>
              <a:ext cx="614520" cy="54648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6950160" y="3344760"/>
              <a:ext cx="88200" cy="130680"/>
            </a:xfrm>
            <a:prstGeom prst="pie">
              <a:avLst/>
            </a:prstGeom>
            <a:solidFill>
              <a:srgbClr val="d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7009920" y="3344760"/>
              <a:ext cx="95040" cy="132480"/>
            </a:xfrm>
            <a:prstGeom prst="pie">
              <a:avLst/>
            </a:prstGeom>
            <a:solidFill>
              <a:srgbClr val="d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7721280" y="3387960"/>
              <a:ext cx="84240" cy="709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7120440" y="3445200"/>
              <a:ext cx="56880" cy="103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7"/>
            <p:cNvSpPr/>
            <p:nvPr/>
          </p:nvSpPr>
          <p:spPr>
            <a:xfrm>
              <a:off x="7709040" y="3446640"/>
              <a:ext cx="137160" cy="167760"/>
            </a:xfrm>
            <a:prstGeom prst="pie">
              <a:avLst/>
            </a:prstGeom>
            <a:solidFill>
              <a:srgbClr val="d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8"/>
            <p:cNvSpPr/>
            <p:nvPr/>
          </p:nvSpPr>
          <p:spPr>
            <a:xfrm>
              <a:off x="7105320" y="3457800"/>
              <a:ext cx="9360" cy="4608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9"/>
            <p:cNvSpPr/>
            <p:nvPr/>
          </p:nvSpPr>
          <p:spPr>
            <a:xfrm>
              <a:off x="7111800" y="3681360"/>
              <a:ext cx="490680" cy="249840"/>
            </a:xfrm>
            <a:prstGeom prst="pie">
              <a:avLst/>
            </a:prstGeom>
            <a:solidFill>
              <a:srgbClr val="47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0"/>
            <p:cNvSpPr/>
            <p:nvPr/>
          </p:nvSpPr>
          <p:spPr>
            <a:xfrm>
              <a:off x="6868080" y="3808440"/>
              <a:ext cx="287280" cy="284040"/>
            </a:xfrm>
            <a:prstGeom prst="pie">
              <a:avLst/>
            </a:prstGeom>
            <a:solidFill>
              <a:srgbClr val="ff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1"/>
            <p:cNvSpPr/>
            <p:nvPr/>
          </p:nvSpPr>
          <p:spPr>
            <a:xfrm>
              <a:off x="6835320" y="3814200"/>
              <a:ext cx="295560" cy="294840"/>
            </a:xfrm>
            <a:prstGeom prst="pie">
              <a:avLst/>
            </a:prstGeom>
            <a:solidFill>
              <a:srgbClr val="0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2"/>
            <p:cNvSpPr/>
            <p:nvPr/>
          </p:nvSpPr>
          <p:spPr>
            <a:xfrm>
              <a:off x="6963480" y="3837240"/>
              <a:ext cx="40680" cy="7416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3"/>
            <p:cNvSpPr/>
            <p:nvPr/>
          </p:nvSpPr>
          <p:spPr>
            <a:xfrm>
              <a:off x="7079400" y="3849840"/>
              <a:ext cx="115560" cy="1184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4"/>
            <p:cNvSpPr/>
            <p:nvPr/>
          </p:nvSpPr>
          <p:spPr>
            <a:xfrm>
              <a:off x="7413120" y="3860640"/>
              <a:ext cx="137160" cy="348840"/>
            </a:xfrm>
            <a:prstGeom prst="pie">
              <a:avLst/>
            </a:prstGeom>
            <a:solidFill>
              <a:srgbClr val="47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5"/>
            <p:cNvSpPr/>
            <p:nvPr/>
          </p:nvSpPr>
          <p:spPr>
            <a:xfrm>
              <a:off x="7039800" y="3877560"/>
              <a:ext cx="34920" cy="7560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6"/>
            <p:cNvSpPr/>
            <p:nvPr/>
          </p:nvSpPr>
          <p:spPr>
            <a:xfrm>
              <a:off x="7643520" y="3894480"/>
              <a:ext cx="296640" cy="216360"/>
            </a:xfrm>
            <a:prstGeom prst="pie">
              <a:avLst/>
            </a:prstGeom>
            <a:solidFill>
              <a:srgbClr val="dee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7"/>
            <p:cNvSpPr/>
            <p:nvPr/>
          </p:nvSpPr>
          <p:spPr>
            <a:xfrm>
              <a:off x="6786360" y="3897720"/>
              <a:ext cx="280800" cy="281160"/>
            </a:xfrm>
            <a:prstGeom prst="pie">
              <a:avLst/>
            </a:prstGeom>
            <a:solidFill>
              <a:srgbClr val="dee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8"/>
            <p:cNvSpPr/>
            <p:nvPr/>
          </p:nvSpPr>
          <p:spPr>
            <a:xfrm>
              <a:off x="7111800" y="3930120"/>
              <a:ext cx="21600" cy="2448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9"/>
            <p:cNvSpPr/>
            <p:nvPr/>
          </p:nvSpPr>
          <p:spPr>
            <a:xfrm>
              <a:off x="7599960" y="3967200"/>
              <a:ext cx="284760" cy="219240"/>
            </a:xfrm>
            <a:prstGeom prst="pie">
              <a:avLst/>
            </a:prstGeom>
            <a:solidFill>
              <a:srgbClr val="0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0"/>
            <p:cNvSpPr/>
            <p:nvPr/>
          </p:nvSpPr>
          <p:spPr>
            <a:xfrm>
              <a:off x="7593120" y="3991680"/>
              <a:ext cx="259920" cy="194400"/>
            </a:xfrm>
            <a:prstGeom prst="pie">
              <a:avLst/>
            </a:prstGeom>
            <a:solidFill>
              <a:srgbClr val="ff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1"/>
            <p:cNvSpPr/>
            <p:nvPr/>
          </p:nvSpPr>
          <p:spPr>
            <a:xfrm>
              <a:off x="7552440" y="4067640"/>
              <a:ext cx="43560" cy="1252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2"/>
            <p:cNvSpPr/>
            <p:nvPr/>
          </p:nvSpPr>
          <p:spPr>
            <a:xfrm>
              <a:off x="7594200" y="4080240"/>
              <a:ext cx="15120" cy="6444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3"/>
            <p:cNvSpPr/>
            <p:nvPr/>
          </p:nvSpPr>
          <p:spPr>
            <a:xfrm>
              <a:off x="7650360" y="4084560"/>
              <a:ext cx="24480" cy="6444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4"/>
            <p:cNvSpPr/>
            <p:nvPr/>
          </p:nvSpPr>
          <p:spPr>
            <a:xfrm>
              <a:off x="7714080" y="4109040"/>
              <a:ext cx="31320" cy="5868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7"/>
            <p:cNvSpPr/>
            <p:nvPr/>
          </p:nvSpPr>
          <p:spPr>
            <a:xfrm>
              <a:off x="7091640" y="4356360"/>
              <a:ext cx="3708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8"/>
            <p:cNvSpPr/>
            <p:nvPr/>
          </p:nvSpPr>
          <p:spPr>
            <a:xfrm>
              <a:off x="7196760" y="4402800"/>
              <a:ext cx="42228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9"/>
            <p:cNvSpPr/>
            <p:nvPr/>
          </p:nvSpPr>
          <p:spPr>
            <a:xfrm>
              <a:off x="7321680" y="4430520"/>
              <a:ext cx="3351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0" name="Picture 7" descr="CRCTR030"/>
          <p:cNvPicPr/>
          <p:nvPr/>
        </p:nvPicPr>
        <p:blipFill>
          <a:blip r:embed="rId1"/>
          <a:stretch/>
        </p:blipFill>
        <p:spPr>
          <a:xfrm>
            <a:off x="6781680" y="426708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6" descr="COBJ060"/>
          <p:cNvPicPr/>
          <p:nvPr/>
        </p:nvPicPr>
        <p:blipFill>
          <a:blip r:embed="rId2"/>
          <a:stretch/>
        </p:blipFill>
        <p:spPr>
          <a:xfrm rot="20178000">
            <a:off x="3795840" y="2476080"/>
            <a:ext cx="2185920" cy="2286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3" descr="COBJ061"/>
          <p:cNvPicPr/>
          <p:nvPr/>
        </p:nvPicPr>
        <p:blipFill>
          <a:blip r:embed="rId3"/>
          <a:stretch/>
        </p:blipFill>
        <p:spPr>
          <a:xfrm flipH="1" rot="4167000">
            <a:off x="1650960" y="2803320"/>
            <a:ext cx="2175120" cy="1778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5" descr="C:\Documents and Settings\Ирина\Рабочий стол\26_md22.gif"/>
          <p:cNvPicPr/>
          <p:nvPr/>
        </p:nvPicPr>
        <p:blipFill>
          <a:blip r:embed="rId4"/>
          <a:stretch/>
        </p:blipFill>
        <p:spPr>
          <a:xfrm>
            <a:off x="533520" y="3581280"/>
            <a:ext cx="761760" cy="2248200"/>
          </a:xfrm>
          <a:prstGeom prst="rect">
            <a:avLst/>
          </a:prstGeom>
          <a:ln w="0">
            <a:noFill/>
          </a:ln>
        </p:spPr>
      </p:pic>
      <p:pic>
        <p:nvPicPr>
          <p:cNvPr id="414" name="13.wav" descr=""/>
          <p:cNvPicPr/>
          <p:nvPr/>
        </p:nvPicPr>
        <p:blipFill>
          <a:blip r:embed="rId5"/>
          <a:stretch/>
        </p:blipFill>
        <p:spPr>
          <a:xfrm>
            <a:off x="5562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44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445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24.wav" descr=""/>
          <p:cNvPicPr/>
          <p:nvPr/>
        </p:nvPicPr>
        <p:blipFill>
          <a:blip r:embed="rId1"/>
          <a:stretch/>
        </p:blipFill>
        <p:spPr>
          <a:xfrm>
            <a:off x="556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7" descr=""/>
          <p:cNvPicPr/>
          <p:nvPr/>
        </p:nvPicPr>
        <p:blipFill>
          <a:blip r:embed="rId2"/>
          <a:stretch/>
        </p:blipFill>
        <p:spPr>
          <a:xfrm>
            <a:off x="523800" y="579600"/>
            <a:ext cx="8175600" cy="1998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8" descr="C:\Documents and Settings\DIABLO\Рабочий стол\картинки пдд\8.jpeg"/>
          <p:cNvPicPr/>
          <p:nvPr/>
        </p:nvPicPr>
        <p:blipFill>
          <a:blip r:embed="rId3"/>
          <a:stretch/>
        </p:blipFill>
        <p:spPr>
          <a:xfrm>
            <a:off x="2133720" y="2057400"/>
            <a:ext cx="5048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750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03"/>
                            </p:stCondLst>
                            <p:childTnLst>
                              <p:par>
                                <p:cTn id="2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9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23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29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35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77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8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38480" y="144792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ЯМ ЗНАТЬ ПОЛОЖЕН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C:\Documents and Settings\DIABLO\Рабочий стол\картинки пдд\1.jpeg"/>
          <p:cNvPicPr/>
          <p:nvPr/>
        </p:nvPicPr>
        <p:blipFill>
          <a:blip r:embed="rId1"/>
          <a:stretch/>
        </p:blipFill>
        <p:spPr>
          <a:xfrm>
            <a:off x="762120" y="1523880"/>
            <a:ext cx="2805120" cy="3535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2160" y="274284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ОРОЖНЫЕ!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7f09"/>
                </a:solidFill>
                <a:latin typeface="Verdana"/>
              </a:rPr>
              <a:t>Светофор наш лучший друг,</a:t>
            </a:r>
            <a:br>
              <a:rPr sz="4000"/>
            </a:br>
            <a:r>
              <a:rPr b="1" lang="ru-RU" sz="4000" spc="-1" strike="noStrike">
                <a:solidFill>
                  <a:srgbClr val="f07f09"/>
                </a:solidFill>
                <a:latin typeface="Verdana"/>
              </a:rPr>
              <a:t>каждый это знает!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2975040" cy="4800600"/>
          </a:xfrm>
          <a:prstGeom prst="rect">
            <a:avLst/>
          </a:prstGeom>
          <a:ln w="0">
            <a:noFill/>
          </a:ln>
        </p:spPr>
      </p:pic>
      <p:pic>
        <p:nvPicPr>
          <p:cNvPr id="249" name="3.wav" descr=""/>
          <p:cNvPicPr/>
          <p:nvPr/>
        </p:nvPicPr>
        <p:blipFill>
          <a:blip r:embed="rId2"/>
          <a:stretch/>
        </p:blipFill>
        <p:spPr>
          <a:xfrm>
            <a:off x="59436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 rot="556800">
            <a:off x="4884480" y="678960"/>
            <a:ext cx="39862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вет зеле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ходи! </a:t>
            </a:r>
            <a:br>
              <a:rPr sz="1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CRCTR142"/>
          <p:cNvPicPr/>
          <p:nvPr/>
        </p:nvPicPr>
        <p:blipFill>
          <a:blip r:embed="rId1"/>
          <a:stretch/>
        </p:blipFill>
        <p:spPr>
          <a:xfrm>
            <a:off x="6019920" y="2971800"/>
            <a:ext cx="2560680" cy="3097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C:\Documents and Settings\Ирина\Рабочий стол\49_milash2.gif"/>
          <p:cNvPicPr/>
          <p:nvPr/>
        </p:nvPicPr>
        <p:blipFill>
          <a:blip r:embed="rId2"/>
          <a:stretch/>
        </p:blipFill>
        <p:spPr>
          <a:xfrm>
            <a:off x="533520" y="2819520"/>
            <a:ext cx="1447560" cy="2981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C:\Documents and Settings\Ирина\Рабочий стол\40_md36.gif"/>
          <p:cNvPicPr/>
          <p:nvPr/>
        </p:nvPicPr>
        <p:blipFill>
          <a:blip r:embed="rId3"/>
          <a:stretch/>
        </p:blipFill>
        <p:spPr>
          <a:xfrm>
            <a:off x="2209680" y="4038480"/>
            <a:ext cx="838440" cy="1581120"/>
          </a:xfrm>
          <a:prstGeom prst="rect">
            <a:avLst/>
          </a:prstGeom>
          <a:ln w="0">
            <a:noFill/>
          </a:ln>
        </p:spPr>
      </p:pic>
      <p:pic>
        <p:nvPicPr>
          <p:cNvPr id="260" name="4.wav" descr=""/>
          <p:cNvPicPr/>
          <p:nvPr/>
        </p:nvPicPr>
        <p:blipFill>
          <a:blip r:embed="rId4"/>
          <a:stretch/>
        </p:blipFill>
        <p:spPr>
          <a:xfrm>
            <a:off x="571500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238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 rot="568200">
            <a:off x="4774680" y="664560"/>
            <a:ext cx="4410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елт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лость погод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5" descr="HAPPYBOY"/>
          <p:cNvPicPr/>
          <p:nvPr/>
        </p:nvPicPr>
        <p:blipFill>
          <a:blip r:embed="rId1"/>
          <a:stretch/>
        </p:blipFill>
        <p:spPr>
          <a:xfrm>
            <a:off x="1763640" y="2895480"/>
            <a:ext cx="115272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COBJ061"/>
          <p:cNvPicPr/>
          <p:nvPr/>
        </p:nvPicPr>
        <p:blipFill>
          <a:blip r:embed="rId2"/>
          <a:stretch/>
        </p:blipFill>
        <p:spPr>
          <a:xfrm flipH="1">
            <a:off x="5790960" y="3809880"/>
            <a:ext cx="2268360" cy="1590840"/>
          </a:xfrm>
          <a:prstGeom prst="rect">
            <a:avLst/>
          </a:prstGeom>
          <a:ln w="0">
            <a:noFill/>
          </a:ln>
        </p:spPr>
      </p:pic>
      <p:pic>
        <p:nvPicPr>
          <p:cNvPr id="270" name="5.wav" descr=""/>
          <p:cNvPicPr/>
          <p:nvPr/>
        </p:nvPicPr>
        <p:blipFill>
          <a:blip r:embed="rId3"/>
          <a:stretch/>
        </p:blipFill>
        <p:spPr>
          <a:xfrm>
            <a:off x="51814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118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 rot="487200">
            <a:off x="5078520" y="831600"/>
            <a:ext cx="39513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у, а если крас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ой, дружок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асно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3" descr="HEA005"/>
          <p:cNvPicPr/>
          <p:nvPr/>
        </p:nvPicPr>
        <p:blipFill>
          <a:blip r:embed="rId1"/>
          <a:stretch/>
        </p:blipFill>
        <p:spPr>
          <a:xfrm>
            <a:off x="990720" y="2362320"/>
            <a:ext cx="1828800" cy="3051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C:\Documents and Settings\Ирина\Рабочий стол\14_md10.gif"/>
          <p:cNvPicPr/>
          <p:nvPr/>
        </p:nvPicPr>
        <p:blipFill>
          <a:blip r:embed="rId2"/>
          <a:stretch/>
        </p:blipFill>
        <p:spPr>
          <a:xfrm>
            <a:off x="7010280" y="3581280"/>
            <a:ext cx="600120" cy="1771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C:\Documents and Settings\Ирина\Рабочий стол\16_md12.gif"/>
          <p:cNvPicPr/>
          <p:nvPr/>
        </p:nvPicPr>
        <p:blipFill>
          <a:blip r:embed="rId3"/>
          <a:stretch/>
        </p:blipFill>
        <p:spPr>
          <a:xfrm>
            <a:off x="5943600" y="3429000"/>
            <a:ext cx="800280" cy="1924200"/>
          </a:xfrm>
          <a:prstGeom prst="rect">
            <a:avLst/>
          </a:prstGeom>
          <a:ln w="0">
            <a:noFill/>
          </a:ln>
        </p:spPr>
      </p:pic>
      <p:pic>
        <p:nvPicPr>
          <p:cNvPr id="281" name="6.wav" descr=""/>
          <p:cNvPicPr/>
          <p:nvPr/>
        </p:nvPicPr>
        <p:blipFill>
          <a:blip r:embed="rId4"/>
          <a:stretch/>
        </p:blipFill>
        <p:spPr>
          <a:xfrm>
            <a:off x="54864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5202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Если светофора нет, то нам поможет на дороге главный человек! (постовой – полицейский)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12" descr="MCj01986060000[1]"/>
          <p:cNvPicPr/>
          <p:nvPr/>
        </p:nvPicPr>
        <p:blipFill>
          <a:blip r:embed="rId1"/>
          <a:stretch/>
        </p:blipFill>
        <p:spPr>
          <a:xfrm>
            <a:off x="5562720" y="1143000"/>
            <a:ext cx="2935080" cy="35622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3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11960" y="2057400"/>
            <a:ext cx="2406240" cy="2345400"/>
            <a:chOff x="111960" y="2057400"/>
            <a:chExt cx="2406240" cy="2345400"/>
          </a:xfrm>
        </p:grpSpPr>
        <p:grpSp>
          <p:nvGrpSpPr>
            <p:cNvPr id="288" name="Group 10"/>
            <p:cNvGrpSpPr/>
            <p:nvPr/>
          </p:nvGrpSpPr>
          <p:grpSpPr>
            <a:xfrm>
              <a:off x="111960" y="2057400"/>
              <a:ext cx="2406240" cy="2345400"/>
              <a:chOff x="111960" y="2057400"/>
              <a:chExt cx="2406240" cy="2345400"/>
            </a:xfrm>
          </p:grpSpPr>
          <p:sp>
            <p:nvSpPr>
              <p:cNvPr id="289" name="AutoShape 11"/>
              <p:cNvSpPr/>
              <p:nvPr/>
            </p:nvSpPr>
            <p:spPr>
              <a:xfrm rot="2375400">
                <a:off x="213120" y="2752560"/>
                <a:ext cx="214776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 rot="2375400">
                <a:off x="162000" y="2688120"/>
                <a:ext cx="2320920" cy="94608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 rot="2375400">
                <a:off x="1324800" y="377748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 rot="2375400">
                <a:off x="415800" y="302544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 rot="2375400">
                <a:off x="934200" y="2800440"/>
                <a:ext cx="1036080" cy="32436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 rot="2375400">
                <a:off x="1199520" y="3305880"/>
                <a:ext cx="434880" cy="3571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 rot="2375400">
                <a:off x="843840" y="3004920"/>
                <a:ext cx="405000" cy="3524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 rot="2375400">
                <a:off x="1990800" y="3888000"/>
                <a:ext cx="118800" cy="1746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 rot="2375400">
                <a:off x="460440" y="2455560"/>
                <a:ext cx="56160" cy="997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 rot="2375400">
                <a:off x="705240" y="2749680"/>
                <a:ext cx="648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 rot="2375400">
                <a:off x="1846080" y="3695040"/>
                <a:ext cx="702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AutoShape 22"/>
            <p:cNvSpPr/>
            <p:nvPr/>
          </p:nvSpPr>
          <p:spPr>
            <a:xfrm rot="2375400">
              <a:off x="496080" y="310500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3"/>
            <p:cNvSpPr/>
            <p:nvPr/>
          </p:nvSpPr>
          <p:spPr>
            <a:xfrm rot="2375400">
              <a:off x="1405440" y="385668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8" descr="CAR"/>
          <p:cNvPicPr/>
          <p:nvPr/>
        </p:nvPicPr>
        <p:blipFill>
          <a:blip r:embed="rId2"/>
          <a:stretch/>
        </p:blipFill>
        <p:spPr>
          <a:xfrm rot="3483000">
            <a:off x="102240" y="530100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COBJ061"/>
          <p:cNvPicPr/>
          <p:nvPr/>
        </p:nvPicPr>
        <p:blipFill>
          <a:blip r:embed="rId3"/>
          <a:stretch/>
        </p:blipFill>
        <p:spPr>
          <a:xfrm flipH="1" rot="1666800">
            <a:off x="468000" y="893520"/>
            <a:ext cx="2268360" cy="1590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5" descr="C:\Documents and Settings\Ирина\Рабочий стол\19_md15.gif"/>
          <p:cNvPicPr/>
          <p:nvPr/>
        </p:nvPicPr>
        <p:blipFill>
          <a:blip r:embed="rId4"/>
          <a:stretch/>
        </p:blipFill>
        <p:spPr>
          <a:xfrm>
            <a:off x="4629240" y="2209680"/>
            <a:ext cx="780840" cy="1524240"/>
          </a:xfrm>
          <a:prstGeom prst="rect">
            <a:avLst/>
          </a:prstGeom>
          <a:ln w="0">
            <a:noFill/>
          </a:ln>
        </p:spPr>
      </p:pic>
      <p:pic>
        <p:nvPicPr>
          <p:cNvPr id="305" name="7.wav" descr=""/>
          <p:cNvPicPr/>
          <p:nvPr/>
        </p:nvPicPr>
        <p:blipFill>
          <a:blip r:embed="rId5"/>
          <a:stretch/>
        </p:blipFill>
        <p:spPr>
          <a:xfrm>
            <a:off x="49528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404 0.46111 E">
                                      <p:cBhvr>
                                        <p:cTn id="150" dur="8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8400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 проезжей части играть, друзья, опасно!!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152280" y="1066680"/>
            <a:ext cx="8991720" cy="6019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j0212957"/>
          <p:cNvPicPr/>
          <p:nvPr/>
        </p:nvPicPr>
        <p:blipFill>
          <a:blip r:embed="rId1"/>
          <a:stretch/>
        </p:blipFill>
        <p:spPr>
          <a:xfrm>
            <a:off x="2057400" y="2133720"/>
            <a:ext cx="2178000" cy="13665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6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2209680" y="3657600"/>
            <a:ext cx="2716200" cy="1617840"/>
            <a:chOff x="2209680" y="3657600"/>
            <a:chExt cx="2716200" cy="1617840"/>
          </a:xfrm>
        </p:grpSpPr>
        <p:grpSp>
          <p:nvGrpSpPr>
            <p:cNvPr id="313" name="Group 10"/>
            <p:cNvGrpSpPr/>
            <p:nvPr/>
          </p:nvGrpSpPr>
          <p:grpSpPr>
            <a:xfrm>
              <a:off x="2209680" y="3657600"/>
              <a:ext cx="2716200" cy="1617840"/>
              <a:chOff x="2209680" y="3657600"/>
              <a:chExt cx="2716200" cy="1617840"/>
            </a:xfrm>
          </p:grpSpPr>
          <p:sp>
            <p:nvSpPr>
              <p:cNvPr id="314" name="AutoShape 11"/>
              <p:cNvSpPr/>
              <p:nvPr/>
            </p:nvSpPr>
            <p:spPr>
              <a:xfrm>
                <a:off x="2380680" y="3736080"/>
                <a:ext cx="2513520" cy="15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>
                <a:off x="2209680" y="3657600"/>
                <a:ext cx="2716200" cy="13352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13"/>
              <p:cNvSpPr/>
              <p:nvPr/>
            </p:nvSpPr>
            <p:spPr>
              <a:xfrm>
                <a:off x="4109400" y="4749840"/>
                <a:ext cx="47916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14"/>
              <p:cNvSpPr/>
              <p:nvPr/>
            </p:nvSpPr>
            <p:spPr>
              <a:xfrm>
                <a:off x="2728440" y="4749840"/>
                <a:ext cx="47952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5"/>
              <p:cNvSpPr/>
              <p:nvPr/>
            </p:nvSpPr>
            <p:spPr>
              <a:xfrm>
                <a:off x="2930760" y="3763080"/>
                <a:ext cx="1212480" cy="4579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6"/>
              <p:cNvSpPr/>
              <p:nvPr/>
            </p:nvSpPr>
            <p:spPr>
              <a:xfrm>
                <a:off x="3639600" y="4339440"/>
                <a:ext cx="509040" cy="5040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"/>
              <p:cNvSpPr/>
              <p:nvPr/>
            </p:nvSpPr>
            <p:spPr>
              <a:xfrm>
                <a:off x="3096360" y="4345920"/>
                <a:ext cx="474120" cy="4975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"/>
              <p:cNvSpPr/>
              <p:nvPr/>
            </p:nvSpPr>
            <p:spPr>
              <a:xfrm>
                <a:off x="4762080" y="4432680"/>
                <a:ext cx="138960" cy="24624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"/>
              <p:cNvSpPr/>
              <p:nvPr/>
            </p:nvSpPr>
            <p:spPr>
              <a:xfrm>
                <a:off x="2293920" y="4291560"/>
                <a:ext cx="65880" cy="140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20"/>
              <p:cNvSpPr/>
              <p:nvPr/>
            </p:nvSpPr>
            <p:spPr>
              <a:xfrm>
                <a:off x="2708640" y="4397400"/>
                <a:ext cx="7596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21"/>
              <p:cNvSpPr/>
              <p:nvPr/>
            </p:nvSpPr>
            <p:spPr>
              <a:xfrm>
                <a:off x="4442400" y="4397400"/>
                <a:ext cx="8208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AutoShape 22"/>
            <p:cNvSpPr/>
            <p:nvPr/>
          </p:nvSpPr>
          <p:spPr>
            <a:xfrm>
              <a:off x="28303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3"/>
            <p:cNvSpPr/>
            <p:nvPr/>
          </p:nvSpPr>
          <p:spPr>
            <a:xfrm>
              <a:off x="42109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122" descr="MCj03209260000[1]"/>
          <p:cNvPicPr/>
          <p:nvPr/>
        </p:nvPicPr>
        <p:blipFill>
          <a:blip r:embed="rId2"/>
          <a:stretch/>
        </p:blipFill>
        <p:spPr>
          <a:xfrm flipH="1" rot="21553200">
            <a:off x="5698440" y="1318680"/>
            <a:ext cx="3430440" cy="2133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CRCTR320"/>
          <p:cNvPicPr/>
          <p:nvPr/>
        </p:nvPicPr>
        <p:blipFill>
          <a:blip r:embed="rId3"/>
          <a:stretch/>
        </p:blipFill>
        <p:spPr>
          <a:xfrm flipH="1" rot="371400">
            <a:off x="6781320" y="441936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2" descr="COBJ060"/>
          <p:cNvPicPr/>
          <p:nvPr/>
        </p:nvPicPr>
        <p:blipFill>
          <a:blip r:embed="rId4"/>
          <a:stretch/>
        </p:blipFill>
        <p:spPr>
          <a:xfrm flipH="1" rot="18057600">
            <a:off x="4493880" y="5068800"/>
            <a:ext cx="2602080" cy="1290600"/>
          </a:xfrm>
          <a:prstGeom prst="rect">
            <a:avLst/>
          </a:prstGeom>
          <a:ln w="0">
            <a:noFill/>
          </a:ln>
        </p:spPr>
      </p:pic>
      <p:pic>
        <p:nvPicPr>
          <p:cNvPr id="330" name="8.wav" descr=""/>
          <p:cNvPicPr/>
          <p:nvPr/>
        </p:nvPicPr>
        <p:blipFill>
          <a:blip r:embed="rId5"/>
          <a:stretch/>
        </p:blipFill>
        <p:spPr>
          <a:xfrm>
            <a:off x="49528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7087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рюс Ли</dc:creator>
  <dc:description/>
  <dc:language>en-US</dc:language>
  <cp:lastModifiedBy>Брюс Ли</cp:lastModifiedBy>
  <dcterms:modified xsi:type="dcterms:W3CDTF">2018-12-02T19:10:33Z</dcterms:modified>
  <cp:revision>2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