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12.gif" ContentType="image/gif"/>
  <Override PartName="/ppt/media/image9.gif" ContentType="image/gif"/>
  <Override PartName="/ppt/media/image10.gif" ContentType="image/gif"/>
  <Override PartName="/ppt/media/image8.wmf" ContentType="image/x-wmf"/>
  <Override PartName="/ppt/media/image7.wmf" ContentType="image/x-wmf"/>
  <Override PartName="/ppt/media/image11.gif" ContentType="image/gif"/>
  <Override PartName="/ppt/media/image14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1.gif" ContentType="image/gif"/>
  <Override PartName="/ppt/media/image4.wmf" ContentType="image/x-wmf"/>
  <Override PartName="/ppt/media/image22.png" ContentType="image/png"/>
  <Override PartName="/ppt/media/image17.gif" ContentType="image/gif"/>
  <Override PartName="/ppt/media/image16.png" ContentType="image/png"/>
  <Override PartName="/ppt/media/image20.png" ContentType="image/png"/>
  <Override PartName="/ppt/media/image15.gif" ContentType="image/gif"/>
  <Override PartName="/ppt/media/image3.gif" ContentType="image/gif"/>
  <Override PartName="/ppt/media/image6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64FB-AFF6-4524-AAED-3DF56EC035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4B9F-6759-4240-979B-AD9AA8B8324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2C28-CE16-4090-9769-A463E395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513-1331-477B-A3DA-ABA21F40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552-0159-4595-8206-4F10F0B1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F18-7DBB-4FC2-85F7-226651C9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3107-E645-4067-907C-56267D05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F5D3-E436-47A0-9EA0-372F98B2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6F86-EAED-43E6-913E-728F5781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5EDC-4060-428A-A11D-4BCF9084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E217-403E-4961-BCAA-41386DD9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A124-D5D3-4209-B012-491DB582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7437-CC98-476B-A5D8-4BD79B92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020-6127-45BB-B423-35845BDD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3159-3441-4D7B-AF0E-9DFEF060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027F-D8B4-4C3F-AC74-7B67AC82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71B6-CE29-43F6-BBB3-83316134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D4E6-CE6B-43A2-B4FF-EB1D52E8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7ABA-BEE8-4AAC-A1A0-B74441A1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B5562-09E7-4485-BB4F-755A0016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2539F-34A8-40F6-B2EE-9EC8EB78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5932A-EF58-4A7A-8B63-DFF6E8E1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F664B-FD4D-4D15-A5EA-A82A826A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108BA-E58D-444A-8946-8DCDB897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BB71-AE77-4DD1-BF83-7D85D95E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B7E4B-CB64-40C6-9695-FF249393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B411C-3B7C-4320-80FE-D037AB96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8EC3B-42FE-47E3-AC6C-A07B77BE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1B05A-5686-4ECB-AB50-7C4FC52D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B0C26-E6ED-4EC4-9C23-9883E10C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E4167-9E6B-4435-B953-4575CE95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B9A4C-B148-41DC-A193-46263437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063F1-70DD-43CC-8285-5484C065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13697-481E-4D04-8A99-B45BBD54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F582F-973D-404F-9FF1-C3DE5ED9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81F-A6C6-498D-9387-7EE0B2BF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E859C-A11D-4A96-BFDC-6772ECA0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18D5C-F42A-4EC2-A209-CE2A6D35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D7F52-E3B2-4ACC-85A2-43435DE6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7B664-E8B3-4F40-AAC4-C764727B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72EAD-67A4-416D-9FA3-D9FED356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4569F-C74A-4321-BD8D-042FB757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69804-B8EF-4C2C-8799-DD43DD28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C9049-D365-4F65-A42E-4F744342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1E885-6A19-44E1-88FC-F41D1406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DAF-4890-472C-989D-D86F8F39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787-4136-4E49-B782-183311D9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953-7AAB-43C3-974B-43E516C6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B9F-5ABD-4602-86A0-A4AD21FE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C37-24F3-49F0-804F-E98FABFC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E898-C4F4-4AB3-832B-E88D6E7F9DB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F714-52A9-4BD2-A56A-78AE0DD6C82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6806-DBEB-4589-867E-EF19495679D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C117-6093-4B04-B145-3A4A86DC98E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9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428.html" TargetMode="External"/><Relationship Id="rId2" Type="http://schemas.openxmlformats.org/officeDocument/2006/relationships/image" Target="../media/image18.gif"/><Relationship Id="rId3" Type="http://schemas.openxmlformats.org/officeDocument/2006/relationships/oleObject" Target="../embeddings/oleObject1.bin"/><Relationship Id="rId4" Type="http://schemas.openxmlformats.org/officeDocument/2006/relationships/hyperlink" Target="file:///&#1080;&#1085;&#1090;&#1077;&#1088;&#1072;&#1082;&#1090;&#1080;&#1074;&#1085;&#1072;&#1103;%20&#1089;&#1080;&#1089;&#1090;&#1077;&#1084;&#1072;%20&#1086;&#1073;&#1091;&#1095;&#1077;&#1085;&#1080;&#1103;.ppt" TargetMode="External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ма: ПРЕДЛОЖЕНИЯ С ОБОСОБЛЕННЫМИ ЧЛЕНАМИ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2" name="Picture 4" descr="Три феи слева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) Это был морской офицер высокий и бледный.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(К.Паустовский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) Дальше шел уже настоящий город  с высокими домами лавкам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кладами воротами.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(В. Катаев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12" descr="computer_girl"/>
          <p:cNvPicPr/>
          <p:nvPr/>
        </p:nvPicPr>
        <p:blipFill>
          <a:blip r:embed="rId1"/>
          <a:stretch/>
        </p:blipFill>
        <p:spPr>
          <a:xfrm>
            <a:off x="2916360" y="0"/>
            <a:ext cx="4319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д) В последнюю минуту Шмидт вместе со своим сыном мальчиком лет шестнадцати   бросился в воду.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(К. Паустовский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е) Хозяин  мой доктор  был вечно занятый молчаливый человек.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(Ю. Казаков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6" name="Picture 8" descr="66"/>
          <p:cNvPicPr/>
          <p:nvPr/>
        </p:nvPicPr>
        <p:blipFill>
          <a:blip r:embed="rId1"/>
          <a:stretch/>
        </p:blipFill>
        <p:spPr>
          <a:xfrm>
            <a:off x="2916360" y="0"/>
            <a:ext cx="446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ж)  Четвертый Костя мальчик лет десяти возбуждал мое любопытство своим задумчивым и печальным взором.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(И. Тургенев.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 algn="just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з)Сам человек работящий он  не выносил лени во все ее видах.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(К. Симонов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701880" y="0"/>
            <a:ext cx="41832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абота с учебни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мментированное письмо упр. 36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дание. Записать, обозначая графически причастные и деепричастные обороты, расставить запятые. Объяснить. Подобрать из текст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6985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) причастия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767640" cy="1944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924360" y="191628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оответствующие схем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4" name="Picture 28" descr="MMj03237560000[1]"/>
          <p:cNvPicPr/>
          <p:nvPr/>
        </p:nvPicPr>
        <p:blipFill>
          <a:blip r:embed="rId2"/>
          <a:stretch/>
        </p:blipFill>
        <p:spPr>
          <a:xfrm>
            <a:off x="2484360" y="0"/>
            <a:ext cx="4608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) деепричастие, соответствующее схеме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7488000" cy="3095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Крестная фея"/>
          <p:cNvPicPr/>
          <p:nvPr/>
        </p:nvPicPr>
        <p:blipFill>
          <a:blip r:embed="rId2"/>
          <a:stretch/>
        </p:blipFill>
        <p:spPr>
          <a:xfrm>
            <a:off x="1619280" y="0"/>
            <a:ext cx="5616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Итог урок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омашнее задание.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§ 5, упр. 35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3068640"/>
            <a:ext cx="5040360" cy="403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3924360" y="0"/>
          <a:ext cx="2735280" cy="24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>
                    <a:hlinkClick r:id="rId4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0"/>
                    <a:ext cx="2735280" cy="24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5"/>
          <p:cNvSpPr/>
          <p:nvPr/>
        </p:nvSpPr>
        <p:spPr>
          <a:xfrm>
            <a:off x="131112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16676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5" name="Picture 69" descr=""/>
          <p:cNvPicPr/>
          <p:nvPr/>
        </p:nvPicPr>
        <p:blipFill>
          <a:blip r:embed="rId2"/>
          <a:stretch/>
        </p:blipFill>
        <p:spPr>
          <a:xfrm>
            <a:off x="785880" y="500040"/>
            <a:ext cx="7788240" cy="5857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3"/>
          <a:stretch/>
        </p:blipFill>
        <p:spPr>
          <a:xfrm>
            <a:off x="1643040" y="1285920"/>
            <a:ext cx="6072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Цели: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научить грамотно выделять обособленные второстепенные члены предложения; обобщить изученный материал о причастном и деепричастном оборотах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tretch/>
        </p:blipFill>
        <p:spPr>
          <a:xfrm>
            <a:off x="3276720" y="0"/>
            <a:ext cx="41749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. Организационный момент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6" name="Picture 8" descr="C:\Documents and Settings\Dem\Мои документы\Мои документы\Презентации\Румянцева\Анимашки 2\анимашки\кот6.gif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ктуализация знаний учащихся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Беседа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1. Какие предложения по цели высказывания вам известны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2. Какие предложения по интонации вы знаете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9" name="Picture 3" descr="C:\Documents and Settings\Admin\Local Settings\Temporary Internet Files\Content.IE5\7BE9MPXB\MCj04379900000[1].wmf"/>
          <p:cNvPicPr/>
          <p:nvPr/>
        </p:nvPicPr>
        <p:blipFill>
          <a:blip r:embed="rId1"/>
          <a:stretch/>
        </p:blipFill>
        <p:spPr>
          <a:xfrm>
            <a:off x="6300720" y="4365720"/>
            <a:ext cx="235764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2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6960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Что такое причастный оборот? Приведите примеры. Расскажите о постановке знаков препинания в предложениях с причастным оборот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Что называется деепричастным оборотом? Приведите примеры. Расскажите о постановке знаков препинания в предложениях с деепричастным оборот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Содержимое 4" descr="медведь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556000" y="0"/>
            <a:ext cx="52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 Назовите разряды обособленных второстепенных членов предлож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3" descr="C:\Documents and Settings\Admin\Local Settings\Temporary Internet Files\Content.IE5\B2KKZN7I\MCj04241680000[1].wmf"/>
          <p:cNvPicPr/>
          <p:nvPr/>
        </p:nvPicPr>
        <p:blipFill>
          <a:blip r:embed="rId1"/>
          <a:stretch/>
        </p:blipFill>
        <p:spPr>
          <a:xfrm>
            <a:off x="1403280" y="1844640"/>
            <a:ext cx="6769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обособленные определения и приложения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обособленные дополнения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обособленные обстоятельств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2" descr="C:\Documents and Settings\Admin\Local Settings\Temporary Internet Files\Content.IE5\B2KKZN7I\MCj04247300000[1].wmf"/>
          <p:cNvPicPr/>
          <p:nvPr/>
        </p:nvPicPr>
        <p:blipFill>
          <a:blip r:embed="rId1"/>
          <a:stretch/>
        </p:blipFill>
        <p:spPr>
          <a:xfrm>
            <a:off x="2124000" y="0"/>
            <a:ext cx="38163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амостоятельная работа по вариант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вариант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дание. Записать предложения, расставить знаки препинания и рассказать об обособленных определениях и приложения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20" descr="MCBD07156_0000[1]"/>
          <p:cNvPicPr/>
          <p:nvPr/>
        </p:nvPicPr>
        <p:blipFill>
          <a:blip r:embed="rId1"/>
          <a:stretch/>
        </p:blipFill>
        <p:spPr>
          <a:xfrm>
            <a:off x="1835280" y="0"/>
            <a:ext cx="5400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а) Месяц на закате похож на раскаленный  подернутый голубоватым теплом печки.    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(В. Катаев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б) Высокое небо с единственным облаком похожим на кисть винограда отражалось в воде.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(К. Паустовский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6:39:53Z</dcterms:created>
  <dc:creator>Валентина Николаевна Мешкова</dc:creator>
  <dc:description/>
  <dc:language>en-US</dc:language>
  <cp:lastModifiedBy>валентина</cp:lastModifiedBy>
  <dcterms:modified xsi:type="dcterms:W3CDTF">2018-12-06T18:43:02Z</dcterms:modified>
  <cp:revision>4</cp:revision>
  <dc:subject/>
  <dc:title>Слайд 1</dc:title>
</cp:coreProperties>
</file>