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2.gif" ContentType="image/gif"/>
  <Override PartName="/ppt/media/image9.gif" ContentType="image/gif"/>
  <Override PartName="/ppt/media/image10.gif" ContentType="image/gif"/>
  <Override PartName="/ppt/media/image8.wmf" ContentType="image/x-wmf"/>
  <Override PartName="/ppt/media/image7.wmf" ContentType="image/x-wmf"/>
  <Override PartName="/ppt/media/image11.gif" ContentType="image/gif"/>
  <Override PartName="/ppt/media/image14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1.gif" ContentType="image/gif"/>
  <Override PartName="/ppt/media/image4.wmf" ContentType="image/x-wmf"/>
  <Override PartName="/ppt/media/image22.png" ContentType="image/png"/>
  <Override PartName="/ppt/media/image17.gif" ContentType="image/gif"/>
  <Override PartName="/ppt/media/image16.png" ContentType="image/png"/>
  <Override PartName="/ppt/media/image20.png" ContentType="image/png"/>
  <Override PartName="/ppt/media/image15.gif" ContentType="image/gif"/>
  <Override PartName="/ppt/media/image3.gif" ContentType="image/gif"/>
  <Override PartName="/ppt/media/image6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EA20-2110-42B8-9F75-520F016DC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7A63-897B-4D51-AA2A-8518818A8AA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2C4-448D-41E9-B34F-296FCCBE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967-08A8-4B5C-A1E1-29218D48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F43-2A08-482C-ADC6-D22DDF33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CDB-80D4-4678-93D2-9CC10764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3C6E-24F0-463B-B7B3-5A3E6E50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9BD9-575C-4ABA-B804-1CE75E0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712A-B7FB-4D17-86E5-4A547AB4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62F5-F80C-4A2D-ABCE-D2013B91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7067-CF40-407C-A9B3-1F53B515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81F7-FD9F-4293-9DA2-F556C9C3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5D54-5177-41F8-96DC-A1CB0D57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E82-D525-4CA5-91BA-2982A8A1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E729-0A1E-4095-9996-F676B37C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8B13-D9BC-487B-8DD7-73E1D551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FF75-25BA-480D-B4AC-FD7C74F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7807-2C56-49D5-BF10-90AE6F8B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2C6A-9D44-4084-9BE7-E91CCC3F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5ABD-AA7E-4158-8110-01ECD2DD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6C07-8029-4A5D-8865-1D522C03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06C8-B3CC-4A12-A2DC-4F0B7ACD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BA55-057D-4E57-B2BA-5CD0BE35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7E0BA-B457-4410-9F0E-53271260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5C1-BFDE-4DCF-9295-9780073B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7596-FE08-42F7-9272-408E9BCD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115F-0028-4AB8-AE70-60008CC3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1779-580B-482E-8DEF-D79EE915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F77E8-D5A4-413A-A42F-0A20729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6869-BD93-4BC0-A392-69836EDB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52F3-0921-4D2C-9D0A-24DA1323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FB780-46FB-4310-B671-A0224FED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1F81-9B2F-4AC8-A3E8-73F28DC8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7E552-7835-4AE6-9C58-1E801841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10D7-FB42-4015-A331-40450070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3DF-B61F-4856-9CD0-9847579D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41C7-4481-40A6-95AC-404C5AB8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4D2AA-58D6-43E0-BD51-42342AD1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B08A-E2C7-40F9-82F1-98FED08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33493-AC65-45EE-9ADD-56A57624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D665C-2F40-4B74-8D78-DE21251A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8A91A-8471-4059-8F96-49EEEC1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9F31-47A4-4BEC-8FAA-A43AC04F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579A-E744-4EB7-B017-33B4ABAA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1597-0D23-4431-B214-84BC494C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BAC-958B-45C7-81E0-05DAC144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F354-C7BF-469D-B27F-68C1B0C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051-D4A2-4986-AAE3-10723D19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2F4-1B5D-4220-9DA9-94882C5F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915-5200-4356-AC92-183B134B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E8E2-6C5A-47A7-9D24-9BDE78D2BB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C04A-1162-483A-948B-D58CCCB70D9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2C8-0942-4200-93B1-002DE6F9E51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A64B-FB31-4927-BCD5-82AF306116B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9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428.html" TargetMode="External"/><Relationship Id="rId2" Type="http://schemas.openxmlformats.org/officeDocument/2006/relationships/image" Target="../media/image18.gif"/><Relationship Id="rId3" Type="http://schemas.openxmlformats.org/officeDocument/2006/relationships/oleObject" Target="../embeddings/oleObject1.bin"/><Relationship Id="rId4" Type="http://schemas.openxmlformats.org/officeDocument/2006/relationships/hyperlink" Target="file:///&#1080;&#1085;&#1090;&#1077;&#1088;&#1072;&#1082;&#1090;&#1080;&#1074;&#1085;&#1072;&#1103;%20&#1089;&#1080;&#1089;&#1090;&#1077;&#1084;&#1072;%20&#1086;&#1073;&#1091;&#1095;&#1077;&#1085;&#1080;&#1103;.ppt" TargetMode="External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Тема: ПРЕДЛОЖЕНИЯ С ОБОСОБЛЕННЫМИ ЧЛЕНАМ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2" name="Picture 4" descr="Три феи слева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) Это был морской офицер высокий и бледный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К.Паустовский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) Дальше шел уже настоящий город  с высокими домами лавками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кладами воротами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В. Катаев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12" descr="computer_girl"/>
          <p:cNvPicPr/>
          <p:nvPr/>
        </p:nvPicPr>
        <p:blipFill>
          <a:blip r:embed="rId1"/>
          <a:stretch/>
        </p:blipFill>
        <p:spPr>
          <a:xfrm>
            <a:off x="2916360" y="0"/>
            <a:ext cx="4319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д) В последнюю минуту Шмидт вместе со своим сыном мальчиком лет шестнадцати   бросился в воду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К. Паустовский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е) Хозяин  мой доктор  был вечно занятый молчаливый человек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Ю. Казаков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8" descr="66"/>
          <p:cNvPicPr/>
          <p:nvPr/>
        </p:nvPicPr>
        <p:blipFill>
          <a:blip r:embed="rId1"/>
          <a:stretch/>
        </p:blipFill>
        <p:spPr>
          <a:xfrm>
            <a:off x="2916360" y="0"/>
            <a:ext cx="446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ж)  Четвертый Костя мальчик лет десяти возбуждал мое любопытство своим задумчивым и печальным взором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И. Тургенев.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 algn="just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з)Сам человек работящий он  не выносил лени во все ее видах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К. Симонов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701880" y="0"/>
            <a:ext cx="4183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бота с учебник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мментированное письмо упр. 36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. Записать, обозначая графически причастные и деепричастные обороты, расставить запятые. Объяснить. Подобрать из текст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9850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) причастия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767640" cy="1944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924360" y="19162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соответствующие схем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4" name="Picture 28" descr="MMj03237560000[1]"/>
          <p:cNvPicPr/>
          <p:nvPr/>
        </p:nvPicPr>
        <p:blipFill>
          <a:blip r:embed="rId2"/>
          <a:stretch/>
        </p:blipFill>
        <p:spPr>
          <a:xfrm>
            <a:off x="2484360" y="0"/>
            <a:ext cx="4608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) деепричастие, соответствующее схеме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7488000" cy="3095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Крестная фея"/>
          <p:cNvPicPr/>
          <p:nvPr/>
        </p:nvPicPr>
        <p:blipFill>
          <a:blip r:embed="rId2"/>
          <a:stretch/>
        </p:blipFill>
        <p:spPr>
          <a:xfrm>
            <a:off x="1619280" y="0"/>
            <a:ext cx="56167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тог урок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омашнее задание.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§ 5, упр. 35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3068640"/>
            <a:ext cx="5040360" cy="40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924360" y="0"/>
          <a:ext cx="2735280" cy="24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0"/>
                    <a:ext cx="273528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"/>
          <p:cNvPicPr/>
          <p:nvPr/>
        </p:nvPicPr>
        <p:blipFill>
          <a:blip r:embed="rId1"/>
          <a:srcRect l="0" t="7283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131112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16676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5" name="Picture 69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7788240" cy="5857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3"/>
          <a:stretch/>
        </p:blipFill>
        <p:spPr>
          <a:xfrm>
            <a:off x="1643040" y="128592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Цели: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научить грамотно выделять обособленные второстепенные члены предложения; обобщить изученный материал о причастном и деепричастном оборотах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3276720" y="0"/>
            <a:ext cx="41749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. Организационный момент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6" name="Picture 8" descr="C:\Documents and Settings\Dem\Мои документы\Мои документы\Презентации\Румянцева\Анимашки 2\анимашки\кот6.gif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ктуализация знаний учащихся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Беседа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1. Какие предложения по цели высказывания вам известны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2. Какие предложения по интонации вы знает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Picture 3" descr="C:\Documents and Settings\Admin\Local Settings\Temporary Internet Files\Content.IE5\7BE9MPXB\MCj04379900000[1].wmf"/>
          <p:cNvPicPr/>
          <p:nvPr/>
        </p:nvPicPr>
        <p:blipFill>
          <a:blip r:embed="rId1"/>
          <a:stretch/>
        </p:blipFill>
        <p:spPr>
          <a:xfrm>
            <a:off x="6300720" y="4365720"/>
            <a:ext cx="235764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1483920"/>
            <a:ext cx="7696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Что такое причастный оборот? Приведите примеры. Расскажите о постановке знаков препинания в предложениях с причастным оборот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Что называется деепричастным оборотом? Приведите примеры. Расскажите о постановке знаков препинания в предложениях с деепричастным оборот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Содержимое 4" descr="медведь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556000" y="0"/>
            <a:ext cx="5256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Назовите разряды обособленных второстепенных членов предлож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3" descr="C:\Documents and Settings\Admin\Local Settings\Temporary Internet Files\Content.IE5\B2KKZN7I\MCj04241680000[1].wmf"/>
          <p:cNvPicPr/>
          <p:nvPr/>
        </p:nvPicPr>
        <p:blipFill>
          <a:blip r:embed="rId1"/>
          <a:stretch/>
        </p:blipFill>
        <p:spPr>
          <a:xfrm>
            <a:off x="1403280" y="1844640"/>
            <a:ext cx="676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бособленные определения и приложен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бособленные дополнен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бособленные обстоятельств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Picture 2" descr="C:\Documents and Settings\Admin\Local Settings\Temporary Internet Files\Content.IE5\B2KKZN7I\MCj04247300000[1].wmf"/>
          <p:cNvPicPr/>
          <p:nvPr/>
        </p:nvPicPr>
        <p:blipFill>
          <a:blip r:embed="rId1"/>
          <a:stretch/>
        </p:blipFill>
        <p:spPr>
          <a:xfrm>
            <a:off x="2124000" y="0"/>
            <a:ext cx="3816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Самостоятельная работа по варианта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вариант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дание. Записать предложения, расставить знаки препинания и рассказать об обособленных определениях и приложени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20" descr="MCBD07156_0000[1]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) Месяц на закате похож на раскаленный  подернутый голубоватым теплом печки.    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В. Катаев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) Высокое небо с единственным облаком похожим на кисть винограда отражалось в воде.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(К. Паустовский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16:39:53Z</dcterms:created>
  <dc:creator>Валентина Николаевна Мешкова</dc:creator>
  <dc:description/>
  <dc:language>en-US</dc:language>
  <cp:lastModifiedBy>валентина</cp:lastModifiedBy>
  <dcterms:modified xsi:type="dcterms:W3CDTF">2018-12-06T18:43:02Z</dcterms:modified>
  <cp:revision>4</cp:revision>
  <dc:subject/>
  <dc:title>Слайд 1</dc:title>
</cp:coreProperties>
</file>