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3.jpeg" ContentType="image/jpeg"/>
  <Override PartName="/ppt/media/image25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chimes.wav" ContentType="audio/x-wav"/>
  <Override PartName="/ppt/media/image1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0A08-0B76-422E-934F-AFAE541A8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1707-FC21-445C-9920-B27FF0B55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608F-A196-4DBD-9EFA-F2842460B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DFA-38B1-461D-8B58-2ACE5BC6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824-3D83-43CE-BE3E-50E97E4F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F8B-BEF0-4A46-9724-C480930E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F9E-F6DE-4E80-9917-8B285E7F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1D6-2D9E-46B1-A85E-2DEFFA08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684-E570-4CD8-9E6D-9E2C510B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3C8-AE39-4BED-984A-743156BF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1E4-6D02-457D-8D68-EB119698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8574-9CAD-4887-8EF9-52581686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0CF-A134-488F-B528-A0F03A24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81E-5C01-4826-91E6-5BF496CB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CB1-9467-4E27-873B-62E00E2E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E3B3-8B1D-44E1-9F38-D7EEAE052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916360" y="2708280"/>
            <a:ext cx="346392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тили речи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195640" y="3789360"/>
            <a:ext cx="4537080" cy="9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1" name="Picture 6" descr="Biz00017"/>
          <p:cNvPicPr/>
          <p:nvPr/>
        </p:nvPicPr>
        <p:blipFill>
          <a:blip r:embed="rId1"/>
          <a:stretch/>
        </p:blipFill>
        <p:spPr>
          <a:xfrm>
            <a:off x="324000" y="4221000"/>
            <a:ext cx="34765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2"/>
          <p:cNvSpPr/>
          <p:nvPr/>
        </p:nvSpPr>
        <p:spPr>
          <a:xfrm>
            <a:off x="3564000" y="6313320"/>
            <a:ext cx="346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4784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303560" y="352440"/>
            <a:ext cx="68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ФИЦИАЛЬНО – ДЕЛОВОЙ     СТИЛЬ 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5" name="Picture 4" descr="Лена1"/>
          <p:cNvPicPr/>
          <p:nvPr/>
        </p:nvPicPr>
        <p:blipFill>
          <a:blip r:embed="rId1"/>
          <a:stretch/>
        </p:blipFill>
        <p:spPr>
          <a:xfrm>
            <a:off x="179280" y="0"/>
            <a:ext cx="1658880" cy="2952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225520" y="907920"/>
            <a:ext cx="691848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спольз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фициаль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ста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овке ( сфера  законодательства ,  делопроизводства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административно –правовой деятельности )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16280" y="2276640"/>
            <a:ext cx="41889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информ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059280" y="3213000"/>
            <a:ext cx="594036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но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зак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иказ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остановлен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езолюции, протоколы, акты ,справки , инструкции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ъявления, деловые бумаги (заявление, рапорт  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окладная…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87480" y="4673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-921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0" y="4724280"/>
            <a:ext cx="4216320" cy="1739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языка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1.Официально – деловая лексика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2.Устойчивые , стандартизирован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обороты реч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3.Точность,не допускающая иного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толк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2"/>
          <a:stretch/>
        </p:blipFill>
        <p:spPr>
          <a:xfrm>
            <a:off x="6588000" y="515772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1398240" y="115920"/>
            <a:ext cx="597492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фициально – деловой стиль речи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0" y="765000"/>
            <a:ext cx="7986600" cy="64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ф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ав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ужеб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изводствен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ш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6880" y="1773360"/>
            <a:ext cx="63806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бщение , информ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560" y="2421000"/>
            <a:ext cx="4773960" cy="22885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новные черты: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.Т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допускающ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иного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толк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.Нелич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характ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3.Стандартизованность,стереотипность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построения текста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4.Долженствующе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исывающ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характ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94200" y="4869000"/>
            <a:ext cx="8236440" cy="201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зыковые особенности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1.Лексика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– широкое употребление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тандартных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оборотов речи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пециальной терминологии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2.Синтакси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осложнё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3.Тип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ре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поч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отсутству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повеств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ис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.Все документы лишены эмоциональности, отсутствуют изобразитель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редства языка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5003640" y="2997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7740720" y="2997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6300720" y="3141720"/>
            <a:ext cx="1119240" cy="772920"/>
          </a:xfrm>
          <a:prstGeom prst="rightArrow">
            <a:avLst>
              <a:gd name="adj1" fmla="val 50000"/>
              <a:gd name="adj2" fmla="val 3620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1014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6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6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6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Схема научного стиля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64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Речевая ситуац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692360" y="3573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427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659640" y="2708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42764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6588000" y="40053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3348000" y="3716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895040" y="5176800"/>
            <a:ext cx="5914080" cy="3682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ЦЕЛЬ   - СООБЩЕНИЕ,ПЕРЕДАЧА ИНФОРМАЦИ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40856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245160" y="6113520"/>
            <a:ext cx="8710560" cy="642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илев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р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огич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зло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твлеч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бобщён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чность , доказательность, неэмоциональность и объективность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p:transition>
    <p:push dir="r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6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6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3180"/>
                            </p:stCondLst>
                            <p:childTnLst>
                              <p:par>
                                <p:cTn id="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6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704" nodeType="after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5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707" dur="1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14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715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716" dur="1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2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23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724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725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1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32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733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734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0" nodeType="withEffect" fill="remove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41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742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743" dur="1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autoRev="1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4680"/>
                            </p:stCondLst>
                            <p:childTnLst>
                              <p:par>
                                <p:cTn id="7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6040"/>
                            </p:stCondLst>
                            <p:childTnLst>
                              <p:par>
                                <p:cTn id="7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WordArt 6"/>
          <p:cNvSpPr txBox="1"/>
          <p:nvPr/>
        </p:nvSpPr>
        <p:spPr>
          <a:xfrm>
            <a:off x="1332000" y="404640"/>
            <a:ext cx="655308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спользованные ресурсы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69200" y="2108160"/>
            <a:ext cx="7640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1.Розенталь Д.Э Практическая стилистика русского языка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.: Высшая школа, 1998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2.Розенталь Д.Э., Теленкова М.А. Словарь-справочник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лингвистических терминов. М.: Просвещение, 2001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3.УМК  по русскому языку под редакцией Бабайцевой В.В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5-9класс.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М.:Дрофа,2008г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4. http://www.gifzona.ru/i/ok_d/05.gif 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http://images.google.ru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59920" y="2276640"/>
            <a:ext cx="122616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Речева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итуация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1476360" y="2637000"/>
            <a:ext cx="936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1476360" y="1484280"/>
            <a:ext cx="86364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476360" y="2708280"/>
            <a:ext cx="792000" cy="1081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124000" y="1125360"/>
            <a:ext cx="18003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м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484360" y="2421000"/>
            <a:ext cx="129564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кем 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124000" y="3860640"/>
            <a:ext cx="20019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какой целью?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3995640" y="475920"/>
            <a:ext cx="1297080" cy="647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440320" y="260280"/>
            <a:ext cx="337032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официальн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3995640" y="1268280"/>
            <a:ext cx="1297080" cy="3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503680" y="1484280"/>
            <a:ext cx="3635640" cy="368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неофициальн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становк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3851280" y="2420640"/>
            <a:ext cx="1727280" cy="142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851280" y="2708280"/>
            <a:ext cx="1512720" cy="5047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798160" y="2276640"/>
            <a:ext cx="2568960" cy="368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и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05620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5940360" y="3933720"/>
            <a:ext cx="218124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5940360" y="4724280"/>
            <a:ext cx="201636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940360" y="5589720"/>
            <a:ext cx="225288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Line 20"/>
          <p:cNvSpPr/>
          <p:nvPr/>
        </p:nvSpPr>
        <p:spPr>
          <a:xfrm>
            <a:off x="4211640" y="4005360"/>
            <a:ext cx="16556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Line 21"/>
          <p:cNvSpPr/>
          <p:nvPr/>
        </p:nvSpPr>
        <p:spPr>
          <a:xfrm>
            <a:off x="4211640" y="4076640"/>
            <a:ext cx="1655640" cy="8650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4211640" y="4149720"/>
            <a:ext cx="1728720" cy="172728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5724360" y="3068640"/>
            <a:ext cx="285624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большой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удиторие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-290160" y="85680"/>
            <a:ext cx="441432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Monotype Corsiva"/>
              </a:rPr>
              <a:t>Выбор стиля речи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6" name="Picture 25" descr="ED00318_"/>
          <p:cNvPicPr/>
          <p:nvPr/>
        </p:nvPicPr>
        <p:blipFill>
          <a:blip r:embed="rId5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68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68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18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882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932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тили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ечи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(где? с кем? зачем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Книж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Разговор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062680" y="2276640"/>
            <a:ext cx="4081320" cy="916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говорные слова, неполн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едложения,диалог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568920" y="280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95040" y="2655720"/>
            <a:ext cx="146088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АУЧНЫЙ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сооб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термины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824120" y="3305160"/>
            <a:ext cx="2730240" cy="91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ХУДОЖЕСТВЕННЫЙ –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бразные слова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856320" y="4365720"/>
            <a:ext cx="3309480" cy="9169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ФИЦИАЛЬНО – ДЕЛОВО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(сообщение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собые слова и обороты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3419640" y="5445000"/>
            <a:ext cx="4608360" cy="6426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УБЛИЦИСТИЧЕСКИЙ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042720" y="5942160"/>
            <a:ext cx="6101640" cy="916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общение информации , воздейств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общественно-политическая лексика,совмещени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торжественной лексики и разговорных средств )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H="1">
            <a:off x="324000" y="2133720"/>
            <a:ext cx="2016000" cy="5032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2484360" y="2060640"/>
            <a:ext cx="1224000" cy="1150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2771640" y="2133720"/>
            <a:ext cx="4105440" cy="21589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2484360" y="2060640"/>
            <a:ext cx="6335640" cy="3816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 flipH="1">
            <a:off x="2484360" y="1484280"/>
            <a:ext cx="223200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4788000" y="1484280"/>
            <a:ext cx="3313080" cy="2890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" name="Picture 17" descr=""/>
          <p:cNvPicPr/>
          <p:nvPr/>
        </p:nvPicPr>
        <p:blipFill>
          <a:blip r:embed="rId6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  <p:pic>
        <p:nvPicPr>
          <p:cNvPr id="94" name="Picture 18" descr="ED00318_"/>
          <p:cNvPicPr/>
          <p:nvPr/>
        </p:nvPicPr>
        <p:blipFill>
          <a:blip r:embed="rId7"/>
          <a:stretch/>
        </p:blipFill>
        <p:spPr>
          <a:xfrm>
            <a:off x="755640" y="4437000"/>
            <a:ext cx="1160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афонова Е.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Monotype Corsiva"/>
              </a:rPr>
              <a:t>Разговорный сти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и разговорного сти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76364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5796000" y="2492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3635280" y="2637000"/>
            <a:ext cx="976320" cy="772920"/>
          </a:xfrm>
          <a:prstGeom prst="rightArrow">
            <a:avLst>
              <a:gd name="adj1" fmla="val 50000"/>
              <a:gd name="adj2" fmla="val 315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599480" y="34290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Цель  -  общение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527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69236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67148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239840" y="78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33280" y="4097160"/>
            <a:ext cx="8516880" cy="6426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ер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– общение с близкими и хорошо  знакомыми людьми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фера бытовых отношений и устная форма профессиональных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51080" y="4889520"/>
            <a:ext cx="2277720" cy="36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тилевые черт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2556000" y="4941720"/>
            <a:ext cx="6588000" cy="119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не всегда знаем, о чём будем  говорить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не знаем , какие  слова подберём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Мы должны видеть и слышать участника разговора.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181440" y="5932440"/>
            <a:ext cx="8518680" cy="916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зыковы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редст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гранич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ста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ниж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сторечны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в,большое количество междометий, частиц, наличие неполных и коротки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едложений, богатство интонаций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0" name="Picture 16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2" dur="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43" dur="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4" dur="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remove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1" dur="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52" dur="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3" dur="5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7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106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538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2"/>
          <p:cNvSpPr/>
          <p:nvPr/>
        </p:nvSpPr>
        <p:spPr>
          <a:xfrm>
            <a:off x="3132000" y="6399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802800" y="281160"/>
            <a:ext cx="197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98560" y="189000"/>
            <a:ext cx="5494680" cy="36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         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УДОЖЕСТВЕННЫЙ      СТИЛЬ     РЕЧ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800" y="907920"/>
            <a:ext cx="723672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фер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потребле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язы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удожественно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литератур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58400" y="1576440"/>
            <a:ext cx="6975000" cy="1465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Цел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спользова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зда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удожественного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браза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эмоционально – эстетическое воздействие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0920" y="4437000"/>
            <a:ext cx="6092640" cy="2288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Языковые средства :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.Эпитеты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, сравнения, метафоры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                      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гипербола и т. д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.Стилистические фигуры ( фигуры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ечи)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: анафора, антитеза ,бессоюзие ,градация 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инверсия ,параллелизм ,риторический вопрос ,об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щение ,умолчание ,эллипсис, эпифора.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877320" y="3089160"/>
            <a:ext cx="6352920" cy="916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Художественный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стиль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отличается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образностью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широким использованием изобразительно –вырази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тельных средств языка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8" descr="Kiprensky_17005"/>
          <p:cNvPicPr/>
          <p:nvPr/>
        </p:nvPicPr>
        <p:blipFill>
          <a:blip r:embed="rId4"/>
          <a:stretch/>
        </p:blipFill>
        <p:spPr>
          <a:xfrm>
            <a:off x="7429680" y="189000"/>
            <a:ext cx="1714320" cy="208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5"/>
          <a:stretch/>
        </p:blipFill>
        <p:spPr>
          <a:xfrm>
            <a:off x="7020000" y="537372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0360" y="223920"/>
            <a:ext cx="6292080" cy="3202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Monotype Corsiva"/>
              </a:rPr>
              <a:t>Художественный стиль речи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47480" y="1073160"/>
            <a:ext cx="685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.Предназначен  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 для  создания </a:t>
            </a:r>
            <a:r>
              <a:rPr b="1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       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 художественных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поэтических  образов , эмоционально – эстетического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воздействия , и  все  языковые  средства , включаемые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в художественное произведение,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дчиняются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 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задачам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данного стиля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9280" y="2800440"/>
            <a:ext cx="456840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.Основная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функция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–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эстетическая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22000" y="3448080"/>
            <a:ext cx="1873800" cy="368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3.К средствам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249280" y="3448080"/>
            <a:ext cx="44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художественной выразительност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95280" y="3860640"/>
            <a:ext cx="6672240" cy="368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тносятс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ИТ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ИФМ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НТОНАЦИЯ,ЗВУКОПИСЬ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76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 flipH="1">
            <a:off x="250200" y="364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941800" y="3933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85320" y="4384800"/>
            <a:ext cx="673560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.Характерная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собенность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оединение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зличных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тилей речи , совмещение слов «высоких» и «низких»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присутствие разговорной лексики ,иногда – просторе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чий , диалектизмов ,профессионализмов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595080" y="5681520"/>
            <a:ext cx="6434280" cy="642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.Тип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реч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рассуждени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элементами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писания, описание 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376200" y="438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4" descr=""/>
          <p:cNvPicPr/>
          <p:nvPr/>
        </p:nvPicPr>
        <p:blipFill>
          <a:blip r:embed="rId3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3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3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108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308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80"/>
                            </p:stCondLst>
                            <p:childTnLst>
                              <p:par>
                                <p:cTn id="3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708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716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8440"/>
                            </p:stCondLst>
                            <p:childTnLst>
                              <p:par>
                                <p:cTn id="36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954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126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134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2940"/>
                            </p:stCondLst>
                            <p:childTnLst>
                              <p:par>
                                <p:cTn id="393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4200"/>
                            </p:stCondLst>
                            <p:childTnLst>
                              <p:par>
                                <p:cTn id="39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5460"/>
                            </p:stCondLst>
                            <p:childTnLst>
                              <p:par>
                                <p:cTn id="39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6720"/>
                            </p:stCondLst>
                            <p:childTnLst>
                              <p:par>
                                <p:cTn id="4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8720"/>
                            </p:stCondLst>
                            <p:childTnLst>
                              <p:par>
                                <p:cTn id="4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922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972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220"/>
                            </p:stCondLst>
                            <p:childTnLst>
                              <p:par>
                                <p:cTn id="41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ублицистика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-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обый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ип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литературных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роизведений</a:t>
            </a: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,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к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торых</a:t>
            </a:r>
            <a:r>
              <a:rPr b="0" i="1" lang="en-US" sz="40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освещаются, разъясняю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актуальные вопросы общественно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Monotype Corsiva"/>
              </a:rPr>
              <a:t>политической жизни, поднимаются нравственные проблемы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ена7"/>
          <p:cNvPicPr/>
          <p:nvPr/>
        </p:nvPicPr>
        <p:blipFill>
          <a:blip r:embed="rId1"/>
          <a:stretch/>
        </p:blipFill>
        <p:spPr>
          <a:xfrm>
            <a:off x="7229520" y="1125360"/>
            <a:ext cx="1914480" cy="3089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76400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употреб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иль радио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телевидени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газет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журналь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татей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передач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одновремен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воздействи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читател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луш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Жанры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: информация, критическая заметка,  репортаж ,интервью ,стать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рецензия, зарисовка, очерк ,фельетон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Лена8"/>
          <p:cNvPicPr/>
          <p:nvPr/>
        </p:nvPicPr>
        <p:blipFill>
          <a:blip r:embed="rId1"/>
          <a:stretch/>
        </p:blipFill>
        <p:spPr>
          <a:xfrm>
            <a:off x="7153200" y="2492280"/>
            <a:ext cx="1990800" cy="2592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811440" y="58975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ОРАТОРСКАЯ  РЕЧЬ,  СУДЕБНАЯ РЕЧЬ . ДОКЛАД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Особенности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 публицистического стиля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Лена4"/>
          <p:cNvPicPr/>
          <p:nvPr/>
        </p:nvPicPr>
        <p:blipFill>
          <a:blip r:embed="rId1"/>
          <a:stretch/>
        </p:blipFill>
        <p:spPr>
          <a:xfrm>
            <a:off x="3635280" y="1341360"/>
            <a:ext cx="2881440" cy="3384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382320" y="1865160"/>
            <a:ext cx="2943720" cy="25628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.ЛОГИЧНОСТЬ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.ОБРАЗНОСТЬ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3.ЭМОЦИОНА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4.ОЦЕН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5.ПРИЗЫВ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83760" y="4384800"/>
            <a:ext cx="3353760" cy="6426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6.ОБЩЕСТВЕННО-ПОЛИТИ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СКАЯ ЛЕКСИКА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78000" y="5321160"/>
            <a:ext cx="54889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ажнейшее качество –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БЩЕДОСТУПНОСТЬ: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на рассчитана на широкую аудиторию и долж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 быть понятна всем .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012000" y="1341360"/>
            <a:ext cx="2994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Чтобы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воздействовать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 воображение и чув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тва читателя , исполь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зуются  ЭПИТЕТЫ,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РАВНЕНИЯ , МЕТА-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ОР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просторечные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а,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фразеологизмы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763640" cy="11556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cc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 L 0.036 0.04796 L 0.072 0.04796 L 0.072 0.09592 L 0.108 0.09592 L 0.108 0.14388 L 0.144 0.14388 L 0.144 0.19184 L 0.18 0.19184 L 0.18 0.2398 L 0.216 0.2398 L 0.216 0.28776 L 0.252 0.28776 L 0.252 0.33572 E">
                                      <p:cBhvr>
                                        <p:cTn id="517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5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9360"/>
                            </p:stCondLst>
                            <p:childTnLst>
                              <p:par>
                                <p:cTn id="5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9:02:55Z</dcterms:created>
  <dc:creator>Учитель</dc:creator>
  <dc:description/>
  <dc:language>en-US</dc:language>
  <cp:lastModifiedBy>александр ступников</cp:lastModifiedBy>
  <dcterms:modified xsi:type="dcterms:W3CDTF">2018-12-10T17:57:46Z</dcterms:modified>
  <cp:revision>79</cp:revision>
  <dc:subject/>
  <dc:title>Слайд 1</dc:title>
</cp:coreProperties>
</file>