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3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chimes.wav" ContentType="audio/x-wav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C22-F39C-4D78-83FB-552BC4ADB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DCF-5C31-4A46-B2E0-E1D23151B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FF2-189F-4CF2-8A10-8797522CC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A52-0774-4B3B-8FEE-B666C43A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093-F3C1-4427-A46F-3A424C0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2BF-4142-42C8-9F73-23EC353A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347-1EAC-4158-99F1-B7BD396C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BC7-744A-4597-A43B-FBADB5B3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2EC-056C-4C82-8DEE-D509082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EE4-18EE-4FCA-A073-0ABFE11A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D6B-D934-410C-89A9-9EC183D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BF0-6E2D-4C56-B950-5207143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CF-BEA0-456F-87D3-ED8FC0C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776-3DB8-45E6-9043-C13A2F1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FF8-8274-478F-BD7A-1EAB244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A3A-0874-4E40-BE1C-E00004082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195640" y="3789360"/>
            <a:ext cx="4537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6" descr="Biz00017"/>
          <p:cNvPicPr/>
          <p:nvPr/>
        </p:nvPicPr>
        <p:blipFill>
          <a:blip r:embed="rId1"/>
          <a:stretch/>
        </p:blipFill>
        <p:spPr>
          <a:xfrm>
            <a:off x="324000" y="4221000"/>
            <a:ext cx="34765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3564000" y="631332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5" name="Picture 4" descr="Лена1"/>
          <p:cNvPicPr/>
          <p:nvPr/>
        </p:nvPicPr>
        <p:blipFill>
          <a:blip r:embed="rId1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1398240" y="115920"/>
            <a:ext cx="59749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стиль реч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765000"/>
            <a:ext cx="798660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ужеб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изводстве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ш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6880" y="1773360"/>
            <a:ext cx="63806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бщение , 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560" y="2421000"/>
            <a:ext cx="4773960" cy="228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новные черты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Т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опускаю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ног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.Нелич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Стандартизованность,стереотип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строения текст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Долженствующе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исывающ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4200" y="4869000"/>
            <a:ext cx="8236440" cy="201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 особенност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1.Лексика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широкое употребление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андартных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оборотов реч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пециальной терминологи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.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осложнё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3.Ти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е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оч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отсутств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овеств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ис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Все документы лишены эмоциональности, отсутствуют изобразитель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редства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500364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774072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6300720" y="3141720"/>
            <a:ext cx="1119240" cy="772920"/>
          </a:xfrm>
          <a:prstGeom prst="rightArrow">
            <a:avLst>
              <a:gd name="adj1" fmla="val 50000"/>
              <a:gd name="adj2" fmla="val 362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6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6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p:transition>
    <p:push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704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15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1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2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24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25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3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34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0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42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7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69200" y="2108160"/>
            <a:ext cx="7640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Розенталь Д.Э., Теленкова М.А. Словарь-справочник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ингвистических терминов. М.: Просвещение, 2001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УМК  по русскому языку под редакцией Бабайцевой В.В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-9класс.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.:Дрофа,2008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Picture 25" descr="ED00318_"/>
          <p:cNvPicPr/>
          <p:nvPr/>
        </p:nvPicPr>
        <p:blipFill>
          <a:blip r:embed="rId5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82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17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94" name="Picture 18" descr="ED00318_"/>
          <p:cNvPicPr/>
          <p:nvPr/>
        </p:nvPicPr>
        <p:blipFill>
          <a:blip r:embed="rId7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43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4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2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3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2"/>
          <p:cNvSpPr/>
          <p:nvPr/>
        </p:nvSpPr>
        <p:spPr>
          <a:xfrm>
            <a:off x="3132000" y="6399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8" descr="Kiprensky_17005"/>
          <p:cNvPicPr/>
          <p:nvPr/>
        </p:nvPicPr>
        <p:blipFill>
          <a:blip r:embed="rId4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5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0360" y="223920"/>
            <a:ext cx="6292080" cy="3202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Художественный стиль речи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47480" y="1073160"/>
            <a:ext cx="68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Предназначен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для  создания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      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художественных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оэтических  образов , эмоционально – эстетическог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оздействия , и  все  языковые  средства , включаем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 художественное произведение,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дчиняются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данного стиля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280" y="2800440"/>
            <a:ext cx="45684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.Основна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функци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эстетическа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2000" y="3448080"/>
            <a:ext cx="187380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К средства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49280" y="344808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 выразительност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95280" y="3860640"/>
            <a:ext cx="667224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тносятс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Т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ФМ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НТОНАЦИЯ,ЗВУКОПИС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76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 flipH="1">
            <a:off x="2502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941800" y="39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5320" y="4384800"/>
            <a:ext cx="673560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Характерная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ь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единение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зли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илей речи , совмещение слов «высоких» и «низких»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рисутствие разговорной лексики ,иногда – просторе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ий , диалектизмов ,профессионализмов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95080" y="5681520"/>
            <a:ext cx="643428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.Ти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ч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лемент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писания, описание 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76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80"/>
                            </p:stCondLst>
                            <p:childTnLst>
                              <p:par>
                                <p:cTn id="3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708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716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8440"/>
                            </p:stCondLst>
                            <p:childTnLst>
                              <p:par>
                                <p:cTn id="36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954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126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13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2940"/>
                            </p:stCondLst>
                            <p:childTnLst>
                              <p:par>
                                <p:cTn id="3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3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460"/>
                            </p:stCondLst>
                            <p:childTnLst>
                              <p:par>
                                <p:cTn id="3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672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872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922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972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220"/>
                            </p:stCondLst>
                            <p:childTnLst>
                              <p:par>
                                <p:cTn id="41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ена7"/>
          <p:cNvPicPr/>
          <p:nvPr/>
        </p:nvPicPr>
        <p:blipFill>
          <a:blip r:embed="rId1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Лена8"/>
          <p:cNvPicPr/>
          <p:nvPr/>
        </p:nvPicPr>
        <p:blipFill>
          <a:blip r:embed="rId1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. ДОКЛА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Особенности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 публицистического стил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Лена4"/>
          <p:cNvPicPr/>
          <p:nvPr/>
        </p:nvPicPr>
        <p:blipFill>
          <a:blip r:embed="rId1"/>
          <a:stretch/>
        </p:blipFill>
        <p:spPr>
          <a:xfrm>
            <a:off x="3635280" y="134136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82320" y="1865160"/>
            <a:ext cx="2943720" cy="2562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ЛОГИЧНОС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.ОБРАЗНОС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ЭМОЦИОН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ОЦЕН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5.ПРИЗЫ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3760" y="4384800"/>
            <a:ext cx="33537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6.ОБЩЕСТВЕННО-ПОЛИТ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СК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78000" y="5321160"/>
            <a:ext cx="5488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ажнейшее качество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ЩЕДОСТУПНОСТЬ: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на рассчитана на широкую аудиторию и долж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 быть понятна всем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12000" y="1341360"/>
            <a:ext cx="299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тоб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оздействова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 воображение и чув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ва читателя , исполь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уются  ЭПИТЕТ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АВНЕНИЯ , МЕ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просторечные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а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 L 0.036 0.04796 L 0.072 0.04796 L 0.072 0.09592 L 0.108 0.09592 L 0.108 0.14388 L 0.144 0.14388 L 0.144 0.19184 L 0.18 0.19184 L 0.18 0.2398 L 0.216 0.2398 L 0.216 0.28776 L 0.252 0.28776 L 0.252 0.33572 E">
                                      <p:cBhvr>
                                        <p:cTn id="51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александр ступников</cp:lastModifiedBy>
  <dcterms:modified xsi:type="dcterms:W3CDTF">2018-12-10T17:57:46Z</dcterms:modified>
  <cp:revision>79</cp:revision>
  <dc:subject/>
  <dc:title>Слайд 1</dc:title>
</cp:coreProperties>
</file>