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B349-9952-4701-B64F-DBF304E68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97E3-4A34-4496-94D0-5706A6BC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4AB6-81D0-484F-99E1-841F0EAB1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BE7F-2557-41C4-AE35-73CECCD94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07AA-C2FC-4A89-8F02-6059BE7DF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B1F5-4797-44A3-A846-309E9A4B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2717-3D53-4FDE-AF6B-F42C2A2E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08B2-381E-4D6F-8BAD-5B3B47F6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BC4E-98E0-4186-8747-9B065F8F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D2BF-C4E7-4E88-BF6D-D063267C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2E70-2879-429E-81D3-4CC652E4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B336-8089-47B3-AD9C-20F58F56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E9270-A25B-4FD1-ABFF-1F6CCA23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4CFC1-376D-458A-8303-14625BF6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45E28-B8AE-467C-8C83-F876274E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009BB-A377-4078-8AD2-C64D5F865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4EF2-7D9B-40A3-8CD0-559431FA9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BAE5-F36B-43AC-87FD-E61B1839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9D69-90FB-436F-A0F5-F7027BAB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1346-6FFE-497A-B9A4-9B3AD962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3948-6CB9-4959-B326-977CBD23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DA64-F08F-4BCB-8E5B-7E749834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66E4-4158-497E-A384-748015AE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900E-6674-4245-88F7-D91C8774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FF9D-3738-4C89-ABD6-D6DC8E4642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FA56-0E60-4963-9961-B2BE2C96322C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5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ahoma"/>
              </a:rPr>
              <a:t>5 класс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24360" y="188640"/>
            <a:ext cx="4751280" cy="297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539df"/>
                </a:solidFill>
                <a:latin typeface="Tahoma"/>
              </a:rPr>
              <a:t>А. С. Пушкин 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0328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539df"/>
                </a:solidFill>
                <a:latin typeface="Tahoma"/>
              </a:rPr>
              <a:t>« Сказка о мертвой царевне и о семи богатырях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Picture 12" descr="Сказка о мертвой царевне1"/>
          <p:cNvPicPr/>
          <p:nvPr/>
        </p:nvPicPr>
        <p:blipFill>
          <a:blip r:embed="rId1"/>
          <a:stretch/>
        </p:blipFill>
        <p:spPr>
          <a:xfrm>
            <a:off x="108000" y="1159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3534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Александр Сергеевич Пушкин</a:t>
            </a:r>
            <a:br>
              <a:rPr sz="4000"/>
            </a:b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(1799 – 1837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82240" y="2017800"/>
            <a:ext cx="3814920" cy="41148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32000" y="2060640"/>
            <a:ext cx="4211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ушкинские сказки -   это «чудесный сплав, где народное творчество неотделимо от личного творчества поэта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П. Баж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5" descr="Портреты Пушкина"/>
          <p:cNvPicPr/>
          <p:nvPr/>
        </p:nvPicPr>
        <p:blipFill>
          <a:blip r:embed="rId2"/>
          <a:stretch/>
        </p:blipFill>
        <p:spPr>
          <a:xfrm>
            <a:off x="1187280" y="1989000"/>
            <a:ext cx="37515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15640" y="620640"/>
            <a:ext cx="779292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Народная и авторская сказк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84358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Tahoma"/>
              </a:rPr>
              <a:t>Из предложенных выражений выпишите те, которые могут встретиться только в авторской сказке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Простилс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В путь-дорогу снарядилс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С белой зори до ноч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Белешенька земл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Восхищенья не снесл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Свойство зеркальце имел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Нраву кроткого таког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Вдруг погасл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Красная девиц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В горести душевно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Сотворив обряд печальны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Вдруг погасла жертвой злоб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Потеши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С мольбой погналс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Трубит уже мол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4" descr="Рисунок122"/>
          <p:cNvPicPr/>
          <p:nvPr/>
        </p:nvPicPr>
        <p:blipFill>
          <a:blip r:embed="rId1"/>
          <a:stretch/>
        </p:blipFill>
        <p:spPr>
          <a:xfrm>
            <a:off x="5508720" y="2708280"/>
            <a:ext cx="3166920" cy="31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Царица"/>
          <p:cNvPicPr/>
          <p:nvPr/>
        </p:nvPicPr>
        <p:blipFill>
          <a:blip r:embed="rId1"/>
          <a:stretch/>
        </p:blipFill>
        <p:spPr>
          <a:xfrm>
            <a:off x="5326200" y="1773360"/>
            <a:ext cx="3184560" cy="46069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611280" y="1916280"/>
            <a:ext cx="4248000" cy="42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пиши царицу-мачеху по ее делам, отношению к другим людя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Tahoma"/>
                <a:ea typeface="Arial"/>
              </a:rPr>
              <a:t>●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ак автор характеризует ее в начале сказки? Почему ее красота не радует окружающих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Tahoma"/>
                <a:ea typeface="Arial"/>
              </a:rPr>
              <a:t>●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ак отомстила царица-мачеха царевне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Tahoma"/>
                <a:ea typeface="Arial"/>
              </a:rPr>
              <a:t>●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Чем закончилась история злобной мачехи? За что она наказана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ahoma"/>
              </a:rPr>
              <a:t>Основные образы сказк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Входят семь богатырей"/>
          <p:cNvPicPr/>
          <p:nvPr/>
        </p:nvPicPr>
        <p:blipFill>
          <a:blip r:embed="rId1"/>
          <a:stretch/>
        </p:blipFill>
        <p:spPr>
          <a:xfrm>
            <a:off x="0" y="0"/>
            <a:ext cx="46926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4788000" y="620640"/>
            <a:ext cx="4356000" cy="56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Подготовьте рассказ о царевне, пользуясь плано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нешность царевны и ее внутренние качеств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тношение к ней других персонажей: Чернавки, пса Соколки, семи богатырей, Королевича Елисе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ведение царевны в тереме богатырей, по отношению к окружающим ее людя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тношение автора к героин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  <a:ea typeface="Arial"/>
              </a:rPr>
              <a:t>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Сравните царицу-мачеху с царевно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306360" y="2620800"/>
            <a:ext cx="3386160" cy="38894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0"/>
          </a:gra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564000" y="2637000"/>
            <a:ext cx="2952720" cy="3887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0"/>
          </a:gra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250920" y="2205000"/>
            <a:ext cx="6265800" cy="4320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Царского происхождения, умны, красив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50920" y="1747800"/>
            <a:ext cx="3313080" cy="432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5400000"/>
          </a:gra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Цариц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564000" y="1773360"/>
            <a:ext cx="2952720" cy="43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Царе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10" descr="Царица"/>
          <p:cNvPicPr/>
          <p:nvPr/>
        </p:nvPicPr>
        <p:blipFill>
          <a:blip r:embed="rId1"/>
          <a:stretch/>
        </p:blipFill>
        <p:spPr>
          <a:xfrm>
            <a:off x="6535800" y="0"/>
            <a:ext cx="2608200" cy="3645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Входят семь богатырей"/>
          <p:cNvPicPr/>
          <p:nvPr/>
        </p:nvPicPr>
        <p:blipFill>
          <a:blip r:embed="rId2"/>
          <a:stretch/>
        </p:blipFill>
        <p:spPr>
          <a:xfrm>
            <a:off x="6515280" y="3284640"/>
            <a:ext cx="2576160" cy="3240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536580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Tahoma"/>
              </a:rPr>
              <a:t>Сравнительная характеристик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2633760"/>
            <a:ext cx="3313080" cy="4348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5400000"/>
          </a:gradFill>
          <a:ln w="28440">
            <a:solidFill>
              <a:srgbClr val="0066ff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Зла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564000" y="2664000"/>
            <a:ext cx="2952720" cy="43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Добра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250920" y="3151080"/>
            <a:ext cx="3313080" cy="4352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5400000"/>
          </a:gra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Завистлива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287280" y="3586320"/>
            <a:ext cx="3313080" cy="4348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5400000"/>
          </a:gra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Горда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564000" y="3151080"/>
            <a:ext cx="2949480" cy="349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Бескорыстна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3583080" y="3533760"/>
            <a:ext cx="2952720" cy="43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Скромна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287280" y="4021200"/>
            <a:ext cx="3313080" cy="4348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5400000"/>
          </a:gra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Ленива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3600360" y="3987720"/>
            <a:ext cx="2952720" cy="432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Трудолюбива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306360" y="4524480"/>
            <a:ext cx="3313080" cy="4348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5400000"/>
          </a:gra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Груба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3583080" y="4456080"/>
            <a:ext cx="2952720" cy="432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ежлива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290520" y="4913280"/>
            <a:ext cx="3313080" cy="4348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5400000"/>
          </a:gra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Жестока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619440" y="4927680"/>
            <a:ext cx="2952720" cy="43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Добродеятельна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Королевич Елисей"/>
          <p:cNvPicPr/>
          <p:nvPr/>
        </p:nvPicPr>
        <p:blipFill>
          <a:blip r:embed="rId1"/>
          <a:stretch/>
        </p:blipFill>
        <p:spPr>
          <a:xfrm>
            <a:off x="5867280" y="333360"/>
            <a:ext cx="2925720" cy="4392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Обращение к солнцу"/>
          <p:cNvPicPr/>
          <p:nvPr/>
        </p:nvPicPr>
        <p:blipFill>
          <a:blip r:embed="rId2"/>
          <a:stretch/>
        </p:blipFill>
        <p:spPr>
          <a:xfrm>
            <a:off x="0" y="333360"/>
            <a:ext cx="3021120" cy="4416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Елисей и месяц"/>
          <p:cNvPicPr/>
          <p:nvPr/>
        </p:nvPicPr>
        <p:blipFill>
          <a:blip r:embed="rId3"/>
          <a:stretch/>
        </p:blipFill>
        <p:spPr>
          <a:xfrm>
            <a:off x="2987640" y="333360"/>
            <a:ext cx="2916360" cy="43862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0" y="5084640"/>
            <a:ext cx="914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Чем интересны обращения Елисея к солнцу, месяцу, ветру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ahoma"/>
                <a:ea typeface="Arial"/>
              </a:rPr>
              <a:t>■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акие чувства проявляются в этих обращениях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68360" y="333360"/>
            <a:ext cx="4174920" cy="54720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5003640" y="333360"/>
            <a:ext cx="3745080" cy="54720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4643280" y="333360"/>
            <a:ext cx="360360" cy="54720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0"/>
          </a:gra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5" descr="picture"/>
          <p:cNvPicPr/>
          <p:nvPr/>
        </p:nvPicPr>
        <p:blipFill>
          <a:blip r:embed="rId1"/>
          <a:stretch/>
        </p:blipFill>
        <p:spPr>
          <a:xfrm>
            <a:off x="1187280" y="404640"/>
            <a:ext cx="2811600" cy="24433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43" name="Picture 6" descr="picture"/>
          <p:cNvPicPr/>
          <p:nvPr/>
        </p:nvPicPr>
        <p:blipFill>
          <a:blip r:embed="rId2"/>
          <a:stretch/>
        </p:blipFill>
        <p:spPr>
          <a:xfrm>
            <a:off x="684360" y="2852640"/>
            <a:ext cx="3816360" cy="25210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44" name="Text Box 9"/>
          <p:cNvSpPr/>
          <p:nvPr/>
        </p:nvSpPr>
        <p:spPr>
          <a:xfrm>
            <a:off x="684360" y="53737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755640" y="263700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Picture 11" descr="Царевна и черница"/>
          <p:cNvPicPr/>
          <p:nvPr/>
        </p:nvPicPr>
        <p:blipFill>
          <a:blip r:embed="rId3"/>
          <a:stretch/>
        </p:blipFill>
        <p:spPr>
          <a:xfrm>
            <a:off x="5003640" y="2009880"/>
            <a:ext cx="2509920" cy="37782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2"/>
          <p:cNvSpPr/>
          <p:nvPr/>
        </p:nvSpPr>
        <p:spPr>
          <a:xfrm>
            <a:off x="6153120" y="1690560"/>
            <a:ext cx="99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6238800" y="4137120"/>
            <a:ext cx="12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108000" y="5950080"/>
            <a:ext cx="89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  <a:ea typeface="Arial"/>
              </a:rPr>
              <a:t>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айдите отрывки, соответствующие иллюстрациям художников. Какие черты характера персонажей проявляются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Picture 7" descr="В"/>
          <p:cNvPicPr/>
          <p:nvPr/>
        </p:nvPicPr>
        <p:blipFill>
          <a:blip r:embed="rId4"/>
          <a:stretch/>
        </p:blipFill>
        <p:spPr>
          <a:xfrm>
            <a:off x="6323040" y="368280"/>
            <a:ext cx="24908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ahoma"/>
              </a:rPr>
              <a:t>Рифма. Ритм. Стихотворная и прозаическая речь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71640" y="2017800"/>
            <a:ext cx="7983360" cy="46512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50000">
                <a:srgbClr val="ffffff"/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очтите статью учебника . Запишите в тетрадь определения понятий: рифма, ритм, стихотворная реч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пределите способы рифмовк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1. Царь с царицею простил</a:t>
            </a:r>
            <a:r>
              <a:rPr b="1" i="1" lang="ru-RU" sz="2000" spc="-1" strike="noStrike">
                <a:solidFill>
                  <a:srgbClr val="ff0000"/>
                </a:solidFill>
                <a:latin typeface="Tahoma"/>
              </a:rPr>
              <a:t>ся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В путь-дорогу снарядил</a:t>
            </a:r>
            <a:r>
              <a:rPr b="1" i="1" lang="ru-RU" sz="2000" spc="-1" strike="noStrike">
                <a:solidFill>
                  <a:srgbClr val="ff0000"/>
                </a:solidFill>
                <a:latin typeface="Tahoma"/>
              </a:rPr>
              <a:t>ся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И царица у ок</a:t>
            </a:r>
            <a:r>
              <a:rPr b="1" i="1" lang="ru-RU" sz="2000" spc="-1" strike="noStrike">
                <a:solidFill>
                  <a:srgbClr val="ff0000"/>
                </a:solidFill>
                <a:latin typeface="Tahoma"/>
              </a:rPr>
              <a:t>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Села ждать его од</a:t>
            </a:r>
            <a:r>
              <a:rPr b="1" i="1" lang="ru-RU" sz="2000" spc="-1" strike="noStrike">
                <a:solidFill>
                  <a:srgbClr val="ff0000"/>
                </a:solidFill>
                <a:latin typeface="Tahoma"/>
              </a:rPr>
              <a:t>на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2. Там на неведомых дорожк</a:t>
            </a:r>
            <a:r>
              <a:rPr b="1" i="1" lang="ru-RU" sz="2000" spc="-1" strike="noStrike">
                <a:solidFill>
                  <a:srgbClr val="ff0000"/>
                </a:solidFill>
                <a:latin typeface="Tahoma"/>
              </a:rPr>
              <a:t>а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Следы невиданных звер</a:t>
            </a:r>
            <a:r>
              <a:rPr b="1" i="1" lang="ru-RU" sz="2000" spc="-1" strike="noStrike">
                <a:solidFill>
                  <a:srgbClr val="ff0000"/>
                </a:solidFill>
                <a:latin typeface="Tahoma"/>
              </a:rPr>
              <a:t>ей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Избушка там на курьих ножк</a:t>
            </a:r>
            <a:r>
              <a:rPr b="1" i="1" lang="ru-RU" sz="2000" spc="-1" strike="noStrike">
                <a:solidFill>
                  <a:srgbClr val="ff0000"/>
                </a:solidFill>
                <a:latin typeface="Tahoma"/>
              </a:rPr>
              <a:t>а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Стоит без окон, без двер</a:t>
            </a:r>
            <a:r>
              <a:rPr b="1" i="1" lang="ru-RU" sz="2000" spc="-1" strike="noStrike">
                <a:solidFill>
                  <a:srgbClr val="ff0000"/>
                </a:solidFill>
                <a:latin typeface="Tahoma"/>
              </a:rPr>
              <a:t>ей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0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2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9" dur="20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4" dur="2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7" dur="20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0" dur="2000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2000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3:14:34Z</dcterms:created>
  <dc:creator>Лидия Криницина</dc:creator>
  <dc:description/>
  <dc:language>en-US</dc:language>
  <cp:lastModifiedBy>User</cp:lastModifiedBy>
  <dcterms:modified xsi:type="dcterms:W3CDTF">2018-11-10T07:03:06Z</dcterms:modified>
  <cp:revision>25</cp:revision>
  <dc:subject/>
  <dc:title>Слайд 1</dc:title>
</cp:coreProperties>
</file>