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892-A00B-4DC1-8ED9-A2DCC9AD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5E9-CF94-4A7E-ABA2-5726FDFA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77C-432D-4FD9-AB20-7924C074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6AE-E012-4A93-BB35-66C5C00D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7F12-4C74-4644-B27C-FC1CABF5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A8EA-F41C-45FC-8241-C6EF2374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19F1-66CB-45B2-A619-A34ED49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0FF0-4D5F-4577-A11B-CA013408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993A-8E87-41D6-97C0-14FFDF8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0EFA-C81A-4B49-A4D5-C2355DC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8241-0D7E-4990-8D6E-4F70061C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74DD-45A5-461A-AFD3-5B7326A8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F448-1A56-4970-844D-96AE4DF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795B-979F-4EFA-BA07-B683DA83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4393-8802-48B3-BC59-666464E3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DBE0-AF53-4DBA-8111-497C318E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288E-8A89-4761-A9CF-C30F56BD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66D-61E7-43EF-877C-C512C8B1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8A3-6F22-4E7E-B70A-C9931785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7B5-5432-4BF6-914E-C0796E9D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309-FC62-49C8-A7FD-D50F050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AF5-2038-4F55-BD2A-7B4F208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F78-906E-47CE-B1AF-0FD0C9A4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64E-3E3E-4B4C-B5E0-4F09BD07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5EB0-8279-4BC6-807F-29ED1EFE82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0E93-6DE5-4385-B1EB-3934EB0AD8CC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5 клас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360" y="188640"/>
            <a:ext cx="4751280" cy="297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539df"/>
                </a:solidFill>
                <a:latin typeface="Tahoma"/>
              </a:rPr>
              <a:t>А. С. Пушкин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539df"/>
                </a:solidFill>
                <a:latin typeface="Tahoma"/>
              </a:rPr>
              <a:t>« Сказка о мертвой царевне и о семи богатырях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2" descr="Сказка о мертвой царевне1"/>
          <p:cNvPicPr/>
          <p:nvPr/>
        </p:nvPicPr>
        <p:blipFill>
          <a:blip r:embed="rId1"/>
          <a:stretch/>
        </p:blipFill>
        <p:spPr>
          <a:xfrm>
            <a:off x="108000" y="115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534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Александр Сергеевич Пушкин</a:t>
            </a:r>
            <a:br>
              <a:rPr sz="4000"/>
            </a:b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(1799 – 1837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82240" y="201780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42116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ушкинские сказки -   это «чудесный сплав, где народное творчество неотделимо от личного творчества поэт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. Баж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Портреты Пушкина"/>
          <p:cNvPicPr/>
          <p:nvPr/>
        </p:nvPicPr>
        <p:blipFill>
          <a:blip r:embed="rId2"/>
          <a:stretch/>
        </p:blipFill>
        <p:spPr>
          <a:xfrm>
            <a:off x="1187280" y="1989000"/>
            <a:ext cx="37515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ahoma"/>
              </a:rPr>
              <a:t>Народная и авторская сказ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Из предложенных выражений выпишите те, которые могут встретиться только в авторской сказк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остил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 путь-дорогу снарядил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 белой зори до ноч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Белешенька зем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схищенья не снес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войство зеркальце име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раву кроткого так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друг погас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расная деви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 горести душевно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отворив обряд печаль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друг погасла жертвой злоб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теш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С мольбой погнал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Трубит уже мол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Рисунок122"/>
          <p:cNvPicPr/>
          <p:nvPr/>
        </p:nvPicPr>
        <p:blipFill>
          <a:blip r:embed="rId1"/>
          <a:stretch/>
        </p:blipFill>
        <p:spPr>
          <a:xfrm>
            <a:off x="5508720" y="2708280"/>
            <a:ext cx="31669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Царица"/>
          <p:cNvPicPr/>
          <p:nvPr/>
        </p:nvPicPr>
        <p:blipFill>
          <a:blip r:embed="rId1"/>
          <a:stretch/>
        </p:blipFill>
        <p:spPr>
          <a:xfrm>
            <a:off x="5326200" y="1773360"/>
            <a:ext cx="3184560" cy="4606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11280" y="1916280"/>
            <a:ext cx="4248000" cy="42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иши царицу-мачеху по ее делам, отношению к другим люд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  <a:ea typeface="Arial"/>
              </a:rPr>
              <a:t>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автор характеризует ее в начале сказки? Почему ее красота не радует окружающих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  <a:ea typeface="Arial"/>
              </a:rPr>
              <a:t>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 отомстила царица-мачеха царевне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Tahoma"/>
                <a:ea typeface="Arial"/>
              </a:rPr>
              <a:t>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м закончилась история злобной мачехи? За что она наказан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Основные образы сказ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Входят семь богатырей"/>
          <p:cNvPicPr/>
          <p:nvPr/>
        </p:nvPicPr>
        <p:blipFill>
          <a:blip r:embed="rId1"/>
          <a:stretch/>
        </p:blipFill>
        <p:spPr>
          <a:xfrm>
            <a:off x="0" y="0"/>
            <a:ext cx="46926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788000" y="620640"/>
            <a:ext cx="4356000" cy="56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Подготовьте рассказ о царевне, пользуясь пла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нешность царевны и ее внутренние качест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ошение к ней других персонажей: Чернавки, пса Соколки, семи богатырей, Королевича Елисе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едение царевны в тереме богатырей, по отношению к окружающим ее люд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ошение автора к герои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равните царицу-мачеху с царевн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06360" y="2620800"/>
            <a:ext cx="3386160" cy="38894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564000" y="2637000"/>
            <a:ext cx="2952720" cy="3887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50920" y="2205000"/>
            <a:ext cx="6265800" cy="432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арского происхождения, умны, красив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50920" y="1747800"/>
            <a:ext cx="3313080" cy="432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Цариц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564000" y="177336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Царе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Царица"/>
          <p:cNvPicPr/>
          <p:nvPr/>
        </p:nvPicPr>
        <p:blipFill>
          <a:blip r:embed="rId1"/>
          <a:stretch/>
        </p:blipFill>
        <p:spPr>
          <a:xfrm>
            <a:off x="6535800" y="0"/>
            <a:ext cx="2608200" cy="364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Входят семь богатырей"/>
          <p:cNvPicPr/>
          <p:nvPr/>
        </p:nvPicPr>
        <p:blipFill>
          <a:blip r:embed="rId2"/>
          <a:stretch/>
        </p:blipFill>
        <p:spPr>
          <a:xfrm>
            <a:off x="6515280" y="3284640"/>
            <a:ext cx="2576160" cy="3240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53658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ahoma"/>
              </a:rPr>
              <a:t>Сравнительная характеристик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63376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л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564000" y="266400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бр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250920" y="3151080"/>
            <a:ext cx="3313080" cy="435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Завистл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87280" y="358632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орд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564000" y="3151080"/>
            <a:ext cx="2949480" cy="349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скорыст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583080" y="353376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кром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87280" y="402120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Лен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600360" y="3987720"/>
            <a:ext cx="2952720" cy="43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Трудолюб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06360" y="452448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Груб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83080" y="4456080"/>
            <a:ext cx="2952720" cy="432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ежлив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290520" y="4913280"/>
            <a:ext cx="3313080" cy="4348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Жесток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619440" y="4927680"/>
            <a:ext cx="2952720" cy="431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бродеятель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Королевич Елисей"/>
          <p:cNvPicPr/>
          <p:nvPr/>
        </p:nvPicPr>
        <p:blipFill>
          <a:blip r:embed="rId1"/>
          <a:stretch/>
        </p:blipFill>
        <p:spPr>
          <a:xfrm>
            <a:off x="5867280" y="333360"/>
            <a:ext cx="2925720" cy="439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Обращение к солнцу"/>
          <p:cNvPicPr/>
          <p:nvPr/>
        </p:nvPicPr>
        <p:blipFill>
          <a:blip r:embed="rId2"/>
          <a:stretch/>
        </p:blipFill>
        <p:spPr>
          <a:xfrm>
            <a:off x="0" y="333360"/>
            <a:ext cx="3021120" cy="4416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Елисей и месяц"/>
          <p:cNvPicPr/>
          <p:nvPr/>
        </p:nvPicPr>
        <p:blipFill>
          <a:blip r:embed="rId3"/>
          <a:stretch/>
        </p:blipFill>
        <p:spPr>
          <a:xfrm>
            <a:off x="2987640" y="333360"/>
            <a:ext cx="2916360" cy="4386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0" y="508464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ем интересны обращения Елисея к солнцу, месяцу, ветру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ahoma"/>
                <a:ea typeface="Arial"/>
              </a:rPr>
              <a:t>■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кие чувства проявляются в этих обращениях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68360" y="333360"/>
            <a:ext cx="4174920" cy="547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003640" y="333360"/>
            <a:ext cx="3745080" cy="547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643280" y="333360"/>
            <a:ext cx="360360" cy="5472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0"/>
          </a:gra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picture"/>
          <p:cNvPicPr/>
          <p:nvPr/>
        </p:nvPicPr>
        <p:blipFill>
          <a:blip r:embed="rId1"/>
          <a:stretch/>
        </p:blipFill>
        <p:spPr>
          <a:xfrm>
            <a:off x="1187280" y="404640"/>
            <a:ext cx="2811600" cy="2443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43" name="Picture 6" descr="picture"/>
          <p:cNvPicPr/>
          <p:nvPr/>
        </p:nvPicPr>
        <p:blipFill>
          <a:blip r:embed="rId2"/>
          <a:stretch/>
        </p:blipFill>
        <p:spPr>
          <a:xfrm>
            <a:off x="684360" y="2852640"/>
            <a:ext cx="3816360" cy="2521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44" name="Text Box 9"/>
          <p:cNvSpPr/>
          <p:nvPr/>
        </p:nvSpPr>
        <p:spPr>
          <a:xfrm>
            <a:off x="684360" y="537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55640" y="2637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11" descr="Царевна и черница"/>
          <p:cNvPicPr/>
          <p:nvPr/>
        </p:nvPicPr>
        <p:blipFill>
          <a:blip r:embed="rId3"/>
          <a:stretch/>
        </p:blipFill>
        <p:spPr>
          <a:xfrm>
            <a:off x="5003640" y="2009880"/>
            <a:ext cx="2509920" cy="37782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>
            <a:off x="6153120" y="16905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38800" y="413712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108000" y="59500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йдите отрывки, соответствующие иллюстрациям художников. Какие черты характера персонажей проявляются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7" descr="В"/>
          <p:cNvPicPr/>
          <p:nvPr/>
        </p:nvPicPr>
        <p:blipFill>
          <a:blip r:embed="rId4"/>
          <a:stretch/>
        </p:blipFill>
        <p:spPr>
          <a:xfrm>
            <a:off x="6323040" y="368280"/>
            <a:ext cx="24908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Рифма. Ритм. Стихотворная и прозаическая реч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983360" cy="4651200"/>
          </a:xfrm>
          <a:prstGeom prst="rect">
            <a:avLst/>
          </a:prstGeom>
          <a:gradFill rotWithShape="0">
            <a:gsLst>
              <a:gs pos="0">
                <a:srgbClr val="a50021"/>
              </a:gs>
              <a:gs pos="5000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очтите статью учебника . Запишите в тетрадь определения понятий: рифма, ритм, стихотворная реч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пределите способы рифмов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1. Царь с царицею простил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путь-дорогу снарядил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я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 царица у ок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ела ждать его од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на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2. Там на неведомых дорожк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леды невиданных звер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ей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бушка там на курьих ножк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Стоит без окон, без двер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ей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3:14:34Z</dcterms:created>
  <dc:creator>Лидия Криницина</dc:creator>
  <dc:description/>
  <dc:language>en-US</dc:language>
  <cp:lastModifiedBy>User</cp:lastModifiedBy>
  <dcterms:modified xsi:type="dcterms:W3CDTF">2018-11-10T07:03:06Z</dcterms:modified>
  <cp:revision>25</cp:revision>
  <dc:subject/>
  <dc:title>Слайд 1</dc:title>
</cp:coreProperties>
</file>