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208-1383-4D52-B89C-33035CF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0C6-66DE-477A-B014-2A89F296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67F-1FC7-49C4-BD83-A06140AB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A3F-5D1A-4098-8489-3169D57F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802-6BC9-42F2-B93D-BBFA6282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608-C450-4824-950E-C2E7B634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0D3-2EED-4F05-BF0F-AA4A3799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204-E8B5-4620-97DD-9474671E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DC8-2796-408C-BF3E-67063CCB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1C8A-689F-4481-9844-8F19127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882-F6C1-4AEE-908B-F249115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13B-9735-47A0-836F-FFE46B4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17E4-D3D1-4894-86D3-1AC47E4986B4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Lit\Local Settings\Temporary Internet Files\Content.IE5\Y00YU7F5\MP900448597[1].jpg"/>
          <p:cNvPicPr/>
          <p:nvPr/>
        </p:nvPicPr>
        <p:blipFill>
          <a:blip r:embed="rId1"/>
          <a:stretch/>
        </p:blipFill>
        <p:spPr>
          <a:xfrm>
            <a:off x="1143000" y="214200"/>
            <a:ext cx="689436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1320" y="2500200"/>
            <a:ext cx="78865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onstantia"/>
              </a:rPr>
              <a:t>Птицы Кубани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071680"/>
            <a:ext cx="712944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98989"/>
                </a:solidFill>
                <a:latin typeface="Constantia"/>
              </a:rPr>
              <a:t>Яровая Наталья Владимировна воспитатель МАДОУ детского сада № 3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авай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акже на лиманах Черноморского побережья можно встретить птичку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равайку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Обычно она обитает в зарослях ивня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равайка очень красивая птица, с коричневым оперением и своеобразным длинным клювом, который загнут книзу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дят эти птички лягушек, головастиков, а зимовать улетают в Африк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равай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" name="Picture 2" descr="D:\My_Documents\Мои документы\птицы Краснодарского края\karavayka.jpg"/>
          <p:cNvPicPr/>
          <p:nvPr/>
        </p:nvPicPr>
        <p:blipFill>
          <a:blip r:embed="rId1"/>
          <a:stretch/>
        </p:blipFill>
        <p:spPr>
          <a:xfrm>
            <a:off x="571680" y="1357200"/>
            <a:ext cx="77151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Цапл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у как не упомянуть о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цапле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… Здесь обитает несколько видов этой птицы - белая, серая, желтая, рыжая, а также кваквы и выпи как большие так и малы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Цапли птицы перелетные, питаются они рыбой, лягушками  и мелкими животны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Цапл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D:\My_Documents\Мои документы\птицы Краснодарского края\белая цапля.jpg"/>
          <p:cNvPicPr/>
          <p:nvPr/>
        </p:nvPicPr>
        <p:blipFill>
          <a:blip r:embed="rId1"/>
          <a:stretch/>
        </p:blipFill>
        <p:spPr>
          <a:xfrm>
            <a:off x="500040" y="1285920"/>
            <a:ext cx="8001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этих же местах можно увидеть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ебедя-шипун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вес которого может достигать до 13 килограмм, причем длина крыла у него в районе 70 сантиметр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Такие лебеди практически не издают звук, а просто шипят, отсюда и такое смешное названи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ются они корнями растений и мелкими водными беспозвоночным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ебед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Picture 2" descr="D:\My_Documents\Мои документы\птицы Краснодарского края\лебедь шипун.jpg"/>
          <p:cNvPicPr/>
          <p:nvPr/>
        </p:nvPicPr>
        <p:blipFill>
          <a:blip r:embed="rId1"/>
          <a:stretch/>
        </p:blipFill>
        <p:spPr>
          <a:xfrm>
            <a:off x="714240" y="1285920"/>
            <a:ext cx="77155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оршу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Часто в этой местности можно встретить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ерного коршуна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– это хищник, которого просто узнать по тому, как он летает кругами и ищет себе добычу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Хвост у коршуна длинный и широкий, в середине с выемкой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голова у него не больших размеров и довольно широкие крылья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итается коршун  падалью, рептилиями, мелкими птицами и грызунам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ерный коршу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5" name="Picture 2" descr="D:\My_Documents\Мои документы\птицы Краснодарского края\черный коршун.jpg"/>
          <p:cNvPicPr/>
          <p:nvPr/>
        </p:nvPicPr>
        <p:blipFill>
          <a:blip r:embed="rId1"/>
          <a:stretch/>
        </p:blipFill>
        <p:spPr>
          <a:xfrm>
            <a:off x="571680" y="1143000"/>
            <a:ext cx="78580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ню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степях и в горах водится птица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арый или по другому канюк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нтересно, что вьет гнезда он только в лесу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а вот охотится на больших открытых пространствах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ется также грызунами, мелкими птицами и насекомы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ню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9" name="Picture 2" descr="D:\My_Documents\Мои документы\птицы Краснодарского края\сарый.jpg"/>
          <p:cNvPicPr/>
          <p:nvPr/>
        </p:nvPicPr>
        <p:blipFill>
          <a:blip r:embed="rId1"/>
          <a:stretch/>
        </p:blipFill>
        <p:spPr>
          <a:xfrm>
            <a:off x="785880" y="1500120"/>
            <a:ext cx="77151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собенности пти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тицы – это высшие позвоночные, которые отличаются от других животных тем, что у них есть крылья, оперение и они умеют летать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ерья играют важную роль в их жизни  – они выполняют защитную функцию, удерживают тепло, а при полете сводят к минимуму трение, возникающее при контакте с воздушными массами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ожа у птиц не имеет каких либо желез и поэтому всегда очень сухая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о одна железа, которая выделяет жир, все-таки есть и находится она под хвостом, правда хорошо развита она только у водоплавающих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вказский фаз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зарослях различных растений рядом с водоемами обитает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кавказский фазан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а важная птица не любит летать, а передвигается в основном  по земл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ьет эта птица гнезда преимущественно в непроходимых зарослях кустарников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ется он ягодами, насекомыми, и не брезгует даже колорадским жуко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вказский фаз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" name="Picture 2" descr="D:\My_Documents\Мои документы\птицы Краснодарского края\кавказский фазан.jpg"/>
          <p:cNvPicPr/>
          <p:nvPr/>
        </p:nvPicPr>
        <p:blipFill>
          <a:blip r:embed="rId1"/>
          <a:stretch/>
        </p:blipFill>
        <p:spPr>
          <a:xfrm>
            <a:off x="642960" y="1071720"/>
            <a:ext cx="7572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уропатк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степи Краснодарского края водятся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ерые куропатк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маленькие птички весом до 500 грамм, которые  быстро перемещаются по земле, также быстро летают и могут даже вертикально взлетать, при этом издают сильное чирикань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ьют гнезда куропатки только на земл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ерая куропат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7" name="Picture 2" descr="D:\My_Documents\Мои документы\куропатка.jpg"/>
          <p:cNvPicPr/>
          <p:nvPr/>
        </p:nvPicPr>
        <p:blipFill>
          <a:blip r:embed="rId1"/>
          <a:stretch/>
        </p:blipFill>
        <p:spPr>
          <a:xfrm>
            <a:off x="571680" y="1143000"/>
            <a:ext cx="76435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ысух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997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 водоемах Кубани обитает птица под названием 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лысуха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массой она около 800 грамм, имеет черную окраску и серое брюшко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На лбу у этой птички белое пятно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Лысухи очень интересно ведут себя на воде – они медленно плавают, качая при этом головой и подергивая своим хвостиком в такт. Получается своеобразный утиный танец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Они умеют бегать по воде, при этом помогая себе в этом крыльями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Лысухи перелетные птицы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Осенью они  начинают жиреть и на них открывается охота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ысух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" name="Picture 2" descr="D:\My_Documents\Мои документы\лысуха.jpeg"/>
          <p:cNvPicPr/>
          <p:nvPr/>
        </p:nvPicPr>
        <p:blipFill>
          <a:blip r:embed="rId1"/>
          <a:stretch/>
        </p:blipFill>
        <p:spPr>
          <a:xfrm>
            <a:off x="785880" y="1357200"/>
            <a:ext cx="7429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ибис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лугах и на болотах можно увидеть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чибисов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ни прилетают на Кубань в марте, а улетают в декабре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Чибисы ненамного крупнее голубей, весят они около 200 грамм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ерхняя часть туловища у них темная, низ белого цвета, головка имеет черную окраску, с зеленым отливом, а на голове имеется хохолок, который загибается к верху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Чиби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Picture 2" descr="D:\My_Documents\Мои документы\птицы Краснодарского края\чибис.jpg"/>
          <p:cNvPicPr/>
          <p:nvPr/>
        </p:nvPicPr>
        <p:blipFill>
          <a:blip r:embed="rId1"/>
          <a:stretch/>
        </p:blipFill>
        <p:spPr>
          <a:xfrm>
            <a:off x="642960" y="1143000"/>
            <a:ext cx="7858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Шилоклюв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а озерах и прудах также обитает птица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шилоклювка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очень красивая птичка черно – белой окраски,  с длинными ногами, которые имеют синеватый отли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ется она мелкими беспозвоночными, которых добывает с помощью своего длинного клюв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Шилоклювк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2" descr="D:\My_Documents\Мои документы\птицы Краснодарского края\шилоклювка.jpg"/>
          <p:cNvPicPr/>
          <p:nvPr/>
        </p:nvPicPr>
        <p:blipFill>
          <a:blip r:embed="rId1"/>
          <a:stretch/>
        </p:blipFill>
        <p:spPr>
          <a:xfrm>
            <a:off x="642960" y="1285920"/>
            <a:ext cx="77151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им жиром птицы смазывают свое оперение, вследствие чего оно не пропускает вод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ть такие виды птиц, которые имеют вместо этой железы участки, с постоянно растущим пухом, обычно на пояснице или на боках. Называются эти участки «пудретками», потому что когда этот пух обламывается, он образует порошок, напоминающий пудру. И именно эта пудра и придает оперению водонепроницаемые свой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этим птицам относятся страусы или дрофы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казывается, чт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у птиц нет зубов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а вместо ни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меется зоб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проходя через который пища как бы перемалывается. У них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ьно развит слух и слабо обоня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лесах и оврагах можно встретить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филина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Это интересная крупная птица, с большими круглыми глазами и рыжей окраской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есит филин 3 килограмма, его туловище длиной до 70 сантиметров,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а вот размах крыльев этой птицы около двух метров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Кормятся филины грызунами, летают бесшумно и имеют очень острое зрение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Фил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2" descr="D:\My_Documents\Мои документы\филин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Особенности фили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ля филина характерны глубокие и размеренные взмахи широких крыльев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к правило, филин неторопливо летает над землей, высматривая добычу, чередуя машущий полёт с непродолжительным планированием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Филины, обитающие в горах и ущельях, могут использовать восходящие потоки воздуха и подолгу парить, описывая круги в высоте, однако такой полёт не является для него характерным. При необходимости филин способен лететь со скоростью достаточной для того, чтобы легко догнать ворону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же он обладает способностью развивать полную скорость практически мгновенно, с первого взмах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исаживаясь для отдыха на дерево или землю, держит тело вертикально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о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наших местах встречается и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ушастая сова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Это не большая птица весом до 300 грамм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Питается ушастая сова грызунами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Она бесконечно охотится, причем даже тогда, когда не нуждается в пище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Насытившись, она складывает добычу в разных местах и никогда уже больше ей не пользуется. Интересно, правда? Наверное заботится о других…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ов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2" descr="D:\My_Documents\Мои документы\птицы Краснодарского края\ушастая сова.jpg"/>
          <p:cNvPicPr/>
          <p:nvPr/>
        </p:nvPicPr>
        <p:blipFill>
          <a:blip r:embed="rId1"/>
          <a:stretch/>
        </p:blipFill>
        <p:spPr>
          <a:xfrm>
            <a:off x="1357200" y="13572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Стриж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городах на крышах  обитают черные и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желтобрюхие стриж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Это маленькие птички весом всего 50 грамм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ни вьют себе гнезда на крышах зданий, а также в расщелинах скал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ются стрижи только насекомы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" descr="D:\My_Documents\Мои документы\Тексты\Сканированные документы\Изображение 453.jpg"/>
          <p:cNvPicPr/>
          <p:nvPr/>
        </p:nvPicPr>
        <p:blipFill>
          <a:blip r:embed="rId1"/>
          <a:stretch/>
        </p:blipFill>
        <p:spPr>
          <a:xfrm>
            <a:off x="1285920" y="1928880"/>
            <a:ext cx="378612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 лесах, городских парках, рощах и аллеях  распространен </a:t>
            </a:r>
            <a:r>
              <a:rPr b="1" lang="ru-RU" sz="2700" spc="-1" strike="noStrike">
                <a:solidFill>
                  <a:srgbClr val="000000"/>
                </a:solidFill>
                <a:latin typeface="Constantia"/>
              </a:rPr>
              <a:t>пестрый дятел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На голове у него своеобразная черная шапка с красным пятнышком на затылке, щечки белые, а под глазами черные полоски. Брюхо у дятла белое с розовым отливом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Вьет гнезда эта птица исключительно в дуплах деревьев, чаще всего в старых осинах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Питается личинками насекомых, которые выдалбливает собственным клювом, а достает он их своим липким языком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Стук, который издает дятел, слышен на всю округу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Дяте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" name="Picture 2" descr="D:\My_Documents\Мои документы\птицы Краснодарского края\пестрый дятел.jpg"/>
          <p:cNvPicPr/>
          <p:nvPr/>
        </p:nvPicPr>
        <p:blipFill>
          <a:blip r:embed="rId1"/>
          <a:stretch/>
        </p:blipFill>
        <p:spPr>
          <a:xfrm>
            <a:off x="1714680" y="1357200"/>
            <a:ext cx="614340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Еще одна довольно распространенная птица в Краснодарском крае  - это касатка или попросту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ласточка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 размеру она чуть больше воробья, спинка черная, а брюшко бело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имуют ласточки в Азии или Африке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итаются насекомыми, гнезда лепят исключительно из глин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бычно их можно увидеть сидящими на электрических провод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омг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Краснодарском крае на водоемах обитает птица, с интересным названием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омга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или как ее называют по другому - большая поганка. Чомга живет обычно в зарослях около воды, а заслужила она такое название за то, что ее мясо очень сильно пахнет рыбой. Вообще это очень красивая птичка – ее спинка, шея и верх у головы темно-бурые, щечки серые, на голове красивый хохолок из смеси черных и рыжих перышек. Она очень хорошо плавает и ныряет, сама строит себе гнезда на воде из камыша и рогоза. Если чомга покидает свое гнездо, то как заботливая мама она обязательно прикрывает его водными растениями, чтобы защитить от нежданных гостей и солнечных лучей. Когда у нее появляются птенцы она носит их на спине целых две недели, иногда спускаясь на воду. Питается чомга различными моллюсками и рыб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Ласточ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Picture 2" descr="D:\My_Documents\Мои документы\птицы Краснодарского края\ласточка.jpg"/>
          <p:cNvPicPr/>
          <p:nvPr/>
        </p:nvPicPr>
        <p:blipFill>
          <a:blip r:embed="rId1"/>
          <a:stretch/>
        </p:blipFill>
        <p:spPr>
          <a:xfrm>
            <a:off x="1500120" y="1357200"/>
            <a:ext cx="64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8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 многих районах можно также встретить белых, желтых и горных трясогузок, домового и полевого воробья, грачей, сорок, галок, а также соек. По всему Краснодарскому краю можно услышать пение соловь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елик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2" descr="D:\My_Documents\Мои документы\птицы Краснодарского края\пеликан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008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нездятся пеликаны в глухих местах колониями, на заросших тростником островк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незда устраивают из стеблей тростник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Как у большинства крупных птиц, яиц в гнезде бывает немного, 2 – 3 белых яйц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еликаны охраняются законом, всякая охота на них запрещен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ша помощь пеликана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обходимо оберегать места гнездований пеликанов и не тревожить их в самое для них трудное время – при откладывании яиц, насиживании и выводе птенц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рнитологи рекомендуют заранее до прилета птиц, устраивать для них искусственные плотики из камыш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тицы во все века дарили людям радость. И приносили пользу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 нас есть еще возможность сохранить этот чудесный мир природ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о одним орнитологам это не под сил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омочь сохранить птиц – наша общая задача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Исчезнувшие виды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Picture 2" descr="D:\My_Documents\Мои документы\Тексты\Сканированные документы\Изображение 460.jpg"/>
          <p:cNvPicPr/>
          <p:nvPr/>
        </p:nvPicPr>
        <p:blipFill>
          <a:blip r:embed="rId1"/>
          <a:stretch/>
        </p:blipFill>
        <p:spPr>
          <a:xfrm>
            <a:off x="571680" y="642960"/>
            <a:ext cx="7215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Помощь птицам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терпимое отношение к тем, кто губит природу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Забота о природной среде обитания пти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ривлечение и подкормка птиц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стройство гнездован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рганизация общественно значимых практических де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Типы кормуше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D:\My_Documents\Мои документы\Тексты\Сканированные документы\Изображение 459.jpg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2" descr="D:\My_Documents\Мои документы\Тексты\Сканированные документы\Изображение 451.jpg"/>
          <p:cNvPicPr/>
          <p:nvPr/>
        </p:nvPicPr>
        <p:blipFill>
          <a:blip r:embed="rId1"/>
          <a:stretch/>
        </p:blipFill>
        <p:spPr>
          <a:xfrm>
            <a:off x="857160" y="357120"/>
            <a:ext cx="66438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омг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2" descr="D:\My_Documents\Мои документы\птицы Краснодарского края\чомга.jpg"/>
          <p:cNvPicPr/>
          <p:nvPr/>
        </p:nvPicPr>
        <p:blipFill>
          <a:blip r:embed="rId1"/>
          <a:stretch/>
        </p:blipFill>
        <p:spPr>
          <a:xfrm>
            <a:off x="642960" y="1214280"/>
            <a:ext cx="7858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1" name="Picture 2" descr="D:\My_Documents\Мои документы\Тексты\Сканированные документы\Изображение 452.jpg"/>
          <p:cNvPicPr/>
          <p:nvPr/>
        </p:nvPicPr>
        <p:blipFill>
          <a:blip r:embed="rId1"/>
          <a:stretch/>
        </p:blipFill>
        <p:spPr>
          <a:xfrm>
            <a:off x="1928880" y="571680"/>
            <a:ext cx="58579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3" name="Picture 2" descr="D:\My_Documents\Мои документы\Тексты\Сканированные документы\Изображение 454.jpg"/>
          <p:cNvPicPr/>
          <p:nvPr/>
        </p:nvPicPr>
        <p:blipFill>
          <a:blip r:embed="rId1"/>
          <a:stretch/>
        </p:blipFill>
        <p:spPr>
          <a:xfrm>
            <a:off x="2000160" y="214200"/>
            <a:ext cx="60008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5" name="Picture 2" descr="D:\My_Documents\Мои документы\Тексты\Сканированные документы\Изображение 456.jpg"/>
          <p:cNvPicPr/>
          <p:nvPr/>
        </p:nvPicPr>
        <p:blipFill>
          <a:blip r:embed="rId1"/>
          <a:stretch/>
        </p:blipFill>
        <p:spPr>
          <a:xfrm>
            <a:off x="1571760" y="714240"/>
            <a:ext cx="5857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7" name="Picture 2" descr="D:\My_Documents\Мои документы\Тексты\Сканированные документы\Изображение 457.jpg"/>
          <p:cNvPicPr/>
          <p:nvPr/>
        </p:nvPicPr>
        <p:blipFill>
          <a:blip r:embed="rId1"/>
          <a:stretch/>
        </p:blipFill>
        <p:spPr>
          <a:xfrm>
            <a:off x="1214280" y="642960"/>
            <a:ext cx="6500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9" name="Picture 2" descr="D:\My_Documents\Мои документы\Тексты\Сканированные документы\Изображение 458.jpg"/>
          <p:cNvPicPr/>
          <p:nvPr/>
        </p:nvPicPr>
        <p:blipFill>
          <a:blip r:embed="rId1"/>
          <a:stretch/>
        </p:blipFill>
        <p:spPr>
          <a:xfrm>
            <a:off x="785880" y="500040"/>
            <a:ext cx="64292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алые поган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о не только большие поганки здесь обитают, есть и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малые поганки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, которые во многом похожи на чомгу как по образу жизни, так и внешн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алая поганк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2" descr="D:\My_Documents\Мои документы\птицы Краснодарского края\малая поганка.jpg"/>
          <p:cNvPicPr/>
          <p:nvPr/>
        </p:nvPicPr>
        <p:blipFill>
          <a:blip r:embed="rId1"/>
          <a:stretch/>
        </p:blipFill>
        <p:spPr>
          <a:xfrm>
            <a:off x="785880" y="1785960"/>
            <a:ext cx="7500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акл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одятся в этих краях и большие бакланы – очень крупные птицы, которые живут на лиманах. Это  не обычный  вид птиц, так как внешность их довольно не обычная.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Баклан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меет длинную шею, черное блестящее оперение и широкие крылья. В сутки он съедает около полутора килограмм рыбы. Бакланы отличные пловцы и также как чомга  отлично ныряю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аклан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" name="Picture 2" descr="D:\My_Documents\Мои документы\птицы Краснодарского края\большой баклан.jpg"/>
          <p:cNvPicPr/>
          <p:nvPr/>
        </p:nvPicPr>
        <p:blipFill>
          <a:blip r:embed="rId1"/>
          <a:stretch/>
        </p:blipFill>
        <p:spPr>
          <a:xfrm>
            <a:off x="642960" y="1428840"/>
            <a:ext cx="7929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9:26:59Z</dcterms:created>
  <dc:creator>Lit</dc:creator>
  <dc:description/>
  <dc:language>en-US</dc:language>
  <cp:lastModifiedBy>1</cp:lastModifiedBy>
  <dcterms:modified xsi:type="dcterms:W3CDTF">2018-12-11T09:44:03Z</dcterms:modified>
  <cp:revision>13</cp:revision>
  <dc:subject/>
  <dc:title>Птицы Кубани</dc:title>
</cp:coreProperties>
</file>