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AF4-4FA0-45A9-9AC0-2C33A7F1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6E2-CCED-473A-A9C8-2C9531C7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624-6B4A-4683-B2FE-00CB6C85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F1B-DE5E-45C4-A40F-391821D3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92D-85D5-4040-834D-5032EB3E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D4E-86C7-4413-A481-F128A8F0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FB5-001A-4EE7-97AB-03AC4C08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742-143D-4EDB-B920-35776EE6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F2E-75BA-4231-9A0B-D4E12734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FC0-807F-402C-B8F4-E4C75504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0F2-EE61-43AC-A0E7-81C5CC4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6E2-DC3E-41D9-86B2-E058E90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495D-D99D-4BE3-A15D-3412B2F5128B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Lit\Local Settings\Temporary Internet Files\Content.IE5\Y00YU7F5\MP900448597[1].jpg"/>
          <p:cNvPicPr/>
          <p:nvPr/>
        </p:nvPicPr>
        <p:blipFill>
          <a:blip r:embed="rId1"/>
          <a:stretch/>
        </p:blipFill>
        <p:spPr>
          <a:xfrm>
            <a:off x="1143000" y="214200"/>
            <a:ext cx="689436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2500200"/>
            <a:ext cx="78865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nstantia"/>
              </a:rPr>
              <a:t>Птицы Кубани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71680"/>
            <a:ext cx="7129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onstantia"/>
              </a:rPr>
              <a:t>Яровая Наталья Владимировна воспитатель МАДОУ детского сада № 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равай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акже на лиманах Черноморского побережья можно встретить птичку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аравайку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Обычно она обитает в зарослях ивня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равайка очень красивая птица, с коричневым оперением и своеобразным длинным клювом, который загнут книзу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дят эти птички лягушек, головастиков, а зимовать улетают в Африк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равай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Picture 2" descr="D:\My_Documents\Мои документы\птицы Краснодарского края\karavayka.jpg"/>
          <p:cNvPicPr/>
          <p:nvPr/>
        </p:nvPicPr>
        <p:blipFill>
          <a:blip r:embed="rId1"/>
          <a:stretch/>
        </p:blipFill>
        <p:spPr>
          <a:xfrm>
            <a:off x="571680" y="1357200"/>
            <a:ext cx="7715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Цапл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у как не упомянуть о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цапл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… Здесь обитает несколько видов этой птицы - белая, серая, желтая, рыжая, а также кваквы и выпи как большие так и малы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Цапли птицы перелетные, питаются они рыбой, лягушками  и мелкими животным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Цапл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D:\My_Documents\Мои документы\птицы Краснодарского края\белая цапля.jpg"/>
          <p:cNvPicPr/>
          <p:nvPr/>
        </p:nvPicPr>
        <p:blipFill>
          <a:blip r:embed="rId1"/>
          <a:stretch/>
        </p:blipFill>
        <p:spPr>
          <a:xfrm>
            <a:off x="500040" y="1285920"/>
            <a:ext cx="8001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Лебед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этих же местах можно увидеть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ебедя-шипун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вес которого может достигать до 13 килограмм, причем длина крыла у него в районе 70 сантиметр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акие лебеди практически не издают звук, а просто шипят, отсюда и такое смешное названи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ются они корнями растений и мелкими водными беспозвоночным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Лебед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Picture 2" descr="D:\My_Documents\Мои документы\птицы Краснодарского края\лебедь шипун.jpg"/>
          <p:cNvPicPr/>
          <p:nvPr/>
        </p:nvPicPr>
        <p:blipFill>
          <a:blip r:embed="rId1"/>
          <a:stretch/>
        </p:blipFill>
        <p:spPr>
          <a:xfrm>
            <a:off x="714240" y="1285920"/>
            <a:ext cx="77155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оршу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Часто в этой местности можно встретить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черного коршуна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– это хищник, которого просто узнать по тому, как он летает кругами и ищет себе добычу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Хвост у коршуна длинный и широкий, в середине с выемкой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голова у него не больших размеров и довольно широкие крылья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Питается коршун  падалью, рептилиями, мелкими птицами и грызунам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Черный коршу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5" name="Picture 2" descr="D:\My_Documents\Мои документы\птицы Краснодарского края\черный коршун.jpg"/>
          <p:cNvPicPr/>
          <p:nvPr/>
        </p:nvPicPr>
        <p:blipFill>
          <a:blip r:embed="rId1"/>
          <a:stretch/>
        </p:blipFill>
        <p:spPr>
          <a:xfrm>
            <a:off x="571680" y="1143000"/>
            <a:ext cx="7858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ню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степях и в горах водится птица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арый или по другому канюк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нтересно, что вьет гнезда он только в лесу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 вот охотится на больших открытых пространствах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ется также грызунами, мелкими птицами и насекомы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ню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9" name="Picture 2" descr="D:\My_Documents\Мои документы\птицы Краснодарского края\сарый.jpg"/>
          <p:cNvPicPr/>
          <p:nvPr/>
        </p:nvPicPr>
        <p:blipFill>
          <a:blip r:embed="rId1"/>
          <a:stretch/>
        </p:blipFill>
        <p:spPr>
          <a:xfrm>
            <a:off x="785880" y="1500120"/>
            <a:ext cx="77151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собенности пти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тицы – это высшие позвоночные, которые отличаются от других животных тем, что у них есть крылья, оперение и они умеют летать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ерья играют важную роль в их жизни  – они выполняют защитную функцию, удерживают тепло, а при полете сводят к минимуму трение, возникающее при контакте с воздушными массами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ожа у птиц не имеет каких либо желез и поэтому всегда очень сухая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Но одна железа, которая выделяет жир, все-таки есть и находится она под хвостом, правда хорошо развита она только у водоплавающих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вказский фаз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зарослях различных растений рядом с водоемами обитает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авказский фазан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а важная птица не любит летать, а передвигается в основном  по земл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ьет эта птица гнезда преимущественно в непроходимых зарослях кустарников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ется он ягодами, насекомыми, и не брезгует даже колорадским жуко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вказский фаз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" name="Picture 2" descr="D:\My_Documents\Мои документы\птицы Краснодарского края\кавказский фазан.jpg"/>
          <p:cNvPicPr/>
          <p:nvPr/>
        </p:nvPicPr>
        <p:blipFill>
          <a:blip r:embed="rId1"/>
          <a:stretch/>
        </p:blipFill>
        <p:spPr>
          <a:xfrm>
            <a:off x="642960" y="1071720"/>
            <a:ext cx="7572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уропат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степи Краснодарского края водятся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ерые куропатки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о маленькие птички весом до 500 грамм, которые  быстро перемещаются по земле, также быстро летают и могут даже вертикально взлетать, при этом издают сильное чирикань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ьют гнезда куропатки только на земл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ерая куропат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2" descr="D:\My_Documents\Мои документы\куропатка.jpg"/>
          <p:cNvPicPr/>
          <p:nvPr/>
        </p:nvPicPr>
        <p:blipFill>
          <a:blip r:embed="rId1"/>
          <a:stretch/>
        </p:blipFill>
        <p:spPr>
          <a:xfrm>
            <a:off x="571680" y="1143000"/>
            <a:ext cx="76435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Лысух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В водоемах Кубани обитает птица под названием </a:t>
            </a: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лысуха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массой она около 800 грамм, имеет черную окраску и серое брюшко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На лбу у этой птички белое пятно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Лысухи очень интересно ведут себя на воде – они медленно плавают, качая при этом головой и подергивая своим хвостиком в такт. Получается своеобразный утиный танец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Они умеют бегать по воде, при этом помогая себе в этом крыльями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Лысухи перелетные птицы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Осенью они  начинают жиреть и на них открывается охота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Лысух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" name="Picture 2" descr="D:\My_Documents\Мои документы\лысуха.jpeg"/>
          <p:cNvPicPr/>
          <p:nvPr/>
        </p:nvPicPr>
        <p:blipFill>
          <a:blip r:embed="rId1"/>
          <a:stretch/>
        </p:blipFill>
        <p:spPr>
          <a:xfrm>
            <a:off x="785880" y="1357200"/>
            <a:ext cx="7429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ибис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лугах и на болотах можно увидеть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чибисов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ни прилетают на Кубань в марте, а улетают в декабре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Чибисы ненамного крупнее голубей, весят они около 200 грамм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ерхняя часть туловища у них темная, низ белого цвета, головка имеет черную окраску, с зеленым отливом, а на голове имеется хохолок, который загибается к верху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Чиби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" name="Picture 2" descr="D:\My_Documents\Мои документы\птицы Краснодарского края\чибис.jpg"/>
          <p:cNvPicPr/>
          <p:nvPr/>
        </p:nvPicPr>
        <p:blipFill>
          <a:blip r:embed="rId1"/>
          <a:stretch/>
        </p:blipFill>
        <p:spPr>
          <a:xfrm>
            <a:off x="642960" y="1143000"/>
            <a:ext cx="7858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Шилоклюв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 озерах и прудах также обитает птица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илоклювк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о очень красивая птичка черно – белой окраски,  с длинными ногами, которые имеют синеватый отли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ется она мелкими беспозвоночными, которых добывает с помощью своего длинного клюв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Шилоклюв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Picture 2" descr="D:\My_Documents\Мои документы\птицы Краснодарского края\шилоклювка.jpg"/>
          <p:cNvPicPr/>
          <p:nvPr/>
        </p:nvPicPr>
        <p:blipFill>
          <a:blip r:embed="rId1"/>
          <a:stretch/>
        </p:blipFill>
        <p:spPr>
          <a:xfrm>
            <a:off x="642960" y="1285920"/>
            <a:ext cx="7715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7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им жиром птицы смазывают свое оперение, вследствие чего оно не пропускает вод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ть такие виды птиц, которые имеют вместо этой железы участки, с постоянно растущим пухом, обычно на пояснице или на боках. Называются эти участки «пудретками», потому что когда этот пух обламывается, он образует порошок, напоминающий пудру. И именно эта пудра и придает оперению водонепроницаемые свой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этим птицам относятся страусы или дроф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казывается, что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 птиц нет зуб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а вместо ни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меется зоб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оходя через который пища как бы перемалывается. У ни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ьно развит слух и слабо обонян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Фили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лесах и оврагах можно встретить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филина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Это интересная крупная птица, с большими круглыми глазами и рыжей окраской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есит филин 3 килограмма, его туловище длиной до 70 сантиметров,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а вот размах крыльев этой птицы около двух метров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Кормятся филины грызунами, летают бесшумно и имеют очень острое зрени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Фили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2" descr="D:\My_Documents\Мои документы\филин.jpg"/>
          <p:cNvPicPr/>
          <p:nvPr/>
        </p:nvPicPr>
        <p:blipFill>
          <a:blip r:embed="rId1"/>
          <a:stretch/>
        </p:blipFill>
        <p:spPr>
          <a:xfrm>
            <a:off x="1179360" y="1600200"/>
            <a:ext cx="678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собенности фили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Для филина характерны глубокие и размеренные взмахи широких крыльев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ак правило, филин неторопливо летает над землей, высматривая добычу, чередуя машущий полёт с непродолжительным планированием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Филины, обитающие в горах и ущельях, могут использовать восходящие потоки воздуха и подолгу парить, описывая круги в высоте, однако такой полёт не является для него характерным. При необходимости филин способен лететь со скоростью достаточной для того, чтобы легко догнать ворону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Также он обладает способностью развивать полную скорость практически мгновенно, с первого взмах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исаживаясь для отдыха на дерево или землю, держит тело вертикально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ов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наших местах встречается и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ушастая сова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Это не большая птица весом до 300 грамм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Питается ушастая сова грызунам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на бесконечно охотится, причем даже тогда, когда не нуждается в пище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Насытившись, она складывает добычу в разных местах и никогда уже больше ей не пользуется. Интересно, правда? Наверное заботится о других…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ов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2" descr="D:\My_Documents\Мои документы\птицы Краснодарского края\ушастая сова.jpg"/>
          <p:cNvPicPr/>
          <p:nvPr/>
        </p:nvPicPr>
        <p:blipFill>
          <a:blip r:embed="rId1"/>
          <a:stretch/>
        </p:blipFill>
        <p:spPr>
          <a:xfrm>
            <a:off x="1357200" y="13572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триж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городах на крышах  обитают черные и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желтобрюхие стрижи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о маленькие птички весом всего 50 грам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ни вьют себе гнезда на крышах зданий, а также в расщелинах скал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ются стрижи только насекомы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Picture 2" descr="D:\My_Documents\Мои документы\Тексты\Сканированные документы\Изображение 453.jpg"/>
          <p:cNvPicPr/>
          <p:nvPr/>
        </p:nvPicPr>
        <p:blipFill>
          <a:blip r:embed="rId1"/>
          <a:stretch/>
        </p:blipFill>
        <p:spPr>
          <a:xfrm>
            <a:off x="1285920" y="1928880"/>
            <a:ext cx="37861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В лесах, городских парках, рощах и аллеях  распространен </a:t>
            </a: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пестрый дятел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На голове у него своеобразная черная шапка с красным пятнышком на затылке, щечки белые, а под глазами черные полоски. Брюхо у дятла белое с розовым отливом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Вьет гнезда эта птица исключительно в дуплах деревьев, чаще всего в старых осинах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Питается личинками насекомых, которые выдалбливает собственным клювом, а достает он их своим липким языком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Стук, который издает дятел, слышен на всю округу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Picture 2" descr="D:\My_Documents\Мои документы\птицы Краснодарского края\пестрый дятел.jpg"/>
          <p:cNvPicPr/>
          <p:nvPr/>
        </p:nvPicPr>
        <p:blipFill>
          <a:blip r:embed="rId1"/>
          <a:stretch/>
        </p:blipFill>
        <p:spPr>
          <a:xfrm>
            <a:off x="1714680" y="1357200"/>
            <a:ext cx="61434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Ласточ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ще одна довольно распространенная птица в Краснодарском крае  - это касатка или попросту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асточка.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 размеру она чуть больше воробья, спинка черная, а брюшко бело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имуют ласточки в Азии или Африк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ются насекомыми, гнезда лепят исключительно из гли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бычно их можно увидеть сидящими на электрических провода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омг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раснодарском крае на водоемах обитает птица, с интересным название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омг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ли как ее называют по другому - большая поганка. Чомга живет обычно в зарослях около воды, а заслужила она такое название за то, что ее мясо очень сильно пахнет рыбой. Вообще это очень красивая птичка – ее спинка, шея и верх у головы темно-бурые, щечки серые, на голове красивый хохолок из смеси черных и рыжих перышек. Она очень хорошо плавает и ныряет, сама строит себе гнезда на воде из камыша и рогоза. Если чомга покидает свое гнездо, то как заботливая мама она обязательно прикрывает его водными растениями, чтобы защитить от нежданных гостей и солнечных лучей. Когда у нее появляются птенцы она носит их на спине целых две недели, иногда спускаясь на воду. Питается чомга различными моллюсками и рыб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Ласточ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2" descr="D:\My_Documents\Мои документы\птицы Краснодарского края\ласточка.jpg"/>
          <p:cNvPicPr/>
          <p:nvPr/>
        </p:nvPicPr>
        <p:blipFill>
          <a:blip r:embed="rId1"/>
          <a:stretch/>
        </p:blipFill>
        <p:spPr>
          <a:xfrm>
            <a:off x="1500120" y="1357200"/>
            <a:ext cx="64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 многих районах можно также встретить белых, желтых и горных трясогузок, домового и полевого воробья, грачей, сорок, галок, а также соек. По всему Краснодарскому краю можно услышать пение соловь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елик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2" descr="D:\My_Documents\Мои документы\птицы Краснодарского края\пеликан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008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нездятся пеликаны в глухих местах колониями, на заросших тростником островка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незда устраивают из стеблей тростни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к у большинства крупных птиц, яиц в гнезде бывает немного, 2 – 3 белых яйц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ликаны охраняются законом, всякая охота на них запреще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ша помощь пеликана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обходимо оберегать места гнездований пеликанов и не тревожить их в самое для них трудное время – при откладывании яиц, насиживании и выводе птенц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рнитологи рекомендуют заранее до прилета птиц, устраивать для них искусственные плотики из камыш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тицы во все века дарили людям радость. И приносили пользу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 нас есть еще возможность сохранить этот чудесный мир природ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о одним орнитологам это не под сил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мочь сохранить птиц – наша общая задач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Исчезнувшие вид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3" name="Picture 2" descr="D:\My_Documents\Мои документы\Тексты\Сканированные документы\Изображение 460.jpg"/>
          <p:cNvPicPr/>
          <p:nvPr/>
        </p:nvPicPr>
        <p:blipFill>
          <a:blip r:embed="rId1"/>
          <a:stretch/>
        </p:blipFill>
        <p:spPr>
          <a:xfrm>
            <a:off x="571680" y="642960"/>
            <a:ext cx="72151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омощь птица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терпимое отношение к тем, кто губит природ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бота о природной среде обитания пти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ивлечение и подкормка пти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стройство гнездован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рганизация общественно значимых практических де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Типы кормуше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7" name="Picture 2" descr="D:\My_Documents\Мои документы\Тексты\Сканированные документы\Изображение 459.jpg"/>
          <p:cNvPicPr/>
          <p:nvPr/>
        </p:nvPicPr>
        <p:blipFill>
          <a:blip r:embed="rId1"/>
          <a:stretch/>
        </p:blipFill>
        <p:spPr>
          <a:xfrm>
            <a:off x="642960" y="857160"/>
            <a:ext cx="76438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9" name="Picture 2" descr="D:\My_Documents\Мои документы\Тексты\Сканированные документы\Изображение 451.jpg"/>
          <p:cNvPicPr/>
          <p:nvPr/>
        </p:nvPicPr>
        <p:blipFill>
          <a:blip r:embed="rId1"/>
          <a:stretch/>
        </p:blipFill>
        <p:spPr>
          <a:xfrm>
            <a:off x="857160" y="357120"/>
            <a:ext cx="66438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омг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2" descr="D:\My_Documents\Мои документы\птицы Краснодарского края\чомга.jpg"/>
          <p:cNvPicPr/>
          <p:nvPr/>
        </p:nvPicPr>
        <p:blipFill>
          <a:blip r:embed="rId1"/>
          <a:stretch/>
        </p:blipFill>
        <p:spPr>
          <a:xfrm>
            <a:off x="642960" y="1214280"/>
            <a:ext cx="78580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Picture 2" descr="D:\My_Documents\Мои документы\Тексты\Сканированные документы\Изображение 452.jpg"/>
          <p:cNvPicPr/>
          <p:nvPr/>
        </p:nvPicPr>
        <p:blipFill>
          <a:blip r:embed="rId1"/>
          <a:stretch/>
        </p:blipFill>
        <p:spPr>
          <a:xfrm>
            <a:off x="1928880" y="571680"/>
            <a:ext cx="58579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3" name="Picture 2" descr="D:\My_Documents\Мои документы\Тексты\Сканированные документы\Изображение 454.jpg"/>
          <p:cNvPicPr/>
          <p:nvPr/>
        </p:nvPicPr>
        <p:blipFill>
          <a:blip r:embed="rId1"/>
          <a:stretch/>
        </p:blipFill>
        <p:spPr>
          <a:xfrm>
            <a:off x="2000160" y="214200"/>
            <a:ext cx="6000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2" descr="D:\My_Documents\Мои документы\Тексты\Сканированные документы\Изображение 456.jpg"/>
          <p:cNvPicPr/>
          <p:nvPr/>
        </p:nvPicPr>
        <p:blipFill>
          <a:blip r:embed="rId1"/>
          <a:stretch/>
        </p:blipFill>
        <p:spPr>
          <a:xfrm>
            <a:off x="1571760" y="714240"/>
            <a:ext cx="5857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2" descr="D:\My_Documents\Мои документы\Тексты\Сканированные документы\Изображение 457.jpg"/>
          <p:cNvPicPr/>
          <p:nvPr/>
        </p:nvPicPr>
        <p:blipFill>
          <a:blip r:embed="rId1"/>
          <a:stretch/>
        </p:blipFill>
        <p:spPr>
          <a:xfrm>
            <a:off x="1214280" y="642960"/>
            <a:ext cx="6500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" name="Picture 2" descr="D:\My_Documents\Мои документы\Тексты\Сканированные документы\Изображение 458.jpg"/>
          <p:cNvPicPr/>
          <p:nvPr/>
        </p:nvPicPr>
        <p:blipFill>
          <a:blip r:embed="rId1"/>
          <a:stretch/>
        </p:blipFill>
        <p:spPr>
          <a:xfrm>
            <a:off x="785880" y="500040"/>
            <a:ext cx="64292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Малые поган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о не только большие поганки здесь обитают, есть и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алые поганки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которые во многом похожи на чомгу как по образу жизни, так и внеш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Малая поган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2" descr="D:\My_Documents\Мои документы\птицы Краснодарского края\малая поганка.jpg"/>
          <p:cNvPicPr/>
          <p:nvPr/>
        </p:nvPicPr>
        <p:blipFill>
          <a:blip r:embed="rId1"/>
          <a:stretch/>
        </p:blipFill>
        <p:spPr>
          <a:xfrm>
            <a:off x="785880" y="1785960"/>
            <a:ext cx="7500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акл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дятся в этих краях и большие бакланы – очень крупные птицы, которые живут на лиманах. Это  не обычный  вид птиц, так как внешность их довольно не обычная.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аклан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меет длинную шею, черное блестящее оперение и широкие крылья. В сутки он съедает около полутора килограмм рыбы. Бакланы отличные пловцы и также как чомга  отлично ныряю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акла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" name="Picture 2" descr="D:\My_Documents\Мои документы\птицы Краснодарского края\большой баклан.jpg"/>
          <p:cNvPicPr/>
          <p:nvPr/>
        </p:nvPicPr>
        <p:blipFill>
          <a:blip r:embed="rId1"/>
          <a:stretch/>
        </p:blipFill>
        <p:spPr>
          <a:xfrm>
            <a:off x="642960" y="1428840"/>
            <a:ext cx="7929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9:26:59Z</dcterms:created>
  <dc:creator>Lit</dc:creator>
  <dc:description/>
  <dc:language>en-US</dc:language>
  <cp:lastModifiedBy>1</cp:lastModifiedBy>
  <dcterms:modified xsi:type="dcterms:W3CDTF">2018-12-11T09:44:03Z</dcterms:modified>
  <cp:revision>13</cp:revision>
  <dc:subject/>
  <dc:title>Птицы Кубани</dc:title>
</cp:coreProperties>
</file>