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DE57-00B3-45D4-939B-39A48193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B35-EF58-4B23-A45F-EA3B8A8B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31F-7697-46C2-935F-222C80A0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D49-23DD-4DA6-B4AD-7C6B7B0B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E579-530B-46C3-BE24-18A50658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374A-6D61-44CB-A36E-B7756151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B7A-A75B-497C-98C6-7D860B6C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5F53-AF18-4A23-A7A3-1B2C3654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617-5A65-4AF5-A255-01BD3498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1CF7-1E9A-40A5-AE53-EB753690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74D7-2C56-401B-B757-E48ED533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82EA-5CE0-405D-960F-F0129483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F206-232B-4B7B-96FD-CCB6AE1109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420840" y="406440"/>
            <a:ext cx="8280360" cy="611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Книга"/>
          <p:cNvPicPr/>
          <p:nvPr/>
        </p:nvPicPr>
        <p:blipFill>
          <a:blip r:embed="rId3"/>
          <a:srcRect l="0" t="0" r="0" b="69552"/>
          <a:stretch/>
        </p:blipFill>
        <p:spPr>
          <a:xfrm>
            <a:off x="1763640" y="1052640"/>
            <a:ext cx="532944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1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4"/>
          <p:cNvSpPr/>
          <p:nvPr/>
        </p:nvSpPr>
        <p:spPr>
          <a:xfrm>
            <a:off x="1116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5"/>
          <p:cNvSpPr/>
          <p:nvPr/>
        </p:nvSpPr>
        <p:spPr>
          <a:xfrm rot="771600">
            <a:off x="826560" y="5516280"/>
            <a:ext cx="648000" cy="503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1332000" y="2276640"/>
            <a:ext cx="507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Что должен знать и уметь ребенок старшей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333333"/>
                </a:solidFill>
                <a:latin typeface="Monotype Corsiva"/>
                <a:ea typeface="Times New Roman"/>
              </a:rPr>
              <a:t>(5–6 лет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19"/>
          <p:cNvSpPr txBox="1"/>
          <p:nvPr/>
        </p:nvSpPr>
        <p:spPr>
          <a:xfrm>
            <a:off x="2170080" y="1479600"/>
            <a:ext cx="4633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ппликация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92120" y="2204640"/>
            <a:ext cx="81122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держать ножницы и действовать 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етать способ вырезания с обрыванием для создания выразительно обр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приемы симметричного вырезания из бумаги, сложенной вдвое и гармош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узоры из растительных и геометрических форм на полосе, квадрате, круге, розете, чередовать их по цвету, форме, величине и последовательно наклеи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9"/>
          <p:cNvSpPr txBox="1"/>
          <p:nvPr/>
        </p:nvSpPr>
        <p:spPr>
          <a:xfrm>
            <a:off x="2170080" y="1479600"/>
            <a:ext cx="4633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струирование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92120" y="2204640"/>
            <a:ext cx="81122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анализировать образец постройки: выделять основные части и различать их по величине и фор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ть этапы создания собственной построй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постройки по рисун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коллектив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ирование из бума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навыком сгибания бума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лаживание пальцем места сги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использования чертеж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терминов: сгиб, пунктир, штрих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19"/>
          <p:cNvSpPr txBox="1"/>
          <p:nvPr/>
        </p:nvSpPr>
        <p:spPr>
          <a:xfrm>
            <a:off x="2170080" y="1479600"/>
            <a:ext cx="4633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овая деятельность.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2120" y="2204640"/>
            <a:ext cx="81122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онцу года дети могу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ариваться с партнёрами, во что играть, кто кем будет в игре; подчиняться правилам иг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рачивать содержание игры в зависимости от количества играющих 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различные источники информации, способствующие обогащению игры (кино, литература, экскурсии и др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творческую предметно-игровую среду, использовать полифункциональный материал, предметы заместители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идактических играх оценивать свои возможности и без раздражения воспринимать проигры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бъяснять правила игры сверстник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19"/>
          <p:cNvSpPr txBox="1"/>
          <p:nvPr/>
        </p:nvSpPr>
        <p:spPr>
          <a:xfrm>
            <a:off x="900000" y="1479600"/>
            <a:ext cx="6912000" cy="13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19"/>
          <p:cNvSpPr txBox="1"/>
          <p:nvPr/>
        </p:nvSpPr>
        <p:spPr>
          <a:xfrm>
            <a:off x="1020600" y="1479600"/>
            <a:ext cx="6864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знакомление с окружающим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2120" y="2338560"/>
            <a:ext cx="81122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28548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Иметь представления детей о предметах, их существенных призна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8560" indent="-28548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Уметь свободно ориентироваться в помещении и на участке детского с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8560" indent="-285480" algn="just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Уметь соблюдать правила дорожного движения (ходить по мостовой, переходить улицу в указанных местах, в соответствии со световым сигнало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8560" indent="-285480" algn="just">
              <a:lnSpc>
                <a:spcPct val="100000"/>
              </a:lnSpc>
              <a:spcBef>
                <a:spcPts val="400"/>
              </a:spcBef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Знать название города, деревни, где живут, улиц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8560" indent="-285480" algn="just">
              <a:lnSpc>
                <a:spcPct val="100000"/>
              </a:lnSpc>
              <a:spcBef>
                <a:spcPts val="400"/>
              </a:spcBef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Знать фамилию, имя, и отчество родителей, домашний адр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8560" indent="-285480">
              <a:lnSpc>
                <a:spcPct val="100000"/>
              </a:lnSpc>
              <a:spcBef>
                <a:spcPts val="4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1020600" y="1479600"/>
            <a:ext cx="6864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кологическое воспитание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92120" y="2338560"/>
            <a:ext cx="81122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22080" indent="-28260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 растения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2080" indent="-28260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узнавать и называть 6-7 растений и их ч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2080" indent="-28260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уметь описывать растения, отмечая расположение листьев, форму, цвет, особенности поверх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2080" indent="-28260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выбирать и выполнять способы ухода за растениями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(полив, опрыскивание, сухая чистка)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 Выполнять уход за растениями в соответствии с его биологическими потребност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2080" indent="-28260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пределять способы приспособления растения к сезонным изменениям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(появляются почки, цветут, появляются плоды, созревают, состояние поко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2080" indent="-28260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знать и называть признаки живого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(растет, движется, питается, размножаетс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2080" indent="-282600" algn="just"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2080" indent="-282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19"/>
          <p:cNvSpPr txBox="1"/>
          <p:nvPr/>
        </p:nvSpPr>
        <p:spPr>
          <a:xfrm>
            <a:off x="1020600" y="1479600"/>
            <a:ext cx="6864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кологическое воспитание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92120" y="2338560"/>
            <a:ext cx="81122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algn="just"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 живот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иметь представления о многообразии животного мира и характерных признаках классов (перья, пух, шерсть, мех и т. 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знать основные жизненные функции: питание, дыхание, движение, размножение, рост, развитие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уметь устанавливать связи между средой обитания и строением т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конкретизировать представления о проявлении чувств: голод, боль, радость, привяза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продолжать знакомить с дикими животны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азывать 4-5 зимующих птиц, различать их по внешнему вид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111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рассказывать чем питаются, почему остаются зимо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algn="just"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algn="just"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 неживой прир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algn="just">
              <a:lnSpc>
                <a:spcPct val="115000"/>
              </a:lnSpc>
              <a:spcBef>
                <a:spcPts val="4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• </a:t>
            </a:r>
            <a:r>
              <a:rPr b="0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формировать элементарные представления о переходе вещества из твёрдого состояния в жидкое и из жидкого в твёрдое </a:t>
            </a:r>
            <a:r>
              <a:rPr b="0" i="1" lang="ru-RU" sz="16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(вода превращается в лёд, лёд – в вод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>
              <a:lnSpc>
                <a:spcPct val="100000"/>
              </a:lnSpc>
              <a:spcBef>
                <a:spcPts val="400"/>
              </a:spcBef>
              <a:buClr>
                <a:srgbClr val="1111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19"/>
          <p:cNvSpPr txBox="1"/>
          <p:nvPr/>
        </p:nvSpPr>
        <p:spPr>
          <a:xfrm>
            <a:off x="1020600" y="1479600"/>
            <a:ext cx="6864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кологическое воспитание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92120" y="2338560"/>
            <a:ext cx="81122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еживой природ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элементарные представления о переходе вещества из твёрдого состояния в жидкое и из жидкого в твёрдое (вода превращается в лёд, лёд – в вод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19"/>
          <p:cNvSpPr txBox="1"/>
          <p:nvPr/>
        </p:nvSpPr>
        <p:spPr>
          <a:xfrm>
            <a:off x="1947960" y="1479600"/>
            <a:ext cx="48560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звитие речи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92120" y="2338560"/>
            <a:ext cx="81122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произносить все звуки не торопясь, выразит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в речи существительные, обозначающие профессии; подбирать к существительному несколько прилагательных; уметь составлять пары антонимов (противоположные по смыслу слова) и синонимов (разные по звучанию, но одинаковые по смыслу сло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ять в речи простые и сложные пред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прямой и косвенной реч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ть непринужденную бесе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(по образцу, плану) небольшой рассказ о предмете, картине, по теме, предложенный взрослым, а также фантазировать на свободную т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9"/>
          <p:cNvSpPr txBox="1"/>
          <p:nvPr/>
        </p:nvSpPr>
        <p:spPr>
          <a:xfrm>
            <a:off x="1582560" y="1479600"/>
            <a:ext cx="5770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удожественная литература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2120" y="2338560"/>
            <a:ext cx="81122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жанр произведения; называть любимые сказки и рассказ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ть интерес к объёмным произведениям, которые читаются по глав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матизировать небольшие произведения, читать по ролям стихотво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2-3 программных стихотворения (при необходимости следует напомнить ребёнку первые строчки, 2-3 считалки, загад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ть любимого детского писа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19"/>
          <p:cNvSpPr txBox="1"/>
          <p:nvPr/>
        </p:nvSpPr>
        <p:spPr>
          <a:xfrm>
            <a:off x="1947960" y="1479600"/>
            <a:ext cx="49989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а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2120" y="2204640"/>
            <a:ext cx="81122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ть в пределах 10 (количественный счет, отвечать на вопрос «сколько всего?»; порядковый счет, отвечать на вопрос «какой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вать 2 группы предметов, выраженные числами 9 и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тличается четырёхугольник от треугольника. Построить из двух треугольников четырёхугольник. Знать некоторые характерные особенности геометрических фигур (круг, треугольник, квадрат, овал, прямоугольник, трапеция, пятиугольник) – количество углов, сторон, их равенство и неравен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ть направление движения от себя (направо, налево, вперёд, назад, вверх, вниз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последовательность дней недели, связывать с порядковым сче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ться на листе бумаги рис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ать предметы различной величины (до 7-10) в порядке возрастания, убывания их длины, ширины, высоты, толщины; понимать относительность признака величины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вать рядом стоящие числа в пределах 10 (опираясь на наглядность, устанавливать, какое число больше (меньше) другого; уравнивать неравные группы предметов двумя способами (удаление и добавление единицы). Сравнивать предметы на глаз (по длине, ширине, высоте, толщине); с помощью наложения, приложения на гла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агать изображения на всем листе, на одной линии и на широкой полосе создавать узоры по мотивам народного декоративно-прикладного искусства, используя точки, круги, завиток, волнистые линии, травку, цв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19"/>
          <p:cNvSpPr txBox="1"/>
          <p:nvPr/>
        </p:nvSpPr>
        <p:spPr>
          <a:xfrm>
            <a:off x="2170080" y="1479600"/>
            <a:ext cx="4633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епка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92120" y="2204640"/>
            <a:ext cx="81122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ить предметы, состоящие из нескольких ча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приёмы соединения частей прижимания и примазы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 навыком округлого раскаты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 навыком рационального деление пласти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в работе сте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ередавать в лепке дв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навыков аккуратной работы с глиной и пластили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5:55:31Z</dcterms:created>
  <dc:creator>Сергей</dc:creator>
  <dc:description/>
  <dc:language>en-US</dc:language>
  <cp:lastModifiedBy>User</cp:lastModifiedBy>
  <dcterms:modified xsi:type="dcterms:W3CDTF">2018-11-19T15:32:29Z</dcterms:modified>
  <cp:revision>11</cp:revision>
  <dc:subject/>
  <dc:title>Слайд 1</dc:title>
</cp:coreProperties>
</file>