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AB0-ED04-4B95-8041-8B094E2B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B86-C299-4A5E-A157-2C13009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495-A23A-4E7D-90EE-A4A11688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740-C419-4D02-B7AF-A8FDE298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326-D659-48AF-AA22-BCE78FEE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3A7-39A0-4156-AC1F-72131C4B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9FF-B484-4BB6-9619-E6A67F8F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9B2-3F88-4F46-8518-A5184DF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36D-A661-4CBD-B3A5-0499AAA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408-FAA8-4A1E-B596-51BD645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83D-4DF7-4A89-8568-BA1707A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005-2064-4F08-922B-E987DE8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A361-A7A6-41E3-B0E2-40CFF5404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332000" y="2276640"/>
            <a:ext cx="507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должен знать и уметь ребенок старше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(5–6 ле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ппликация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держать ножницы и действовать 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ть способ вырезания с обрыванием для создания выразительно обр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приемы симметричного вырезания из бумаги, сложенной вдвое и гармо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узоры из растительных и геометрических форм на полосе, квадрате, круге, розете, чередовать их по цвету, форме, величине и последовательно накле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струиров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анализировать образец постройки: выделять основные части и различать их по величине и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этапы создания собственной постро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постройки по рису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коллекти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из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ом сгибания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лаживание пальцем места сг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ния черте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терминов: сгиб, пунктир, штрих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овая деятельность.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года дети могу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ариваться с партнёрами, во что играть, кто кем будет в игре; подчиняться правилам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ачивать содержание игры в зависимости от количества играющих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различные источники информации, способствующие обогащению игры (кино, литература, экскурсии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творческую предметно-игровую среду, использовать полифункциональный материал, предметы заместител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дактических играх оценивать свои возможности и без раздражения воспринимать проигры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яснять правила игры сверстни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9"/>
          <p:cNvSpPr txBox="1"/>
          <p:nvPr/>
        </p:nvSpPr>
        <p:spPr>
          <a:xfrm>
            <a:off x="900000" y="1479600"/>
            <a:ext cx="691200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знакомление с окружающим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меть представления детей о предметах, их существенных призна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 свободно ориентироваться в помещении и на участке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 соблюдать правила дорожного движения (ходить по мостовой, переходить улицу в указанных местах, в соответствии со световым сигнал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 название города, деревни, где живут, у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 фамилию, имя, и отчество родителей, домашний адр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расте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знавать и называть 6-7 растений и их ч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 описывать растения, отмечая расположение листьев, форму, цвет, особенности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ыбирать и выполнять способы ухода за растениями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полив, опрыскивание, сухая чистка)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Выполнять уход за растениями в соответствии с его биологическими потреб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пределять способы приспособления растения к сезонным изменениям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появляются почки, цветут, появляются плоды, созревают, состояние поко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 и называть признаки живого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растет, движется, питается, размножае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живот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меть представления о многообразии животного мира и характерных признаках классов (перья, пух, шерсть, мех и т. 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 основные жизненные функции: питание, дыхание, движение, размножение, рост, развитие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 устанавливать связи между средой обитания и строением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нкретизировать представления о проявлении чувств: голод, боль, радость, привяз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одолжать знакомить с дикими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зывать 4-5 зимующих птиц, различать их по внешнему ви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ть чем питаются, почему остаются зим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неживой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ормировать элементарные представления о переходе вещества из твёрдого состояния в жидкое и из жидкого в твёрдое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вода превращается в лёд, лёд – в в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еживой природ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элементарные представления о переходе вещества из твёрдого состояния в жидкое и из жидкого в твёрдое (вода превращается в лёд, лёд – в в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947960" y="1479600"/>
            <a:ext cx="4856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е речи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износить все звуки не торопясь, выраз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речи существительные, обозначающие профессии; подбирать к существительному несколько прилагательных; уметь составлять пары антонимов (противоположные по смыслу слова) и синонимов (разные по звучанию, но одинаковые по смыслу сл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в речи простые и сложные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прямой и косвенной ре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непринужденную бесе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(по образцу, плану) небольшой рассказ о предмете, картине, по теме, предложенный взрослым, а также фантазировать на свободную 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9"/>
          <p:cNvSpPr txBox="1"/>
          <p:nvPr/>
        </p:nvSpPr>
        <p:spPr>
          <a:xfrm>
            <a:off x="1582560" y="1479600"/>
            <a:ext cx="5770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удожественная литератур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жанр произведения; называть любимые сказки и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ть интерес к объёмным произведениям, которые читаются по гла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ировать небольшие произведения, читать по ролям стихотво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2-3 программных стихотворения (при необходимости следует напомнить ребёнку первые строчки, 2-3 считалки, заг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ть любимого детского пис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9"/>
          <p:cNvSpPr txBox="1"/>
          <p:nvPr/>
        </p:nvSpPr>
        <p:spPr>
          <a:xfrm>
            <a:off x="1947960" y="1479600"/>
            <a:ext cx="4998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 в пределах 10 (количественный счет, отвечать на вопрос «сколько всего?»; порядковый счет, отвечать на вопрос «какой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2 группы предметов, выраженные числами 9 и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ется четырёхугольник от треугольника. Построить из двух треугольников четырёхугольник. Знать некоторые характерные особенности геометрических фигур (круг, треугольник, квадрат, овал, прямоугольник, трапеция, пятиугольник) – количество углов, сторон, их равенство и нера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направление движения от себя (направо, налево, вперёд, назад, вверх, вни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оследовательность дней недели, связывать с порядковым сч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ться на листе бумаги рис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предметы различной величины (до 7-10) в порядке возрастания, убывания их длины, ширины, высоты, толщины; понимать относительность признака величины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рядом стоящие числа в пределах 10 (опираясь на наглядность, устанавливать, какое число больше (меньше) другого; уравнивать неравные группы предметов двумя способами (удаление и добавление единицы). Сравнивать предметы на глаз (по длине, ширине, высоте, толщине); с помощью наложения, приложения на гл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гать изображения на всем листе, на одной линии и на широкой полосе создавать узоры по мотивам народного декоративно-прикладного искусства, используя точки, круги, завиток, волнистые линии, травку,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пк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ь предметы, состоящие из нескольких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приёмы соединения частей прижимания и примаз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навыком округлого раскат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навыком рационального деление пласти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работе сте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ередавать в лепк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ов аккуратной работы с глиной и пластил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User</cp:lastModifiedBy>
  <dcterms:modified xsi:type="dcterms:W3CDTF">2018-11-19T15:32:29Z</dcterms:modified>
  <cp:revision>11</cp:revision>
  <dc:subject/>
  <dc:title>Слайд 1</dc:title>
</cp:coreProperties>
</file>