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5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21.gif" ContentType="image/gif"/>
  <Override PartName="/ppt/media/image1.jpeg" ContentType="image/jpeg"/>
  <Override PartName="/ppt/media/image4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DDC-5C07-4189-B118-C91D5DF9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19E-0B5E-4C96-A6F4-10E6FE58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149-281A-4980-958A-A068FC44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9D5-BB42-43C2-A90F-5D32DFFD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131E-B851-403B-8EA3-116CD5D2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CED-8CB2-47F6-8FB5-F42511FD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889-5FC3-443A-8F69-F8A08B2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BE5-C88D-4C77-9E6B-1FD20969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E9E-C5A0-4DCE-9BE0-66C03623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BD0-C15A-420C-977F-3516A36E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097-2621-45F3-88DF-B48F3426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757-F608-4FF5-9C07-E0148A8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B3B-888B-4FC6-A77E-2F259D1E8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839080" cy="662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ля пассажи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618000" cy="5151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36846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52680" y="5859360"/>
            <a:ext cx="52578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8-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правила поведения пассажиров в общественном и в личном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задание №5 на стр.8 в рабочей тетрад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848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686800" cy="5639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2819520"/>
            <a:ext cx="4400640" cy="90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flipH="1" rot="987600">
            <a:off x="7923600" y="2514240"/>
            <a:ext cx="10670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33 0.08235 L -0.05 0.04904 E"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9144000" cy="645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0772600">
            <a:off x="2438280" y="2209320"/>
            <a:ext cx="3333960" cy="33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0772600">
            <a:off x="2438280" y="2209320"/>
            <a:ext cx="33339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7696080" cy="51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стотря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ау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1964520"/>
            <a:ext cx="379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его были металлические колёса, причём переднее было очень большое, в рост человека. Из-за множества спиц оно напоминало паутину, отсюда и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ти 20 лет просуществовал этот «паук», прежде чем пришла ,наконец, машина, которая своим устройством и видом напоминала уже прежний велосип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осипед складной, «невеличка», трюк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3962520" cy="237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8680" y="1828800"/>
            <a:ext cx="3051360" cy="2276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2533680" cy="1809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27241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а для велосипед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30592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0:17:57Z</dcterms:created>
  <dc:creator>Мосеевка</dc:creator>
  <dc:description/>
  <dc:language>en-US</dc:language>
  <cp:lastModifiedBy>Мосеевка</cp:lastModifiedBy>
  <dcterms:modified xsi:type="dcterms:W3CDTF">2018-12-11T18:20:3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