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5.jpeg" ContentType="image/jpeg"/>
  <Override PartName="/ppt/media/image6.jpeg" ContentType="image/jpeg"/>
  <Override PartName="/ppt/media/image22.png" ContentType="image/png"/>
  <Override PartName="/ppt/media/image19.jpeg" ContentType="image/jpeg"/>
  <Override PartName="/ppt/media/image21.gif" ContentType="image/gif"/>
  <Override PartName="/ppt/media/image1.jpeg" ContentType="image/jpeg"/>
  <Override PartName="/ppt/media/image4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35E-5624-49B8-A6CE-FD8F7390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6E8-8DB9-4647-9D61-F8D3B397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341-612A-47F9-AEA9-0E1913E3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EF29-2C52-4F26-8D70-F6FA991A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CC67-7412-4797-AE69-6B0FF2E6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0937-9165-4171-95FB-250FCE23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EB1D-DA90-48DB-BA0A-8C2CFA82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B908-DA20-460C-B78A-D9BA1CEB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C84-D053-47B1-AF3C-6BECF052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0F2-372D-479C-9BF3-806F282E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FE07-4320-4DE7-846D-1B2AE4F0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DD3-9EC7-43A7-A2AE-0DA7B92D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E9AA-F129-48D3-AAE2-09DB85742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06280"/>
            <a:ext cx="91440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839080" cy="662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а для пасса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618000" cy="5151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36846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352680" y="5859360"/>
            <a:ext cx="525780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 8-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ть правила поведения пассажиров в общественном и в личном транспо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е задание №5 на стр.8 в рабочей тетрад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8487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686800" cy="5639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438280" y="2819520"/>
            <a:ext cx="4400640" cy="904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flipH="1" rot="987600">
            <a:off x="7923600" y="2514240"/>
            <a:ext cx="106704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33 0.08235 L -0.05 0.04904 E">
                                      <p:cBhvr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458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20772600">
            <a:off x="2438280" y="2209320"/>
            <a:ext cx="3333960" cy="3381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 rot="20772600">
            <a:off x="2438280" y="2209320"/>
            <a:ext cx="333396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7696080" cy="5114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стотря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Пау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952880" y="1964520"/>
            <a:ext cx="379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него были металлические колёса, причём переднее было очень большое, в рост человека. Из-за множества спиц оно напоминало паутину, отсюда и наз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чти 20 лет просуществовал этот «паук», прежде чем пришла ,наконец, машина, которая своим устройством и видом напоминала уже прежний велосипе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лосипед складной, «невеличка», трюков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962520" cy="237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638680" y="1828800"/>
            <a:ext cx="3051360" cy="2276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43000" y="4343400"/>
            <a:ext cx="2533680" cy="1809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952880" y="4191120"/>
            <a:ext cx="27241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53452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а для велосипедис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830592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6T10:17:57Z</dcterms:created>
  <dc:creator>Мосеевка</dc:creator>
  <dc:description/>
  <dc:language>en-US</dc:language>
  <cp:lastModifiedBy>Мосеевка</cp:lastModifiedBy>
  <dcterms:modified xsi:type="dcterms:W3CDTF">2018-12-11T18:20:3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