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CC7-96E7-4589-8AA3-535CFED7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B4E-05E3-42F9-9E63-BA22AAB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073-EC6E-4FC5-ADCC-C4240A2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466-0BE0-4541-8BDC-007892B9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840-A8BC-48E7-AF35-FF08052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FD9-94E4-4BC9-8AB8-BC578E1F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BC6-6CBA-4017-A1D6-DE924E22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C22-806F-4D6A-B330-BA0C5362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29E-9CF3-4215-8E2F-B05A8D6A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8A4-352A-4DC9-A8C0-78DD2E25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CF4-447E-4A46-B114-918E76D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51A-BEC7-441E-87FD-6EBB2C9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77CF-35E1-459F-BE21-187682039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210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786920" y="4210200"/>
            <a:ext cx="447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ffffff"/>
                </a:solidFill>
                <a:latin typeface="Calibri"/>
              </a:rPr>
              <a:t>ове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Вырезка экрана"/>
          <p:cNvPicPr/>
          <p:nvPr/>
        </p:nvPicPr>
        <p:blipFill>
          <a:blip r:embed="rId2"/>
          <a:stretch/>
        </p:blipFill>
        <p:spPr>
          <a:xfrm>
            <a:off x="120600" y="146160"/>
            <a:ext cx="2887560" cy="30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54360" y="1197000"/>
            <a:ext cx="4249800" cy="3744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735440" y="1844640"/>
            <a:ext cx="38880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вен (лат. Aries) — одно из наиболе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известных зодиакальных созвездий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отя в нём нет звёзд ярче второ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величины. Три главные звезды —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амаль, Шератан  и Мезартхим. Их легко найти: они лежат к югу от Треугольни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17:13:51Z</dcterms:created>
  <dc:creator>Админ</dc:creator>
  <dc:description/>
  <dc:language>en-US</dc:language>
  <cp:lastModifiedBy>Наталья Борисовна Юрьева</cp:lastModifiedBy>
  <dcterms:modified xsi:type="dcterms:W3CDTF">2018-12-11T10:20:17Z</dcterms:modified>
  <cp:revision>7</cp:revision>
  <dc:subject/>
  <dc:title>Презентация PowerPoint</dc:title>
</cp:coreProperties>
</file>