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D3C6-70AE-491B-A60B-83770EC5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3C9-7BDB-4643-BE48-6D881045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DB5-77D6-4865-B602-B2D9489F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0DB-D7FD-465A-84EC-200E59F9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C6F-D077-464D-806C-101E1ED8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12A-4024-4A1C-9621-E42928BF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B58A-96CB-4B4B-9E79-A9A4AF1B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D079-2740-460D-AFF1-98AA8F8E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D8A-FA98-4FCE-9B67-D319B58F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298-86F0-4709-885A-D99C2848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D5E-73BE-41F8-A870-0B3479A7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3D2-55D3-4C67-95F3-74D7B7F0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A488-8641-4978-AF45-C67052F231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210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4786920" y="4210200"/>
            <a:ext cx="4475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ffffff"/>
                </a:solidFill>
                <a:latin typeface="Calibri"/>
              </a:rPr>
              <a:t>овен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4" descr="Вырезка экрана"/>
          <p:cNvPicPr/>
          <p:nvPr/>
        </p:nvPicPr>
        <p:blipFill>
          <a:blip r:embed="rId2"/>
          <a:stretch/>
        </p:blipFill>
        <p:spPr>
          <a:xfrm>
            <a:off x="120600" y="146160"/>
            <a:ext cx="2887560" cy="30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4554360" y="1197000"/>
            <a:ext cx="4249800" cy="3744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4735440" y="1844640"/>
            <a:ext cx="388800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Овен (лат. Aries) — одно из наиболе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известных зодиакальных созвездий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хотя в нём нет звёзд ярче второ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величины. Три главные звезды —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Хамаль, Шератан  и Мезартхим. Их легко найти: они лежат к югу от Треугольник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4T17:13:51Z</dcterms:created>
  <dc:creator>Админ</dc:creator>
  <dc:description/>
  <dc:language>en-US</dc:language>
  <cp:lastModifiedBy>Наталья Борисовна Юрьева</cp:lastModifiedBy>
  <dcterms:modified xsi:type="dcterms:W3CDTF">2018-12-11T10:20:17Z</dcterms:modified>
  <cp:revision>7</cp:revision>
  <dc:subject/>
  <dc:title>Презентация PowerPoint</dc:title>
</cp:coreProperties>
</file>